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53B9-F9DF-4052-89EB-8EB9551E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03BC-391A-441E-936B-1ED2F59A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4834-024C-4828-8FD6-AEBC37EB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B118-09F4-4B97-A5DB-1C00E06DD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0058-0B70-4E62-B475-D2BAC8B3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D27E-D346-4D82-850C-D20442C7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4C31-EF67-4721-8C9F-4B9A9993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72FD-3232-45D9-AD5C-4946C43F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9114-2DDC-41E4-86B3-95D8BABF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C83E-EAE8-41AC-BCEC-60916DEF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3E03-BBBC-4435-9E97-D51D395F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E7CC-F293-44D4-94FE-B30DA48D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A148-DB88-400E-8E15-063102C5E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" Target="slide8.xm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" Target="slide10.xm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4200">
            <a:off x="3919320" y="3665520"/>
            <a:ext cx="1473120" cy="1295280"/>
          </a:xfrm>
          <a:custGeom>
            <a:avLst/>
            <a:gdLst/>
            <a:ahLst/>
            <a:rect l="l" t="t" r="r" b="b"/>
            <a:pathLst>
              <a:path w="1688" h="1469">
                <a:moveTo>
                  <a:pt x="60" y="859"/>
                </a:moveTo>
                <a:cubicBezTo>
                  <a:pt x="54" y="930"/>
                  <a:pt x="43" y="984"/>
                  <a:pt x="28" y="1050"/>
                </a:cubicBezTo>
                <a:cubicBezTo>
                  <a:pt x="25" y="1099"/>
                  <a:pt x="20" y="1147"/>
                  <a:pt x="20" y="1196"/>
                </a:cubicBezTo>
                <a:cubicBezTo>
                  <a:pt x="20" y="1374"/>
                  <a:pt x="0" y="1417"/>
                  <a:pt x="132" y="1424"/>
                </a:cubicBezTo>
                <a:cubicBezTo>
                  <a:pt x="289" y="1469"/>
                  <a:pt x="327" y="1216"/>
                  <a:pt x="636" y="1224"/>
                </a:cubicBezTo>
                <a:cubicBezTo>
                  <a:pt x="1284" y="1176"/>
                  <a:pt x="1224" y="1416"/>
                  <a:pt x="1508" y="1408"/>
                </a:cubicBezTo>
                <a:cubicBezTo>
                  <a:pt x="1548" y="1399"/>
                  <a:pt x="1606" y="1339"/>
                  <a:pt x="1644" y="1324"/>
                </a:cubicBezTo>
                <a:cubicBezTo>
                  <a:pt x="1652" y="1321"/>
                  <a:pt x="1648" y="1304"/>
                  <a:pt x="1652" y="1297"/>
                </a:cubicBezTo>
                <a:cubicBezTo>
                  <a:pt x="1659" y="1282"/>
                  <a:pt x="1668" y="1272"/>
                  <a:pt x="1676" y="1259"/>
                </a:cubicBezTo>
                <a:cubicBezTo>
                  <a:pt x="1688" y="1202"/>
                  <a:pt x="1676" y="1159"/>
                  <a:pt x="1660" y="1105"/>
                </a:cubicBezTo>
                <a:cubicBezTo>
                  <a:pt x="1649" y="1066"/>
                  <a:pt x="1643" y="1023"/>
                  <a:pt x="1628" y="986"/>
                </a:cubicBezTo>
                <a:cubicBezTo>
                  <a:pt x="1622" y="973"/>
                  <a:pt x="1611" y="962"/>
                  <a:pt x="1604" y="950"/>
                </a:cubicBezTo>
                <a:cubicBezTo>
                  <a:pt x="1581" y="906"/>
                  <a:pt x="1547" y="872"/>
                  <a:pt x="1520" y="832"/>
                </a:cubicBezTo>
                <a:cubicBezTo>
                  <a:pt x="1513" y="799"/>
                  <a:pt x="1498" y="688"/>
                  <a:pt x="1476" y="667"/>
                </a:cubicBezTo>
                <a:cubicBezTo>
                  <a:pt x="1469" y="661"/>
                  <a:pt x="1460" y="661"/>
                  <a:pt x="1452" y="658"/>
                </a:cubicBezTo>
                <a:cubicBezTo>
                  <a:pt x="1423" y="557"/>
                  <a:pt x="1472" y="706"/>
                  <a:pt x="1420" y="612"/>
                </a:cubicBezTo>
                <a:cubicBezTo>
                  <a:pt x="1407" y="588"/>
                  <a:pt x="1401" y="558"/>
                  <a:pt x="1396" y="530"/>
                </a:cubicBezTo>
                <a:cubicBezTo>
                  <a:pt x="1382" y="452"/>
                  <a:pt x="1383" y="354"/>
                  <a:pt x="1348" y="284"/>
                </a:cubicBezTo>
                <a:cubicBezTo>
                  <a:pt x="1335" y="258"/>
                  <a:pt x="1316" y="235"/>
                  <a:pt x="1300" y="211"/>
                </a:cubicBezTo>
                <a:cubicBezTo>
                  <a:pt x="1279" y="140"/>
                  <a:pt x="1267" y="125"/>
                  <a:pt x="1212" y="83"/>
                </a:cubicBezTo>
                <a:cubicBezTo>
                  <a:pt x="1198" y="73"/>
                  <a:pt x="1164" y="65"/>
                  <a:pt x="1164" y="65"/>
                </a:cubicBezTo>
                <a:cubicBezTo>
                  <a:pt x="1096" y="91"/>
                  <a:pt x="1010" y="87"/>
                  <a:pt x="940" y="92"/>
                </a:cubicBezTo>
                <a:cubicBezTo>
                  <a:pt x="822" y="89"/>
                  <a:pt x="675" y="93"/>
                  <a:pt x="548" y="75"/>
                </a:cubicBezTo>
                <a:cubicBezTo>
                  <a:pt x="499" y="66"/>
                  <a:pt x="454" y="46"/>
                  <a:pt x="404" y="37"/>
                </a:cubicBezTo>
                <a:cubicBezTo>
                  <a:pt x="156" y="49"/>
                  <a:pt x="253" y="0"/>
                  <a:pt x="164" y="102"/>
                </a:cubicBezTo>
                <a:cubicBezTo>
                  <a:pt x="146" y="165"/>
                  <a:pt x="134" y="230"/>
                  <a:pt x="116" y="293"/>
                </a:cubicBezTo>
                <a:cubicBezTo>
                  <a:pt x="106" y="421"/>
                  <a:pt x="183" y="546"/>
                  <a:pt x="168" y="672"/>
                </a:cubicBezTo>
                <a:cubicBezTo>
                  <a:pt x="160" y="739"/>
                  <a:pt x="39" y="787"/>
                  <a:pt x="117" y="918"/>
                </a:cubicBezTo>
              </a:path>
            </a:pathLst>
          </a:custGeom>
          <a:gradFill rotWithShape="0">
            <a:gsLst>
              <a:gs pos="0">
                <a:srgbClr val="750075"/>
              </a:gs>
              <a:gs pos="50000">
                <a:srgbClr val="ff00ff"/>
              </a:gs>
              <a:gs pos="100000">
                <a:srgbClr val="750075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rot="4200">
            <a:off x="4185720" y="4290480"/>
            <a:ext cx="1094040" cy="655920"/>
          </a:xfrm>
          <a:custGeom>
            <a:avLst/>
            <a:gdLst/>
            <a:ahLst/>
            <a:rect l="l" t="t" r="r" b="b"/>
            <a:pathLst>
              <a:path w="1175" h="705">
                <a:moveTo>
                  <a:pt x="88" y="67"/>
                </a:moveTo>
                <a:cubicBezTo>
                  <a:pt x="76" y="271"/>
                  <a:pt x="64" y="396"/>
                  <a:pt x="0" y="579"/>
                </a:cubicBezTo>
                <a:cubicBezTo>
                  <a:pt x="4" y="600"/>
                  <a:pt x="2" y="623"/>
                  <a:pt x="13" y="642"/>
                </a:cubicBezTo>
                <a:cubicBezTo>
                  <a:pt x="26" y="665"/>
                  <a:pt x="80" y="677"/>
                  <a:pt x="100" y="679"/>
                </a:cubicBezTo>
                <a:cubicBezTo>
                  <a:pt x="183" y="686"/>
                  <a:pt x="267" y="688"/>
                  <a:pt x="350" y="692"/>
                </a:cubicBezTo>
                <a:cubicBezTo>
                  <a:pt x="375" y="688"/>
                  <a:pt x="403" y="692"/>
                  <a:pt x="425" y="679"/>
                </a:cubicBezTo>
                <a:cubicBezTo>
                  <a:pt x="436" y="673"/>
                  <a:pt x="432" y="654"/>
                  <a:pt x="438" y="642"/>
                </a:cubicBezTo>
                <a:cubicBezTo>
                  <a:pt x="467" y="585"/>
                  <a:pt x="464" y="622"/>
                  <a:pt x="488" y="554"/>
                </a:cubicBezTo>
                <a:cubicBezTo>
                  <a:pt x="503" y="513"/>
                  <a:pt x="525" y="429"/>
                  <a:pt x="525" y="429"/>
                </a:cubicBezTo>
                <a:cubicBezTo>
                  <a:pt x="539" y="336"/>
                  <a:pt x="515" y="312"/>
                  <a:pt x="600" y="292"/>
                </a:cubicBezTo>
                <a:cubicBezTo>
                  <a:pt x="633" y="386"/>
                  <a:pt x="636" y="509"/>
                  <a:pt x="650" y="604"/>
                </a:cubicBezTo>
                <a:cubicBezTo>
                  <a:pt x="654" y="634"/>
                  <a:pt x="695" y="649"/>
                  <a:pt x="725" y="654"/>
                </a:cubicBezTo>
                <a:cubicBezTo>
                  <a:pt x="859" y="678"/>
                  <a:pt x="933" y="694"/>
                  <a:pt x="1075" y="704"/>
                </a:cubicBezTo>
                <a:cubicBezTo>
                  <a:pt x="1104" y="700"/>
                  <a:pt x="1137" y="705"/>
                  <a:pt x="1163" y="692"/>
                </a:cubicBezTo>
                <a:cubicBezTo>
                  <a:pt x="1175" y="686"/>
                  <a:pt x="1175" y="667"/>
                  <a:pt x="1175" y="654"/>
                </a:cubicBezTo>
                <a:cubicBezTo>
                  <a:pt x="1175" y="463"/>
                  <a:pt x="1163" y="472"/>
                  <a:pt x="1075" y="342"/>
                </a:cubicBezTo>
                <a:cubicBezTo>
                  <a:pt x="1071" y="326"/>
                  <a:pt x="1060" y="271"/>
                  <a:pt x="1050" y="254"/>
                </a:cubicBezTo>
                <a:cubicBezTo>
                  <a:pt x="1035" y="228"/>
                  <a:pt x="1000" y="179"/>
                  <a:pt x="1000" y="179"/>
                </a:cubicBezTo>
                <a:cubicBezTo>
                  <a:pt x="979" y="113"/>
                  <a:pt x="995" y="153"/>
                  <a:pt x="938" y="67"/>
                </a:cubicBezTo>
                <a:cubicBezTo>
                  <a:pt x="893" y="0"/>
                  <a:pt x="900" y="78"/>
                  <a:pt x="900" y="17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50000">
                <a:srgbClr val="ccecff"/>
              </a:gs>
              <a:gs pos="100000">
                <a:srgbClr val="00cc99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4200">
            <a:off x="3739680" y="3708360"/>
            <a:ext cx="1473480" cy="803160"/>
          </a:xfrm>
          <a:custGeom>
            <a:avLst/>
            <a:gdLst/>
            <a:ahLst/>
            <a:rect l="l" t="t" r="r" b="b"/>
            <a:pathLst>
              <a:path w="1088" h="840">
                <a:moveTo>
                  <a:pt x="259" y="54"/>
                </a:moveTo>
                <a:cubicBezTo>
                  <a:pt x="247" y="66"/>
                  <a:pt x="237" y="81"/>
                  <a:pt x="223" y="91"/>
                </a:cubicBezTo>
                <a:cubicBezTo>
                  <a:pt x="188" y="117"/>
                  <a:pt x="114" y="163"/>
                  <a:pt x="114" y="163"/>
                </a:cubicBezTo>
                <a:cubicBezTo>
                  <a:pt x="53" y="254"/>
                  <a:pt x="0" y="281"/>
                  <a:pt x="59" y="400"/>
                </a:cubicBezTo>
                <a:cubicBezTo>
                  <a:pt x="68" y="417"/>
                  <a:pt x="95" y="413"/>
                  <a:pt x="114" y="418"/>
                </a:cubicBezTo>
                <a:cubicBezTo>
                  <a:pt x="138" y="425"/>
                  <a:pt x="162" y="430"/>
                  <a:pt x="186" y="436"/>
                </a:cubicBezTo>
                <a:cubicBezTo>
                  <a:pt x="216" y="430"/>
                  <a:pt x="251" y="435"/>
                  <a:pt x="277" y="418"/>
                </a:cubicBezTo>
                <a:cubicBezTo>
                  <a:pt x="293" y="407"/>
                  <a:pt x="285" y="380"/>
                  <a:pt x="295" y="363"/>
                </a:cubicBezTo>
                <a:cubicBezTo>
                  <a:pt x="304" y="348"/>
                  <a:pt x="320" y="339"/>
                  <a:pt x="332" y="327"/>
                </a:cubicBezTo>
                <a:cubicBezTo>
                  <a:pt x="344" y="345"/>
                  <a:pt x="364" y="360"/>
                  <a:pt x="368" y="382"/>
                </a:cubicBezTo>
                <a:cubicBezTo>
                  <a:pt x="448" y="840"/>
                  <a:pt x="186" y="642"/>
                  <a:pt x="1004" y="618"/>
                </a:cubicBezTo>
                <a:cubicBezTo>
                  <a:pt x="998" y="582"/>
                  <a:pt x="1002" y="542"/>
                  <a:pt x="986" y="509"/>
                </a:cubicBezTo>
                <a:cubicBezTo>
                  <a:pt x="964" y="465"/>
                  <a:pt x="900" y="427"/>
                  <a:pt x="859" y="400"/>
                </a:cubicBezTo>
                <a:cubicBezTo>
                  <a:pt x="818" y="275"/>
                  <a:pt x="796" y="318"/>
                  <a:pt x="859" y="254"/>
                </a:cubicBezTo>
                <a:cubicBezTo>
                  <a:pt x="1003" y="303"/>
                  <a:pt x="930" y="298"/>
                  <a:pt x="1077" y="272"/>
                </a:cubicBezTo>
                <a:cubicBezTo>
                  <a:pt x="1066" y="182"/>
                  <a:pt x="1088" y="119"/>
                  <a:pt x="1004" y="72"/>
                </a:cubicBezTo>
                <a:cubicBezTo>
                  <a:pt x="954" y="44"/>
                  <a:pt x="895" y="36"/>
                  <a:pt x="841" y="18"/>
                </a:cubicBezTo>
                <a:cubicBezTo>
                  <a:pt x="823" y="12"/>
                  <a:pt x="786" y="0"/>
                  <a:pt x="786" y="0"/>
                </a:cubicBezTo>
              </a:path>
            </a:pathLst>
          </a:custGeom>
          <a:gradFill rotWithShape="0">
            <a:gsLst>
              <a:gs pos="0">
                <a:srgbClr val="6c0000"/>
              </a:gs>
              <a:gs pos="50000">
                <a:srgbClr val="ff0000"/>
              </a:gs>
              <a:gs pos="100000">
                <a:srgbClr val="6c0000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4200">
            <a:off x="3695400" y="4111200"/>
            <a:ext cx="50472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rot="4800">
            <a:off x="4901760" y="3978360"/>
            <a:ext cx="44604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4200">
            <a:off x="4321080" y="3843360"/>
            <a:ext cx="595440" cy="428760"/>
          </a:xfrm>
          <a:custGeom>
            <a:avLst/>
            <a:gdLst/>
            <a:ahLst/>
            <a:rect l="l" t="t" r="r" b="b"/>
            <a:pathLst>
              <a:path w="640" h="461">
                <a:moveTo>
                  <a:pt x="64" y="445"/>
                </a:moveTo>
                <a:cubicBezTo>
                  <a:pt x="125" y="442"/>
                  <a:pt x="187" y="442"/>
                  <a:pt x="248" y="437"/>
                </a:cubicBezTo>
                <a:cubicBezTo>
                  <a:pt x="259" y="436"/>
                  <a:pt x="276" y="439"/>
                  <a:pt x="280" y="429"/>
                </a:cubicBezTo>
                <a:cubicBezTo>
                  <a:pt x="298" y="382"/>
                  <a:pt x="274" y="374"/>
                  <a:pt x="248" y="357"/>
                </a:cubicBezTo>
                <a:cubicBezTo>
                  <a:pt x="228" y="297"/>
                  <a:pt x="257" y="369"/>
                  <a:pt x="216" y="317"/>
                </a:cubicBezTo>
                <a:cubicBezTo>
                  <a:pt x="210" y="310"/>
                  <a:pt x="188" y="256"/>
                  <a:pt x="184" y="245"/>
                </a:cubicBezTo>
                <a:cubicBezTo>
                  <a:pt x="192" y="112"/>
                  <a:pt x="164" y="95"/>
                  <a:pt x="280" y="109"/>
                </a:cubicBezTo>
                <a:cubicBezTo>
                  <a:pt x="317" y="121"/>
                  <a:pt x="347" y="145"/>
                  <a:pt x="384" y="157"/>
                </a:cubicBezTo>
                <a:cubicBezTo>
                  <a:pt x="457" y="267"/>
                  <a:pt x="415" y="186"/>
                  <a:pt x="424" y="429"/>
                </a:cubicBezTo>
                <a:cubicBezTo>
                  <a:pt x="533" y="424"/>
                  <a:pt x="607" y="457"/>
                  <a:pt x="640" y="357"/>
                </a:cubicBezTo>
                <a:cubicBezTo>
                  <a:pt x="625" y="269"/>
                  <a:pt x="611" y="293"/>
                  <a:pt x="512" y="285"/>
                </a:cubicBezTo>
                <a:cubicBezTo>
                  <a:pt x="485" y="205"/>
                  <a:pt x="475" y="141"/>
                  <a:pt x="408" y="85"/>
                </a:cubicBezTo>
                <a:cubicBezTo>
                  <a:pt x="393" y="73"/>
                  <a:pt x="371" y="43"/>
                  <a:pt x="352" y="37"/>
                </a:cubicBezTo>
                <a:cubicBezTo>
                  <a:pt x="311" y="24"/>
                  <a:pt x="214" y="11"/>
                  <a:pt x="168" y="5"/>
                </a:cubicBezTo>
                <a:cubicBezTo>
                  <a:pt x="141" y="8"/>
                  <a:pt x="88" y="0"/>
                  <a:pt x="64" y="29"/>
                </a:cubicBezTo>
                <a:cubicBezTo>
                  <a:pt x="56" y="38"/>
                  <a:pt x="52" y="50"/>
                  <a:pt x="48" y="61"/>
                </a:cubicBezTo>
                <a:cubicBezTo>
                  <a:pt x="42" y="77"/>
                  <a:pt x="32" y="109"/>
                  <a:pt x="32" y="109"/>
                </a:cubicBezTo>
                <a:cubicBezTo>
                  <a:pt x="37" y="180"/>
                  <a:pt x="22" y="196"/>
                  <a:pt x="56" y="237"/>
                </a:cubicBezTo>
                <a:cubicBezTo>
                  <a:pt x="69" y="253"/>
                  <a:pt x="80" y="271"/>
                  <a:pt x="96" y="285"/>
                </a:cubicBezTo>
                <a:cubicBezTo>
                  <a:pt x="110" y="298"/>
                  <a:pt x="144" y="317"/>
                  <a:pt x="144" y="317"/>
                </a:cubicBezTo>
                <a:cubicBezTo>
                  <a:pt x="177" y="366"/>
                  <a:pt x="162" y="371"/>
                  <a:pt x="104" y="357"/>
                </a:cubicBezTo>
                <a:cubicBezTo>
                  <a:pt x="66" y="347"/>
                  <a:pt x="44" y="329"/>
                  <a:pt x="8" y="317"/>
                </a:cubicBezTo>
                <a:cubicBezTo>
                  <a:pt x="13" y="374"/>
                  <a:pt x="0" y="429"/>
                  <a:pt x="48" y="461"/>
                </a:cubicBezTo>
                <a:cubicBezTo>
                  <a:pt x="86" y="452"/>
                  <a:pt x="90" y="458"/>
                  <a:pt x="64" y="445"/>
                </a:cubicBezTo>
                <a:close/>
              </a:path>
            </a:pathLst>
          </a:custGeom>
          <a:solidFill>
            <a:srgbClr val="3333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448800">
            <a:off x="3885840" y="2784600"/>
            <a:ext cx="260280" cy="250560"/>
          </a:xfrm>
          <a:custGeom>
            <a:avLst/>
            <a:gdLst/>
            <a:ahLst/>
            <a:rect l="l" t="t" r="r" b="b"/>
            <a:pathLst>
              <a:path w="273" h="258">
                <a:moveTo>
                  <a:pt x="273" y="40"/>
                </a:moveTo>
                <a:cubicBezTo>
                  <a:pt x="203" y="17"/>
                  <a:pt x="179" y="0"/>
                  <a:pt x="91" y="40"/>
                </a:cubicBezTo>
                <a:cubicBezTo>
                  <a:pt x="59" y="54"/>
                  <a:pt x="19" y="201"/>
                  <a:pt x="18" y="204"/>
                </a:cubicBezTo>
                <a:cubicBezTo>
                  <a:pt x="12" y="222"/>
                  <a:pt x="0" y="258"/>
                  <a:pt x="0" y="25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448800">
            <a:off x="4134960" y="2643120"/>
            <a:ext cx="274680" cy="211320"/>
          </a:xfrm>
          <a:custGeom>
            <a:avLst/>
            <a:gdLst/>
            <a:ahLst/>
            <a:rect l="l" t="t" r="r" b="b"/>
            <a:pathLst>
              <a:path w="290" h="218">
                <a:moveTo>
                  <a:pt x="0" y="218"/>
                </a:moveTo>
                <a:cubicBezTo>
                  <a:pt x="66" y="118"/>
                  <a:pt x="157" y="0"/>
                  <a:pt x="29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448800">
            <a:off x="4167000" y="2663640"/>
            <a:ext cx="360" cy="195120"/>
          </a:xfrm>
          <a:custGeom>
            <a:avLst/>
            <a:gdLst/>
            <a:ahLst/>
            <a:rect l="l" t="t" r="r" b="b"/>
            <a:pathLst>
              <a:path w="1" h="200">
                <a:moveTo>
                  <a:pt x="0" y="200"/>
                </a:moveTo>
                <a:cubicBezTo>
                  <a:pt x="0" y="133"/>
                  <a:pt x="0" y="67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36880" y="2735280"/>
            <a:ext cx="1211400" cy="1044720"/>
          </a:xfrm>
          <a:custGeom>
            <a:avLst/>
            <a:gdLst/>
            <a:ahLst/>
            <a:rect l="l" t="t" r="r" b="b"/>
            <a:pathLst>
              <a:path w="1050" h="906">
                <a:moveTo>
                  <a:pt x="521" y="24"/>
                </a:moveTo>
                <a:cubicBezTo>
                  <a:pt x="598" y="0"/>
                  <a:pt x="573" y="2"/>
                  <a:pt x="709" y="24"/>
                </a:cubicBezTo>
                <a:cubicBezTo>
                  <a:pt x="734" y="28"/>
                  <a:pt x="784" y="48"/>
                  <a:pt x="784" y="48"/>
                </a:cubicBezTo>
                <a:cubicBezTo>
                  <a:pt x="864" y="105"/>
                  <a:pt x="820" y="70"/>
                  <a:pt x="910" y="157"/>
                </a:cubicBezTo>
                <a:cubicBezTo>
                  <a:pt x="939" y="185"/>
                  <a:pt x="985" y="254"/>
                  <a:pt x="985" y="254"/>
                </a:cubicBezTo>
                <a:cubicBezTo>
                  <a:pt x="1021" y="389"/>
                  <a:pt x="1050" y="536"/>
                  <a:pt x="973" y="664"/>
                </a:cubicBezTo>
                <a:cubicBezTo>
                  <a:pt x="954" y="697"/>
                  <a:pt x="927" y="767"/>
                  <a:pt x="897" y="785"/>
                </a:cubicBezTo>
                <a:cubicBezTo>
                  <a:pt x="847" y="817"/>
                  <a:pt x="805" y="862"/>
                  <a:pt x="747" y="882"/>
                </a:cubicBezTo>
                <a:cubicBezTo>
                  <a:pt x="715" y="894"/>
                  <a:pt x="646" y="906"/>
                  <a:pt x="646" y="906"/>
                </a:cubicBezTo>
                <a:cubicBezTo>
                  <a:pt x="489" y="898"/>
                  <a:pt x="376" y="886"/>
                  <a:pt x="232" y="846"/>
                </a:cubicBezTo>
                <a:cubicBezTo>
                  <a:pt x="153" y="795"/>
                  <a:pt x="100" y="741"/>
                  <a:pt x="69" y="652"/>
                </a:cubicBezTo>
                <a:cubicBezTo>
                  <a:pt x="73" y="521"/>
                  <a:pt x="0" y="178"/>
                  <a:pt x="203" y="114"/>
                </a:cubicBezTo>
                <a:cubicBezTo>
                  <a:pt x="274" y="46"/>
                  <a:pt x="360" y="62"/>
                  <a:pt x="458" y="48"/>
                </a:cubicBezTo>
                <a:cubicBezTo>
                  <a:pt x="537" y="22"/>
                  <a:pt x="560" y="24"/>
                  <a:pt x="521" y="24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20582400">
            <a:off x="4079880" y="2937960"/>
            <a:ext cx="341280" cy="4813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20582400">
            <a:off x="4446720" y="2838600"/>
            <a:ext cx="342720" cy="5079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8088000">
            <a:off x="4143960" y="2964600"/>
            <a:ext cx="751680" cy="70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744" y="1256"/>
                </a:moveTo>
                <a:arcTo wR="10800" hR="10800" stAng="-7074784" swAng="7074784"/>
                <a:lnTo>
                  <a:pt x="10800" y="10800"/>
                </a:lnTo>
                <a:close/>
              </a:path>
              <a:path fill="none" w="21600" h="21600">
                <a:moveTo>
                  <a:pt x="5744" y="1256"/>
                </a:moveTo>
                <a:arcTo wR="10800" hR="10800" stAng="-7074784" swAng="707478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413400">
            <a:off x="4451400" y="3347640"/>
            <a:ext cx="183960" cy="185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413400">
            <a:off x="4142880" y="3076200"/>
            <a:ext cx="241560" cy="268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413400">
            <a:off x="4506840" y="2952360"/>
            <a:ext cx="244440" cy="28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1140400">
            <a:off x="3952440" y="2803320"/>
            <a:ext cx="233280" cy="392040"/>
          </a:xfrm>
          <a:custGeom>
            <a:avLst/>
            <a:gdLst/>
            <a:ahLst/>
            <a:rect l="l" t="t" r="r" b="b"/>
            <a:pathLst>
              <a:path w="273" h="400">
                <a:moveTo>
                  <a:pt x="273" y="0"/>
                </a:moveTo>
                <a:cubicBezTo>
                  <a:pt x="198" y="37"/>
                  <a:pt x="150" y="69"/>
                  <a:pt x="91" y="127"/>
                </a:cubicBezTo>
                <a:cubicBezTo>
                  <a:pt x="61" y="218"/>
                  <a:pt x="0" y="301"/>
                  <a:pt x="0" y="4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62000">
            <a:off x="4185720" y="2719440"/>
            <a:ext cx="246240" cy="131760"/>
          </a:xfrm>
          <a:custGeom>
            <a:avLst/>
            <a:gdLst/>
            <a:ahLst/>
            <a:rect l="l" t="t" r="r" b="b"/>
            <a:pathLst>
              <a:path w="273" h="109">
                <a:moveTo>
                  <a:pt x="0" y="109"/>
                </a:moveTo>
                <a:cubicBezTo>
                  <a:pt x="12" y="91"/>
                  <a:pt x="17" y="66"/>
                  <a:pt x="36" y="54"/>
                </a:cubicBezTo>
                <a:cubicBezTo>
                  <a:pt x="105" y="11"/>
                  <a:pt x="195" y="0"/>
                  <a:pt x="273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67200" y="4917960"/>
            <a:ext cx="590760" cy="285840"/>
          </a:xfrm>
          <a:custGeom>
            <a:avLst/>
            <a:gdLst/>
            <a:ahLst/>
            <a:rect l="l" t="t" r="r" b="b"/>
            <a:pathLst>
              <a:path w="372" h="180">
                <a:moveTo>
                  <a:pt x="30" y="0"/>
                </a:moveTo>
                <a:lnTo>
                  <a:pt x="0" y="136"/>
                </a:lnTo>
                <a:lnTo>
                  <a:pt x="86" y="162"/>
                </a:lnTo>
                <a:lnTo>
                  <a:pt x="92" y="140"/>
                </a:lnTo>
                <a:lnTo>
                  <a:pt x="226" y="178"/>
                </a:lnTo>
                <a:lnTo>
                  <a:pt x="370" y="180"/>
                </a:lnTo>
                <a:lnTo>
                  <a:pt x="372" y="150"/>
                </a:lnTo>
                <a:lnTo>
                  <a:pt x="366" y="124"/>
                </a:lnTo>
                <a:lnTo>
                  <a:pt x="348" y="102"/>
                </a:lnTo>
                <a:lnTo>
                  <a:pt x="328" y="92"/>
                </a:lnTo>
                <a:lnTo>
                  <a:pt x="290" y="82"/>
                </a:lnTo>
                <a:lnTo>
                  <a:pt x="240" y="64"/>
                </a:lnTo>
                <a:lnTo>
                  <a:pt x="208" y="50"/>
                </a:lnTo>
                <a:lnTo>
                  <a:pt x="208" y="22"/>
                </a:lnTo>
                <a:lnTo>
                  <a:pt x="30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06800" y="4921200"/>
            <a:ext cx="536760" cy="260280"/>
          </a:xfrm>
          <a:custGeom>
            <a:avLst/>
            <a:gdLst/>
            <a:ahLst/>
            <a:rect l="l" t="t" r="r" b="b"/>
            <a:pathLst>
              <a:path w="338" h="164">
                <a:moveTo>
                  <a:pt x="158" y="2"/>
                </a:moveTo>
                <a:lnTo>
                  <a:pt x="156" y="18"/>
                </a:lnTo>
                <a:lnTo>
                  <a:pt x="134" y="22"/>
                </a:lnTo>
                <a:lnTo>
                  <a:pt x="108" y="38"/>
                </a:lnTo>
                <a:lnTo>
                  <a:pt x="88" y="44"/>
                </a:lnTo>
                <a:lnTo>
                  <a:pt x="48" y="56"/>
                </a:lnTo>
                <a:lnTo>
                  <a:pt x="22" y="68"/>
                </a:lnTo>
                <a:lnTo>
                  <a:pt x="8" y="86"/>
                </a:lnTo>
                <a:lnTo>
                  <a:pt x="0" y="108"/>
                </a:lnTo>
                <a:lnTo>
                  <a:pt x="0" y="140"/>
                </a:lnTo>
                <a:lnTo>
                  <a:pt x="0" y="162"/>
                </a:lnTo>
                <a:lnTo>
                  <a:pt x="86" y="164"/>
                </a:lnTo>
                <a:lnTo>
                  <a:pt x="180" y="144"/>
                </a:lnTo>
                <a:lnTo>
                  <a:pt x="280" y="100"/>
                </a:lnTo>
                <a:lnTo>
                  <a:pt x="280" y="126"/>
                </a:lnTo>
                <a:lnTo>
                  <a:pt x="336" y="84"/>
                </a:lnTo>
                <a:lnTo>
                  <a:pt x="338" y="0"/>
                </a:lnTo>
                <a:lnTo>
                  <a:pt x="158" y="2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760" y="380880"/>
            <a:ext cx="3752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</a:t>
            </a:r>
            <a:br>
              <a:rPr sz="24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chard Terwilli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90680" y="285840"/>
            <a:ext cx="334296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arallel Circuit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5" name=""/>
          <p:cNvSpPr/>
          <p:nvPr/>
        </p:nvSpPr>
        <p:spPr>
          <a:xfrm>
            <a:off x="1523160" y="1359000"/>
            <a:ext cx="604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In a parallel circuit </a:t>
            </a:r>
            <a:br>
              <a:rPr sz="3600"/>
            </a:b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there is more than one path </a:t>
            </a:r>
            <a:br>
              <a:rPr sz="3600"/>
            </a:b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that the electrons can trave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0" y="3570120"/>
            <a:ext cx="6657840" cy="2040120"/>
            <a:chOff x="0" y="3570120"/>
            <a:chExt cx="6657840" cy="2040120"/>
          </a:xfrm>
        </p:grpSpPr>
        <p:sp>
          <p:nvSpPr>
            <p:cNvPr id="387" name=""/>
            <p:cNvSpPr/>
            <p:nvPr/>
          </p:nvSpPr>
          <p:spPr>
            <a:xfrm>
              <a:off x="0" y="5513400"/>
              <a:ext cx="6458040" cy="968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2234880" y="4044960"/>
              <a:ext cx="517680" cy="1042920"/>
              <a:chOff x="2234880" y="4044960"/>
              <a:chExt cx="517680" cy="1042920"/>
            </a:xfrm>
          </p:grpSpPr>
          <p:sp>
            <p:nvSpPr>
              <p:cNvPr id="389" name=""/>
              <p:cNvSpPr/>
              <p:nvPr/>
            </p:nvSpPr>
            <p:spPr>
              <a:xfrm rot="5400000">
                <a:off x="2355840" y="4695120"/>
                <a:ext cx="274680" cy="510840"/>
              </a:xfrm>
              <a:prstGeom prst="ellipse">
                <a:avLst/>
              </a:prstGeom>
              <a:gradFill rotWithShape="0">
                <a:gsLst>
                  <a:gs pos="0">
                    <a:srgbClr val="5b4936"/>
                  </a:gs>
                  <a:gs pos="50000">
                    <a:srgbClr val="ffcc99"/>
                  </a:gs>
                  <a:gs pos="100000">
                    <a:srgbClr val="5b493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5400000">
                <a:off x="2058480" y="4275000"/>
                <a:ext cx="873000" cy="51408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5400000">
                <a:off x="2433240" y="3849840"/>
                <a:ext cx="123840" cy="514080"/>
              </a:xfrm>
              <a:prstGeom prst="ellipse">
                <a:avLst/>
              </a:prstGeom>
              <a:gradFill rotWithShape="0">
                <a:gsLst>
                  <a:gs pos="0">
                    <a:srgbClr val="755739"/>
                  </a:gs>
                  <a:gs pos="50000">
                    <a:srgbClr val="ffbe7d"/>
                  </a:gs>
                  <a:gs pos="100000">
                    <a:srgbClr val="75573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238120" y="4114800"/>
                <a:ext cx="0" cy="86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752560" y="4110120"/>
                <a:ext cx="0" cy="86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5400000">
                <a:off x="2412360" y="3989160"/>
                <a:ext cx="160200" cy="512640"/>
              </a:xfrm>
              <a:custGeom>
                <a:avLst/>
                <a:gdLst/>
                <a:ahLst/>
                <a:rect l="l" t="t" r="r" b="b"/>
                <a:pathLst>
                  <a:path w="132" h="420">
                    <a:moveTo>
                      <a:pt x="0" y="3"/>
                    </a:moveTo>
                    <a:lnTo>
                      <a:pt x="13" y="7"/>
                    </a:lnTo>
                    <a:lnTo>
                      <a:pt x="25" y="19"/>
                    </a:lnTo>
                    <a:lnTo>
                      <a:pt x="31" y="28"/>
                    </a:lnTo>
                    <a:lnTo>
                      <a:pt x="42" y="43"/>
                    </a:lnTo>
                    <a:lnTo>
                      <a:pt x="49" y="61"/>
                    </a:lnTo>
                    <a:lnTo>
                      <a:pt x="55" y="90"/>
                    </a:lnTo>
                    <a:lnTo>
                      <a:pt x="63" y="115"/>
                    </a:lnTo>
                    <a:lnTo>
                      <a:pt x="69" y="169"/>
                    </a:lnTo>
                    <a:lnTo>
                      <a:pt x="72" y="202"/>
                    </a:lnTo>
                    <a:lnTo>
                      <a:pt x="72" y="247"/>
                    </a:lnTo>
                    <a:lnTo>
                      <a:pt x="66" y="298"/>
                    </a:lnTo>
                    <a:lnTo>
                      <a:pt x="60" y="337"/>
                    </a:lnTo>
                    <a:lnTo>
                      <a:pt x="52" y="369"/>
                    </a:lnTo>
                    <a:lnTo>
                      <a:pt x="34" y="399"/>
                    </a:lnTo>
                    <a:lnTo>
                      <a:pt x="16" y="420"/>
                    </a:lnTo>
                    <a:lnTo>
                      <a:pt x="69" y="420"/>
                    </a:lnTo>
                    <a:lnTo>
                      <a:pt x="93" y="400"/>
                    </a:lnTo>
                    <a:lnTo>
                      <a:pt x="103" y="378"/>
                    </a:lnTo>
                    <a:lnTo>
                      <a:pt x="115" y="342"/>
                    </a:lnTo>
                    <a:lnTo>
                      <a:pt x="123" y="306"/>
                    </a:lnTo>
                    <a:lnTo>
                      <a:pt x="132" y="244"/>
                    </a:lnTo>
                    <a:lnTo>
                      <a:pt x="132" y="180"/>
                    </a:lnTo>
                    <a:lnTo>
                      <a:pt x="126" y="124"/>
                    </a:lnTo>
                    <a:lnTo>
                      <a:pt x="114" y="75"/>
                    </a:lnTo>
                    <a:lnTo>
                      <a:pt x="102" y="40"/>
                    </a:lnTo>
                    <a:lnTo>
                      <a:pt x="90" y="21"/>
                    </a:lnTo>
                    <a:lnTo>
                      <a:pt x="78" y="7"/>
                    </a:lnTo>
                    <a:lnTo>
                      <a:pt x="5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5400000">
                <a:off x="2408400" y="4137840"/>
                <a:ext cx="164880" cy="512280"/>
              </a:xfrm>
              <a:custGeom>
                <a:avLst/>
                <a:gdLst/>
                <a:ahLst/>
                <a:rect l="l" t="t" r="r" b="b"/>
                <a:pathLst>
                  <a:path w="132" h="420">
                    <a:moveTo>
                      <a:pt x="0" y="3"/>
                    </a:moveTo>
                    <a:lnTo>
                      <a:pt x="13" y="7"/>
                    </a:lnTo>
                    <a:lnTo>
                      <a:pt x="25" y="19"/>
                    </a:lnTo>
                    <a:lnTo>
                      <a:pt x="31" y="28"/>
                    </a:lnTo>
                    <a:lnTo>
                      <a:pt x="42" y="43"/>
                    </a:lnTo>
                    <a:lnTo>
                      <a:pt x="49" y="61"/>
                    </a:lnTo>
                    <a:lnTo>
                      <a:pt x="55" y="90"/>
                    </a:lnTo>
                    <a:lnTo>
                      <a:pt x="63" y="115"/>
                    </a:lnTo>
                    <a:lnTo>
                      <a:pt x="69" y="169"/>
                    </a:lnTo>
                    <a:lnTo>
                      <a:pt x="72" y="202"/>
                    </a:lnTo>
                    <a:lnTo>
                      <a:pt x="72" y="247"/>
                    </a:lnTo>
                    <a:lnTo>
                      <a:pt x="66" y="298"/>
                    </a:lnTo>
                    <a:lnTo>
                      <a:pt x="60" y="337"/>
                    </a:lnTo>
                    <a:lnTo>
                      <a:pt x="52" y="369"/>
                    </a:lnTo>
                    <a:lnTo>
                      <a:pt x="34" y="399"/>
                    </a:lnTo>
                    <a:lnTo>
                      <a:pt x="16" y="420"/>
                    </a:lnTo>
                    <a:lnTo>
                      <a:pt x="69" y="420"/>
                    </a:lnTo>
                    <a:lnTo>
                      <a:pt x="93" y="400"/>
                    </a:lnTo>
                    <a:lnTo>
                      <a:pt x="103" y="378"/>
                    </a:lnTo>
                    <a:lnTo>
                      <a:pt x="115" y="342"/>
                    </a:lnTo>
                    <a:lnTo>
                      <a:pt x="123" y="306"/>
                    </a:lnTo>
                    <a:lnTo>
                      <a:pt x="132" y="244"/>
                    </a:lnTo>
                    <a:lnTo>
                      <a:pt x="132" y="180"/>
                    </a:lnTo>
                    <a:lnTo>
                      <a:pt x="126" y="124"/>
                    </a:lnTo>
                    <a:lnTo>
                      <a:pt x="114" y="75"/>
                    </a:lnTo>
                    <a:lnTo>
                      <a:pt x="102" y="40"/>
                    </a:lnTo>
                    <a:lnTo>
                      <a:pt x="90" y="21"/>
                    </a:lnTo>
                    <a:lnTo>
                      <a:pt x="78" y="7"/>
                    </a:lnTo>
                    <a:lnTo>
                      <a:pt x="5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5400000">
                <a:off x="2413440" y="4287600"/>
                <a:ext cx="154080" cy="509400"/>
              </a:xfrm>
              <a:custGeom>
                <a:avLst/>
                <a:gdLst/>
                <a:ahLst/>
                <a:rect l="l" t="t" r="r" b="b"/>
                <a:pathLst>
                  <a:path w="132" h="420">
                    <a:moveTo>
                      <a:pt x="0" y="3"/>
                    </a:moveTo>
                    <a:lnTo>
                      <a:pt x="13" y="7"/>
                    </a:lnTo>
                    <a:lnTo>
                      <a:pt x="25" y="19"/>
                    </a:lnTo>
                    <a:lnTo>
                      <a:pt x="31" y="28"/>
                    </a:lnTo>
                    <a:lnTo>
                      <a:pt x="42" y="43"/>
                    </a:lnTo>
                    <a:lnTo>
                      <a:pt x="49" y="61"/>
                    </a:lnTo>
                    <a:lnTo>
                      <a:pt x="55" y="90"/>
                    </a:lnTo>
                    <a:lnTo>
                      <a:pt x="63" y="115"/>
                    </a:lnTo>
                    <a:lnTo>
                      <a:pt x="69" y="169"/>
                    </a:lnTo>
                    <a:lnTo>
                      <a:pt x="72" y="202"/>
                    </a:lnTo>
                    <a:lnTo>
                      <a:pt x="72" y="247"/>
                    </a:lnTo>
                    <a:lnTo>
                      <a:pt x="66" y="298"/>
                    </a:lnTo>
                    <a:lnTo>
                      <a:pt x="60" y="337"/>
                    </a:lnTo>
                    <a:lnTo>
                      <a:pt x="52" y="369"/>
                    </a:lnTo>
                    <a:lnTo>
                      <a:pt x="34" y="399"/>
                    </a:lnTo>
                    <a:lnTo>
                      <a:pt x="16" y="420"/>
                    </a:lnTo>
                    <a:lnTo>
                      <a:pt x="69" y="420"/>
                    </a:lnTo>
                    <a:lnTo>
                      <a:pt x="93" y="400"/>
                    </a:lnTo>
                    <a:lnTo>
                      <a:pt x="103" y="378"/>
                    </a:lnTo>
                    <a:lnTo>
                      <a:pt x="115" y="342"/>
                    </a:lnTo>
                    <a:lnTo>
                      <a:pt x="123" y="306"/>
                    </a:lnTo>
                    <a:lnTo>
                      <a:pt x="132" y="244"/>
                    </a:lnTo>
                    <a:lnTo>
                      <a:pt x="132" y="180"/>
                    </a:lnTo>
                    <a:lnTo>
                      <a:pt x="126" y="124"/>
                    </a:lnTo>
                    <a:lnTo>
                      <a:pt x="114" y="75"/>
                    </a:lnTo>
                    <a:lnTo>
                      <a:pt x="102" y="40"/>
                    </a:lnTo>
                    <a:lnTo>
                      <a:pt x="90" y="21"/>
                    </a:lnTo>
                    <a:lnTo>
                      <a:pt x="78" y="7"/>
                    </a:lnTo>
                    <a:lnTo>
                      <a:pt x="5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5400000">
                <a:off x="2412360" y="4430520"/>
                <a:ext cx="160200" cy="512640"/>
              </a:xfrm>
              <a:custGeom>
                <a:avLst/>
                <a:gdLst/>
                <a:ahLst/>
                <a:rect l="l" t="t" r="r" b="b"/>
                <a:pathLst>
                  <a:path w="136" h="453">
                    <a:moveTo>
                      <a:pt x="0" y="3"/>
                    </a:moveTo>
                    <a:lnTo>
                      <a:pt x="13" y="8"/>
                    </a:lnTo>
                    <a:lnTo>
                      <a:pt x="26" y="20"/>
                    </a:lnTo>
                    <a:lnTo>
                      <a:pt x="32" y="30"/>
                    </a:lnTo>
                    <a:lnTo>
                      <a:pt x="43" y="46"/>
                    </a:lnTo>
                    <a:lnTo>
                      <a:pt x="50" y="66"/>
                    </a:lnTo>
                    <a:lnTo>
                      <a:pt x="57" y="97"/>
                    </a:lnTo>
                    <a:lnTo>
                      <a:pt x="65" y="124"/>
                    </a:lnTo>
                    <a:lnTo>
                      <a:pt x="71" y="182"/>
                    </a:lnTo>
                    <a:lnTo>
                      <a:pt x="74" y="217"/>
                    </a:lnTo>
                    <a:lnTo>
                      <a:pt x="74" y="266"/>
                    </a:lnTo>
                    <a:lnTo>
                      <a:pt x="68" y="321"/>
                    </a:lnTo>
                    <a:lnTo>
                      <a:pt x="62" y="363"/>
                    </a:lnTo>
                    <a:lnTo>
                      <a:pt x="54" y="397"/>
                    </a:lnTo>
                    <a:lnTo>
                      <a:pt x="35" y="429"/>
                    </a:lnTo>
                    <a:lnTo>
                      <a:pt x="16" y="452"/>
                    </a:lnTo>
                    <a:lnTo>
                      <a:pt x="81" y="453"/>
                    </a:lnTo>
                    <a:lnTo>
                      <a:pt x="96" y="430"/>
                    </a:lnTo>
                    <a:lnTo>
                      <a:pt x="106" y="407"/>
                    </a:lnTo>
                    <a:lnTo>
                      <a:pt x="118" y="368"/>
                    </a:lnTo>
                    <a:lnTo>
                      <a:pt x="127" y="329"/>
                    </a:lnTo>
                    <a:lnTo>
                      <a:pt x="136" y="263"/>
                    </a:lnTo>
                    <a:lnTo>
                      <a:pt x="136" y="194"/>
                    </a:lnTo>
                    <a:lnTo>
                      <a:pt x="130" y="133"/>
                    </a:lnTo>
                    <a:lnTo>
                      <a:pt x="117" y="81"/>
                    </a:lnTo>
                    <a:lnTo>
                      <a:pt x="105" y="43"/>
                    </a:lnTo>
                    <a:lnTo>
                      <a:pt x="93" y="23"/>
                    </a:lnTo>
                    <a:lnTo>
                      <a:pt x="80" y="8"/>
                    </a:lnTo>
                    <a:lnTo>
                      <a:pt x="60" y="0"/>
                    </a:lnTo>
                    <a:lnTo>
                      <a:pt x="0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4187520" y="4044960"/>
              <a:ext cx="517680" cy="1042920"/>
              <a:chOff x="4187520" y="4044960"/>
              <a:chExt cx="517680" cy="1042920"/>
            </a:xfrm>
          </p:grpSpPr>
          <p:sp>
            <p:nvSpPr>
              <p:cNvPr id="399" name=""/>
              <p:cNvSpPr/>
              <p:nvPr/>
            </p:nvSpPr>
            <p:spPr>
              <a:xfrm rot="5400000">
                <a:off x="4308480" y="4695120"/>
                <a:ext cx="274680" cy="510840"/>
              </a:xfrm>
              <a:prstGeom prst="ellipse">
                <a:avLst/>
              </a:prstGeom>
              <a:gradFill rotWithShape="0">
                <a:gsLst>
                  <a:gs pos="0">
                    <a:srgbClr val="5b4936"/>
                  </a:gs>
                  <a:gs pos="50000">
                    <a:srgbClr val="ffcc99"/>
                  </a:gs>
                  <a:gs pos="100000">
                    <a:srgbClr val="5b493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5400000">
                <a:off x="4011120" y="4275000"/>
                <a:ext cx="873000" cy="51408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5400000">
                <a:off x="4385880" y="3849840"/>
                <a:ext cx="123840" cy="514080"/>
              </a:xfrm>
              <a:prstGeom prst="ellipse">
                <a:avLst/>
              </a:prstGeom>
              <a:gradFill rotWithShape="0">
                <a:gsLst>
                  <a:gs pos="0">
                    <a:srgbClr val="755739"/>
                  </a:gs>
                  <a:gs pos="50000">
                    <a:srgbClr val="ffbe7d"/>
                  </a:gs>
                  <a:gs pos="100000">
                    <a:srgbClr val="75573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90760" y="4114800"/>
                <a:ext cx="0" cy="86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705200" y="4110120"/>
                <a:ext cx="0" cy="86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5400000">
                <a:off x="4365000" y="3989160"/>
                <a:ext cx="160200" cy="512640"/>
              </a:xfrm>
              <a:custGeom>
                <a:avLst/>
                <a:gdLst/>
                <a:ahLst/>
                <a:rect l="l" t="t" r="r" b="b"/>
                <a:pathLst>
                  <a:path w="132" h="420">
                    <a:moveTo>
                      <a:pt x="0" y="3"/>
                    </a:moveTo>
                    <a:lnTo>
                      <a:pt x="13" y="7"/>
                    </a:lnTo>
                    <a:lnTo>
                      <a:pt x="25" y="19"/>
                    </a:lnTo>
                    <a:lnTo>
                      <a:pt x="31" y="28"/>
                    </a:lnTo>
                    <a:lnTo>
                      <a:pt x="42" y="43"/>
                    </a:lnTo>
                    <a:lnTo>
                      <a:pt x="49" y="61"/>
                    </a:lnTo>
                    <a:lnTo>
                      <a:pt x="55" y="90"/>
                    </a:lnTo>
                    <a:lnTo>
                      <a:pt x="63" y="115"/>
                    </a:lnTo>
                    <a:lnTo>
                      <a:pt x="69" y="169"/>
                    </a:lnTo>
                    <a:lnTo>
                      <a:pt x="72" y="202"/>
                    </a:lnTo>
                    <a:lnTo>
                      <a:pt x="72" y="247"/>
                    </a:lnTo>
                    <a:lnTo>
                      <a:pt x="66" y="298"/>
                    </a:lnTo>
                    <a:lnTo>
                      <a:pt x="60" y="337"/>
                    </a:lnTo>
                    <a:lnTo>
                      <a:pt x="52" y="369"/>
                    </a:lnTo>
                    <a:lnTo>
                      <a:pt x="34" y="399"/>
                    </a:lnTo>
                    <a:lnTo>
                      <a:pt x="16" y="420"/>
                    </a:lnTo>
                    <a:lnTo>
                      <a:pt x="69" y="420"/>
                    </a:lnTo>
                    <a:lnTo>
                      <a:pt x="93" y="400"/>
                    </a:lnTo>
                    <a:lnTo>
                      <a:pt x="103" y="378"/>
                    </a:lnTo>
                    <a:lnTo>
                      <a:pt x="115" y="342"/>
                    </a:lnTo>
                    <a:lnTo>
                      <a:pt x="123" y="306"/>
                    </a:lnTo>
                    <a:lnTo>
                      <a:pt x="132" y="244"/>
                    </a:lnTo>
                    <a:lnTo>
                      <a:pt x="132" y="180"/>
                    </a:lnTo>
                    <a:lnTo>
                      <a:pt x="126" y="124"/>
                    </a:lnTo>
                    <a:lnTo>
                      <a:pt x="114" y="75"/>
                    </a:lnTo>
                    <a:lnTo>
                      <a:pt x="102" y="40"/>
                    </a:lnTo>
                    <a:lnTo>
                      <a:pt x="90" y="21"/>
                    </a:lnTo>
                    <a:lnTo>
                      <a:pt x="78" y="7"/>
                    </a:lnTo>
                    <a:lnTo>
                      <a:pt x="5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5400000">
                <a:off x="4361040" y="4137840"/>
                <a:ext cx="164880" cy="512280"/>
              </a:xfrm>
              <a:custGeom>
                <a:avLst/>
                <a:gdLst/>
                <a:ahLst/>
                <a:rect l="l" t="t" r="r" b="b"/>
                <a:pathLst>
                  <a:path w="132" h="420">
                    <a:moveTo>
                      <a:pt x="0" y="3"/>
                    </a:moveTo>
                    <a:lnTo>
                      <a:pt x="13" y="7"/>
                    </a:lnTo>
                    <a:lnTo>
                      <a:pt x="25" y="19"/>
                    </a:lnTo>
                    <a:lnTo>
                      <a:pt x="31" y="28"/>
                    </a:lnTo>
                    <a:lnTo>
                      <a:pt x="42" y="43"/>
                    </a:lnTo>
                    <a:lnTo>
                      <a:pt x="49" y="61"/>
                    </a:lnTo>
                    <a:lnTo>
                      <a:pt x="55" y="90"/>
                    </a:lnTo>
                    <a:lnTo>
                      <a:pt x="63" y="115"/>
                    </a:lnTo>
                    <a:lnTo>
                      <a:pt x="69" y="169"/>
                    </a:lnTo>
                    <a:lnTo>
                      <a:pt x="72" y="202"/>
                    </a:lnTo>
                    <a:lnTo>
                      <a:pt x="72" y="247"/>
                    </a:lnTo>
                    <a:lnTo>
                      <a:pt x="66" y="298"/>
                    </a:lnTo>
                    <a:lnTo>
                      <a:pt x="60" y="337"/>
                    </a:lnTo>
                    <a:lnTo>
                      <a:pt x="52" y="369"/>
                    </a:lnTo>
                    <a:lnTo>
                      <a:pt x="34" y="399"/>
                    </a:lnTo>
                    <a:lnTo>
                      <a:pt x="16" y="420"/>
                    </a:lnTo>
                    <a:lnTo>
                      <a:pt x="69" y="420"/>
                    </a:lnTo>
                    <a:lnTo>
                      <a:pt x="93" y="400"/>
                    </a:lnTo>
                    <a:lnTo>
                      <a:pt x="103" y="378"/>
                    </a:lnTo>
                    <a:lnTo>
                      <a:pt x="115" y="342"/>
                    </a:lnTo>
                    <a:lnTo>
                      <a:pt x="123" y="306"/>
                    </a:lnTo>
                    <a:lnTo>
                      <a:pt x="132" y="244"/>
                    </a:lnTo>
                    <a:lnTo>
                      <a:pt x="132" y="180"/>
                    </a:lnTo>
                    <a:lnTo>
                      <a:pt x="126" y="124"/>
                    </a:lnTo>
                    <a:lnTo>
                      <a:pt x="114" y="75"/>
                    </a:lnTo>
                    <a:lnTo>
                      <a:pt x="102" y="40"/>
                    </a:lnTo>
                    <a:lnTo>
                      <a:pt x="90" y="21"/>
                    </a:lnTo>
                    <a:lnTo>
                      <a:pt x="78" y="7"/>
                    </a:lnTo>
                    <a:lnTo>
                      <a:pt x="5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5400000">
                <a:off x="4366080" y="4287600"/>
                <a:ext cx="154080" cy="509400"/>
              </a:xfrm>
              <a:custGeom>
                <a:avLst/>
                <a:gdLst/>
                <a:ahLst/>
                <a:rect l="l" t="t" r="r" b="b"/>
                <a:pathLst>
                  <a:path w="132" h="420">
                    <a:moveTo>
                      <a:pt x="0" y="3"/>
                    </a:moveTo>
                    <a:lnTo>
                      <a:pt x="13" y="7"/>
                    </a:lnTo>
                    <a:lnTo>
                      <a:pt x="25" y="19"/>
                    </a:lnTo>
                    <a:lnTo>
                      <a:pt x="31" y="28"/>
                    </a:lnTo>
                    <a:lnTo>
                      <a:pt x="42" y="43"/>
                    </a:lnTo>
                    <a:lnTo>
                      <a:pt x="49" y="61"/>
                    </a:lnTo>
                    <a:lnTo>
                      <a:pt x="55" y="90"/>
                    </a:lnTo>
                    <a:lnTo>
                      <a:pt x="63" y="115"/>
                    </a:lnTo>
                    <a:lnTo>
                      <a:pt x="69" y="169"/>
                    </a:lnTo>
                    <a:lnTo>
                      <a:pt x="72" y="202"/>
                    </a:lnTo>
                    <a:lnTo>
                      <a:pt x="72" y="247"/>
                    </a:lnTo>
                    <a:lnTo>
                      <a:pt x="66" y="298"/>
                    </a:lnTo>
                    <a:lnTo>
                      <a:pt x="60" y="337"/>
                    </a:lnTo>
                    <a:lnTo>
                      <a:pt x="52" y="369"/>
                    </a:lnTo>
                    <a:lnTo>
                      <a:pt x="34" y="399"/>
                    </a:lnTo>
                    <a:lnTo>
                      <a:pt x="16" y="420"/>
                    </a:lnTo>
                    <a:lnTo>
                      <a:pt x="69" y="420"/>
                    </a:lnTo>
                    <a:lnTo>
                      <a:pt x="93" y="400"/>
                    </a:lnTo>
                    <a:lnTo>
                      <a:pt x="103" y="378"/>
                    </a:lnTo>
                    <a:lnTo>
                      <a:pt x="115" y="342"/>
                    </a:lnTo>
                    <a:lnTo>
                      <a:pt x="123" y="306"/>
                    </a:lnTo>
                    <a:lnTo>
                      <a:pt x="132" y="244"/>
                    </a:lnTo>
                    <a:lnTo>
                      <a:pt x="132" y="180"/>
                    </a:lnTo>
                    <a:lnTo>
                      <a:pt x="126" y="124"/>
                    </a:lnTo>
                    <a:lnTo>
                      <a:pt x="114" y="75"/>
                    </a:lnTo>
                    <a:lnTo>
                      <a:pt x="102" y="40"/>
                    </a:lnTo>
                    <a:lnTo>
                      <a:pt x="90" y="21"/>
                    </a:lnTo>
                    <a:lnTo>
                      <a:pt x="78" y="7"/>
                    </a:lnTo>
                    <a:lnTo>
                      <a:pt x="5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5400000">
                <a:off x="4365000" y="4430520"/>
                <a:ext cx="160200" cy="512640"/>
              </a:xfrm>
              <a:custGeom>
                <a:avLst/>
                <a:gdLst/>
                <a:ahLst/>
                <a:rect l="l" t="t" r="r" b="b"/>
                <a:pathLst>
                  <a:path w="136" h="453">
                    <a:moveTo>
                      <a:pt x="0" y="3"/>
                    </a:moveTo>
                    <a:lnTo>
                      <a:pt x="13" y="8"/>
                    </a:lnTo>
                    <a:lnTo>
                      <a:pt x="26" y="20"/>
                    </a:lnTo>
                    <a:lnTo>
                      <a:pt x="32" y="30"/>
                    </a:lnTo>
                    <a:lnTo>
                      <a:pt x="43" y="46"/>
                    </a:lnTo>
                    <a:lnTo>
                      <a:pt x="50" y="66"/>
                    </a:lnTo>
                    <a:lnTo>
                      <a:pt x="57" y="97"/>
                    </a:lnTo>
                    <a:lnTo>
                      <a:pt x="65" y="124"/>
                    </a:lnTo>
                    <a:lnTo>
                      <a:pt x="71" y="182"/>
                    </a:lnTo>
                    <a:lnTo>
                      <a:pt x="74" y="217"/>
                    </a:lnTo>
                    <a:lnTo>
                      <a:pt x="74" y="266"/>
                    </a:lnTo>
                    <a:lnTo>
                      <a:pt x="68" y="321"/>
                    </a:lnTo>
                    <a:lnTo>
                      <a:pt x="62" y="363"/>
                    </a:lnTo>
                    <a:lnTo>
                      <a:pt x="54" y="397"/>
                    </a:lnTo>
                    <a:lnTo>
                      <a:pt x="35" y="429"/>
                    </a:lnTo>
                    <a:lnTo>
                      <a:pt x="16" y="452"/>
                    </a:lnTo>
                    <a:lnTo>
                      <a:pt x="81" y="453"/>
                    </a:lnTo>
                    <a:lnTo>
                      <a:pt x="96" y="430"/>
                    </a:lnTo>
                    <a:lnTo>
                      <a:pt x="106" y="407"/>
                    </a:lnTo>
                    <a:lnTo>
                      <a:pt x="118" y="368"/>
                    </a:lnTo>
                    <a:lnTo>
                      <a:pt x="127" y="329"/>
                    </a:lnTo>
                    <a:lnTo>
                      <a:pt x="136" y="263"/>
                    </a:lnTo>
                    <a:lnTo>
                      <a:pt x="136" y="194"/>
                    </a:lnTo>
                    <a:lnTo>
                      <a:pt x="130" y="133"/>
                    </a:lnTo>
                    <a:lnTo>
                      <a:pt x="117" y="81"/>
                    </a:lnTo>
                    <a:lnTo>
                      <a:pt x="105" y="43"/>
                    </a:lnTo>
                    <a:lnTo>
                      <a:pt x="93" y="23"/>
                    </a:lnTo>
                    <a:lnTo>
                      <a:pt x="80" y="8"/>
                    </a:lnTo>
                    <a:lnTo>
                      <a:pt x="60" y="0"/>
                    </a:lnTo>
                    <a:lnTo>
                      <a:pt x="0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6140160" y="4044960"/>
              <a:ext cx="517680" cy="1042920"/>
              <a:chOff x="6140160" y="4044960"/>
              <a:chExt cx="517680" cy="1042920"/>
            </a:xfrm>
          </p:grpSpPr>
          <p:sp>
            <p:nvSpPr>
              <p:cNvPr id="409" name=""/>
              <p:cNvSpPr/>
              <p:nvPr/>
            </p:nvSpPr>
            <p:spPr>
              <a:xfrm rot="5400000">
                <a:off x="6261120" y="4695120"/>
                <a:ext cx="274680" cy="510840"/>
              </a:xfrm>
              <a:prstGeom prst="ellipse">
                <a:avLst/>
              </a:prstGeom>
              <a:gradFill rotWithShape="0">
                <a:gsLst>
                  <a:gs pos="0">
                    <a:srgbClr val="5b4936"/>
                  </a:gs>
                  <a:gs pos="50000">
                    <a:srgbClr val="ffcc99"/>
                  </a:gs>
                  <a:gs pos="100000">
                    <a:srgbClr val="5b493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5400000">
                <a:off x="5963760" y="4275000"/>
                <a:ext cx="873000" cy="51408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5400000">
                <a:off x="6338520" y="3849840"/>
                <a:ext cx="123840" cy="514080"/>
              </a:xfrm>
              <a:prstGeom prst="ellipse">
                <a:avLst/>
              </a:prstGeom>
              <a:gradFill rotWithShape="0">
                <a:gsLst>
                  <a:gs pos="0">
                    <a:srgbClr val="755739"/>
                  </a:gs>
                  <a:gs pos="50000">
                    <a:srgbClr val="ffbe7d"/>
                  </a:gs>
                  <a:gs pos="100000">
                    <a:srgbClr val="75573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143400" y="4114800"/>
                <a:ext cx="0" cy="86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657840" y="4110120"/>
                <a:ext cx="0" cy="86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5400000">
                <a:off x="6317640" y="3989160"/>
                <a:ext cx="160200" cy="512640"/>
              </a:xfrm>
              <a:custGeom>
                <a:avLst/>
                <a:gdLst/>
                <a:ahLst/>
                <a:rect l="l" t="t" r="r" b="b"/>
                <a:pathLst>
                  <a:path w="132" h="420">
                    <a:moveTo>
                      <a:pt x="0" y="3"/>
                    </a:moveTo>
                    <a:lnTo>
                      <a:pt x="13" y="7"/>
                    </a:lnTo>
                    <a:lnTo>
                      <a:pt x="25" y="19"/>
                    </a:lnTo>
                    <a:lnTo>
                      <a:pt x="31" y="28"/>
                    </a:lnTo>
                    <a:lnTo>
                      <a:pt x="42" y="43"/>
                    </a:lnTo>
                    <a:lnTo>
                      <a:pt x="49" y="61"/>
                    </a:lnTo>
                    <a:lnTo>
                      <a:pt x="55" y="90"/>
                    </a:lnTo>
                    <a:lnTo>
                      <a:pt x="63" y="115"/>
                    </a:lnTo>
                    <a:lnTo>
                      <a:pt x="69" y="169"/>
                    </a:lnTo>
                    <a:lnTo>
                      <a:pt x="72" y="202"/>
                    </a:lnTo>
                    <a:lnTo>
                      <a:pt x="72" y="247"/>
                    </a:lnTo>
                    <a:lnTo>
                      <a:pt x="66" y="298"/>
                    </a:lnTo>
                    <a:lnTo>
                      <a:pt x="60" y="337"/>
                    </a:lnTo>
                    <a:lnTo>
                      <a:pt x="52" y="369"/>
                    </a:lnTo>
                    <a:lnTo>
                      <a:pt x="34" y="399"/>
                    </a:lnTo>
                    <a:lnTo>
                      <a:pt x="16" y="420"/>
                    </a:lnTo>
                    <a:lnTo>
                      <a:pt x="69" y="420"/>
                    </a:lnTo>
                    <a:lnTo>
                      <a:pt x="93" y="400"/>
                    </a:lnTo>
                    <a:lnTo>
                      <a:pt x="103" y="378"/>
                    </a:lnTo>
                    <a:lnTo>
                      <a:pt x="115" y="342"/>
                    </a:lnTo>
                    <a:lnTo>
                      <a:pt x="123" y="306"/>
                    </a:lnTo>
                    <a:lnTo>
                      <a:pt x="132" y="244"/>
                    </a:lnTo>
                    <a:lnTo>
                      <a:pt x="132" y="180"/>
                    </a:lnTo>
                    <a:lnTo>
                      <a:pt x="126" y="124"/>
                    </a:lnTo>
                    <a:lnTo>
                      <a:pt x="114" y="75"/>
                    </a:lnTo>
                    <a:lnTo>
                      <a:pt x="102" y="40"/>
                    </a:lnTo>
                    <a:lnTo>
                      <a:pt x="90" y="21"/>
                    </a:lnTo>
                    <a:lnTo>
                      <a:pt x="78" y="7"/>
                    </a:lnTo>
                    <a:lnTo>
                      <a:pt x="5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5400000">
                <a:off x="6313680" y="4137840"/>
                <a:ext cx="164880" cy="512280"/>
              </a:xfrm>
              <a:custGeom>
                <a:avLst/>
                <a:gdLst/>
                <a:ahLst/>
                <a:rect l="l" t="t" r="r" b="b"/>
                <a:pathLst>
                  <a:path w="132" h="420">
                    <a:moveTo>
                      <a:pt x="0" y="3"/>
                    </a:moveTo>
                    <a:lnTo>
                      <a:pt x="13" y="7"/>
                    </a:lnTo>
                    <a:lnTo>
                      <a:pt x="25" y="19"/>
                    </a:lnTo>
                    <a:lnTo>
                      <a:pt x="31" y="28"/>
                    </a:lnTo>
                    <a:lnTo>
                      <a:pt x="42" y="43"/>
                    </a:lnTo>
                    <a:lnTo>
                      <a:pt x="49" y="61"/>
                    </a:lnTo>
                    <a:lnTo>
                      <a:pt x="55" y="90"/>
                    </a:lnTo>
                    <a:lnTo>
                      <a:pt x="63" y="115"/>
                    </a:lnTo>
                    <a:lnTo>
                      <a:pt x="69" y="169"/>
                    </a:lnTo>
                    <a:lnTo>
                      <a:pt x="72" y="202"/>
                    </a:lnTo>
                    <a:lnTo>
                      <a:pt x="72" y="247"/>
                    </a:lnTo>
                    <a:lnTo>
                      <a:pt x="66" y="298"/>
                    </a:lnTo>
                    <a:lnTo>
                      <a:pt x="60" y="337"/>
                    </a:lnTo>
                    <a:lnTo>
                      <a:pt x="52" y="369"/>
                    </a:lnTo>
                    <a:lnTo>
                      <a:pt x="34" y="399"/>
                    </a:lnTo>
                    <a:lnTo>
                      <a:pt x="16" y="420"/>
                    </a:lnTo>
                    <a:lnTo>
                      <a:pt x="69" y="420"/>
                    </a:lnTo>
                    <a:lnTo>
                      <a:pt x="93" y="400"/>
                    </a:lnTo>
                    <a:lnTo>
                      <a:pt x="103" y="378"/>
                    </a:lnTo>
                    <a:lnTo>
                      <a:pt x="115" y="342"/>
                    </a:lnTo>
                    <a:lnTo>
                      <a:pt x="123" y="306"/>
                    </a:lnTo>
                    <a:lnTo>
                      <a:pt x="132" y="244"/>
                    </a:lnTo>
                    <a:lnTo>
                      <a:pt x="132" y="180"/>
                    </a:lnTo>
                    <a:lnTo>
                      <a:pt x="126" y="124"/>
                    </a:lnTo>
                    <a:lnTo>
                      <a:pt x="114" y="75"/>
                    </a:lnTo>
                    <a:lnTo>
                      <a:pt x="102" y="40"/>
                    </a:lnTo>
                    <a:lnTo>
                      <a:pt x="90" y="21"/>
                    </a:lnTo>
                    <a:lnTo>
                      <a:pt x="78" y="7"/>
                    </a:lnTo>
                    <a:lnTo>
                      <a:pt x="5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5400000">
                <a:off x="6318720" y="4287600"/>
                <a:ext cx="154080" cy="509400"/>
              </a:xfrm>
              <a:custGeom>
                <a:avLst/>
                <a:gdLst/>
                <a:ahLst/>
                <a:rect l="l" t="t" r="r" b="b"/>
                <a:pathLst>
                  <a:path w="132" h="420">
                    <a:moveTo>
                      <a:pt x="0" y="3"/>
                    </a:moveTo>
                    <a:lnTo>
                      <a:pt x="13" y="7"/>
                    </a:lnTo>
                    <a:lnTo>
                      <a:pt x="25" y="19"/>
                    </a:lnTo>
                    <a:lnTo>
                      <a:pt x="31" y="28"/>
                    </a:lnTo>
                    <a:lnTo>
                      <a:pt x="42" y="43"/>
                    </a:lnTo>
                    <a:lnTo>
                      <a:pt x="49" y="61"/>
                    </a:lnTo>
                    <a:lnTo>
                      <a:pt x="55" y="90"/>
                    </a:lnTo>
                    <a:lnTo>
                      <a:pt x="63" y="115"/>
                    </a:lnTo>
                    <a:lnTo>
                      <a:pt x="69" y="169"/>
                    </a:lnTo>
                    <a:lnTo>
                      <a:pt x="72" y="202"/>
                    </a:lnTo>
                    <a:lnTo>
                      <a:pt x="72" y="247"/>
                    </a:lnTo>
                    <a:lnTo>
                      <a:pt x="66" y="298"/>
                    </a:lnTo>
                    <a:lnTo>
                      <a:pt x="60" y="337"/>
                    </a:lnTo>
                    <a:lnTo>
                      <a:pt x="52" y="369"/>
                    </a:lnTo>
                    <a:lnTo>
                      <a:pt x="34" y="399"/>
                    </a:lnTo>
                    <a:lnTo>
                      <a:pt x="16" y="420"/>
                    </a:lnTo>
                    <a:lnTo>
                      <a:pt x="69" y="420"/>
                    </a:lnTo>
                    <a:lnTo>
                      <a:pt x="93" y="400"/>
                    </a:lnTo>
                    <a:lnTo>
                      <a:pt x="103" y="378"/>
                    </a:lnTo>
                    <a:lnTo>
                      <a:pt x="115" y="342"/>
                    </a:lnTo>
                    <a:lnTo>
                      <a:pt x="123" y="306"/>
                    </a:lnTo>
                    <a:lnTo>
                      <a:pt x="132" y="244"/>
                    </a:lnTo>
                    <a:lnTo>
                      <a:pt x="132" y="180"/>
                    </a:lnTo>
                    <a:lnTo>
                      <a:pt x="126" y="124"/>
                    </a:lnTo>
                    <a:lnTo>
                      <a:pt x="114" y="75"/>
                    </a:lnTo>
                    <a:lnTo>
                      <a:pt x="102" y="40"/>
                    </a:lnTo>
                    <a:lnTo>
                      <a:pt x="90" y="21"/>
                    </a:lnTo>
                    <a:lnTo>
                      <a:pt x="78" y="7"/>
                    </a:lnTo>
                    <a:lnTo>
                      <a:pt x="5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5400000">
                <a:off x="6317640" y="4430520"/>
                <a:ext cx="160200" cy="512640"/>
              </a:xfrm>
              <a:custGeom>
                <a:avLst/>
                <a:gdLst/>
                <a:ahLst/>
                <a:rect l="l" t="t" r="r" b="b"/>
                <a:pathLst>
                  <a:path w="136" h="453">
                    <a:moveTo>
                      <a:pt x="0" y="3"/>
                    </a:moveTo>
                    <a:lnTo>
                      <a:pt x="13" y="8"/>
                    </a:lnTo>
                    <a:lnTo>
                      <a:pt x="26" y="20"/>
                    </a:lnTo>
                    <a:lnTo>
                      <a:pt x="32" y="30"/>
                    </a:lnTo>
                    <a:lnTo>
                      <a:pt x="43" y="46"/>
                    </a:lnTo>
                    <a:lnTo>
                      <a:pt x="50" y="66"/>
                    </a:lnTo>
                    <a:lnTo>
                      <a:pt x="57" y="97"/>
                    </a:lnTo>
                    <a:lnTo>
                      <a:pt x="65" y="124"/>
                    </a:lnTo>
                    <a:lnTo>
                      <a:pt x="71" y="182"/>
                    </a:lnTo>
                    <a:lnTo>
                      <a:pt x="74" y="217"/>
                    </a:lnTo>
                    <a:lnTo>
                      <a:pt x="74" y="266"/>
                    </a:lnTo>
                    <a:lnTo>
                      <a:pt x="68" y="321"/>
                    </a:lnTo>
                    <a:lnTo>
                      <a:pt x="62" y="363"/>
                    </a:lnTo>
                    <a:lnTo>
                      <a:pt x="54" y="397"/>
                    </a:lnTo>
                    <a:lnTo>
                      <a:pt x="35" y="429"/>
                    </a:lnTo>
                    <a:lnTo>
                      <a:pt x="16" y="452"/>
                    </a:lnTo>
                    <a:lnTo>
                      <a:pt x="81" y="453"/>
                    </a:lnTo>
                    <a:lnTo>
                      <a:pt x="96" y="430"/>
                    </a:lnTo>
                    <a:lnTo>
                      <a:pt x="106" y="407"/>
                    </a:lnTo>
                    <a:lnTo>
                      <a:pt x="118" y="368"/>
                    </a:lnTo>
                    <a:lnTo>
                      <a:pt x="127" y="329"/>
                    </a:lnTo>
                    <a:lnTo>
                      <a:pt x="136" y="263"/>
                    </a:lnTo>
                    <a:lnTo>
                      <a:pt x="136" y="194"/>
                    </a:lnTo>
                    <a:lnTo>
                      <a:pt x="130" y="133"/>
                    </a:lnTo>
                    <a:lnTo>
                      <a:pt x="117" y="81"/>
                    </a:lnTo>
                    <a:lnTo>
                      <a:pt x="105" y="43"/>
                    </a:lnTo>
                    <a:lnTo>
                      <a:pt x="93" y="23"/>
                    </a:lnTo>
                    <a:lnTo>
                      <a:pt x="80" y="8"/>
                    </a:lnTo>
                    <a:lnTo>
                      <a:pt x="60" y="0"/>
                    </a:lnTo>
                    <a:lnTo>
                      <a:pt x="0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0" y="3570120"/>
              <a:ext cx="6438960" cy="1094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2452680" y="5086080"/>
              <a:ext cx="4008600" cy="476280"/>
              <a:chOff x="2452680" y="5086080"/>
              <a:chExt cx="4008600" cy="476280"/>
            </a:xfrm>
          </p:grpSpPr>
          <p:sp>
            <p:nvSpPr>
              <p:cNvPr id="420" name=""/>
              <p:cNvSpPr/>
              <p:nvPr/>
            </p:nvSpPr>
            <p:spPr>
              <a:xfrm rot="16200000">
                <a:off x="2278800" y="5266440"/>
                <a:ext cx="457200" cy="109440"/>
              </a:xfrm>
              <a:prstGeom prst="rect">
                <a:avLst/>
              </a:prstGeom>
              <a:gradFill rotWithShape="0">
                <a:gsLst>
                  <a:gs pos="0">
                    <a:srgbClr val="755e00"/>
                  </a:gs>
                  <a:gs pos="50000">
                    <a:srgbClr val="ffcc00"/>
                  </a:gs>
                  <a:gs pos="100000">
                    <a:srgbClr val="755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16200000">
                <a:off x="4228200" y="5259960"/>
                <a:ext cx="457200" cy="109440"/>
              </a:xfrm>
              <a:prstGeom prst="rect">
                <a:avLst/>
              </a:prstGeom>
              <a:gradFill rotWithShape="0">
                <a:gsLst>
                  <a:gs pos="0">
                    <a:srgbClr val="755e00"/>
                  </a:gs>
                  <a:gs pos="50000">
                    <a:srgbClr val="ffcc00"/>
                  </a:gs>
                  <a:gs pos="100000">
                    <a:srgbClr val="755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16200000">
                <a:off x="6177600" y="5278680"/>
                <a:ext cx="457200" cy="109800"/>
              </a:xfrm>
              <a:prstGeom prst="rect">
                <a:avLst/>
              </a:prstGeom>
              <a:gradFill rotWithShape="0">
                <a:gsLst>
                  <a:gs pos="0">
                    <a:srgbClr val="755e00"/>
                  </a:gs>
                  <a:gs pos="50000">
                    <a:srgbClr val="ffcc00"/>
                  </a:gs>
                  <a:gs pos="100000">
                    <a:srgbClr val="755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2446200" y="3657600"/>
              <a:ext cx="4002120" cy="469800"/>
              <a:chOff x="2446200" y="3657600"/>
              <a:chExt cx="4002120" cy="469800"/>
            </a:xfrm>
          </p:grpSpPr>
          <p:sp>
            <p:nvSpPr>
              <p:cNvPr id="424" name=""/>
              <p:cNvSpPr/>
              <p:nvPr/>
            </p:nvSpPr>
            <p:spPr>
              <a:xfrm rot="16200000">
                <a:off x="2272320" y="3831120"/>
                <a:ext cx="457200" cy="109800"/>
              </a:xfrm>
              <a:prstGeom prst="rect">
                <a:avLst/>
              </a:prstGeom>
              <a:gradFill rotWithShape="0">
                <a:gsLst>
                  <a:gs pos="0">
                    <a:srgbClr val="755e00"/>
                  </a:gs>
                  <a:gs pos="50000">
                    <a:srgbClr val="ffcc00"/>
                  </a:gs>
                  <a:gs pos="100000">
                    <a:srgbClr val="755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6200000">
                <a:off x="4228200" y="3844080"/>
                <a:ext cx="457200" cy="109440"/>
              </a:xfrm>
              <a:prstGeom prst="rect">
                <a:avLst/>
              </a:prstGeom>
              <a:gradFill rotWithShape="0">
                <a:gsLst>
                  <a:gs pos="0">
                    <a:srgbClr val="755e00"/>
                  </a:gs>
                  <a:gs pos="50000">
                    <a:srgbClr val="ffcc00"/>
                  </a:gs>
                  <a:gs pos="100000">
                    <a:srgbClr val="755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16200000">
                <a:off x="6165000" y="3844080"/>
                <a:ext cx="457200" cy="109440"/>
              </a:xfrm>
              <a:prstGeom prst="rect">
                <a:avLst/>
              </a:prstGeom>
              <a:gradFill rotWithShape="0">
                <a:gsLst>
                  <a:gs pos="0">
                    <a:srgbClr val="755e00"/>
                  </a:gs>
                  <a:gs pos="50000">
                    <a:srgbClr val="ffcc00"/>
                  </a:gs>
                  <a:gs pos="100000">
                    <a:srgbClr val="755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" name=""/>
          <p:cNvSpPr/>
          <p:nvPr/>
        </p:nvSpPr>
        <p:spPr>
          <a:xfrm flipV="1">
            <a:off x="0" y="5549760"/>
            <a:ext cx="6419880" cy="6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2502000" y="3625920"/>
            <a:ext cx="3898800" cy="1930320"/>
            <a:chOff x="2502000" y="3625920"/>
            <a:chExt cx="3898800" cy="1930320"/>
          </a:xfrm>
        </p:grpSpPr>
        <p:sp>
          <p:nvSpPr>
            <p:cNvPr id="429" name=""/>
            <p:cNvSpPr/>
            <p:nvPr/>
          </p:nvSpPr>
          <p:spPr>
            <a:xfrm flipV="1">
              <a:off x="4457880" y="3625920"/>
              <a:ext cx="0" cy="1930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2502000" y="3632040"/>
              <a:ext cx="0" cy="1923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6400800" y="3625920"/>
              <a:ext cx="0" cy="1923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 flipV="1">
            <a:off x="0" y="3612960"/>
            <a:ext cx="6419880" cy="6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>
            <a:hlinkClick r:id="" action="ppaction://hlinkshowjump?jump=previousslide"/>
          </p:cNvPr>
          <p:cNvSpPr/>
          <p:nvPr/>
        </p:nvSpPr>
        <p:spPr>
          <a:xfrm>
            <a:off x="476280" y="6095880"/>
            <a:ext cx="952560" cy="495360"/>
          </a:xfrm>
          <a:custGeom>
            <a:avLst/>
            <a:gdLst>
              <a:gd name="textAreaLeft" fmla="*/ 32040 w 952560"/>
              <a:gd name="textAreaRight" fmla="*/ 920520 w 952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41522" h="21600">
                <a:moveTo>
                  <a:pt x="0" y="0"/>
                </a:moveTo>
                <a:lnTo>
                  <a:pt x="41522" y="0"/>
                </a:lnTo>
                <a:lnTo>
                  <a:pt x="41522" y="21600"/>
                </a:lnTo>
                <a:lnTo>
                  <a:pt x="0" y="21600"/>
                </a:lnTo>
                <a:close/>
              </a:path>
              <a:path fill="lightenLess" w="41522" h="21600">
                <a:moveTo>
                  <a:pt x="0" y="0"/>
                </a:moveTo>
                <a:lnTo>
                  <a:pt x="41522" y="0"/>
                </a:lnTo>
                <a:lnTo>
                  <a:pt x="40122" y="1400"/>
                </a:lnTo>
                <a:lnTo>
                  <a:pt x="1400" y="1400"/>
                </a:lnTo>
                <a:close/>
              </a:path>
              <a:path fill="darken" w="41522" h="21600">
                <a:moveTo>
                  <a:pt x="41522" y="0"/>
                </a:moveTo>
                <a:lnTo>
                  <a:pt x="41522" y="21600"/>
                </a:lnTo>
                <a:lnTo>
                  <a:pt x="40122" y="20200"/>
                </a:lnTo>
                <a:lnTo>
                  <a:pt x="40122" y="1400"/>
                </a:lnTo>
                <a:close/>
              </a:path>
              <a:path fill="darkenLess" w="41522" h="21600">
                <a:moveTo>
                  <a:pt x="415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122" y="20200"/>
                </a:lnTo>
                <a:close/>
              </a:path>
              <a:path fill="lighten" w="415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522" h="21600">
                <a:moveTo>
                  <a:pt x="13754" y="10800"/>
                </a:moveTo>
                <a:lnTo>
                  <a:pt x="27767" y="3794"/>
                </a:lnTo>
                <a:lnTo>
                  <a:pt x="27767" y="1780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5162400" y="72396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238720" y="800280"/>
            <a:ext cx="990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5238000" y="19360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5563440" y="19360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 flipV="1">
            <a:off x="6042960" y="19360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5240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5935680" y="1647720"/>
            <a:ext cx="324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5564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42" name=""/>
          <p:cNvSpPr/>
          <p:nvPr/>
        </p:nvSpPr>
        <p:spPr>
          <a:xfrm>
            <a:off x="6299280" y="3036960"/>
            <a:ext cx="284472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5102280" y="2738520"/>
            <a:ext cx="1328760" cy="725040"/>
            <a:chOff x="5102280" y="2738520"/>
            <a:chExt cx="1328760" cy="725040"/>
          </a:xfrm>
        </p:grpSpPr>
        <p:sp>
          <p:nvSpPr>
            <p:cNvPr id="444" name=""/>
            <p:cNvSpPr/>
            <p:nvPr/>
          </p:nvSpPr>
          <p:spPr>
            <a:xfrm>
              <a:off x="626436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70320" y="2738520"/>
              <a:ext cx="1177920" cy="723600"/>
            </a:xfrm>
            <a:prstGeom prst="rect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10228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739"/>
                </a:gs>
                <a:gs pos="50000">
                  <a:srgbClr val="ffbe7d"/>
                </a:gs>
                <a:gs pos="100000">
                  <a:srgbClr val="75573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195880" y="3462120"/>
              <a:ext cx="11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189400" y="2738520"/>
              <a:ext cx="11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64280" y="2741400"/>
              <a:ext cx="217440" cy="71892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460840" y="2743200"/>
              <a:ext cx="223920" cy="72036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668920" y="2744640"/>
              <a:ext cx="208080" cy="71568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859360" y="2741400"/>
              <a:ext cx="216000" cy="718920"/>
            </a:xfrm>
            <a:custGeom>
              <a:avLst/>
              <a:gdLst/>
              <a:ahLst/>
              <a:rect l="l" t="t" r="r" b="b"/>
              <a:pathLst>
                <a:path w="136" h="453">
                  <a:moveTo>
                    <a:pt x="0" y="3"/>
                  </a:moveTo>
                  <a:lnTo>
                    <a:pt x="13" y="8"/>
                  </a:lnTo>
                  <a:lnTo>
                    <a:pt x="26" y="20"/>
                  </a:lnTo>
                  <a:lnTo>
                    <a:pt x="32" y="30"/>
                  </a:lnTo>
                  <a:lnTo>
                    <a:pt x="43" y="46"/>
                  </a:lnTo>
                  <a:lnTo>
                    <a:pt x="50" y="66"/>
                  </a:lnTo>
                  <a:lnTo>
                    <a:pt x="57" y="97"/>
                  </a:lnTo>
                  <a:lnTo>
                    <a:pt x="65" y="124"/>
                  </a:lnTo>
                  <a:lnTo>
                    <a:pt x="71" y="182"/>
                  </a:lnTo>
                  <a:lnTo>
                    <a:pt x="74" y="217"/>
                  </a:lnTo>
                  <a:lnTo>
                    <a:pt x="74" y="266"/>
                  </a:lnTo>
                  <a:lnTo>
                    <a:pt x="68" y="321"/>
                  </a:lnTo>
                  <a:lnTo>
                    <a:pt x="62" y="363"/>
                  </a:lnTo>
                  <a:lnTo>
                    <a:pt x="54" y="397"/>
                  </a:lnTo>
                  <a:lnTo>
                    <a:pt x="35" y="429"/>
                  </a:lnTo>
                  <a:lnTo>
                    <a:pt x="16" y="452"/>
                  </a:lnTo>
                  <a:lnTo>
                    <a:pt x="81" y="453"/>
                  </a:lnTo>
                  <a:lnTo>
                    <a:pt x="96" y="430"/>
                  </a:lnTo>
                  <a:lnTo>
                    <a:pt x="106" y="407"/>
                  </a:lnTo>
                  <a:lnTo>
                    <a:pt x="118" y="368"/>
                  </a:lnTo>
                  <a:lnTo>
                    <a:pt x="127" y="329"/>
                  </a:lnTo>
                  <a:lnTo>
                    <a:pt x="136" y="263"/>
                  </a:lnTo>
                  <a:lnTo>
                    <a:pt x="136" y="194"/>
                  </a:lnTo>
                  <a:lnTo>
                    <a:pt x="130" y="133"/>
                  </a:lnTo>
                  <a:lnTo>
                    <a:pt x="117" y="81"/>
                  </a:lnTo>
                  <a:lnTo>
                    <a:pt x="105" y="43"/>
                  </a:lnTo>
                  <a:lnTo>
                    <a:pt x="93" y="23"/>
                  </a:lnTo>
                  <a:lnTo>
                    <a:pt x="80" y="8"/>
                  </a:lnTo>
                  <a:lnTo>
                    <a:pt x="6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3479760" y="3051000"/>
            <a:ext cx="1708200" cy="136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8600" y="3075120"/>
            <a:ext cx="76824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476360" y="149544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552680" y="1571760"/>
            <a:ext cx="9903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flipV="1">
            <a:off x="1551960" y="27075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1877400" y="27075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2357280" y="270756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554120" y="241920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2249640" y="2419200"/>
            <a:ext cx="323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878120" y="2419200"/>
            <a:ext cx="161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848160" y="3067200"/>
            <a:ext cx="969480" cy="145800"/>
            <a:chOff x="848160" y="3067200"/>
            <a:chExt cx="969480" cy="145800"/>
          </a:xfrm>
        </p:grpSpPr>
        <p:sp>
          <p:nvSpPr>
            <p:cNvPr id="464" name=""/>
            <p:cNvSpPr/>
            <p:nvPr/>
          </p:nvSpPr>
          <p:spPr>
            <a:xfrm flipH="1">
              <a:off x="932040" y="313380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848160" y="3085920"/>
              <a:ext cx="280800" cy="10296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113480" y="30672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1146240" y="3103560"/>
              <a:ext cx="215640" cy="74160"/>
            </a:xfrm>
            <a:prstGeom prst="rect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2576520" y="3051000"/>
            <a:ext cx="1031400" cy="145800"/>
            <a:chOff x="2576520" y="3051000"/>
            <a:chExt cx="1031400" cy="145800"/>
          </a:xfrm>
        </p:grpSpPr>
        <p:sp>
          <p:nvSpPr>
            <p:cNvPr id="469" name=""/>
            <p:cNvSpPr/>
            <p:nvPr/>
          </p:nvSpPr>
          <p:spPr>
            <a:xfrm>
              <a:off x="2576520" y="312696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327120" y="3069720"/>
              <a:ext cx="280800" cy="10332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268440" y="30510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079440" y="3087360"/>
              <a:ext cx="2156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 flipH="1">
            <a:off x="1790640" y="2809800"/>
            <a:ext cx="16200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28920" y="2809800"/>
            <a:ext cx="15228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4945680" y="2036880"/>
            <a:ext cx="360" cy="98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 rot="16246200">
            <a:off x="4804200" y="2916000"/>
            <a:ext cx="280800" cy="10296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 rot="16246200">
            <a:off x="4912200" y="2732760"/>
            <a:ext cx="74520" cy="145800"/>
          </a:xfrm>
          <a:prstGeom prst="ellipse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76840" y="1994040"/>
            <a:ext cx="0" cy="958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rot="5400000">
            <a:off x="6444000" y="2905920"/>
            <a:ext cx="273240" cy="10332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5400000">
            <a:off x="6543360" y="2727000"/>
            <a:ext cx="73080" cy="14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5400000">
            <a:off x="6472440" y="2647080"/>
            <a:ext cx="209520" cy="74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910040" y="2590920"/>
            <a:ext cx="74880" cy="2188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927680" y="201600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170760" y="201132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1287360" y="1023840"/>
            <a:ext cx="1552680" cy="381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mme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716360" y="304920"/>
            <a:ext cx="1971720" cy="304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oltme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87" name=""/>
          <p:cNvSpPr/>
          <p:nvPr/>
        </p:nvSpPr>
        <p:spPr>
          <a:xfrm rot="4200">
            <a:off x="375840" y="5091120"/>
            <a:ext cx="1473120" cy="1295280"/>
          </a:xfrm>
          <a:custGeom>
            <a:avLst/>
            <a:gdLst/>
            <a:ahLst/>
            <a:rect l="l" t="t" r="r" b="b"/>
            <a:pathLst>
              <a:path w="1688" h="1469">
                <a:moveTo>
                  <a:pt x="60" y="859"/>
                </a:moveTo>
                <a:cubicBezTo>
                  <a:pt x="54" y="930"/>
                  <a:pt x="43" y="984"/>
                  <a:pt x="28" y="1050"/>
                </a:cubicBezTo>
                <a:cubicBezTo>
                  <a:pt x="25" y="1099"/>
                  <a:pt x="20" y="1147"/>
                  <a:pt x="20" y="1196"/>
                </a:cubicBezTo>
                <a:cubicBezTo>
                  <a:pt x="20" y="1374"/>
                  <a:pt x="0" y="1417"/>
                  <a:pt x="132" y="1424"/>
                </a:cubicBezTo>
                <a:cubicBezTo>
                  <a:pt x="289" y="1469"/>
                  <a:pt x="327" y="1216"/>
                  <a:pt x="636" y="1224"/>
                </a:cubicBezTo>
                <a:cubicBezTo>
                  <a:pt x="1284" y="1176"/>
                  <a:pt x="1224" y="1416"/>
                  <a:pt x="1508" y="1408"/>
                </a:cubicBezTo>
                <a:cubicBezTo>
                  <a:pt x="1548" y="1399"/>
                  <a:pt x="1606" y="1339"/>
                  <a:pt x="1644" y="1324"/>
                </a:cubicBezTo>
                <a:cubicBezTo>
                  <a:pt x="1652" y="1321"/>
                  <a:pt x="1648" y="1304"/>
                  <a:pt x="1652" y="1297"/>
                </a:cubicBezTo>
                <a:cubicBezTo>
                  <a:pt x="1659" y="1282"/>
                  <a:pt x="1668" y="1272"/>
                  <a:pt x="1676" y="1259"/>
                </a:cubicBezTo>
                <a:cubicBezTo>
                  <a:pt x="1688" y="1202"/>
                  <a:pt x="1676" y="1159"/>
                  <a:pt x="1660" y="1105"/>
                </a:cubicBezTo>
                <a:cubicBezTo>
                  <a:pt x="1649" y="1066"/>
                  <a:pt x="1643" y="1023"/>
                  <a:pt x="1628" y="986"/>
                </a:cubicBezTo>
                <a:cubicBezTo>
                  <a:pt x="1622" y="973"/>
                  <a:pt x="1611" y="962"/>
                  <a:pt x="1604" y="950"/>
                </a:cubicBezTo>
                <a:cubicBezTo>
                  <a:pt x="1581" y="906"/>
                  <a:pt x="1547" y="872"/>
                  <a:pt x="1520" y="832"/>
                </a:cubicBezTo>
                <a:cubicBezTo>
                  <a:pt x="1513" y="799"/>
                  <a:pt x="1498" y="688"/>
                  <a:pt x="1476" y="667"/>
                </a:cubicBezTo>
                <a:cubicBezTo>
                  <a:pt x="1469" y="661"/>
                  <a:pt x="1460" y="661"/>
                  <a:pt x="1452" y="658"/>
                </a:cubicBezTo>
                <a:cubicBezTo>
                  <a:pt x="1423" y="557"/>
                  <a:pt x="1472" y="706"/>
                  <a:pt x="1420" y="612"/>
                </a:cubicBezTo>
                <a:cubicBezTo>
                  <a:pt x="1407" y="588"/>
                  <a:pt x="1401" y="558"/>
                  <a:pt x="1396" y="530"/>
                </a:cubicBezTo>
                <a:cubicBezTo>
                  <a:pt x="1382" y="452"/>
                  <a:pt x="1383" y="354"/>
                  <a:pt x="1348" y="284"/>
                </a:cubicBezTo>
                <a:cubicBezTo>
                  <a:pt x="1335" y="258"/>
                  <a:pt x="1316" y="235"/>
                  <a:pt x="1300" y="211"/>
                </a:cubicBezTo>
                <a:cubicBezTo>
                  <a:pt x="1279" y="140"/>
                  <a:pt x="1267" y="125"/>
                  <a:pt x="1212" y="83"/>
                </a:cubicBezTo>
                <a:cubicBezTo>
                  <a:pt x="1198" y="73"/>
                  <a:pt x="1164" y="65"/>
                  <a:pt x="1164" y="65"/>
                </a:cubicBezTo>
                <a:cubicBezTo>
                  <a:pt x="1096" y="91"/>
                  <a:pt x="1010" y="87"/>
                  <a:pt x="940" y="92"/>
                </a:cubicBezTo>
                <a:cubicBezTo>
                  <a:pt x="822" y="89"/>
                  <a:pt x="675" y="93"/>
                  <a:pt x="548" y="75"/>
                </a:cubicBezTo>
                <a:cubicBezTo>
                  <a:pt x="499" y="66"/>
                  <a:pt x="454" y="46"/>
                  <a:pt x="404" y="37"/>
                </a:cubicBezTo>
                <a:cubicBezTo>
                  <a:pt x="156" y="49"/>
                  <a:pt x="253" y="0"/>
                  <a:pt x="164" y="102"/>
                </a:cubicBezTo>
                <a:cubicBezTo>
                  <a:pt x="146" y="165"/>
                  <a:pt x="134" y="230"/>
                  <a:pt x="116" y="293"/>
                </a:cubicBezTo>
                <a:cubicBezTo>
                  <a:pt x="106" y="421"/>
                  <a:pt x="183" y="546"/>
                  <a:pt x="168" y="672"/>
                </a:cubicBezTo>
                <a:cubicBezTo>
                  <a:pt x="160" y="739"/>
                  <a:pt x="39" y="787"/>
                  <a:pt x="117" y="918"/>
                </a:cubicBezTo>
              </a:path>
            </a:pathLst>
          </a:custGeom>
          <a:gradFill rotWithShape="0">
            <a:gsLst>
              <a:gs pos="0">
                <a:srgbClr val="750075"/>
              </a:gs>
              <a:gs pos="50000">
                <a:srgbClr val="ff00ff"/>
              </a:gs>
              <a:gs pos="100000">
                <a:srgbClr val="750075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 rot="4800">
            <a:off x="448920" y="6291360"/>
            <a:ext cx="571320" cy="345960"/>
          </a:xfrm>
          <a:custGeom>
            <a:avLst/>
            <a:gdLst/>
            <a:ahLst/>
            <a:rect l="l" t="t" r="r" b="b"/>
            <a:pathLst>
              <a:path w="599" h="265">
                <a:moveTo>
                  <a:pt x="42" y="0"/>
                </a:moveTo>
                <a:cubicBezTo>
                  <a:pt x="23" y="59"/>
                  <a:pt x="0" y="96"/>
                  <a:pt x="30" y="163"/>
                </a:cubicBezTo>
                <a:cubicBezTo>
                  <a:pt x="35" y="175"/>
                  <a:pt x="113" y="211"/>
                  <a:pt x="117" y="213"/>
                </a:cubicBezTo>
                <a:cubicBezTo>
                  <a:pt x="203" y="249"/>
                  <a:pt x="301" y="247"/>
                  <a:pt x="392" y="263"/>
                </a:cubicBezTo>
                <a:cubicBezTo>
                  <a:pt x="455" y="259"/>
                  <a:pt x="519" y="265"/>
                  <a:pt x="580" y="250"/>
                </a:cubicBezTo>
                <a:cubicBezTo>
                  <a:pt x="594" y="247"/>
                  <a:pt x="599" y="175"/>
                  <a:pt x="580" y="150"/>
                </a:cubicBezTo>
                <a:cubicBezTo>
                  <a:pt x="537" y="94"/>
                  <a:pt x="490" y="98"/>
                  <a:pt x="430" y="88"/>
                </a:cubicBezTo>
                <a:cubicBezTo>
                  <a:pt x="395" y="65"/>
                  <a:pt x="372" y="50"/>
                  <a:pt x="330" y="5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rot="4200">
            <a:off x="642600" y="5716080"/>
            <a:ext cx="1093680" cy="655920"/>
          </a:xfrm>
          <a:custGeom>
            <a:avLst/>
            <a:gdLst/>
            <a:ahLst/>
            <a:rect l="l" t="t" r="r" b="b"/>
            <a:pathLst>
              <a:path w="1175" h="705">
                <a:moveTo>
                  <a:pt x="88" y="67"/>
                </a:moveTo>
                <a:cubicBezTo>
                  <a:pt x="76" y="271"/>
                  <a:pt x="64" y="396"/>
                  <a:pt x="0" y="579"/>
                </a:cubicBezTo>
                <a:cubicBezTo>
                  <a:pt x="4" y="600"/>
                  <a:pt x="2" y="623"/>
                  <a:pt x="13" y="642"/>
                </a:cubicBezTo>
                <a:cubicBezTo>
                  <a:pt x="26" y="665"/>
                  <a:pt x="80" y="677"/>
                  <a:pt x="100" y="679"/>
                </a:cubicBezTo>
                <a:cubicBezTo>
                  <a:pt x="183" y="686"/>
                  <a:pt x="267" y="688"/>
                  <a:pt x="350" y="692"/>
                </a:cubicBezTo>
                <a:cubicBezTo>
                  <a:pt x="375" y="688"/>
                  <a:pt x="403" y="692"/>
                  <a:pt x="425" y="679"/>
                </a:cubicBezTo>
                <a:cubicBezTo>
                  <a:pt x="436" y="673"/>
                  <a:pt x="432" y="654"/>
                  <a:pt x="438" y="642"/>
                </a:cubicBezTo>
                <a:cubicBezTo>
                  <a:pt x="467" y="585"/>
                  <a:pt x="464" y="622"/>
                  <a:pt x="488" y="554"/>
                </a:cubicBezTo>
                <a:cubicBezTo>
                  <a:pt x="503" y="513"/>
                  <a:pt x="525" y="429"/>
                  <a:pt x="525" y="429"/>
                </a:cubicBezTo>
                <a:cubicBezTo>
                  <a:pt x="539" y="336"/>
                  <a:pt x="515" y="312"/>
                  <a:pt x="600" y="292"/>
                </a:cubicBezTo>
                <a:cubicBezTo>
                  <a:pt x="633" y="386"/>
                  <a:pt x="636" y="509"/>
                  <a:pt x="650" y="604"/>
                </a:cubicBezTo>
                <a:cubicBezTo>
                  <a:pt x="654" y="634"/>
                  <a:pt x="695" y="649"/>
                  <a:pt x="725" y="654"/>
                </a:cubicBezTo>
                <a:cubicBezTo>
                  <a:pt x="859" y="678"/>
                  <a:pt x="933" y="694"/>
                  <a:pt x="1075" y="704"/>
                </a:cubicBezTo>
                <a:cubicBezTo>
                  <a:pt x="1104" y="700"/>
                  <a:pt x="1137" y="705"/>
                  <a:pt x="1163" y="692"/>
                </a:cubicBezTo>
                <a:cubicBezTo>
                  <a:pt x="1175" y="686"/>
                  <a:pt x="1175" y="667"/>
                  <a:pt x="1175" y="654"/>
                </a:cubicBezTo>
                <a:cubicBezTo>
                  <a:pt x="1175" y="463"/>
                  <a:pt x="1163" y="472"/>
                  <a:pt x="1075" y="342"/>
                </a:cubicBezTo>
                <a:cubicBezTo>
                  <a:pt x="1071" y="326"/>
                  <a:pt x="1060" y="271"/>
                  <a:pt x="1050" y="254"/>
                </a:cubicBezTo>
                <a:cubicBezTo>
                  <a:pt x="1035" y="228"/>
                  <a:pt x="1000" y="179"/>
                  <a:pt x="1000" y="179"/>
                </a:cubicBezTo>
                <a:cubicBezTo>
                  <a:pt x="979" y="113"/>
                  <a:pt x="995" y="153"/>
                  <a:pt x="938" y="67"/>
                </a:cubicBezTo>
                <a:cubicBezTo>
                  <a:pt x="893" y="0"/>
                  <a:pt x="900" y="78"/>
                  <a:pt x="900" y="17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50000">
                <a:srgbClr val="ccecff"/>
              </a:gs>
              <a:gs pos="100000">
                <a:srgbClr val="00cc99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rot="4200">
            <a:off x="1310760" y="6342120"/>
            <a:ext cx="617760" cy="291960"/>
          </a:xfrm>
          <a:custGeom>
            <a:avLst/>
            <a:gdLst/>
            <a:ahLst/>
            <a:rect l="l" t="t" r="r" b="b"/>
            <a:pathLst>
              <a:path w="599" h="265">
                <a:moveTo>
                  <a:pt x="42" y="0"/>
                </a:moveTo>
                <a:cubicBezTo>
                  <a:pt x="23" y="59"/>
                  <a:pt x="0" y="96"/>
                  <a:pt x="30" y="163"/>
                </a:cubicBezTo>
                <a:cubicBezTo>
                  <a:pt x="35" y="175"/>
                  <a:pt x="113" y="211"/>
                  <a:pt x="117" y="213"/>
                </a:cubicBezTo>
                <a:cubicBezTo>
                  <a:pt x="203" y="249"/>
                  <a:pt x="301" y="247"/>
                  <a:pt x="392" y="263"/>
                </a:cubicBezTo>
                <a:cubicBezTo>
                  <a:pt x="455" y="259"/>
                  <a:pt x="519" y="265"/>
                  <a:pt x="580" y="250"/>
                </a:cubicBezTo>
                <a:cubicBezTo>
                  <a:pt x="594" y="247"/>
                  <a:pt x="599" y="175"/>
                  <a:pt x="580" y="150"/>
                </a:cubicBezTo>
                <a:cubicBezTo>
                  <a:pt x="537" y="94"/>
                  <a:pt x="490" y="98"/>
                  <a:pt x="430" y="88"/>
                </a:cubicBezTo>
                <a:cubicBezTo>
                  <a:pt x="395" y="65"/>
                  <a:pt x="372" y="50"/>
                  <a:pt x="330" y="50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52280" y="4979880"/>
            <a:ext cx="1495440" cy="1003320"/>
          </a:xfrm>
          <a:custGeom>
            <a:avLst/>
            <a:gdLst/>
            <a:ahLst/>
            <a:rect l="l" t="t" r="r" b="b"/>
            <a:pathLst>
              <a:path w="942" h="632">
                <a:moveTo>
                  <a:pt x="221" y="159"/>
                </a:moveTo>
                <a:cubicBezTo>
                  <a:pt x="211" y="166"/>
                  <a:pt x="202" y="175"/>
                  <a:pt x="190" y="181"/>
                </a:cubicBezTo>
                <a:cubicBezTo>
                  <a:pt x="160" y="196"/>
                  <a:pt x="97" y="224"/>
                  <a:pt x="97" y="224"/>
                </a:cubicBezTo>
                <a:cubicBezTo>
                  <a:pt x="45" y="279"/>
                  <a:pt x="0" y="295"/>
                  <a:pt x="50" y="367"/>
                </a:cubicBezTo>
                <a:cubicBezTo>
                  <a:pt x="58" y="377"/>
                  <a:pt x="81" y="375"/>
                  <a:pt x="97" y="378"/>
                </a:cubicBezTo>
                <a:cubicBezTo>
                  <a:pt x="117" y="382"/>
                  <a:pt x="137" y="385"/>
                  <a:pt x="158" y="389"/>
                </a:cubicBezTo>
                <a:cubicBezTo>
                  <a:pt x="183" y="385"/>
                  <a:pt x="213" y="388"/>
                  <a:pt x="236" y="378"/>
                </a:cubicBezTo>
                <a:cubicBezTo>
                  <a:pt x="250" y="371"/>
                  <a:pt x="243" y="355"/>
                  <a:pt x="252" y="345"/>
                </a:cubicBezTo>
                <a:cubicBezTo>
                  <a:pt x="259" y="336"/>
                  <a:pt x="273" y="330"/>
                  <a:pt x="283" y="323"/>
                </a:cubicBezTo>
                <a:cubicBezTo>
                  <a:pt x="293" y="334"/>
                  <a:pt x="310" y="343"/>
                  <a:pt x="314" y="356"/>
                </a:cubicBezTo>
                <a:cubicBezTo>
                  <a:pt x="381" y="632"/>
                  <a:pt x="158" y="513"/>
                  <a:pt x="855" y="499"/>
                </a:cubicBezTo>
                <a:cubicBezTo>
                  <a:pt x="850" y="478"/>
                  <a:pt x="854" y="453"/>
                  <a:pt x="840" y="434"/>
                </a:cubicBezTo>
                <a:cubicBezTo>
                  <a:pt x="821" y="407"/>
                  <a:pt x="848" y="339"/>
                  <a:pt x="814" y="323"/>
                </a:cubicBezTo>
                <a:cubicBezTo>
                  <a:pt x="804" y="261"/>
                  <a:pt x="806" y="273"/>
                  <a:pt x="802" y="261"/>
                </a:cubicBezTo>
                <a:cubicBezTo>
                  <a:pt x="831" y="248"/>
                  <a:pt x="815" y="243"/>
                  <a:pt x="831" y="220"/>
                </a:cubicBezTo>
                <a:cubicBezTo>
                  <a:pt x="847" y="197"/>
                  <a:pt x="894" y="155"/>
                  <a:pt x="900" y="121"/>
                </a:cubicBezTo>
                <a:cubicBezTo>
                  <a:pt x="890" y="67"/>
                  <a:pt x="942" y="45"/>
                  <a:pt x="870" y="16"/>
                </a:cubicBezTo>
                <a:cubicBezTo>
                  <a:pt x="828" y="0"/>
                  <a:pt x="805" y="87"/>
                  <a:pt x="759" y="76"/>
                </a:cubicBezTo>
                <a:cubicBezTo>
                  <a:pt x="744" y="72"/>
                  <a:pt x="670" y="127"/>
                  <a:pt x="670" y="127"/>
                </a:cubicBezTo>
              </a:path>
            </a:pathLst>
          </a:custGeom>
          <a:gradFill rotWithShape="0">
            <a:gsLst>
              <a:gs pos="0">
                <a:srgbClr val="6c0000"/>
              </a:gs>
              <a:gs pos="50000">
                <a:srgbClr val="ff0000"/>
              </a:gs>
              <a:gs pos="100000">
                <a:srgbClr val="6c0000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rot="4200">
            <a:off x="75960" y="5589360"/>
            <a:ext cx="50472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 rot="16122000">
            <a:off x="1517400" y="4882320"/>
            <a:ext cx="44604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rot="4200">
            <a:off x="777960" y="5268960"/>
            <a:ext cx="595080" cy="428400"/>
          </a:xfrm>
          <a:custGeom>
            <a:avLst/>
            <a:gdLst/>
            <a:ahLst/>
            <a:rect l="l" t="t" r="r" b="b"/>
            <a:pathLst>
              <a:path w="640" h="461">
                <a:moveTo>
                  <a:pt x="64" y="445"/>
                </a:moveTo>
                <a:cubicBezTo>
                  <a:pt x="125" y="442"/>
                  <a:pt x="187" y="442"/>
                  <a:pt x="248" y="437"/>
                </a:cubicBezTo>
                <a:cubicBezTo>
                  <a:pt x="259" y="436"/>
                  <a:pt x="276" y="439"/>
                  <a:pt x="280" y="429"/>
                </a:cubicBezTo>
                <a:cubicBezTo>
                  <a:pt x="298" y="382"/>
                  <a:pt x="274" y="374"/>
                  <a:pt x="248" y="357"/>
                </a:cubicBezTo>
                <a:cubicBezTo>
                  <a:pt x="228" y="297"/>
                  <a:pt x="257" y="369"/>
                  <a:pt x="216" y="317"/>
                </a:cubicBezTo>
                <a:cubicBezTo>
                  <a:pt x="210" y="310"/>
                  <a:pt x="188" y="256"/>
                  <a:pt x="184" y="245"/>
                </a:cubicBezTo>
                <a:cubicBezTo>
                  <a:pt x="192" y="112"/>
                  <a:pt x="164" y="95"/>
                  <a:pt x="280" y="109"/>
                </a:cubicBezTo>
                <a:cubicBezTo>
                  <a:pt x="317" y="121"/>
                  <a:pt x="347" y="145"/>
                  <a:pt x="384" y="157"/>
                </a:cubicBezTo>
                <a:cubicBezTo>
                  <a:pt x="457" y="267"/>
                  <a:pt x="415" y="186"/>
                  <a:pt x="424" y="429"/>
                </a:cubicBezTo>
                <a:cubicBezTo>
                  <a:pt x="533" y="424"/>
                  <a:pt x="607" y="457"/>
                  <a:pt x="640" y="357"/>
                </a:cubicBezTo>
                <a:cubicBezTo>
                  <a:pt x="625" y="269"/>
                  <a:pt x="611" y="293"/>
                  <a:pt x="512" y="285"/>
                </a:cubicBezTo>
                <a:cubicBezTo>
                  <a:pt x="485" y="205"/>
                  <a:pt x="475" y="141"/>
                  <a:pt x="408" y="85"/>
                </a:cubicBezTo>
                <a:cubicBezTo>
                  <a:pt x="393" y="73"/>
                  <a:pt x="371" y="43"/>
                  <a:pt x="352" y="37"/>
                </a:cubicBezTo>
                <a:cubicBezTo>
                  <a:pt x="311" y="24"/>
                  <a:pt x="214" y="11"/>
                  <a:pt x="168" y="5"/>
                </a:cubicBezTo>
                <a:cubicBezTo>
                  <a:pt x="141" y="8"/>
                  <a:pt x="88" y="0"/>
                  <a:pt x="64" y="29"/>
                </a:cubicBezTo>
                <a:cubicBezTo>
                  <a:pt x="56" y="38"/>
                  <a:pt x="52" y="50"/>
                  <a:pt x="48" y="61"/>
                </a:cubicBezTo>
                <a:cubicBezTo>
                  <a:pt x="42" y="77"/>
                  <a:pt x="32" y="109"/>
                  <a:pt x="32" y="109"/>
                </a:cubicBezTo>
                <a:cubicBezTo>
                  <a:pt x="37" y="180"/>
                  <a:pt x="22" y="196"/>
                  <a:pt x="56" y="237"/>
                </a:cubicBezTo>
                <a:cubicBezTo>
                  <a:pt x="69" y="253"/>
                  <a:pt x="80" y="271"/>
                  <a:pt x="96" y="285"/>
                </a:cubicBezTo>
                <a:cubicBezTo>
                  <a:pt x="110" y="298"/>
                  <a:pt x="144" y="317"/>
                  <a:pt x="144" y="317"/>
                </a:cubicBezTo>
                <a:cubicBezTo>
                  <a:pt x="177" y="366"/>
                  <a:pt x="162" y="371"/>
                  <a:pt x="104" y="357"/>
                </a:cubicBezTo>
                <a:cubicBezTo>
                  <a:pt x="66" y="347"/>
                  <a:pt x="44" y="329"/>
                  <a:pt x="8" y="317"/>
                </a:cubicBezTo>
                <a:cubicBezTo>
                  <a:pt x="13" y="374"/>
                  <a:pt x="0" y="429"/>
                  <a:pt x="48" y="461"/>
                </a:cubicBezTo>
                <a:cubicBezTo>
                  <a:pt x="86" y="452"/>
                  <a:pt x="90" y="458"/>
                  <a:pt x="64" y="445"/>
                </a:cubicBezTo>
                <a:close/>
              </a:path>
            </a:pathLst>
          </a:custGeom>
          <a:solidFill>
            <a:srgbClr val="3333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93760" y="4160880"/>
            <a:ext cx="1211040" cy="1044360"/>
          </a:xfrm>
          <a:custGeom>
            <a:avLst/>
            <a:gdLst/>
            <a:ahLst/>
            <a:rect l="l" t="t" r="r" b="b"/>
            <a:pathLst>
              <a:path w="1050" h="906">
                <a:moveTo>
                  <a:pt x="521" y="24"/>
                </a:moveTo>
                <a:cubicBezTo>
                  <a:pt x="598" y="0"/>
                  <a:pt x="573" y="2"/>
                  <a:pt x="709" y="24"/>
                </a:cubicBezTo>
                <a:cubicBezTo>
                  <a:pt x="734" y="28"/>
                  <a:pt x="784" y="48"/>
                  <a:pt x="784" y="48"/>
                </a:cubicBezTo>
                <a:cubicBezTo>
                  <a:pt x="864" y="105"/>
                  <a:pt x="820" y="70"/>
                  <a:pt x="910" y="157"/>
                </a:cubicBezTo>
                <a:cubicBezTo>
                  <a:pt x="939" y="185"/>
                  <a:pt x="985" y="254"/>
                  <a:pt x="985" y="254"/>
                </a:cubicBezTo>
                <a:cubicBezTo>
                  <a:pt x="1021" y="389"/>
                  <a:pt x="1050" y="536"/>
                  <a:pt x="973" y="664"/>
                </a:cubicBezTo>
                <a:cubicBezTo>
                  <a:pt x="954" y="697"/>
                  <a:pt x="927" y="767"/>
                  <a:pt x="897" y="785"/>
                </a:cubicBezTo>
                <a:cubicBezTo>
                  <a:pt x="847" y="817"/>
                  <a:pt x="805" y="862"/>
                  <a:pt x="747" y="882"/>
                </a:cubicBezTo>
                <a:cubicBezTo>
                  <a:pt x="715" y="894"/>
                  <a:pt x="646" y="906"/>
                  <a:pt x="646" y="906"/>
                </a:cubicBezTo>
                <a:cubicBezTo>
                  <a:pt x="489" y="898"/>
                  <a:pt x="376" y="886"/>
                  <a:pt x="232" y="846"/>
                </a:cubicBezTo>
                <a:cubicBezTo>
                  <a:pt x="153" y="795"/>
                  <a:pt x="100" y="741"/>
                  <a:pt x="69" y="652"/>
                </a:cubicBezTo>
                <a:cubicBezTo>
                  <a:pt x="73" y="521"/>
                  <a:pt x="0" y="178"/>
                  <a:pt x="203" y="114"/>
                </a:cubicBezTo>
                <a:cubicBezTo>
                  <a:pt x="274" y="46"/>
                  <a:pt x="360" y="62"/>
                  <a:pt x="458" y="48"/>
                </a:cubicBezTo>
                <a:cubicBezTo>
                  <a:pt x="537" y="22"/>
                  <a:pt x="560" y="24"/>
                  <a:pt x="521" y="24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rot="20582400">
            <a:off x="536400" y="4363560"/>
            <a:ext cx="341640" cy="48096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20582400">
            <a:off x="903240" y="4264200"/>
            <a:ext cx="343080" cy="50796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8088000">
            <a:off x="601200" y="4390560"/>
            <a:ext cx="751680" cy="70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744" y="1256"/>
                </a:moveTo>
                <a:arcTo wR="10800" hR="10800" stAng="-7074784" swAng="7074784"/>
                <a:lnTo>
                  <a:pt x="10800" y="10800"/>
                </a:lnTo>
                <a:close/>
              </a:path>
              <a:path fill="none" w="21600" h="21600">
                <a:moveTo>
                  <a:pt x="5744" y="1256"/>
                </a:moveTo>
                <a:arcTo wR="10800" hR="10800" stAng="-7074784" swAng="707478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rot="413400">
            <a:off x="907920" y="4773240"/>
            <a:ext cx="184320" cy="185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rot="413400">
            <a:off x="677880" y="4422240"/>
            <a:ext cx="182520" cy="2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rot="413400">
            <a:off x="1004760" y="4300200"/>
            <a:ext cx="182520" cy="257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448800">
            <a:off x="328320" y="4195800"/>
            <a:ext cx="260280" cy="250920"/>
          </a:xfrm>
          <a:custGeom>
            <a:avLst/>
            <a:gdLst/>
            <a:ahLst/>
            <a:rect l="l" t="t" r="r" b="b"/>
            <a:pathLst>
              <a:path w="273" h="258">
                <a:moveTo>
                  <a:pt x="273" y="40"/>
                </a:moveTo>
                <a:cubicBezTo>
                  <a:pt x="203" y="17"/>
                  <a:pt x="179" y="0"/>
                  <a:pt x="91" y="40"/>
                </a:cubicBezTo>
                <a:cubicBezTo>
                  <a:pt x="59" y="54"/>
                  <a:pt x="19" y="201"/>
                  <a:pt x="18" y="204"/>
                </a:cubicBezTo>
                <a:cubicBezTo>
                  <a:pt x="12" y="222"/>
                  <a:pt x="0" y="258"/>
                  <a:pt x="0" y="25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448800">
            <a:off x="587160" y="4092480"/>
            <a:ext cx="274320" cy="211320"/>
          </a:xfrm>
          <a:custGeom>
            <a:avLst/>
            <a:gdLst/>
            <a:ahLst/>
            <a:rect l="l" t="t" r="r" b="b"/>
            <a:pathLst>
              <a:path w="290" h="218">
                <a:moveTo>
                  <a:pt x="0" y="218"/>
                </a:moveTo>
                <a:cubicBezTo>
                  <a:pt x="66" y="118"/>
                  <a:pt x="157" y="0"/>
                  <a:pt x="29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rot="448800">
            <a:off x="632880" y="4065480"/>
            <a:ext cx="1800" cy="195480"/>
          </a:xfrm>
          <a:custGeom>
            <a:avLst/>
            <a:gdLst/>
            <a:ahLst/>
            <a:rect l="l" t="t" r="r" b="b"/>
            <a:pathLst>
              <a:path w="1" h="200">
                <a:moveTo>
                  <a:pt x="0" y="200"/>
                </a:moveTo>
                <a:cubicBezTo>
                  <a:pt x="0" y="133"/>
                  <a:pt x="0" y="67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rot="21140400">
            <a:off x="418680" y="4266720"/>
            <a:ext cx="233280" cy="392400"/>
          </a:xfrm>
          <a:custGeom>
            <a:avLst/>
            <a:gdLst/>
            <a:ahLst/>
            <a:rect l="l" t="t" r="r" b="b"/>
            <a:pathLst>
              <a:path w="273" h="400">
                <a:moveTo>
                  <a:pt x="273" y="0"/>
                </a:moveTo>
                <a:cubicBezTo>
                  <a:pt x="198" y="37"/>
                  <a:pt x="150" y="69"/>
                  <a:pt x="91" y="127"/>
                </a:cubicBezTo>
                <a:cubicBezTo>
                  <a:pt x="61" y="218"/>
                  <a:pt x="0" y="301"/>
                  <a:pt x="0" y="4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rot="1662000">
            <a:off x="651960" y="4183200"/>
            <a:ext cx="246240" cy="131760"/>
          </a:xfrm>
          <a:custGeom>
            <a:avLst/>
            <a:gdLst/>
            <a:ahLst/>
            <a:rect l="l" t="t" r="r" b="b"/>
            <a:pathLst>
              <a:path w="273" h="109">
                <a:moveTo>
                  <a:pt x="0" y="109"/>
                </a:moveTo>
                <a:cubicBezTo>
                  <a:pt x="12" y="91"/>
                  <a:pt x="17" y="66"/>
                  <a:pt x="36" y="54"/>
                </a:cubicBezTo>
                <a:cubicBezTo>
                  <a:pt x="105" y="11"/>
                  <a:pt x="195" y="0"/>
                  <a:pt x="273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2362320" y="4686480"/>
            <a:ext cx="4572000" cy="1657080"/>
            <a:chOff x="2362320" y="4686480"/>
            <a:chExt cx="4572000" cy="1657080"/>
          </a:xfrm>
        </p:grpSpPr>
        <p:sp>
          <p:nvSpPr>
            <p:cNvPr id="508" name=""/>
            <p:cNvSpPr/>
            <p:nvPr/>
          </p:nvSpPr>
          <p:spPr>
            <a:xfrm>
              <a:off x="2362320" y="4686480"/>
              <a:ext cx="4572000" cy="1657080"/>
            </a:xfrm>
            <a:prstGeom prst="cloudCallout">
              <a:avLst>
                <a:gd name="adj1" fmla="val -57638"/>
                <a:gd name="adj2" fmla="val -72032"/>
              </a:avLst>
            </a:prstGeom>
            <a:solidFill>
              <a:srgbClr val="00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841480" y="5092920"/>
              <a:ext cx="3519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ammeter measures th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urrent 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">
            <a:hlinkClick r:id="" action="ppaction://hlinkshowjump?jump=nextslide"/>
          </p:cNvPr>
          <p:cNvSpPr/>
          <p:nvPr/>
        </p:nvSpPr>
        <p:spPr>
          <a:xfrm>
            <a:off x="3873600" y="5664240"/>
            <a:ext cx="1422360" cy="469800"/>
          </a:xfrm>
          <a:custGeom>
            <a:avLst/>
            <a:gdLst>
              <a:gd name="textAreaLeft" fmla="*/ 30240 w 1422360"/>
              <a:gd name="textAreaRight" fmla="*/ 1392120 w 1422360"/>
              <a:gd name="textAreaTop" fmla="*/ 30240 h 469800"/>
              <a:gd name="textAreaBottom" fmla="*/ 439560 h 469800"/>
            </a:gdLst>
            <a:ahLst/>
            <a:rect l="textAreaLeft" t="textAreaTop" r="textAreaRight" b="textAreaBottom"/>
            <a:pathLst>
              <a:path w="65362" h="21600">
                <a:moveTo>
                  <a:pt x="0" y="0"/>
                </a:moveTo>
                <a:lnTo>
                  <a:pt x="65362" y="0"/>
                </a:lnTo>
                <a:lnTo>
                  <a:pt x="65362" y="21600"/>
                </a:lnTo>
                <a:lnTo>
                  <a:pt x="0" y="21600"/>
                </a:lnTo>
                <a:close/>
              </a:path>
              <a:path fill="lightenLess" w="65362" h="21600">
                <a:moveTo>
                  <a:pt x="0" y="0"/>
                </a:moveTo>
                <a:lnTo>
                  <a:pt x="65362" y="0"/>
                </a:lnTo>
                <a:lnTo>
                  <a:pt x="63962" y="1400"/>
                </a:lnTo>
                <a:lnTo>
                  <a:pt x="1400" y="1400"/>
                </a:lnTo>
                <a:close/>
              </a:path>
              <a:path fill="darken" w="65362" h="21600">
                <a:moveTo>
                  <a:pt x="65362" y="0"/>
                </a:moveTo>
                <a:lnTo>
                  <a:pt x="65362" y="21600"/>
                </a:lnTo>
                <a:lnTo>
                  <a:pt x="63962" y="20200"/>
                </a:lnTo>
                <a:lnTo>
                  <a:pt x="63962" y="1400"/>
                </a:lnTo>
                <a:close/>
              </a:path>
              <a:path fill="darkenLess" w="65362" h="21600">
                <a:moveTo>
                  <a:pt x="65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962" y="20200"/>
                </a:lnTo>
                <a:close/>
              </a:path>
              <a:path fill="lighten" w="65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1200240" y="952560"/>
            <a:ext cx="1752480" cy="514440"/>
            <a:chOff x="1200240" y="952560"/>
            <a:chExt cx="1752480" cy="514440"/>
          </a:xfrm>
        </p:grpSpPr>
        <p:sp>
          <p:nvSpPr>
            <p:cNvPr id="512" name=""/>
            <p:cNvSpPr/>
            <p:nvPr/>
          </p:nvSpPr>
          <p:spPr>
            <a:xfrm>
              <a:off x="1200240" y="952560"/>
              <a:ext cx="1752480" cy="51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 txBox="1"/>
            <p:nvPr/>
          </p:nvSpPr>
          <p:spPr>
            <a:xfrm>
              <a:off x="1287360" y="1023840"/>
              <a:ext cx="1552680" cy="3812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Curren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5162400" y="72396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238720" y="800280"/>
            <a:ext cx="990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5238000" y="19360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5563440" y="19360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6042960" y="19360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5240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5935680" y="1647720"/>
            <a:ext cx="324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5564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22" name=""/>
          <p:cNvSpPr/>
          <p:nvPr/>
        </p:nvSpPr>
        <p:spPr>
          <a:xfrm>
            <a:off x="6299280" y="3036960"/>
            <a:ext cx="284472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5102280" y="2738520"/>
            <a:ext cx="1328760" cy="725040"/>
            <a:chOff x="5102280" y="2738520"/>
            <a:chExt cx="1328760" cy="725040"/>
          </a:xfrm>
        </p:grpSpPr>
        <p:sp>
          <p:nvSpPr>
            <p:cNvPr id="524" name=""/>
            <p:cNvSpPr/>
            <p:nvPr/>
          </p:nvSpPr>
          <p:spPr>
            <a:xfrm>
              <a:off x="626436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170320" y="2738520"/>
              <a:ext cx="1177920" cy="723600"/>
            </a:xfrm>
            <a:prstGeom prst="rect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0228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739"/>
                </a:gs>
                <a:gs pos="50000">
                  <a:srgbClr val="ffbe7d"/>
                </a:gs>
                <a:gs pos="100000">
                  <a:srgbClr val="75573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95880" y="3462120"/>
              <a:ext cx="11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189400" y="2738520"/>
              <a:ext cx="11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264280" y="2741400"/>
              <a:ext cx="217440" cy="71892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460840" y="2743200"/>
              <a:ext cx="223920" cy="72036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668920" y="2744640"/>
              <a:ext cx="208080" cy="71568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859360" y="2741400"/>
              <a:ext cx="216000" cy="718920"/>
            </a:xfrm>
            <a:custGeom>
              <a:avLst/>
              <a:gdLst/>
              <a:ahLst/>
              <a:rect l="l" t="t" r="r" b="b"/>
              <a:pathLst>
                <a:path w="136" h="453">
                  <a:moveTo>
                    <a:pt x="0" y="3"/>
                  </a:moveTo>
                  <a:lnTo>
                    <a:pt x="13" y="8"/>
                  </a:lnTo>
                  <a:lnTo>
                    <a:pt x="26" y="20"/>
                  </a:lnTo>
                  <a:lnTo>
                    <a:pt x="32" y="30"/>
                  </a:lnTo>
                  <a:lnTo>
                    <a:pt x="43" y="46"/>
                  </a:lnTo>
                  <a:lnTo>
                    <a:pt x="50" y="66"/>
                  </a:lnTo>
                  <a:lnTo>
                    <a:pt x="57" y="97"/>
                  </a:lnTo>
                  <a:lnTo>
                    <a:pt x="65" y="124"/>
                  </a:lnTo>
                  <a:lnTo>
                    <a:pt x="71" y="182"/>
                  </a:lnTo>
                  <a:lnTo>
                    <a:pt x="74" y="217"/>
                  </a:lnTo>
                  <a:lnTo>
                    <a:pt x="74" y="266"/>
                  </a:lnTo>
                  <a:lnTo>
                    <a:pt x="68" y="321"/>
                  </a:lnTo>
                  <a:lnTo>
                    <a:pt x="62" y="363"/>
                  </a:lnTo>
                  <a:lnTo>
                    <a:pt x="54" y="397"/>
                  </a:lnTo>
                  <a:lnTo>
                    <a:pt x="35" y="429"/>
                  </a:lnTo>
                  <a:lnTo>
                    <a:pt x="16" y="452"/>
                  </a:lnTo>
                  <a:lnTo>
                    <a:pt x="81" y="453"/>
                  </a:lnTo>
                  <a:lnTo>
                    <a:pt x="96" y="430"/>
                  </a:lnTo>
                  <a:lnTo>
                    <a:pt x="106" y="407"/>
                  </a:lnTo>
                  <a:lnTo>
                    <a:pt x="118" y="368"/>
                  </a:lnTo>
                  <a:lnTo>
                    <a:pt x="127" y="329"/>
                  </a:lnTo>
                  <a:lnTo>
                    <a:pt x="136" y="263"/>
                  </a:lnTo>
                  <a:lnTo>
                    <a:pt x="136" y="194"/>
                  </a:lnTo>
                  <a:lnTo>
                    <a:pt x="130" y="133"/>
                  </a:lnTo>
                  <a:lnTo>
                    <a:pt x="117" y="81"/>
                  </a:lnTo>
                  <a:lnTo>
                    <a:pt x="105" y="43"/>
                  </a:lnTo>
                  <a:lnTo>
                    <a:pt x="93" y="23"/>
                  </a:lnTo>
                  <a:lnTo>
                    <a:pt x="80" y="8"/>
                  </a:lnTo>
                  <a:lnTo>
                    <a:pt x="6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3479760" y="3051000"/>
            <a:ext cx="1708200" cy="136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8600" y="3075120"/>
            <a:ext cx="76824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476360" y="149544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552680" y="1571760"/>
            <a:ext cx="9903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 flipV="1">
            <a:off x="1551960" y="27075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 flipV="1">
            <a:off x="1877400" y="27075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 flipV="1">
            <a:off x="2357280" y="270756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1554120" y="241920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2249640" y="2419200"/>
            <a:ext cx="323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1878120" y="2419200"/>
            <a:ext cx="161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848160" y="3067200"/>
            <a:ext cx="969480" cy="145800"/>
            <a:chOff x="848160" y="3067200"/>
            <a:chExt cx="969480" cy="145800"/>
          </a:xfrm>
        </p:grpSpPr>
        <p:sp>
          <p:nvSpPr>
            <p:cNvPr id="544" name=""/>
            <p:cNvSpPr/>
            <p:nvPr/>
          </p:nvSpPr>
          <p:spPr>
            <a:xfrm flipH="1">
              <a:off x="932040" y="313380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848160" y="3085920"/>
              <a:ext cx="280800" cy="10296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1113480" y="30672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1146240" y="3103560"/>
              <a:ext cx="215640" cy="74160"/>
            </a:xfrm>
            <a:prstGeom prst="rect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2576520" y="3051000"/>
            <a:ext cx="1031400" cy="145800"/>
            <a:chOff x="2576520" y="3051000"/>
            <a:chExt cx="1031400" cy="145800"/>
          </a:xfrm>
        </p:grpSpPr>
        <p:sp>
          <p:nvSpPr>
            <p:cNvPr id="549" name=""/>
            <p:cNvSpPr/>
            <p:nvPr/>
          </p:nvSpPr>
          <p:spPr>
            <a:xfrm>
              <a:off x="2576520" y="312696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327120" y="3069720"/>
              <a:ext cx="280800" cy="10332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268440" y="30510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079440" y="3087360"/>
              <a:ext cx="2156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 flipH="1">
            <a:off x="1790640" y="2809800"/>
            <a:ext cx="16200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428920" y="2809800"/>
            <a:ext cx="15228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5680" y="2036880"/>
            <a:ext cx="360" cy="98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 rot="16246200">
            <a:off x="4804200" y="2916000"/>
            <a:ext cx="280800" cy="10296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 rot="16246200">
            <a:off x="4912200" y="2732760"/>
            <a:ext cx="74520" cy="145800"/>
          </a:xfrm>
          <a:prstGeom prst="ellipse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576840" y="1994040"/>
            <a:ext cx="0" cy="958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rot="5400000">
            <a:off x="6444000" y="2905920"/>
            <a:ext cx="273240" cy="10332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rot="5400000">
            <a:off x="6543360" y="2727000"/>
            <a:ext cx="73080" cy="14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rot="5400000">
            <a:off x="6472440" y="2647080"/>
            <a:ext cx="209520" cy="74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910040" y="2590920"/>
            <a:ext cx="74880" cy="2188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27680" y="201600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170760" y="201132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287360" y="1023840"/>
            <a:ext cx="1552680" cy="381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mme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716360" y="304920"/>
            <a:ext cx="1971720" cy="304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oltme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67" name=""/>
          <p:cNvSpPr/>
          <p:nvPr/>
        </p:nvSpPr>
        <p:spPr>
          <a:xfrm rot="4200">
            <a:off x="375840" y="5091120"/>
            <a:ext cx="1473120" cy="1295280"/>
          </a:xfrm>
          <a:custGeom>
            <a:avLst/>
            <a:gdLst/>
            <a:ahLst/>
            <a:rect l="l" t="t" r="r" b="b"/>
            <a:pathLst>
              <a:path w="1688" h="1469">
                <a:moveTo>
                  <a:pt x="60" y="859"/>
                </a:moveTo>
                <a:cubicBezTo>
                  <a:pt x="54" y="930"/>
                  <a:pt x="43" y="984"/>
                  <a:pt x="28" y="1050"/>
                </a:cubicBezTo>
                <a:cubicBezTo>
                  <a:pt x="25" y="1099"/>
                  <a:pt x="20" y="1147"/>
                  <a:pt x="20" y="1196"/>
                </a:cubicBezTo>
                <a:cubicBezTo>
                  <a:pt x="20" y="1374"/>
                  <a:pt x="0" y="1417"/>
                  <a:pt x="132" y="1424"/>
                </a:cubicBezTo>
                <a:cubicBezTo>
                  <a:pt x="289" y="1469"/>
                  <a:pt x="327" y="1216"/>
                  <a:pt x="636" y="1224"/>
                </a:cubicBezTo>
                <a:cubicBezTo>
                  <a:pt x="1284" y="1176"/>
                  <a:pt x="1224" y="1416"/>
                  <a:pt x="1508" y="1408"/>
                </a:cubicBezTo>
                <a:cubicBezTo>
                  <a:pt x="1548" y="1399"/>
                  <a:pt x="1606" y="1339"/>
                  <a:pt x="1644" y="1324"/>
                </a:cubicBezTo>
                <a:cubicBezTo>
                  <a:pt x="1652" y="1321"/>
                  <a:pt x="1648" y="1304"/>
                  <a:pt x="1652" y="1297"/>
                </a:cubicBezTo>
                <a:cubicBezTo>
                  <a:pt x="1659" y="1282"/>
                  <a:pt x="1668" y="1272"/>
                  <a:pt x="1676" y="1259"/>
                </a:cubicBezTo>
                <a:cubicBezTo>
                  <a:pt x="1688" y="1202"/>
                  <a:pt x="1676" y="1159"/>
                  <a:pt x="1660" y="1105"/>
                </a:cubicBezTo>
                <a:cubicBezTo>
                  <a:pt x="1649" y="1066"/>
                  <a:pt x="1643" y="1023"/>
                  <a:pt x="1628" y="986"/>
                </a:cubicBezTo>
                <a:cubicBezTo>
                  <a:pt x="1622" y="973"/>
                  <a:pt x="1611" y="962"/>
                  <a:pt x="1604" y="950"/>
                </a:cubicBezTo>
                <a:cubicBezTo>
                  <a:pt x="1581" y="906"/>
                  <a:pt x="1547" y="872"/>
                  <a:pt x="1520" y="832"/>
                </a:cubicBezTo>
                <a:cubicBezTo>
                  <a:pt x="1513" y="799"/>
                  <a:pt x="1498" y="688"/>
                  <a:pt x="1476" y="667"/>
                </a:cubicBezTo>
                <a:cubicBezTo>
                  <a:pt x="1469" y="661"/>
                  <a:pt x="1460" y="661"/>
                  <a:pt x="1452" y="658"/>
                </a:cubicBezTo>
                <a:cubicBezTo>
                  <a:pt x="1423" y="557"/>
                  <a:pt x="1472" y="706"/>
                  <a:pt x="1420" y="612"/>
                </a:cubicBezTo>
                <a:cubicBezTo>
                  <a:pt x="1407" y="588"/>
                  <a:pt x="1401" y="558"/>
                  <a:pt x="1396" y="530"/>
                </a:cubicBezTo>
                <a:cubicBezTo>
                  <a:pt x="1382" y="452"/>
                  <a:pt x="1383" y="354"/>
                  <a:pt x="1348" y="284"/>
                </a:cubicBezTo>
                <a:cubicBezTo>
                  <a:pt x="1335" y="258"/>
                  <a:pt x="1316" y="235"/>
                  <a:pt x="1300" y="211"/>
                </a:cubicBezTo>
                <a:cubicBezTo>
                  <a:pt x="1279" y="140"/>
                  <a:pt x="1267" y="125"/>
                  <a:pt x="1212" y="83"/>
                </a:cubicBezTo>
                <a:cubicBezTo>
                  <a:pt x="1198" y="73"/>
                  <a:pt x="1164" y="65"/>
                  <a:pt x="1164" y="65"/>
                </a:cubicBezTo>
                <a:cubicBezTo>
                  <a:pt x="1096" y="91"/>
                  <a:pt x="1010" y="87"/>
                  <a:pt x="940" y="92"/>
                </a:cubicBezTo>
                <a:cubicBezTo>
                  <a:pt x="822" y="89"/>
                  <a:pt x="675" y="93"/>
                  <a:pt x="548" y="75"/>
                </a:cubicBezTo>
                <a:cubicBezTo>
                  <a:pt x="499" y="66"/>
                  <a:pt x="454" y="46"/>
                  <a:pt x="404" y="37"/>
                </a:cubicBezTo>
                <a:cubicBezTo>
                  <a:pt x="156" y="49"/>
                  <a:pt x="253" y="0"/>
                  <a:pt x="164" y="102"/>
                </a:cubicBezTo>
                <a:cubicBezTo>
                  <a:pt x="146" y="165"/>
                  <a:pt x="134" y="230"/>
                  <a:pt x="116" y="293"/>
                </a:cubicBezTo>
                <a:cubicBezTo>
                  <a:pt x="106" y="421"/>
                  <a:pt x="183" y="546"/>
                  <a:pt x="168" y="672"/>
                </a:cubicBezTo>
                <a:cubicBezTo>
                  <a:pt x="160" y="739"/>
                  <a:pt x="39" y="787"/>
                  <a:pt x="117" y="918"/>
                </a:cubicBezTo>
              </a:path>
            </a:pathLst>
          </a:custGeom>
          <a:gradFill rotWithShape="0">
            <a:gsLst>
              <a:gs pos="0">
                <a:srgbClr val="750075"/>
              </a:gs>
              <a:gs pos="50000">
                <a:srgbClr val="ff00ff"/>
              </a:gs>
              <a:gs pos="100000">
                <a:srgbClr val="750075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 rot="4800">
            <a:off x="448920" y="6291360"/>
            <a:ext cx="571320" cy="345960"/>
          </a:xfrm>
          <a:custGeom>
            <a:avLst/>
            <a:gdLst/>
            <a:ahLst/>
            <a:rect l="l" t="t" r="r" b="b"/>
            <a:pathLst>
              <a:path w="599" h="265">
                <a:moveTo>
                  <a:pt x="42" y="0"/>
                </a:moveTo>
                <a:cubicBezTo>
                  <a:pt x="23" y="59"/>
                  <a:pt x="0" y="96"/>
                  <a:pt x="30" y="163"/>
                </a:cubicBezTo>
                <a:cubicBezTo>
                  <a:pt x="35" y="175"/>
                  <a:pt x="113" y="211"/>
                  <a:pt x="117" y="213"/>
                </a:cubicBezTo>
                <a:cubicBezTo>
                  <a:pt x="203" y="249"/>
                  <a:pt x="301" y="247"/>
                  <a:pt x="392" y="263"/>
                </a:cubicBezTo>
                <a:cubicBezTo>
                  <a:pt x="455" y="259"/>
                  <a:pt x="519" y="265"/>
                  <a:pt x="580" y="250"/>
                </a:cubicBezTo>
                <a:cubicBezTo>
                  <a:pt x="594" y="247"/>
                  <a:pt x="599" y="175"/>
                  <a:pt x="580" y="150"/>
                </a:cubicBezTo>
                <a:cubicBezTo>
                  <a:pt x="537" y="94"/>
                  <a:pt x="490" y="98"/>
                  <a:pt x="430" y="88"/>
                </a:cubicBezTo>
                <a:cubicBezTo>
                  <a:pt x="395" y="65"/>
                  <a:pt x="372" y="50"/>
                  <a:pt x="330" y="5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rot="4200">
            <a:off x="642600" y="5716080"/>
            <a:ext cx="1093680" cy="655920"/>
          </a:xfrm>
          <a:custGeom>
            <a:avLst/>
            <a:gdLst/>
            <a:ahLst/>
            <a:rect l="l" t="t" r="r" b="b"/>
            <a:pathLst>
              <a:path w="1175" h="705">
                <a:moveTo>
                  <a:pt x="88" y="67"/>
                </a:moveTo>
                <a:cubicBezTo>
                  <a:pt x="76" y="271"/>
                  <a:pt x="64" y="396"/>
                  <a:pt x="0" y="579"/>
                </a:cubicBezTo>
                <a:cubicBezTo>
                  <a:pt x="4" y="600"/>
                  <a:pt x="2" y="623"/>
                  <a:pt x="13" y="642"/>
                </a:cubicBezTo>
                <a:cubicBezTo>
                  <a:pt x="26" y="665"/>
                  <a:pt x="80" y="677"/>
                  <a:pt x="100" y="679"/>
                </a:cubicBezTo>
                <a:cubicBezTo>
                  <a:pt x="183" y="686"/>
                  <a:pt x="267" y="688"/>
                  <a:pt x="350" y="692"/>
                </a:cubicBezTo>
                <a:cubicBezTo>
                  <a:pt x="375" y="688"/>
                  <a:pt x="403" y="692"/>
                  <a:pt x="425" y="679"/>
                </a:cubicBezTo>
                <a:cubicBezTo>
                  <a:pt x="436" y="673"/>
                  <a:pt x="432" y="654"/>
                  <a:pt x="438" y="642"/>
                </a:cubicBezTo>
                <a:cubicBezTo>
                  <a:pt x="467" y="585"/>
                  <a:pt x="464" y="622"/>
                  <a:pt x="488" y="554"/>
                </a:cubicBezTo>
                <a:cubicBezTo>
                  <a:pt x="503" y="513"/>
                  <a:pt x="525" y="429"/>
                  <a:pt x="525" y="429"/>
                </a:cubicBezTo>
                <a:cubicBezTo>
                  <a:pt x="539" y="336"/>
                  <a:pt x="515" y="312"/>
                  <a:pt x="600" y="292"/>
                </a:cubicBezTo>
                <a:cubicBezTo>
                  <a:pt x="633" y="386"/>
                  <a:pt x="636" y="509"/>
                  <a:pt x="650" y="604"/>
                </a:cubicBezTo>
                <a:cubicBezTo>
                  <a:pt x="654" y="634"/>
                  <a:pt x="695" y="649"/>
                  <a:pt x="725" y="654"/>
                </a:cubicBezTo>
                <a:cubicBezTo>
                  <a:pt x="859" y="678"/>
                  <a:pt x="933" y="694"/>
                  <a:pt x="1075" y="704"/>
                </a:cubicBezTo>
                <a:cubicBezTo>
                  <a:pt x="1104" y="700"/>
                  <a:pt x="1137" y="705"/>
                  <a:pt x="1163" y="692"/>
                </a:cubicBezTo>
                <a:cubicBezTo>
                  <a:pt x="1175" y="686"/>
                  <a:pt x="1175" y="667"/>
                  <a:pt x="1175" y="654"/>
                </a:cubicBezTo>
                <a:cubicBezTo>
                  <a:pt x="1175" y="463"/>
                  <a:pt x="1163" y="472"/>
                  <a:pt x="1075" y="342"/>
                </a:cubicBezTo>
                <a:cubicBezTo>
                  <a:pt x="1071" y="326"/>
                  <a:pt x="1060" y="271"/>
                  <a:pt x="1050" y="254"/>
                </a:cubicBezTo>
                <a:cubicBezTo>
                  <a:pt x="1035" y="228"/>
                  <a:pt x="1000" y="179"/>
                  <a:pt x="1000" y="179"/>
                </a:cubicBezTo>
                <a:cubicBezTo>
                  <a:pt x="979" y="113"/>
                  <a:pt x="995" y="153"/>
                  <a:pt x="938" y="67"/>
                </a:cubicBezTo>
                <a:cubicBezTo>
                  <a:pt x="893" y="0"/>
                  <a:pt x="900" y="78"/>
                  <a:pt x="900" y="17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50000">
                <a:srgbClr val="ccecff"/>
              </a:gs>
              <a:gs pos="100000">
                <a:srgbClr val="00cc99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rot="4200">
            <a:off x="1310760" y="6342120"/>
            <a:ext cx="617760" cy="291960"/>
          </a:xfrm>
          <a:custGeom>
            <a:avLst/>
            <a:gdLst/>
            <a:ahLst/>
            <a:rect l="l" t="t" r="r" b="b"/>
            <a:pathLst>
              <a:path w="599" h="265">
                <a:moveTo>
                  <a:pt x="42" y="0"/>
                </a:moveTo>
                <a:cubicBezTo>
                  <a:pt x="23" y="59"/>
                  <a:pt x="0" y="96"/>
                  <a:pt x="30" y="163"/>
                </a:cubicBezTo>
                <a:cubicBezTo>
                  <a:pt x="35" y="175"/>
                  <a:pt x="113" y="211"/>
                  <a:pt x="117" y="213"/>
                </a:cubicBezTo>
                <a:cubicBezTo>
                  <a:pt x="203" y="249"/>
                  <a:pt x="301" y="247"/>
                  <a:pt x="392" y="263"/>
                </a:cubicBezTo>
                <a:cubicBezTo>
                  <a:pt x="455" y="259"/>
                  <a:pt x="519" y="265"/>
                  <a:pt x="580" y="250"/>
                </a:cubicBezTo>
                <a:cubicBezTo>
                  <a:pt x="594" y="247"/>
                  <a:pt x="599" y="175"/>
                  <a:pt x="580" y="150"/>
                </a:cubicBezTo>
                <a:cubicBezTo>
                  <a:pt x="537" y="94"/>
                  <a:pt x="490" y="98"/>
                  <a:pt x="430" y="88"/>
                </a:cubicBezTo>
                <a:cubicBezTo>
                  <a:pt x="395" y="65"/>
                  <a:pt x="372" y="50"/>
                  <a:pt x="330" y="50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52280" y="4979880"/>
            <a:ext cx="1495440" cy="1003320"/>
          </a:xfrm>
          <a:custGeom>
            <a:avLst/>
            <a:gdLst/>
            <a:ahLst/>
            <a:rect l="l" t="t" r="r" b="b"/>
            <a:pathLst>
              <a:path w="942" h="632">
                <a:moveTo>
                  <a:pt x="221" y="159"/>
                </a:moveTo>
                <a:cubicBezTo>
                  <a:pt x="211" y="166"/>
                  <a:pt x="202" y="175"/>
                  <a:pt x="190" y="181"/>
                </a:cubicBezTo>
                <a:cubicBezTo>
                  <a:pt x="160" y="196"/>
                  <a:pt x="97" y="224"/>
                  <a:pt x="97" y="224"/>
                </a:cubicBezTo>
                <a:cubicBezTo>
                  <a:pt x="45" y="279"/>
                  <a:pt x="0" y="295"/>
                  <a:pt x="50" y="367"/>
                </a:cubicBezTo>
                <a:cubicBezTo>
                  <a:pt x="58" y="377"/>
                  <a:pt x="81" y="375"/>
                  <a:pt x="97" y="378"/>
                </a:cubicBezTo>
                <a:cubicBezTo>
                  <a:pt x="117" y="382"/>
                  <a:pt x="137" y="385"/>
                  <a:pt x="158" y="389"/>
                </a:cubicBezTo>
                <a:cubicBezTo>
                  <a:pt x="183" y="385"/>
                  <a:pt x="213" y="388"/>
                  <a:pt x="236" y="378"/>
                </a:cubicBezTo>
                <a:cubicBezTo>
                  <a:pt x="250" y="371"/>
                  <a:pt x="243" y="355"/>
                  <a:pt x="252" y="345"/>
                </a:cubicBezTo>
                <a:cubicBezTo>
                  <a:pt x="259" y="336"/>
                  <a:pt x="273" y="330"/>
                  <a:pt x="283" y="323"/>
                </a:cubicBezTo>
                <a:cubicBezTo>
                  <a:pt x="293" y="334"/>
                  <a:pt x="310" y="343"/>
                  <a:pt x="314" y="356"/>
                </a:cubicBezTo>
                <a:cubicBezTo>
                  <a:pt x="381" y="632"/>
                  <a:pt x="158" y="513"/>
                  <a:pt x="855" y="499"/>
                </a:cubicBezTo>
                <a:cubicBezTo>
                  <a:pt x="850" y="478"/>
                  <a:pt x="854" y="453"/>
                  <a:pt x="840" y="434"/>
                </a:cubicBezTo>
                <a:cubicBezTo>
                  <a:pt x="821" y="407"/>
                  <a:pt x="848" y="339"/>
                  <a:pt x="814" y="323"/>
                </a:cubicBezTo>
                <a:cubicBezTo>
                  <a:pt x="804" y="261"/>
                  <a:pt x="806" y="273"/>
                  <a:pt x="802" y="261"/>
                </a:cubicBezTo>
                <a:cubicBezTo>
                  <a:pt x="831" y="248"/>
                  <a:pt x="815" y="243"/>
                  <a:pt x="831" y="220"/>
                </a:cubicBezTo>
                <a:cubicBezTo>
                  <a:pt x="847" y="197"/>
                  <a:pt x="894" y="155"/>
                  <a:pt x="900" y="121"/>
                </a:cubicBezTo>
                <a:cubicBezTo>
                  <a:pt x="890" y="67"/>
                  <a:pt x="942" y="45"/>
                  <a:pt x="870" y="16"/>
                </a:cubicBezTo>
                <a:cubicBezTo>
                  <a:pt x="828" y="0"/>
                  <a:pt x="805" y="87"/>
                  <a:pt x="759" y="76"/>
                </a:cubicBezTo>
                <a:cubicBezTo>
                  <a:pt x="744" y="72"/>
                  <a:pt x="670" y="127"/>
                  <a:pt x="670" y="127"/>
                </a:cubicBezTo>
              </a:path>
            </a:pathLst>
          </a:custGeom>
          <a:gradFill rotWithShape="0">
            <a:gsLst>
              <a:gs pos="0">
                <a:srgbClr val="6c0000"/>
              </a:gs>
              <a:gs pos="50000">
                <a:srgbClr val="ff0000"/>
              </a:gs>
              <a:gs pos="100000">
                <a:srgbClr val="6c0000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rot="4200">
            <a:off x="75960" y="5589360"/>
            <a:ext cx="50472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 rot="16122000">
            <a:off x="1517400" y="4882320"/>
            <a:ext cx="44604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rot="4200">
            <a:off x="777960" y="5268960"/>
            <a:ext cx="595080" cy="428400"/>
          </a:xfrm>
          <a:custGeom>
            <a:avLst/>
            <a:gdLst/>
            <a:ahLst/>
            <a:rect l="l" t="t" r="r" b="b"/>
            <a:pathLst>
              <a:path w="640" h="461">
                <a:moveTo>
                  <a:pt x="64" y="445"/>
                </a:moveTo>
                <a:cubicBezTo>
                  <a:pt x="125" y="442"/>
                  <a:pt x="187" y="442"/>
                  <a:pt x="248" y="437"/>
                </a:cubicBezTo>
                <a:cubicBezTo>
                  <a:pt x="259" y="436"/>
                  <a:pt x="276" y="439"/>
                  <a:pt x="280" y="429"/>
                </a:cubicBezTo>
                <a:cubicBezTo>
                  <a:pt x="298" y="382"/>
                  <a:pt x="274" y="374"/>
                  <a:pt x="248" y="357"/>
                </a:cubicBezTo>
                <a:cubicBezTo>
                  <a:pt x="228" y="297"/>
                  <a:pt x="257" y="369"/>
                  <a:pt x="216" y="317"/>
                </a:cubicBezTo>
                <a:cubicBezTo>
                  <a:pt x="210" y="310"/>
                  <a:pt x="188" y="256"/>
                  <a:pt x="184" y="245"/>
                </a:cubicBezTo>
                <a:cubicBezTo>
                  <a:pt x="192" y="112"/>
                  <a:pt x="164" y="95"/>
                  <a:pt x="280" y="109"/>
                </a:cubicBezTo>
                <a:cubicBezTo>
                  <a:pt x="317" y="121"/>
                  <a:pt x="347" y="145"/>
                  <a:pt x="384" y="157"/>
                </a:cubicBezTo>
                <a:cubicBezTo>
                  <a:pt x="457" y="267"/>
                  <a:pt x="415" y="186"/>
                  <a:pt x="424" y="429"/>
                </a:cubicBezTo>
                <a:cubicBezTo>
                  <a:pt x="533" y="424"/>
                  <a:pt x="607" y="457"/>
                  <a:pt x="640" y="357"/>
                </a:cubicBezTo>
                <a:cubicBezTo>
                  <a:pt x="625" y="269"/>
                  <a:pt x="611" y="293"/>
                  <a:pt x="512" y="285"/>
                </a:cubicBezTo>
                <a:cubicBezTo>
                  <a:pt x="485" y="205"/>
                  <a:pt x="475" y="141"/>
                  <a:pt x="408" y="85"/>
                </a:cubicBezTo>
                <a:cubicBezTo>
                  <a:pt x="393" y="73"/>
                  <a:pt x="371" y="43"/>
                  <a:pt x="352" y="37"/>
                </a:cubicBezTo>
                <a:cubicBezTo>
                  <a:pt x="311" y="24"/>
                  <a:pt x="214" y="11"/>
                  <a:pt x="168" y="5"/>
                </a:cubicBezTo>
                <a:cubicBezTo>
                  <a:pt x="141" y="8"/>
                  <a:pt x="88" y="0"/>
                  <a:pt x="64" y="29"/>
                </a:cubicBezTo>
                <a:cubicBezTo>
                  <a:pt x="56" y="38"/>
                  <a:pt x="52" y="50"/>
                  <a:pt x="48" y="61"/>
                </a:cubicBezTo>
                <a:cubicBezTo>
                  <a:pt x="42" y="77"/>
                  <a:pt x="32" y="109"/>
                  <a:pt x="32" y="109"/>
                </a:cubicBezTo>
                <a:cubicBezTo>
                  <a:pt x="37" y="180"/>
                  <a:pt x="22" y="196"/>
                  <a:pt x="56" y="237"/>
                </a:cubicBezTo>
                <a:cubicBezTo>
                  <a:pt x="69" y="253"/>
                  <a:pt x="80" y="271"/>
                  <a:pt x="96" y="285"/>
                </a:cubicBezTo>
                <a:cubicBezTo>
                  <a:pt x="110" y="298"/>
                  <a:pt x="144" y="317"/>
                  <a:pt x="144" y="317"/>
                </a:cubicBezTo>
                <a:cubicBezTo>
                  <a:pt x="177" y="366"/>
                  <a:pt x="162" y="371"/>
                  <a:pt x="104" y="357"/>
                </a:cubicBezTo>
                <a:cubicBezTo>
                  <a:pt x="66" y="347"/>
                  <a:pt x="44" y="329"/>
                  <a:pt x="8" y="317"/>
                </a:cubicBezTo>
                <a:cubicBezTo>
                  <a:pt x="13" y="374"/>
                  <a:pt x="0" y="429"/>
                  <a:pt x="48" y="461"/>
                </a:cubicBezTo>
                <a:cubicBezTo>
                  <a:pt x="86" y="452"/>
                  <a:pt x="90" y="458"/>
                  <a:pt x="64" y="445"/>
                </a:cubicBezTo>
                <a:close/>
              </a:path>
            </a:pathLst>
          </a:custGeom>
          <a:solidFill>
            <a:srgbClr val="3333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93760" y="4160880"/>
            <a:ext cx="1211040" cy="1044360"/>
          </a:xfrm>
          <a:custGeom>
            <a:avLst/>
            <a:gdLst/>
            <a:ahLst/>
            <a:rect l="l" t="t" r="r" b="b"/>
            <a:pathLst>
              <a:path w="1050" h="906">
                <a:moveTo>
                  <a:pt x="521" y="24"/>
                </a:moveTo>
                <a:cubicBezTo>
                  <a:pt x="598" y="0"/>
                  <a:pt x="573" y="2"/>
                  <a:pt x="709" y="24"/>
                </a:cubicBezTo>
                <a:cubicBezTo>
                  <a:pt x="734" y="28"/>
                  <a:pt x="784" y="48"/>
                  <a:pt x="784" y="48"/>
                </a:cubicBezTo>
                <a:cubicBezTo>
                  <a:pt x="864" y="105"/>
                  <a:pt x="820" y="70"/>
                  <a:pt x="910" y="157"/>
                </a:cubicBezTo>
                <a:cubicBezTo>
                  <a:pt x="939" y="185"/>
                  <a:pt x="985" y="254"/>
                  <a:pt x="985" y="254"/>
                </a:cubicBezTo>
                <a:cubicBezTo>
                  <a:pt x="1021" y="389"/>
                  <a:pt x="1050" y="536"/>
                  <a:pt x="973" y="664"/>
                </a:cubicBezTo>
                <a:cubicBezTo>
                  <a:pt x="954" y="697"/>
                  <a:pt x="927" y="767"/>
                  <a:pt x="897" y="785"/>
                </a:cubicBezTo>
                <a:cubicBezTo>
                  <a:pt x="847" y="817"/>
                  <a:pt x="805" y="862"/>
                  <a:pt x="747" y="882"/>
                </a:cubicBezTo>
                <a:cubicBezTo>
                  <a:pt x="715" y="894"/>
                  <a:pt x="646" y="906"/>
                  <a:pt x="646" y="906"/>
                </a:cubicBezTo>
                <a:cubicBezTo>
                  <a:pt x="489" y="898"/>
                  <a:pt x="376" y="886"/>
                  <a:pt x="232" y="846"/>
                </a:cubicBezTo>
                <a:cubicBezTo>
                  <a:pt x="153" y="795"/>
                  <a:pt x="100" y="741"/>
                  <a:pt x="69" y="652"/>
                </a:cubicBezTo>
                <a:cubicBezTo>
                  <a:pt x="73" y="521"/>
                  <a:pt x="0" y="178"/>
                  <a:pt x="203" y="114"/>
                </a:cubicBezTo>
                <a:cubicBezTo>
                  <a:pt x="274" y="46"/>
                  <a:pt x="360" y="62"/>
                  <a:pt x="458" y="48"/>
                </a:cubicBezTo>
                <a:cubicBezTo>
                  <a:pt x="537" y="22"/>
                  <a:pt x="560" y="24"/>
                  <a:pt x="521" y="24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20582400">
            <a:off x="536400" y="4363560"/>
            <a:ext cx="341640" cy="48096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rot="20582400">
            <a:off x="903240" y="4264200"/>
            <a:ext cx="343080" cy="50796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rot="8088000">
            <a:off x="601200" y="4390560"/>
            <a:ext cx="751680" cy="70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744" y="1256"/>
                </a:moveTo>
                <a:arcTo wR="10800" hR="10800" stAng="-7074784" swAng="7074784"/>
                <a:lnTo>
                  <a:pt x="10800" y="10800"/>
                </a:lnTo>
                <a:close/>
              </a:path>
              <a:path fill="none" w="21600" h="21600">
                <a:moveTo>
                  <a:pt x="5744" y="1256"/>
                </a:moveTo>
                <a:arcTo wR="10800" hR="10800" stAng="-7074784" swAng="707478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rot="413400">
            <a:off x="907920" y="4773240"/>
            <a:ext cx="184320" cy="185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rot="413400">
            <a:off x="677880" y="4422240"/>
            <a:ext cx="182520" cy="2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rot="413400">
            <a:off x="1004760" y="4300200"/>
            <a:ext cx="182520" cy="257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448800">
            <a:off x="328320" y="4195800"/>
            <a:ext cx="260280" cy="250920"/>
          </a:xfrm>
          <a:custGeom>
            <a:avLst/>
            <a:gdLst/>
            <a:ahLst/>
            <a:rect l="l" t="t" r="r" b="b"/>
            <a:pathLst>
              <a:path w="273" h="258">
                <a:moveTo>
                  <a:pt x="273" y="40"/>
                </a:moveTo>
                <a:cubicBezTo>
                  <a:pt x="203" y="17"/>
                  <a:pt x="179" y="0"/>
                  <a:pt x="91" y="40"/>
                </a:cubicBezTo>
                <a:cubicBezTo>
                  <a:pt x="59" y="54"/>
                  <a:pt x="19" y="201"/>
                  <a:pt x="18" y="204"/>
                </a:cubicBezTo>
                <a:cubicBezTo>
                  <a:pt x="12" y="222"/>
                  <a:pt x="0" y="258"/>
                  <a:pt x="0" y="25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rot="448800">
            <a:off x="587160" y="4092480"/>
            <a:ext cx="274320" cy="211320"/>
          </a:xfrm>
          <a:custGeom>
            <a:avLst/>
            <a:gdLst/>
            <a:ahLst/>
            <a:rect l="l" t="t" r="r" b="b"/>
            <a:pathLst>
              <a:path w="290" h="218">
                <a:moveTo>
                  <a:pt x="0" y="218"/>
                </a:moveTo>
                <a:cubicBezTo>
                  <a:pt x="66" y="118"/>
                  <a:pt x="157" y="0"/>
                  <a:pt x="29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rot="448800">
            <a:off x="632880" y="4065480"/>
            <a:ext cx="1800" cy="195480"/>
          </a:xfrm>
          <a:custGeom>
            <a:avLst/>
            <a:gdLst/>
            <a:ahLst/>
            <a:rect l="l" t="t" r="r" b="b"/>
            <a:pathLst>
              <a:path w="1" h="200">
                <a:moveTo>
                  <a:pt x="0" y="200"/>
                </a:moveTo>
                <a:cubicBezTo>
                  <a:pt x="0" y="133"/>
                  <a:pt x="0" y="67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rot="21140400">
            <a:off x="418680" y="4266720"/>
            <a:ext cx="233280" cy="392400"/>
          </a:xfrm>
          <a:custGeom>
            <a:avLst/>
            <a:gdLst/>
            <a:ahLst/>
            <a:rect l="l" t="t" r="r" b="b"/>
            <a:pathLst>
              <a:path w="273" h="400">
                <a:moveTo>
                  <a:pt x="273" y="0"/>
                </a:moveTo>
                <a:cubicBezTo>
                  <a:pt x="198" y="37"/>
                  <a:pt x="150" y="69"/>
                  <a:pt x="91" y="127"/>
                </a:cubicBezTo>
                <a:cubicBezTo>
                  <a:pt x="61" y="218"/>
                  <a:pt x="0" y="301"/>
                  <a:pt x="0" y="4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rot="1662000">
            <a:off x="651960" y="4183200"/>
            <a:ext cx="246240" cy="131760"/>
          </a:xfrm>
          <a:custGeom>
            <a:avLst/>
            <a:gdLst/>
            <a:ahLst/>
            <a:rect l="l" t="t" r="r" b="b"/>
            <a:pathLst>
              <a:path w="273" h="109">
                <a:moveTo>
                  <a:pt x="0" y="109"/>
                </a:moveTo>
                <a:cubicBezTo>
                  <a:pt x="12" y="91"/>
                  <a:pt x="17" y="66"/>
                  <a:pt x="36" y="54"/>
                </a:cubicBezTo>
                <a:cubicBezTo>
                  <a:pt x="105" y="11"/>
                  <a:pt x="195" y="0"/>
                  <a:pt x="273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2362320" y="4686480"/>
            <a:ext cx="4572000" cy="1657080"/>
            <a:chOff x="2362320" y="4686480"/>
            <a:chExt cx="4572000" cy="1657080"/>
          </a:xfrm>
        </p:grpSpPr>
        <p:sp>
          <p:nvSpPr>
            <p:cNvPr id="588" name=""/>
            <p:cNvSpPr/>
            <p:nvPr/>
          </p:nvSpPr>
          <p:spPr>
            <a:xfrm>
              <a:off x="2362320" y="4686480"/>
              <a:ext cx="4572000" cy="1657080"/>
            </a:xfrm>
            <a:prstGeom prst="cloudCallout">
              <a:avLst>
                <a:gd name="adj1" fmla="val -57638"/>
                <a:gd name="adj2" fmla="val -72032"/>
              </a:avLst>
            </a:prstGeom>
            <a:solidFill>
              <a:srgbClr val="00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841480" y="4910040"/>
              <a:ext cx="351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nd the voltmeter measures the </a:t>
              </a:r>
              <a:br>
                <a:rPr sz="2400"/>
              </a:b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otential differ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3755880" y="0"/>
            <a:ext cx="4114800" cy="685800"/>
            <a:chOff x="3755880" y="0"/>
            <a:chExt cx="4114800" cy="685800"/>
          </a:xfrm>
        </p:grpSpPr>
        <p:sp>
          <p:nvSpPr>
            <p:cNvPr id="591" name=""/>
            <p:cNvSpPr/>
            <p:nvPr/>
          </p:nvSpPr>
          <p:spPr>
            <a:xfrm>
              <a:off x="3755880" y="0"/>
              <a:ext cx="41148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 txBox="1"/>
            <p:nvPr/>
          </p:nvSpPr>
          <p:spPr>
            <a:xfrm>
              <a:off x="3804840" y="247680"/>
              <a:ext cx="3971880" cy="3618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Potential Differenc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1200240" y="952560"/>
            <a:ext cx="1752480" cy="514440"/>
            <a:chOff x="1200240" y="952560"/>
            <a:chExt cx="1752480" cy="514440"/>
          </a:xfrm>
        </p:grpSpPr>
        <p:sp>
          <p:nvSpPr>
            <p:cNvPr id="594" name=""/>
            <p:cNvSpPr/>
            <p:nvPr/>
          </p:nvSpPr>
          <p:spPr>
            <a:xfrm>
              <a:off x="1200240" y="952560"/>
              <a:ext cx="1752480" cy="51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 txBox="1"/>
            <p:nvPr/>
          </p:nvSpPr>
          <p:spPr>
            <a:xfrm>
              <a:off x="1287360" y="1023840"/>
              <a:ext cx="1552680" cy="3812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Curren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5162400" y="72396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238720" y="800280"/>
            <a:ext cx="990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flipV="1">
            <a:off x="5238000" y="19360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5563440" y="19360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 flipV="1">
            <a:off x="6042960" y="19360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5240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5935680" y="1647720"/>
            <a:ext cx="324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564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5381640" y="880920"/>
            <a:ext cx="649440" cy="347760"/>
            <a:chOff x="5381640" y="880920"/>
            <a:chExt cx="649440" cy="347760"/>
          </a:xfrm>
        </p:grpSpPr>
        <p:sp>
          <p:nvSpPr>
            <p:cNvPr id="605" name=""/>
            <p:cNvSpPr txBox="1"/>
            <p:nvPr/>
          </p:nvSpPr>
          <p:spPr>
            <a:xfrm>
              <a:off x="5792760" y="880920"/>
              <a:ext cx="23832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06" name=""/>
            <p:cNvSpPr txBox="1"/>
            <p:nvPr/>
          </p:nvSpPr>
          <p:spPr>
            <a:xfrm>
              <a:off x="5381640" y="885600"/>
              <a:ext cx="33984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1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6299280" y="3036960"/>
            <a:ext cx="284472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5102280" y="2738520"/>
            <a:ext cx="1328760" cy="725040"/>
            <a:chOff x="5102280" y="2738520"/>
            <a:chExt cx="1328760" cy="725040"/>
          </a:xfrm>
        </p:grpSpPr>
        <p:sp>
          <p:nvSpPr>
            <p:cNvPr id="609" name=""/>
            <p:cNvSpPr/>
            <p:nvPr/>
          </p:nvSpPr>
          <p:spPr>
            <a:xfrm>
              <a:off x="626436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170320" y="2738520"/>
              <a:ext cx="1177920" cy="723600"/>
            </a:xfrm>
            <a:prstGeom prst="rect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0228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739"/>
                </a:gs>
                <a:gs pos="50000">
                  <a:srgbClr val="ffbe7d"/>
                </a:gs>
                <a:gs pos="100000">
                  <a:srgbClr val="75573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195880" y="3462120"/>
              <a:ext cx="11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189400" y="2738520"/>
              <a:ext cx="11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264280" y="2741400"/>
              <a:ext cx="217440" cy="71892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460840" y="2743200"/>
              <a:ext cx="223920" cy="72036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668920" y="2744640"/>
              <a:ext cx="208080" cy="71568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59360" y="2741400"/>
              <a:ext cx="216000" cy="718920"/>
            </a:xfrm>
            <a:custGeom>
              <a:avLst/>
              <a:gdLst/>
              <a:ahLst/>
              <a:rect l="l" t="t" r="r" b="b"/>
              <a:pathLst>
                <a:path w="136" h="453">
                  <a:moveTo>
                    <a:pt x="0" y="3"/>
                  </a:moveTo>
                  <a:lnTo>
                    <a:pt x="13" y="8"/>
                  </a:lnTo>
                  <a:lnTo>
                    <a:pt x="26" y="20"/>
                  </a:lnTo>
                  <a:lnTo>
                    <a:pt x="32" y="30"/>
                  </a:lnTo>
                  <a:lnTo>
                    <a:pt x="43" y="46"/>
                  </a:lnTo>
                  <a:lnTo>
                    <a:pt x="50" y="66"/>
                  </a:lnTo>
                  <a:lnTo>
                    <a:pt x="57" y="97"/>
                  </a:lnTo>
                  <a:lnTo>
                    <a:pt x="65" y="124"/>
                  </a:lnTo>
                  <a:lnTo>
                    <a:pt x="71" y="182"/>
                  </a:lnTo>
                  <a:lnTo>
                    <a:pt x="74" y="217"/>
                  </a:lnTo>
                  <a:lnTo>
                    <a:pt x="74" y="266"/>
                  </a:lnTo>
                  <a:lnTo>
                    <a:pt x="68" y="321"/>
                  </a:lnTo>
                  <a:lnTo>
                    <a:pt x="62" y="363"/>
                  </a:lnTo>
                  <a:lnTo>
                    <a:pt x="54" y="397"/>
                  </a:lnTo>
                  <a:lnTo>
                    <a:pt x="35" y="429"/>
                  </a:lnTo>
                  <a:lnTo>
                    <a:pt x="16" y="452"/>
                  </a:lnTo>
                  <a:lnTo>
                    <a:pt x="81" y="453"/>
                  </a:lnTo>
                  <a:lnTo>
                    <a:pt x="96" y="430"/>
                  </a:lnTo>
                  <a:lnTo>
                    <a:pt x="106" y="407"/>
                  </a:lnTo>
                  <a:lnTo>
                    <a:pt x="118" y="368"/>
                  </a:lnTo>
                  <a:lnTo>
                    <a:pt x="127" y="329"/>
                  </a:lnTo>
                  <a:lnTo>
                    <a:pt x="136" y="263"/>
                  </a:lnTo>
                  <a:lnTo>
                    <a:pt x="136" y="194"/>
                  </a:lnTo>
                  <a:lnTo>
                    <a:pt x="130" y="133"/>
                  </a:lnTo>
                  <a:lnTo>
                    <a:pt x="117" y="81"/>
                  </a:lnTo>
                  <a:lnTo>
                    <a:pt x="105" y="43"/>
                  </a:lnTo>
                  <a:lnTo>
                    <a:pt x="93" y="23"/>
                  </a:lnTo>
                  <a:lnTo>
                    <a:pt x="80" y="8"/>
                  </a:lnTo>
                  <a:lnTo>
                    <a:pt x="6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479760" y="3051000"/>
            <a:ext cx="1708200" cy="136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8600" y="3075120"/>
            <a:ext cx="76824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476360" y="149544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552680" y="1571760"/>
            <a:ext cx="9903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1551960" y="27075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 flipV="1">
            <a:off x="1877400" y="27075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 flipV="1">
            <a:off x="2357280" y="270756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1554120" y="241920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2249640" y="2419200"/>
            <a:ext cx="323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878120" y="2419200"/>
            <a:ext cx="161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1746360" y="1652760"/>
            <a:ext cx="598320" cy="347040"/>
            <a:chOff x="1746360" y="1652760"/>
            <a:chExt cx="598320" cy="347040"/>
          </a:xfrm>
        </p:grpSpPr>
        <p:sp>
          <p:nvSpPr>
            <p:cNvPr id="629" name=""/>
            <p:cNvSpPr txBox="1"/>
            <p:nvPr/>
          </p:nvSpPr>
          <p:spPr>
            <a:xfrm>
              <a:off x="2106720" y="1652760"/>
              <a:ext cx="23796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30" name=""/>
            <p:cNvSpPr txBox="1"/>
            <p:nvPr/>
          </p:nvSpPr>
          <p:spPr>
            <a:xfrm>
              <a:off x="1746360" y="1657080"/>
              <a:ext cx="28872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.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848160" y="3067200"/>
            <a:ext cx="969480" cy="145800"/>
            <a:chOff x="848160" y="3067200"/>
            <a:chExt cx="969480" cy="145800"/>
          </a:xfrm>
        </p:grpSpPr>
        <p:sp>
          <p:nvSpPr>
            <p:cNvPr id="632" name=""/>
            <p:cNvSpPr/>
            <p:nvPr/>
          </p:nvSpPr>
          <p:spPr>
            <a:xfrm flipH="1">
              <a:off x="932040" y="313380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848160" y="3085920"/>
              <a:ext cx="280800" cy="10296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1113480" y="30672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1146240" y="3103560"/>
              <a:ext cx="215640" cy="74160"/>
            </a:xfrm>
            <a:prstGeom prst="rect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2576520" y="3051000"/>
            <a:ext cx="1031400" cy="145800"/>
            <a:chOff x="2576520" y="3051000"/>
            <a:chExt cx="1031400" cy="145800"/>
          </a:xfrm>
        </p:grpSpPr>
        <p:sp>
          <p:nvSpPr>
            <p:cNvPr id="637" name=""/>
            <p:cNvSpPr/>
            <p:nvPr/>
          </p:nvSpPr>
          <p:spPr>
            <a:xfrm>
              <a:off x="2576520" y="312696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327120" y="3069720"/>
              <a:ext cx="280800" cy="10332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268440" y="30510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079440" y="3087360"/>
              <a:ext cx="2156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 flipH="1">
            <a:off x="1790640" y="2809800"/>
            <a:ext cx="16200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428920" y="2809800"/>
            <a:ext cx="15228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4945680" y="2036880"/>
            <a:ext cx="360" cy="98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 rot="16246200">
            <a:off x="4804200" y="2916000"/>
            <a:ext cx="280800" cy="10296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 rot="16246200">
            <a:off x="4912200" y="2732760"/>
            <a:ext cx="74520" cy="145800"/>
          </a:xfrm>
          <a:prstGeom prst="ellipse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76840" y="1994040"/>
            <a:ext cx="0" cy="958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rot="5400000">
            <a:off x="6444000" y="2905920"/>
            <a:ext cx="273240" cy="10332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rot="5400000">
            <a:off x="6543360" y="2727000"/>
            <a:ext cx="73080" cy="14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rot="5400000">
            <a:off x="6472440" y="2647080"/>
            <a:ext cx="209520" cy="74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910040" y="2590920"/>
            <a:ext cx="74880" cy="2188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927680" y="201600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170760" y="201132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1938240" y="3381480"/>
            <a:ext cx="5148000" cy="3106800"/>
            <a:chOff x="1938240" y="3381480"/>
            <a:chExt cx="5148000" cy="3106800"/>
          </a:xfrm>
        </p:grpSpPr>
        <p:sp>
          <p:nvSpPr>
            <p:cNvPr id="654" name=""/>
            <p:cNvSpPr/>
            <p:nvPr/>
          </p:nvSpPr>
          <p:spPr>
            <a:xfrm>
              <a:off x="3173760" y="570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756160" y="543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343320" y="3381480"/>
              <a:ext cx="0" cy="226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3333240" y="5638680"/>
              <a:ext cx="375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733920" y="551808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129200" y="552600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24480" y="551808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919760" y="551484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5040" y="551484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710320" y="551484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105600" y="551484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3225600" y="3743280"/>
              <a:ext cx="24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3228840" y="413856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3228840" y="453384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3228840" y="492912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3228840" y="532440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 txBox="1"/>
            <p:nvPr/>
          </p:nvSpPr>
          <p:spPr>
            <a:xfrm>
              <a:off x="1938240" y="4408560"/>
              <a:ext cx="70488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olt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71" name=""/>
            <p:cNvSpPr txBox="1"/>
            <p:nvPr/>
          </p:nvSpPr>
          <p:spPr>
            <a:xfrm>
              <a:off x="4735440" y="6145200"/>
              <a:ext cx="112392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Ampere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515280" y="553392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910560" y="553392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940560" y="5713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740480" y="5713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521680" y="5713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302880" y="5713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672280" y="46868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672280" y="39186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586960" y="349776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672280" y="42930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672280" y="50932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3681360" y="5391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287360" y="1023840"/>
            <a:ext cx="1552680" cy="381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mme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4716360" y="304920"/>
            <a:ext cx="1971720" cy="304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oltme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1200240" y="952560"/>
            <a:ext cx="1752480" cy="514440"/>
            <a:chOff x="1200240" y="952560"/>
            <a:chExt cx="1752480" cy="514440"/>
          </a:xfrm>
        </p:grpSpPr>
        <p:sp>
          <p:nvSpPr>
            <p:cNvPr id="687" name=""/>
            <p:cNvSpPr/>
            <p:nvPr/>
          </p:nvSpPr>
          <p:spPr>
            <a:xfrm>
              <a:off x="1200240" y="952560"/>
              <a:ext cx="1752480" cy="51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 txBox="1"/>
            <p:nvPr/>
          </p:nvSpPr>
          <p:spPr>
            <a:xfrm>
              <a:off x="1287360" y="1023840"/>
              <a:ext cx="1552680" cy="3812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Curren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3753000" y="0"/>
            <a:ext cx="4114800" cy="685800"/>
            <a:chOff x="3753000" y="0"/>
            <a:chExt cx="4114800" cy="685800"/>
          </a:xfrm>
        </p:grpSpPr>
        <p:sp>
          <p:nvSpPr>
            <p:cNvPr id="690" name=""/>
            <p:cNvSpPr/>
            <p:nvPr/>
          </p:nvSpPr>
          <p:spPr>
            <a:xfrm>
              <a:off x="3753000" y="0"/>
              <a:ext cx="41148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 txBox="1"/>
            <p:nvPr/>
          </p:nvSpPr>
          <p:spPr>
            <a:xfrm>
              <a:off x="3801960" y="247680"/>
              <a:ext cx="3971880" cy="3618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Potential Differenc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3753000" y="0"/>
            <a:ext cx="41148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200240" y="952560"/>
            <a:ext cx="175248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162400" y="72396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38720" y="800280"/>
            <a:ext cx="990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5238000" y="19360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5563440" y="19360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6042960" y="19360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5240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5935680" y="1647720"/>
            <a:ext cx="324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5564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5381640" y="880920"/>
            <a:ext cx="649440" cy="347760"/>
            <a:chOff x="5381640" y="880920"/>
            <a:chExt cx="649440" cy="347760"/>
          </a:xfrm>
        </p:grpSpPr>
        <p:sp>
          <p:nvSpPr>
            <p:cNvPr id="703" name=""/>
            <p:cNvSpPr txBox="1"/>
            <p:nvPr/>
          </p:nvSpPr>
          <p:spPr>
            <a:xfrm>
              <a:off x="5792760" y="880920"/>
              <a:ext cx="23832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704" name=""/>
            <p:cNvSpPr txBox="1"/>
            <p:nvPr/>
          </p:nvSpPr>
          <p:spPr>
            <a:xfrm>
              <a:off x="5381640" y="885960"/>
              <a:ext cx="33984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24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6299280" y="3036960"/>
            <a:ext cx="284472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5102280" y="2738520"/>
            <a:ext cx="1328760" cy="725040"/>
            <a:chOff x="5102280" y="2738520"/>
            <a:chExt cx="1328760" cy="725040"/>
          </a:xfrm>
        </p:grpSpPr>
        <p:sp>
          <p:nvSpPr>
            <p:cNvPr id="707" name=""/>
            <p:cNvSpPr/>
            <p:nvPr/>
          </p:nvSpPr>
          <p:spPr>
            <a:xfrm>
              <a:off x="626436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70320" y="2738520"/>
              <a:ext cx="1177920" cy="723600"/>
            </a:xfrm>
            <a:prstGeom prst="rect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10228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739"/>
                </a:gs>
                <a:gs pos="50000">
                  <a:srgbClr val="ffbe7d"/>
                </a:gs>
                <a:gs pos="100000">
                  <a:srgbClr val="75573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195880" y="3462120"/>
              <a:ext cx="11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189400" y="2738520"/>
              <a:ext cx="11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264280" y="2741400"/>
              <a:ext cx="217440" cy="71892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460840" y="2743200"/>
              <a:ext cx="223920" cy="72036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668920" y="2744640"/>
              <a:ext cx="208080" cy="71568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59360" y="2741400"/>
              <a:ext cx="216000" cy="718920"/>
            </a:xfrm>
            <a:custGeom>
              <a:avLst/>
              <a:gdLst/>
              <a:ahLst/>
              <a:rect l="l" t="t" r="r" b="b"/>
              <a:pathLst>
                <a:path w="136" h="453">
                  <a:moveTo>
                    <a:pt x="0" y="3"/>
                  </a:moveTo>
                  <a:lnTo>
                    <a:pt x="13" y="8"/>
                  </a:lnTo>
                  <a:lnTo>
                    <a:pt x="26" y="20"/>
                  </a:lnTo>
                  <a:lnTo>
                    <a:pt x="32" y="30"/>
                  </a:lnTo>
                  <a:lnTo>
                    <a:pt x="43" y="46"/>
                  </a:lnTo>
                  <a:lnTo>
                    <a:pt x="50" y="66"/>
                  </a:lnTo>
                  <a:lnTo>
                    <a:pt x="57" y="97"/>
                  </a:lnTo>
                  <a:lnTo>
                    <a:pt x="65" y="124"/>
                  </a:lnTo>
                  <a:lnTo>
                    <a:pt x="71" y="182"/>
                  </a:lnTo>
                  <a:lnTo>
                    <a:pt x="74" y="217"/>
                  </a:lnTo>
                  <a:lnTo>
                    <a:pt x="74" y="266"/>
                  </a:lnTo>
                  <a:lnTo>
                    <a:pt x="68" y="321"/>
                  </a:lnTo>
                  <a:lnTo>
                    <a:pt x="62" y="363"/>
                  </a:lnTo>
                  <a:lnTo>
                    <a:pt x="54" y="397"/>
                  </a:lnTo>
                  <a:lnTo>
                    <a:pt x="35" y="429"/>
                  </a:lnTo>
                  <a:lnTo>
                    <a:pt x="16" y="452"/>
                  </a:lnTo>
                  <a:lnTo>
                    <a:pt x="81" y="453"/>
                  </a:lnTo>
                  <a:lnTo>
                    <a:pt x="96" y="430"/>
                  </a:lnTo>
                  <a:lnTo>
                    <a:pt x="106" y="407"/>
                  </a:lnTo>
                  <a:lnTo>
                    <a:pt x="118" y="368"/>
                  </a:lnTo>
                  <a:lnTo>
                    <a:pt x="127" y="329"/>
                  </a:lnTo>
                  <a:lnTo>
                    <a:pt x="136" y="263"/>
                  </a:lnTo>
                  <a:lnTo>
                    <a:pt x="136" y="194"/>
                  </a:lnTo>
                  <a:lnTo>
                    <a:pt x="130" y="133"/>
                  </a:lnTo>
                  <a:lnTo>
                    <a:pt x="117" y="81"/>
                  </a:lnTo>
                  <a:lnTo>
                    <a:pt x="105" y="43"/>
                  </a:lnTo>
                  <a:lnTo>
                    <a:pt x="93" y="23"/>
                  </a:lnTo>
                  <a:lnTo>
                    <a:pt x="80" y="8"/>
                  </a:lnTo>
                  <a:lnTo>
                    <a:pt x="6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3479760" y="3051000"/>
            <a:ext cx="1708200" cy="136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28600" y="3075120"/>
            <a:ext cx="76824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476360" y="149544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552680" y="1571760"/>
            <a:ext cx="9903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flipV="1">
            <a:off x="1551960" y="27075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 flipV="1">
            <a:off x="1877400" y="27075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 flipV="1">
            <a:off x="2357280" y="270756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1554120" y="241920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2249640" y="2419200"/>
            <a:ext cx="323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1878120" y="2419200"/>
            <a:ext cx="161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860480" y="1652760"/>
            <a:ext cx="484200" cy="347400"/>
            <a:chOff x="1860480" y="1652760"/>
            <a:chExt cx="484200" cy="347400"/>
          </a:xfrm>
        </p:grpSpPr>
        <p:sp>
          <p:nvSpPr>
            <p:cNvPr id="727" name=""/>
            <p:cNvSpPr txBox="1"/>
            <p:nvPr/>
          </p:nvSpPr>
          <p:spPr>
            <a:xfrm>
              <a:off x="2106720" y="1652760"/>
              <a:ext cx="23796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728" name=""/>
            <p:cNvSpPr txBox="1"/>
            <p:nvPr/>
          </p:nvSpPr>
          <p:spPr>
            <a:xfrm>
              <a:off x="1860480" y="1657440"/>
              <a:ext cx="17460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848160" y="3067200"/>
            <a:ext cx="969480" cy="145800"/>
            <a:chOff x="848160" y="3067200"/>
            <a:chExt cx="969480" cy="145800"/>
          </a:xfrm>
        </p:grpSpPr>
        <p:sp>
          <p:nvSpPr>
            <p:cNvPr id="730" name=""/>
            <p:cNvSpPr/>
            <p:nvPr/>
          </p:nvSpPr>
          <p:spPr>
            <a:xfrm flipH="1">
              <a:off x="932040" y="313380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848160" y="3085920"/>
              <a:ext cx="280800" cy="10296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1113480" y="30672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1146240" y="3103560"/>
              <a:ext cx="215640" cy="74160"/>
            </a:xfrm>
            <a:prstGeom prst="rect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2576520" y="3051000"/>
            <a:ext cx="1031400" cy="145800"/>
            <a:chOff x="2576520" y="3051000"/>
            <a:chExt cx="1031400" cy="145800"/>
          </a:xfrm>
        </p:grpSpPr>
        <p:sp>
          <p:nvSpPr>
            <p:cNvPr id="735" name=""/>
            <p:cNvSpPr/>
            <p:nvPr/>
          </p:nvSpPr>
          <p:spPr>
            <a:xfrm>
              <a:off x="2576520" y="312696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327120" y="3069720"/>
              <a:ext cx="280800" cy="10332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268440" y="30510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079440" y="3087360"/>
              <a:ext cx="2156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"/>
          <p:cNvSpPr/>
          <p:nvPr/>
        </p:nvSpPr>
        <p:spPr>
          <a:xfrm flipH="1">
            <a:off x="1790640" y="2809800"/>
            <a:ext cx="16200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428920" y="2809800"/>
            <a:ext cx="15228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4945680" y="2036880"/>
            <a:ext cx="360" cy="98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 rot="16246200">
            <a:off x="4804200" y="2916000"/>
            <a:ext cx="280800" cy="10296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 rot="16246200">
            <a:off x="4912200" y="2732760"/>
            <a:ext cx="74520" cy="145800"/>
          </a:xfrm>
          <a:prstGeom prst="ellipse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576840" y="1994040"/>
            <a:ext cx="0" cy="958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rot="5400000">
            <a:off x="6444000" y="2905920"/>
            <a:ext cx="273240" cy="10332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rot="5400000">
            <a:off x="6543360" y="2727000"/>
            <a:ext cx="73080" cy="14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rot="5400000">
            <a:off x="6472440" y="2647080"/>
            <a:ext cx="209520" cy="74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10040" y="2590920"/>
            <a:ext cx="74880" cy="2188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927680" y="201600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170760" y="201132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343320" y="3381480"/>
            <a:ext cx="0" cy="22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3333240" y="5638680"/>
            <a:ext cx="375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733920" y="55180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129200" y="552600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524480" y="55180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91976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31504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71032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10560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3225600" y="3743280"/>
            <a:ext cx="24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3228840" y="413856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3228840" y="453384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3228840" y="492912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3228840" y="532440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1938240" y="4408560"/>
            <a:ext cx="704880" cy="342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ol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4735440" y="6145200"/>
            <a:ext cx="1123920" cy="34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mpe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67" name=""/>
          <p:cNvSpPr/>
          <p:nvPr/>
        </p:nvSpPr>
        <p:spPr>
          <a:xfrm>
            <a:off x="6515280" y="55339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910560" y="55339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4056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74048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52168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30288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73760" y="5709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756160" y="5437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672280" y="4686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672280" y="3918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586960" y="34977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672280" y="4293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672280" y="5093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1287360" y="1023840"/>
            <a:ext cx="1552680" cy="381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Curr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3801960" y="247680"/>
            <a:ext cx="3971880" cy="361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Potential Differ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82" name=""/>
          <p:cNvSpPr/>
          <p:nvPr/>
        </p:nvSpPr>
        <p:spPr>
          <a:xfrm>
            <a:off x="4062240" y="51530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681360" y="5391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5162400" y="72396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238720" y="800280"/>
            <a:ext cx="990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 flipV="1">
            <a:off x="5238000" y="19360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 flipV="1">
            <a:off x="5563440" y="19360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 flipV="1">
            <a:off x="6042960" y="19360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5240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5935680" y="1647720"/>
            <a:ext cx="324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5564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5381640" y="880920"/>
            <a:ext cx="649440" cy="347760"/>
            <a:chOff x="5381640" y="880920"/>
            <a:chExt cx="649440" cy="347760"/>
          </a:xfrm>
        </p:grpSpPr>
        <p:sp>
          <p:nvSpPr>
            <p:cNvPr id="793" name=""/>
            <p:cNvSpPr txBox="1"/>
            <p:nvPr/>
          </p:nvSpPr>
          <p:spPr>
            <a:xfrm>
              <a:off x="5792760" y="880920"/>
              <a:ext cx="23832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794" name=""/>
            <p:cNvSpPr txBox="1"/>
            <p:nvPr/>
          </p:nvSpPr>
          <p:spPr>
            <a:xfrm>
              <a:off x="5381640" y="885960"/>
              <a:ext cx="33984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4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6299280" y="3036960"/>
            <a:ext cx="284472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5102280" y="2738520"/>
            <a:ext cx="1328760" cy="725040"/>
            <a:chOff x="5102280" y="2738520"/>
            <a:chExt cx="1328760" cy="725040"/>
          </a:xfrm>
        </p:grpSpPr>
        <p:sp>
          <p:nvSpPr>
            <p:cNvPr id="797" name=""/>
            <p:cNvSpPr/>
            <p:nvPr/>
          </p:nvSpPr>
          <p:spPr>
            <a:xfrm>
              <a:off x="626436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170320" y="2738520"/>
              <a:ext cx="1177920" cy="723600"/>
            </a:xfrm>
            <a:prstGeom prst="rect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10228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739"/>
                </a:gs>
                <a:gs pos="50000">
                  <a:srgbClr val="ffbe7d"/>
                </a:gs>
                <a:gs pos="100000">
                  <a:srgbClr val="75573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195880" y="3462120"/>
              <a:ext cx="11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189400" y="2738520"/>
              <a:ext cx="11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264280" y="2741400"/>
              <a:ext cx="217440" cy="71892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460840" y="2743200"/>
              <a:ext cx="223920" cy="72036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68920" y="2744640"/>
              <a:ext cx="208080" cy="71568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59360" y="2741400"/>
              <a:ext cx="216000" cy="718920"/>
            </a:xfrm>
            <a:custGeom>
              <a:avLst/>
              <a:gdLst/>
              <a:ahLst/>
              <a:rect l="l" t="t" r="r" b="b"/>
              <a:pathLst>
                <a:path w="136" h="453">
                  <a:moveTo>
                    <a:pt x="0" y="3"/>
                  </a:moveTo>
                  <a:lnTo>
                    <a:pt x="13" y="8"/>
                  </a:lnTo>
                  <a:lnTo>
                    <a:pt x="26" y="20"/>
                  </a:lnTo>
                  <a:lnTo>
                    <a:pt x="32" y="30"/>
                  </a:lnTo>
                  <a:lnTo>
                    <a:pt x="43" y="46"/>
                  </a:lnTo>
                  <a:lnTo>
                    <a:pt x="50" y="66"/>
                  </a:lnTo>
                  <a:lnTo>
                    <a:pt x="57" y="97"/>
                  </a:lnTo>
                  <a:lnTo>
                    <a:pt x="65" y="124"/>
                  </a:lnTo>
                  <a:lnTo>
                    <a:pt x="71" y="182"/>
                  </a:lnTo>
                  <a:lnTo>
                    <a:pt x="74" y="217"/>
                  </a:lnTo>
                  <a:lnTo>
                    <a:pt x="74" y="266"/>
                  </a:lnTo>
                  <a:lnTo>
                    <a:pt x="68" y="321"/>
                  </a:lnTo>
                  <a:lnTo>
                    <a:pt x="62" y="363"/>
                  </a:lnTo>
                  <a:lnTo>
                    <a:pt x="54" y="397"/>
                  </a:lnTo>
                  <a:lnTo>
                    <a:pt x="35" y="429"/>
                  </a:lnTo>
                  <a:lnTo>
                    <a:pt x="16" y="452"/>
                  </a:lnTo>
                  <a:lnTo>
                    <a:pt x="81" y="453"/>
                  </a:lnTo>
                  <a:lnTo>
                    <a:pt x="96" y="430"/>
                  </a:lnTo>
                  <a:lnTo>
                    <a:pt x="106" y="407"/>
                  </a:lnTo>
                  <a:lnTo>
                    <a:pt x="118" y="368"/>
                  </a:lnTo>
                  <a:lnTo>
                    <a:pt x="127" y="329"/>
                  </a:lnTo>
                  <a:lnTo>
                    <a:pt x="136" y="263"/>
                  </a:lnTo>
                  <a:lnTo>
                    <a:pt x="136" y="194"/>
                  </a:lnTo>
                  <a:lnTo>
                    <a:pt x="130" y="133"/>
                  </a:lnTo>
                  <a:lnTo>
                    <a:pt x="117" y="81"/>
                  </a:lnTo>
                  <a:lnTo>
                    <a:pt x="105" y="43"/>
                  </a:lnTo>
                  <a:lnTo>
                    <a:pt x="93" y="23"/>
                  </a:lnTo>
                  <a:lnTo>
                    <a:pt x="80" y="8"/>
                  </a:lnTo>
                  <a:lnTo>
                    <a:pt x="6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3479760" y="3051000"/>
            <a:ext cx="1708200" cy="136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28600" y="3075120"/>
            <a:ext cx="76824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476360" y="149544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552680" y="1571760"/>
            <a:ext cx="9903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 flipV="1">
            <a:off x="1551960" y="27075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 flipV="1">
            <a:off x="1877400" y="27075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 flipV="1">
            <a:off x="2357280" y="270756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1554120" y="241920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2249640" y="2419200"/>
            <a:ext cx="323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1878120" y="2419200"/>
            <a:ext cx="161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1765440" y="1652760"/>
            <a:ext cx="579240" cy="342720"/>
            <a:chOff x="1765440" y="1652760"/>
            <a:chExt cx="579240" cy="342720"/>
          </a:xfrm>
        </p:grpSpPr>
        <p:sp>
          <p:nvSpPr>
            <p:cNvPr id="817" name=""/>
            <p:cNvSpPr txBox="1"/>
            <p:nvPr/>
          </p:nvSpPr>
          <p:spPr>
            <a:xfrm>
              <a:off x="2106720" y="1652760"/>
              <a:ext cx="23796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818" name=""/>
            <p:cNvSpPr txBox="1"/>
            <p:nvPr/>
          </p:nvSpPr>
          <p:spPr>
            <a:xfrm>
              <a:off x="1765440" y="1657440"/>
              <a:ext cx="269640" cy="323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848160" y="3067200"/>
            <a:ext cx="969480" cy="145800"/>
            <a:chOff x="848160" y="3067200"/>
            <a:chExt cx="969480" cy="145800"/>
          </a:xfrm>
        </p:grpSpPr>
        <p:sp>
          <p:nvSpPr>
            <p:cNvPr id="820" name=""/>
            <p:cNvSpPr/>
            <p:nvPr/>
          </p:nvSpPr>
          <p:spPr>
            <a:xfrm flipH="1">
              <a:off x="932040" y="313380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848160" y="3085920"/>
              <a:ext cx="280800" cy="10296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1113480" y="30672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1146240" y="3103560"/>
              <a:ext cx="215640" cy="74160"/>
            </a:xfrm>
            <a:prstGeom prst="rect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2576520" y="3051000"/>
            <a:ext cx="1031400" cy="145800"/>
            <a:chOff x="2576520" y="3051000"/>
            <a:chExt cx="1031400" cy="145800"/>
          </a:xfrm>
        </p:grpSpPr>
        <p:sp>
          <p:nvSpPr>
            <p:cNvPr id="825" name=""/>
            <p:cNvSpPr/>
            <p:nvPr/>
          </p:nvSpPr>
          <p:spPr>
            <a:xfrm>
              <a:off x="2576520" y="312696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327120" y="3069720"/>
              <a:ext cx="280800" cy="10332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268440" y="30510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079440" y="3087360"/>
              <a:ext cx="2156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9" name=""/>
          <p:cNvSpPr/>
          <p:nvPr/>
        </p:nvSpPr>
        <p:spPr>
          <a:xfrm flipH="1">
            <a:off x="1790640" y="2809800"/>
            <a:ext cx="16200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428920" y="2809800"/>
            <a:ext cx="15228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4945680" y="2036880"/>
            <a:ext cx="360" cy="98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rot="16246200">
            <a:off x="4804200" y="2916000"/>
            <a:ext cx="280800" cy="10296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rot="16246200">
            <a:off x="4912200" y="2732760"/>
            <a:ext cx="74520" cy="145800"/>
          </a:xfrm>
          <a:prstGeom prst="ellipse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576840" y="1994040"/>
            <a:ext cx="0" cy="958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rot="5400000">
            <a:off x="6444000" y="2905920"/>
            <a:ext cx="273240" cy="10332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rot="5400000">
            <a:off x="6543360" y="2727000"/>
            <a:ext cx="73080" cy="14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rot="5400000">
            <a:off x="6472440" y="2647080"/>
            <a:ext cx="209520" cy="74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910040" y="2590920"/>
            <a:ext cx="74880" cy="2188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927680" y="201600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170760" y="201132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343320" y="3381480"/>
            <a:ext cx="0" cy="22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3333240" y="5638680"/>
            <a:ext cx="375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733920" y="55180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29200" y="552600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524480" y="55180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91976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31504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71032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10560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3225600" y="3743280"/>
            <a:ext cx="24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3228840" y="413856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3228840" y="453384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3228840" y="492912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3228840" y="532440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1938240" y="4408560"/>
            <a:ext cx="704880" cy="342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ol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4735440" y="6145200"/>
            <a:ext cx="1123920" cy="34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mpe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57" name=""/>
          <p:cNvSpPr/>
          <p:nvPr/>
        </p:nvSpPr>
        <p:spPr>
          <a:xfrm>
            <a:off x="6515280" y="55339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910560" y="55339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94056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4048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52168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30288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173760" y="5709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756160" y="5437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672280" y="4686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672280" y="3918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586960" y="34977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672280" y="4293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672280" y="5093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1287360" y="1023840"/>
            <a:ext cx="1552680" cy="381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Curr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3801960" y="247680"/>
            <a:ext cx="3971880" cy="361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Potential Differ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72" name=""/>
          <p:cNvSpPr/>
          <p:nvPr/>
        </p:nvSpPr>
        <p:spPr>
          <a:xfrm>
            <a:off x="4062240" y="51624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834080" y="471492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681360" y="5391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 flipV="1">
            <a:off x="3371760" y="3562200"/>
            <a:ext cx="3543480" cy="2076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62400" y="72396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238720" y="800280"/>
            <a:ext cx="990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 flipV="1">
            <a:off x="5238000" y="19360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 flipV="1">
            <a:off x="5563440" y="19360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 flipV="1">
            <a:off x="6042960" y="19360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5240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5935680" y="1647720"/>
            <a:ext cx="324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5564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5381640" y="880920"/>
            <a:ext cx="649440" cy="347760"/>
            <a:chOff x="5381640" y="880920"/>
            <a:chExt cx="649440" cy="347760"/>
          </a:xfrm>
        </p:grpSpPr>
        <p:sp>
          <p:nvSpPr>
            <p:cNvPr id="885" name=""/>
            <p:cNvSpPr txBox="1"/>
            <p:nvPr/>
          </p:nvSpPr>
          <p:spPr>
            <a:xfrm>
              <a:off x="5792760" y="880920"/>
              <a:ext cx="23832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886" name=""/>
            <p:cNvSpPr txBox="1"/>
            <p:nvPr/>
          </p:nvSpPr>
          <p:spPr>
            <a:xfrm>
              <a:off x="5381640" y="885960"/>
              <a:ext cx="33984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9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887" name=""/>
          <p:cNvSpPr/>
          <p:nvPr/>
        </p:nvSpPr>
        <p:spPr>
          <a:xfrm>
            <a:off x="6299280" y="3036960"/>
            <a:ext cx="284472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5102280" y="2738520"/>
            <a:ext cx="1328760" cy="725040"/>
            <a:chOff x="5102280" y="2738520"/>
            <a:chExt cx="1328760" cy="725040"/>
          </a:xfrm>
        </p:grpSpPr>
        <p:sp>
          <p:nvSpPr>
            <p:cNvPr id="889" name=""/>
            <p:cNvSpPr/>
            <p:nvPr/>
          </p:nvSpPr>
          <p:spPr>
            <a:xfrm>
              <a:off x="626436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70320" y="2738520"/>
              <a:ext cx="1177920" cy="723600"/>
            </a:xfrm>
            <a:prstGeom prst="rect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10228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739"/>
                </a:gs>
                <a:gs pos="50000">
                  <a:srgbClr val="ffbe7d"/>
                </a:gs>
                <a:gs pos="100000">
                  <a:srgbClr val="75573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195880" y="3462120"/>
              <a:ext cx="11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189400" y="2738520"/>
              <a:ext cx="11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264280" y="2741400"/>
              <a:ext cx="217440" cy="71892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460840" y="2743200"/>
              <a:ext cx="223920" cy="72036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668920" y="2744640"/>
              <a:ext cx="208080" cy="71568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859360" y="2741400"/>
              <a:ext cx="216000" cy="718920"/>
            </a:xfrm>
            <a:custGeom>
              <a:avLst/>
              <a:gdLst/>
              <a:ahLst/>
              <a:rect l="l" t="t" r="r" b="b"/>
              <a:pathLst>
                <a:path w="136" h="453">
                  <a:moveTo>
                    <a:pt x="0" y="3"/>
                  </a:moveTo>
                  <a:lnTo>
                    <a:pt x="13" y="8"/>
                  </a:lnTo>
                  <a:lnTo>
                    <a:pt x="26" y="20"/>
                  </a:lnTo>
                  <a:lnTo>
                    <a:pt x="32" y="30"/>
                  </a:lnTo>
                  <a:lnTo>
                    <a:pt x="43" y="46"/>
                  </a:lnTo>
                  <a:lnTo>
                    <a:pt x="50" y="66"/>
                  </a:lnTo>
                  <a:lnTo>
                    <a:pt x="57" y="97"/>
                  </a:lnTo>
                  <a:lnTo>
                    <a:pt x="65" y="124"/>
                  </a:lnTo>
                  <a:lnTo>
                    <a:pt x="71" y="182"/>
                  </a:lnTo>
                  <a:lnTo>
                    <a:pt x="74" y="217"/>
                  </a:lnTo>
                  <a:lnTo>
                    <a:pt x="74" y="266"/>
                  </a:lnTo>
                  <a:lnTo>
                    <a:pt x="68" y="321"/>
                  </a:lnTo>
                  <a:lnTo>
                    <a:pt x="62" y="363"/>
                  </a:lnTo>
                  <a:lnTo>
                    <a:pt x="54" y="397"/>
                  </a:lnTo>
                  <a:lnTo>
                    <a:pt x="35" y="429"/>
                  </a:lnTo>
                  <a:lnTo>
                    <a:pt x="16" y="452"/>
                  </a:lnTo>
                  <a:lnTo>
                    <a:pt x="81" y="453"/>
                  </a:lnTo>
                  <a:lnTo>
                    <a:pt x="96" y="430"/>
                  </a:lnTo>
                  <a:lnTo>
                    <a:pt x="106" y="407"/>
                  </a:lnTo>
                  <a:lnTo>
                    <a:pt x="118" y="368"/>
                  </a:lnTo>
                  <a:lnTo>
                    <a:pt x="127" y="329"/>
                  </a:lnTo>
                  <a:lnTo>
                    <a:pt x="136" y="263"/>
                  </a:lnTo>
                  <a:lnTo>
                    <a:pt x="136" y="194"/>
                  </a:lnTo>
                  <a:lnTo>
                    <a:pt x="130" y="133"/>
                  </a:lnTo>
                  <a:lnTo>
                    <a:pt x="117" y="81"/>
                  </a:lnTo>
                  <a:lnTo>
                    <a:pt x="105" y="43"/>
                  </a:lnTo>
                  <a:lnTo>
                    <a:pt x="93" y="23"/>
                  </a:lnTo>
                  <a:lnTo>
                    <a:pt x="80" y="8"/>
                  </a:lnTo>
                  <a:lnTo>
                    <a:pt x="6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3479760" y="3051000"/>
            <a:ext cx="1708200" cy="136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28600" y="3075120"/>
            <a:ext cx="76824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476360" y="149544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552680" y="1571760"/>
            <a:ext cx="9903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 flipV="1">
            <a:off x="1551960" y="27075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 flipV="1">
            <a:off x="1877400" y="27075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 flipV="1">
            <a:off x="2357280" y="270756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1554120" y="241920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2249640" y="2419200"/>
            <a:ext cx="323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1878120" y="2419200"/>
            <a:ext cx="161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1746360" y="1652760"/>
            <a:ext cx="598320" cy="347400"/>
            <a:chOff x="1746360" y="1652760"/>
            <a:chExt cx="598320" cy="347400"/>
          </a:xfrm>
        </p:grpSpPr>
        <p:sp>
          <p:nvSpPr>
            <p:cNvPr id="909" name=""/>
            <p:cNvSpPr txBox="1"/>
            <p:nvPr/>
          </p:nvSpPr>
          <p:spPr>
            <a:xfrm>
              <a:off x="2106720" y="1652760"/>
              <a:ext cx="23796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910" name=""/>
            <p:cNvSpPr txBox="1"/>
            <p:nvPr/>
          </p:nvSpPr>
          <p:spPr>
            <a:xfrm>
              <a:off x="1746360" y="1657440"/>
              <a:ext cx="28872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4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848160" y="3067200"/>
            <a:ext cx="969480" cy="145800"/>
            <a:chOff x="848160" y="3067200"/>
            <a:chExt cx="969480" cy="145800"/>
          </a:xfrm>
        </p:grpSpPr>
        <p:sp>
          <p:nvSpPr>
            <p:cNvPr id="912" name=""/>
            <p:cNvSpPr/>
            <p:nvPr/>
          </p:nvSpPr>
          <p:spPr>
            <a:xfrm flipH="1">
              <a:off x="932040" y="313380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848160" y="3085920"/>
              <a:ext cx="280800" cy="10296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1113480" y="30672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1146240" y="3103560"/>
              <a:ext cx="215640" cy="74160"/>
            </a:xfrm>
            <a:prstGeom prst="rect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2576520" y="3051000"/>
            <a:ext cx="1031400" cy="145800"/>
            <a:chOff x="2576520" y="3051000"/>
            <a:chExt cx="1031400" cy="145800"/>
          </a:xfrm>
        </p:grpSpPr>
        <p:sp>
          <p:nvSpPr>
            <p:cNvPr id="917" name=""/>
            <p:cNvSpPr/>
            <p:nvPr/>
          </p:nvSpPr>
          <p:spPr>
            <a:xfrm>
              <a:off x="2576520" y="312696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327120" y="3069720"/>
              <a:ext cx="280800" cy="10332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68440" y="30510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079440" y="3087360"/>
              <a:ext cx="2156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" name=""/>
          <p:cNvSpPr/>
          <p:nvPr/>
        </p:nvSpPr>
        <p:spPr>
          <a:xfrm flipH="1">
            <a:off x="1790640" y="2809800"/>
            <a:ext cx="16200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428920" y="2809800"/>
            <a:ext cx="15228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4945680" y="2036880"/>
            <a:ext cx="360" cy="98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 rot="16246200">
            <a:off x="4804200" y="2916000"/>
            <a:ext cx="280800" cy="10296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 rot="16246200">
            <a:off x="4912200" y="2732760"/>
            <a:ext cx="74520" cy="145800"/>
          </a:xfrm>
          <a:prstGeom prst="ellipse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576840" y="1994040"/>
            <a:ext cx="0" cy="958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rot="5400000">
            <a:off x="6444000" y="2905920"/>
            <a:ext cx="273240" cy="10332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rot="5400000">
            <a:off x="6543360" y="2727000"/>
            <a:ext cx="73080" cy="14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rot="5400000">
            <a:off x="6472440" y="2647080"/>
            <a:ext cx="209520" cy="74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910040" y="2590920"/>
            <a:ext cx="74880" cy="2188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927680" y="201600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170760" y="201132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343320" y="3381480"/>
            <a:ext cx="0" cy="22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3333240" y="5638680"/>
            <a:ext cx="375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733920" y="55180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129200" y="552600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524480" y="55180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91976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31504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71032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10560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3225600" y="3743280"/>
            <a:ext cx="24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3228840" y="413856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3228840" y="453384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3228840" y="492912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3228840" y="532440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1938240" y="4408560"/>
            <a:ext cx="704880" cy="342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ol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4735440" y="6145200"/>
            <a:ext cx="1123920" cy="34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mpe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49" name=""/>
          <p:cNvSpPr/>
          <p:nvPr/>
        </p:nvSpPr>
        <p:spPr>
          <a:xfrm>
            <a:off x="6515280" y="55339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910560" y="55339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94056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74048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52168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30288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173760" y="5709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756160" y="5437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672280" y="4686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672280" y="3918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586960" y="34977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672280" y="4293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672280" y="5093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1287360" y="1023840"/>
            <a:ext cx="1552680" cy="381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Curr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3801960" y="247680"/>
            <a:ext cx="3971880" cy="361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Potential Differ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64" name=""/>
          <p:cNvSpPr/>
          <p:nvPr/>
        </p:nvSpPr>
        <p:spPr>
          <a:xfrm>
            <a:off x="3681360" y="5391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062240" y="51624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834080" y="471492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415200" y="378144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5969160" y="4497480"/>
            <a:ext cx="2485800" cy="43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Slope is constant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 flipV="1">
            <a:off x="3371760" y="3562200"/>
            <a:ext cx="3543480" cy="2076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162400" y="72396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238720" y="800280"/>
            <a:ext cx="990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 flipV="1">
            <a:off x="5238000" y="19360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 flipV="1">
            <a:off x="5563440" y="19360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 flipV="1">
            <a:off x="6042960" y="19360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5240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5935680" y="1647720"/>
            <a:ext cx="324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5564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5381640" y="880920"/>
            <a:ext cx="649440" cy="347760"/>
            <a:chOff x="5381640" y="880920"/>
            <a:chExt cx="649440" cy="347760"/>
          </a:xfrm>
        </p:grpSpPr>
        <p:sp>
          <p:nvSpPr>
            <p:cNvPr id="979" name=""/>
            <p:cNvSpPr txBox="1"/>
            <p:nvPr/>
          </p:nvSpPr>
          <p:spPr>
            <a:xfrm>
              <a:off x="5792760" y="880920"/>
              <a:ext cx="23832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980" name=""/>
            <p:cNvSpPr txBox="1"/>
            <p:nvPr/>
          </p:nvSpPr>
          <p:spPr>
            <a:xfrm>
              <a:off x="5381640" y="885960"/>
              <a:ext cx="33984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9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6299280" y="3036960"/>
            <a:ext cx="284472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5102280" y="2738520"/>
            <a:ext cx="1328760" cy="725040"/>
            <a:chOff x="5102280" y="2738520"/>
            <a:chExt cx="1328760" cy="725040"/>
          </a:xfrm>
        </p:grpSpPr>
        <p:sp>
          <p:nvSpPr>
            <p:cNvPr id="983" name=""/>
            <p:cNvSpPr/>
            <p:nvPr/>
          </p:nvSpPr>
          <p:spPr>
            <a:xfrm>
              <a:off x="626436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170320" y="2738520"/>
              <a:ext cx="1177920" cy="723600"/>
            </a:xfrm>
            <a:prstGeom prst="rect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10228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739"/>
                </a:gs>
                <a:gs pos="50000">
                  <a:srgbClr val="ffbe7d"/>
                </a:gs>
                <a:gs pos="100000">
                  <a:srgbClr val="75573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195880" y="3462120"/>
              <a:ext cx="11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189400" y="2738520"/>
              <a:ext cx="11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264280" y="2741400"/>
              <a:ext cx="217440" cy="71892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460840" y="2743200"/>
              <a:ext cx="223920" cy="72036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668920" y="2744640"/>
              <a:ext cx="208080" cy="71568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859360" y="2741400"/>
              <a:ext cx="216000" cy="718920"/>
            </a:xfrm>
            <a:custGeom>
              <a:avLst/>
              <a:gdLst/>
              <a:ahLst/>
              <a:rect l="l" t="t" r="r" b="b"/>
              <a:pathLst>
                <a:path w="136" h="453">
                  <a:moveTo>
                    <a:pt x="0" y="3"/>
                  </a:moveTo>
                  <a:lnTo>
                    <a:pt x="13" y="8"/>
                  </a:lnTo>
                  <a:lnTo>
                    <a:pt x="26" y="20"/>
                  </a:lnTo>
                  <a:lnTo>
                    <a:pt x="32" y="30"/>
                  </a:lnTo>
                  <a:lnTo>
                    <a:pt x="43" y="46"/>
                  </a:lnTo>
                  <a:lnTo>
                    <a:pt x="50" y="66"/>
                  </a:lnTo>
                  <a:lnTo>
                    <a:pt x="57" y="97"/>
                  </a:lnTo>
                  <a:lnTo>
                    <a:pt x="65" y="124"/>
                  </a:lnTo>
                  <a:lnTo>
                    <a:pt x="71" y="182"/>
                  </a:lnTo>
                  <a:lnTo>
                    <a:pt x="74" y="217"/>
                  </a:lnTo>
                  <a:lnTo>
                    <a:pt x="74" y="266"/>
                  </a:lnTo>
                  <a:lnTo>
                    <a:pt x="68" y="321"/>
                  </a:lnTo>
                  <a:lnTo>
                    <a:pt x="62" y="363"/>
                  </a:lnTo>
                  <a:lnTo>
                    <a:pt x="54" y="397"/>
                  </a:lnTo>
                  <a:lnTo>
                    <a:pt x="35" y="429"/>
                  </a:lnTo>
                  <a:lnTo>
                    <a:pt x="16" y="452"/>
                  </a:lnTo>
                  <a:lnTo>
                    <a:pt x="81" y="453"/>
                  </a:lnTo>
                  <a:lnTo>
                    <a:pt x="96" y="430"/>
                  </a:lnTo>
                  <a:lnTo>
                    <a:pt x="106" y="407"/>
                  </a:lnTo>
                  <a:lnTo>
                    <a:pt x="118" y="368"/>
                  </a:lnTo>
                  <a:lnTo>
                    <a:pt x="127" y="329"/>
                  </a:lnTo>
                  <a:lnTo>
                    <a:pt x="136" y="263"/>
                  </a:lnTo>
                  <a:lnTo>
                    <a:pt x="136" y="194"/>
                  </a:lnTo>
                  <a:lnTo>
                    <a:pt x="130" y="133"/>
                  </a:lnTo>
                  <a:lnTo>
                    <a:pt x="117" y="81"/>
                  </a:lnTo>
                  <a:lnTo>
                    <a:pt x="105" y="43"/>
                  </a:lnTo>
                  <a:lnTo>
                    <a:pt x="93" y="23"/>
                  </a:lnTo>
                  <a:lnTo>
                    <a:pt x="80" y="8"/>
                  </a:lnTo>
                  <a:lnTo>
                    <a:pt x="6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2" name=""/>
          <p:cNvSpPr/>
          <p:nvPr/>
        </p:nvSpPr>
        <p:spPr>
          <a:xfrm>
            <a:off x="3479760" y="3051000"/>
            <a:ext cx="1708200" cy="136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28600" y="3075120"/>
            <a:ext cx="76824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476360" y="149544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552680" y="1571760"/>
            <a:ext cx="9903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 flipV="1">
            <a:off x="1551960" y="27075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 flipV="1">
            <a:off x="1877400" y="27075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2357280" y="270756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1554120" y="241920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2249640" y="2419200"/>
            <a:ext cx="323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1878120" y="2419200"/>
            <a:ext cx="161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1746360" y="1652760"/>
            <a:ext cx="598320" cy="347400"/>
            <a:chOff x="1746360" y="1652760"/>
            <a:chExt cx="598320" cy="347400"/>
          </a:xfrm>
        </p:grpSpPr>
        <p:sp>
          <p:nvSpPr>
            <p:cNvPr id="1003" name=""/>
            <p:cNvSpPr txBox="1"/>
            <p:nvPr/>
          </p:nvSpPr>
          <p:spPr>
            <a:xfrm>
              <a:off x="2106720" y="1652760"/>
              <a:ext cx="23796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04" name=""/>
            <p:cNvSpPr txBox="1"/>
            <p:nvPr/>
          </p:nvSpPr>
          <p:spPr>
            <a:xfrm>
              <a:off x="1746360" y="1657440"/>
              <a:ext cx="28872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4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1005" name=""/>
          <p:cNvGrpSpPr/>
          <p:nvPr/>
        </p:nvGrpSpPr>
        <p:grpSpPr>
          <a:xfrm>
            <a:off x="848160" y="3067200"/>
            <a:ext cx="969480" cy="145800"/>
            <a:chOff x="848160" y="3067200"/>
            <a:chExt cx="969480" cy="145800"/>
          </a:xfrm>
        </p:grpSpPr>
        <p:sp>
          <p:nvSpPr>
            <p:cNvPr id="1006" name=""/>
            <p:cNvSpPr/>
            <p:nvPr/>
          </p:nvSpPr>
          <p:spPr>
            <a:xfrm flipH="1">
              <a:off x="932040" y="313380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848160" y="3085920"/>
              <a:ext cx="280800" cy="10296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1113480" y="30672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1146240" y="3103560"/>
              <a:ext cx="215640" cy="74160"/>
            </a:xfrm>
            <a:prstGeom prst="rect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2576520" y="3051000"/>
            <a:ext cx="1031400" cy="145800"/>
            <a:chOff x="2576520" y="3051000"/>
            <a:chExt cx="1031400" cy="145800"/>
          </a:xfrm>
        </p:grpSpPr>
        <p:sp>
          <p:nvSpPr>
            <p:cNvPr id="1011" name=""/>
            <p:cNvSpPr/>
            <p:nvPr/>
          </p:nvSpPr>
          <p:spPr>
            <a:xfrm>
              <a:off x="2576520" y="312696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327120" y="3069720"/>
              <a:ext cx="280800" cy="10332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268440" y="30510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079440" y="3087360"/>
              <a:ext cx="2156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 flipH="1">
            <a:off x="1790640" y="2809800"/>
            <a:ext cx="16200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428920" y="2809800"/>
            <a:ext cx="15228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4945680" y="2036880"/>
            <a:ext cx="360" cy="98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 rot="16246200">
            <a:off x="4804200" y="2916000"/>
            <a:ext cx="280800" cy="10296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 rot="16246200">
            <a:off x="4912200" y="2732760"/>
            <a:ext cx="74520" cy="145800"/>
          </a:xfrm>
          <a:prstGeom prst="ellipse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576840" y="1994040"/>
            <a:ext cx="0" cy="958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rot="5400000">
            <a:off x="6444000" y="2905920"/>
            <a:ext cx="273240" cy="10332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rot="5400000">
            <a:off x="6543360" y="2727000"/>
            <a:ext cx="73080" cy="14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rot="5400000">
            <a:off x="6472440" y="2647080"/>
            <a:ext cx="209520" cy="74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910040" y="2590920"/>
            <a:ext cx="74880" cy="2188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927680" y="201600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170760" y="201132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343320" y="3381480"/>
            <a:ext cx="0" cy="22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3333240" y="5638680"/>
            <a:ext cx="375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733920" y="55180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129200" y="552600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524480" y="55180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91976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31504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71032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10560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3225600" y="3743280"/>
            <a:ext cx="24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3228840" y="413856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3228840" y="453384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3228840" y="492912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3228840" y="532440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1938240" y="4408560"/>
            <a:ext cx="704880" cy="342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ol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4735440" y="6145200"/>
            <a:ext cx="1123920" cy="34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mpe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43" name=""/>
          <p:cNvSpPr/>
          <p:nvPr/>
        </p:nvSpPr>
        <p:spPr>
          <a:xfrm>
            <a:off x="6515280" y="55339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910560" y="55339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94056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74048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52168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30288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173760" y="5709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756160" y="5437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672280" y="4686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672280" y="3918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586960" y="34977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672280" y="4293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672280" y="5093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1287360" y="1023840"/>
            <a:ext cx="1552680" cy="381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Curr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3801960" y="247680"/>
            <a:ext cx="3971880" cy="361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Potential Differ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58" name=""/>
          <p:cNvSpPr/>
          <p:nvPr/>
        </p:nvSpPr>
        <p:spPr>
          <a:xfrm>
            <a:off x="3681360" y="5391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062240" y="51624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834080" y="471492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415200" y="378144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5967360" y="4495680"/>
            <a:ext cx="2486160" cy="43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Slope is constant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5592600" y="4351320"/>
            <a:ext cx="1569960" cy="821880"/>
            <a:chOff x="5592600" y="4351320"/>
            <a:chExt cx="1569960" cy="821880"/>
          </a:xfrm>
        </p:grpSpPr>
        <p:sp>
          <p:nvSpPr>
            <p:cNvPr id="1064" name=""/>
            <p:cNvSpPr/>
            <p:nvPr/>
          </p:nvSpPr>
          <p:spPr>
            <a:xfrm>
              <a:off x="5657760" y="4495680"/>
              <a:ext cx="1504800" cy="49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 txBox="1"/>
            <p:nvPr/>
          </p:nvSpPr>
          <p:spPr>
            <a:xfrm>
              <a:off x="5767200" y="4351320"/>
              <a:ext cx="70488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olt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66" name=""/>
            <p:cNvSpPr txBox="1"/>
            <p:nvPr/>
          </p:nvSpPr>
          <p:spPr>
            <a:xfrm>
              <a:off x="5592600" y="4830480"/>
              <a:ext cx="112392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Ampere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619600" y="4781160"/>
              <a:ext cx="102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838920" y="466704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838920" y="478116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 flipV="1">
            <a:off x="3371760" y="3562200"/>
            <a:ext cx="3543480" cy="2076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162400" y="72396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238720" y="800280"/>
            <a:ext cx="990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H="1" flipV="1">
            <a:off x="5238000" y="19360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 flipV="1">
            <a:off x="5563440" y="19360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6042960" y="19360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5240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5935680" y="1647720"/>
            <a:ext cx="324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5564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5381640" y="880920"/>
            <a:ext cx="649440" cy="347760"/>
            <a:chOff x="5381640" y="880920"/>
            <a:chExt cx="649440" cy="347760"/>
          </a:xfrm>
        </p:grpSpPr>
        <p:sp>
          <p:nvSpPr>
            <p:cNvPr id="1080" name=""/>
            <p:cNvSpPr txBox="1"/>
            <p:nvPr/>
          </p:nvSpPr>
          <p:spPr>
            <a:xfrm>
              <a:off x="5792760" y="880920"/>
              <a:ext cx="23832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81" name=""/>
            <p:cNvSpPr txBox="1"/>
            <p:nvPr/>
          </p:nvSpPr>
          <p:spPr>
            <a:xfrm>
              <a:off x="5381640" y="885960"/>
              <a:ext cx="33984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9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6299280" y="3036960"/>
            <a:ext cx="284472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5102280" y="2738520"/>
            <a:ext cx="1328760" cy="725040"/>
            <a:chOff x="5102280" y="2738520"/>
            <a:chExt cx="1328760" cy="725040"/>
          </a:xfrm>
        </p:grpSpPr>
        <p:sp>
          <p:nvSpPr>
            <p:cNvPr id="1084" name=""/>
            <p:cNvSpPr/>
            <p:nvPr/>
          </p:nvSpPr>
          <p:spPr>
            <a:xfrm>
              <a:off x="626436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170320" y="2738520"/>
              <a:ext cx="1177920" cy="723600"/>
            </a:xfrm>
            <a:prstGeom prst="rect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10228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739"/>
                </a:gs>
                <a:gs pos="50000">
                  <a:srgbClr val="ffbe7d"/>
                </a:gs>
                <a:gs pos="100000">
                  <a:srgbClr val="75573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195880" y="3462120"/>
              <a:ext cx="11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189400" y="2738520"/>
              <a:ext cx="11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264280" y="2741400"/>
              <a:ext cx="217440" cy="71892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460840" y="2743200"/>
              <a:ext cx="223920" cy="72036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668920" y="2744640"/>
              <a:ext cx="208080" cy="71568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859360" y="2741400"/>
              <a:ext cx="216000" cy="718920"/>
            </a:xfrm>
            <a:custGeom>
              <a:avLst/>
              <a:gdLst/>
              <a:ahLst/>
              <a:rect l="l" t="t" r="r" b="b"/>
              <a:pathLst>
                <a:path w="136" h="453">
                  <a:moveTo>
                    <a:pt x="0" y="3"/>
                  </a:moveTo>
                  <a:lnTo>
                    <a:pt x="13" y="8"/>
                  </a:lnTo>
                  <a:lnTo>
                    <a:pt x="26" y="20"/>
                  </a:lnTo>
                  <a:lnTo>
                    <a:pt x="32" y="30"/>
                  </a:lnTo>
                  <a:lnTo>
                    <a:pt x="43" y="46"/>
                  </a:lnTo>
                  <a:lnTo>
                    <a:pt x="50" y="66"/>
                  </a:lnTo>
                  <a:lnTo>
                    <a:pt x="57" y="97"/>
                  </a:lnTo>
                  <a:lnTo>
                    <a:pt x="65" y="124"/>
                  </a:lnTo>
                  <a:lnTo>
                    <a:pt x="71" y="182"/>
                  </a:lnTo>
                  <a:lnTo>
                    <a:pt x="74" y="217"/>
                  </a:lnTo>
                  <a:lnTo>
                    <a:pt x="74" y="266"/>
                  </a:lnTo>
                  <a:lnTo>
                    <a:pt x="68" y="321"/>
                  </a:lnTo>
                  <a:lnTo>
                    <a:pt x="62" y="363"/>
                  </a:lnTo>
                  <a:lnTo>
                    <a:pt x="54" y="397"/>
                  </a:lnTo>
                  <a:lnTo>
                    <a:pt x="35" y="429"/>
                  </a:lnTo>
                  <a:lnTo>
                    <a:pt x="16" y="452"/>
                  </a:lnTo>
                  <a:lnTo>
                    <a:pt x="81" y="453"/>
                  </a:lnTo>
                  <a:lnTo>
                    <a:pt x="96" y="430"/>
                  </a:lnTo>
                  <a:lnTo>
                    <a:pt x="106" y="407"/>
                  </a:lnTo>
                  <a:lnTo>
                    <a:pt x="118" y="368"/>
                  </a:lnTo>
                  <a:lnTo>
                    <a:pt x="127" y="329"/>
                  </a:lnTo>
                  <a:lnTo>
                    <a:pt x="136" y="263"/>
                  </a:lnTo>
                  <a:lnTo>
                    <a:pt x="136" y="194"/>
                  </a:lnTo>
                  <a:lnTo>
                    <a:pt x="130" y="133"/>
                  </a:lnTo>
                  <a:lnTo>
                    <a:pt x="117" y="81"/>
                  </a:lnTo>
                  <a:lnTo>
                    <a:pt x="105" y="43"/>
                  </a:lnTo>
                  <a:lnTo>
                    <a:pt x="93" y="23"/>
                  </a:lnTo>
                  <a:lnTo>
                    <a:pt x="80" y="8"/>
                  </a:lnTo>
                  <a:lnTo>
                    <a:pt x="6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"/>
          <p:cNvSpPr/>
          <p:nvPr/>
        </p:nvSpPr>
        <p:spPr>
          <a:xfrm>
            <a:off x="3479760" y="3051000"/>
            <a:ext cx="1708200" cy="136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28600" y="3075120"/>
            <a:ext cx="76824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476360" y="149544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552680" y="1571760"/>
            <a:ext cx="9903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H="1" flipV="1">
            <a:off x="1551960" y="27075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H="1" flipV="1">
            <a:off x="1877400" y="27075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 flipV="1">
            <a:off x="2357280" y="270756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1554120" y="241920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2249640" y="2419200"/>
            <a:ext cx="323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1878120" y="2419200"/>
            <a:ext cx="161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1746360" y="1652760"/>
            <a:ext cx="598320" cy="347400"/>
            <a:chOff x="1746360" y="1652760"/>
            <a:chExt cx="598320" cy="347400"/>
          </a:xfrm>
        </p:grpSpPr>
        <p:sp>
          <p:nvSpPr>
            <p:cNvPr id="1104" name=""/>
            <p:cNvSpPr txBox="1"/>
            <p:nvPr/>
          </p:nvSpPr>
          <p:spPr>
            <a:xfrm>
              <a:off x="2106720" y="1652760"/>
              <a:ext cx="23796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05" name=""/>
            <p:cNvSpPr txBox="1"/>
            <p:nvPr/>
          </p:nvSpPr>
          <p:spPr>
            <a:xfrm>
              <a:off x="1746360" y="1657440"/>
              <a:ext cx="28872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4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848160" y="3067200"/>
            <a:ext cx="969480" cy="145800"/>
            <a:chOff x="848160" y="3067200"/>
            <a:chExt cx="969480" cy="145800"/>
          </a:xfrm>
        </p:grpSpPr>
        <p:sp>
          <p:nvSpPr>
            <p:cNvPr id="1107" name=""/>
            <p:cNvSpPr/>
            <p:nvPr/>
          </p:nvSpPr>
          <p:spPr>
            <a:xfrm flipH="1">
              <a:off x="932040" y="313380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>
              <a:off x="848160" y="3085920"/>
              <a:ext cx="280800" cy="10296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1113480" y="30672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>
              <a:off x="1146240" y="3103560"/>
              <a:ext cx="215640" cy="74160"/>
            </a:xfrm>
            <a:prstGeom prst="rect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2576520" y="3051000"/>
            <a:ext cx="1031400" cy="145800"/>
            <a:chOff x="2576520" y="3051000"/>
            <a:chExt cx="1031400" cy="145800"/>
          </a:xfrm>
        </p:grpSpPr>
        <p:sp>
          <p:nvSpPr>
            <p:cNvPr id="1112" name=""/>
            <p:cNvSpPr/>
            <p:nvPr/>
          </p:nvSpPr>
          <p:spPr>
            <a:xfrm>
              <a:off x="2576520" y="312696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327120" y="3069720"/>
              <a:ext cx="280800" cy="10332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268440" y="30510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079440" y="3087360"/>
              <a:ext cx="2156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6" name=""/>
          <p:cNvSpPr/>
          <p:nvPr/>
        </p:nvSpPr>
        <p:spPr>
          <a:xfrm flipH="1">
            <a:off x="1790640" y="2809800"/>
            <a:ext cx="16200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428920" y="2809800"/>
            <a:ext cx="15228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4945680" y="2036880"/>
            <a:ext cx="360" cy="98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 rot="16246200">
            <a:off x="4804200" y="2916000"/>
            <a:ext cx="280800" cy="10296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H="1" rot="16246200">
            <a:off x="4912200" y="2732760"/>
            <a:ext cx="74520" cy="145800"/>
          </a:xfrm>
          <a:prstGeom prst="ellipse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576840" y="1994040"/>
            <a:ext cx="0" cy="958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rot="5400000">
            <a:off x="6444000" y="2905920"/>
            <a:ext cx="273240" cy="10332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rot="5400000">
            <a:off x="6543360" y="2727000"/>
            <a:ext cx="73080" cy="14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rot="5400000">
            <a:off x="6472440" y="2647080"/>
            <a:ext cx="209520" cy="74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910040" y="2590920"/>
            <a:ext cx="74880" cy="2188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927680" y="201600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170760" y="201132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343320" y="3381480"/>
            <a:ext cx="0" cy="22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3333240" y="5638680"/>
            <a:ext cx="375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733920" y="55180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129200" y="552600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24480" y="55180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91976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31504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71032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10560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3225600" y="3743280"/>
            <a:ext cx="24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3228840" y="413856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H="1">
            <a:off x="3228840" y="453384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3228840" y="492912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3228840" y="532440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1938240" y="4408560"/>
            <a:ext cx="704880" cy="342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ol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4735440" y="6145200"/>
            <a:ext cx="1123920" cy="34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mpe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44" name=""/>
          <p:cNvSpPr/>
          <p:nvPr/>
        </p:nvSpPr>
        <p:spPr>
          <a:xfrm>
            <a:off x="6515280" y="55339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910560" y="55339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94056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74048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52168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30288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173760" y="5709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756160" y="5437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672280" y="4686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672280" y="3918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586960" y="34977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672280" y="4293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672280" y="5093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1287360" y="1023840"/>
            <a:ext cx="1552680" cy="381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Curr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3801960" y="247680"/>
            <a:ext cx="3971880" cy="361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Potential Differ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59" name=""/>
          <p:cNvSpPr/>
          <p:nvPr/>
        </p:nvSpPr>
        <p:spPr>
          <a:xfrm>
            <a:off x="3681360" y="5391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062240" y="51624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834080" y="471492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415200" y="378144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5967360" y="4495680"/>
            <a:ext cx="2486160" cy="43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Slope is constant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5592600" y="4351320"/>
            <a:ext cx="1569960" cy="821880"/>
            <a:chOff x="5592600" y="4351320"/>
            <a:chExt cx="1569960" cy="821880"/>
          </a:xfrm>
        </p:grpSpPr>
        <p:sp>
          <p:nvSpPr>
            <p:cNvPr id="1165" name=""/>
            <p:cNvSpPr/>
            <p:nvPr/>
          </p:nvSpPr>
          <p:spPr>
            <a:xfrm>
              <a:off x="5657760" y="4495680"/>
              <a:ext cx="1504800" cy="49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 txBox="1"/>
            <p:nvPr/>
          </p:nvSpPr>
          <p:spPr>
            <a:xfrm>
              <a:off x="5767200" y="4351320"/>
              <a:ext cx="70488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olt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67" name=""/>
            <p:cNvSpPr txBox="1"/>
            <p:nvPr/>
          </p:nvSpPr>
          <p:spPr>
            <a:xfrm>
              <a:off x="5592600" y="4830480"/>
              <a:ext cx="112392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Ampere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619600" y="4781160"/>
              <a:ext cx="102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838920" y="466704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838920" y="478116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7124760" y="4479840"/>
            <a:ext cx="1714320" cy="415800"/>
            <a:chOff x="7124760" y="4479840"/>
            <a:chExt cx="1714320" cy="415800"/>
          </a:xfrm>
        </p:grpSpPr>
        <p:sp>
          <p:nvSpPr>
            <p:cNvPr id="1172" name=""/>
            <p:cNvSpPr/>
            <p:nvPr/>
          </p:nvSpPr>
          <p:spPr>
            <a:xfrm>
              <a:off x="7124760" y="4493880"/>
              <a:ext cx="171432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 txBox="1"/>
            <p:nvPr/>
          </p:nvSpPr>
          <p:spPr>
            <a:xfrm>
              <a:off x="7174440" y="4479840"/>
              <a:ext cx="1601280" cy="351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 Black"/>
                </a:rPr>
                <a:t>resistance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"/>
          <p:cNvSpPr/>
          <p:nvPr/>
        </p:nvSpPr>
        <p:spPr>
          <a:xfrm flipV="1">
            <a:off x="3371760" y="3562200"/>
            <a:ext cx="3543480" cy="2076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162400" y="72396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238720" y="800280"/>
            <a:ext cx="990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flipH="1" flipV="1">
            <a:off x="5238000" y="19360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 flipV="1">
            <a:off x="5563440" y="19360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H="1" flipV="1">
            <a:off x="6042960" y="19360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5240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5935680" y="1647720"/>
            <a:ext cx="324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5564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5381640" y="880920"/>
            <a:ext cx="649440" cy="347760"/>
            <a:chOff x="5381640" y="880920"/>
            <a:chExt cx="649440" cy="347760"/>
          </a:xfrm>
        </p:grpSpPr>
        <p:sp>
          <p:nvSpPr>
            <p:cNvPr id="1184" name=""/>
            <p:cNvSpPr txBox="1"/>
            <p:nvPr/>
          </p:nvSpPr>
          <p:spPr>
            <a:xfrm>
              <a:off x="5792760" y="880920"/>
              <a:ext cx="23832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85" name=""/>
            <p:cNvSpPr txBox="1"/>
            <p:nvPr/>
          </p:nvSpPr>
          <p:spPr>
            <a:xfrm>
              <a:off x="5381640" y="885960"/>
              <a:ext cx="33984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9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1186" name=""/>
          <p:cNvSpPr/>
          <p:nvPr/>
        </p:nvSpPr>
        <p:spPr>
          <a:xfrm>
            <a:off x="6299280" y="3036960"/>
            <a:ext cx="284472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"/>
          <p:cNvGrpSpPr/>
          <p:nvPr/>
        </p:nvGrpSpPr>
        <p:grpSpPr>
          <a:xfrm>
            <a:off x="5102280" y="2738520"/>
            <a:ext cx="1328760" cy="725040"/>
            <a:chOff x="5102280" y="2738520"/>
            <a:chExt cx="1328760" cy="725040"/>
          </a:xfrm>
        </p:grpSpPr>
        <p:sp>
          <p:nvSpPr>
            <p:cNvPr id="1188" name=""/>
            <p:cNvSpPr/>
            <p:nvPr/>
          </p:nvSpPr>
          <p:spPr>
            <a:xfrm>
              <a:off x="626436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170320" y="2738520"/>
              <a:ext cx="1177920" cy="723600"/>
            </a:xfrm>
            <a:prstGeom prst="rect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10228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739"/>
                </a:gs>
                <a:gs pos="50000">
                  <a:srgbClr val="ffbe7d"/>
                </a:gs>
                <a:gs pos="100000">
                  <a:srgbClr val="75573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195880" y="3462120"/>
              <a:ext cx="11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189400" y="2738520"/>
              <a:ext cx="11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264280" y="2741400"/>
              <a:ext cx="217440" cy="71892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460840" y="2743200"/>
              <a:ext cx="223920" cy="72036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668920" y="2744640"/>
              <a:ext cx="208080" cy="71568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859360" y="2741400"/>
              <a:ext cx="216000" cy="718920"/>
            </a:xfrm>
            <a:custGeom>
              <a:avLst/>
              <a:gdLst/>
              <a:ahLst/>
              <a:rect l="l" t="t" r="r" b="b"/>
              <a:pathLst>
                <a:path w="136" h="453">
                  <a:moveTo>
                    <a:pt x="0" y="3"/>
                  </a:moveTo>
                  <a:lnTo>
                    <a:pt x="13" y="8"/>
                  </a:lnTo>
                  <a:lnTo>
                    <a:pt x="26" y="20"/>
                  </a:lnTo>
                  <a:lnTo>
                    <a:pt x="32" y="30"/>
                  </a:lnTo>
                  <a:lnTo>
                    <a:pt x="43" y="46"/>
                  </a:lnTo>
                  <a:lnTo>
                    <a:pt x="50" y="66"/>
                  </a:lnTo>
                  <a:lnTo>
                    <a:pt x="57" y="97"/>
                  </a:lnTo>
                  <a:lnTo>
                    <a:pt x="65" y="124"/>
                  </a:lnTo>
                  <a:lnTo>
                    <a:pt x="71" y="182"/>
                  </a:lnTo>
                  <a:lnTo>
                    <a:pt x="74" y="217"/>
                  </a:lnTo>
                  <a:lnTo>
                    <a:pt x="74" y="266"/>
                  </a:lnTo>
                  <a:lnTo>
                    <a:pt x="68" y="321"/>
                  </a:lnTo>
                  <a:lnTo>
                    <a:pt x="62" y="363"/>
                  </a:lnTo>
                  <a:lnTo>
                    <a:pt x="54" y="397"/>
                  </a:lnTo>
                  <a:lnTo>
                    <a:pt x="35" y="429"/>
                  </a:lnTo>
                  <a:lnTo>
                    <a:pt x="16" y="452"/>
                  </a:lnTo>
                  <a:lnTo>
                    <a:pt x="81" y="453"/>
                  </a:lnTo>
                  <a:lnTo>
                    <a:pt x="96" y="430"/>
                  </a:lnTo>
                  <a:lnTo>
                    <a:pt x="106" y="407"/>
                  </a:lnTo>
                  <a:lnTo>
                    <a:pt x="118" y="368"/>
                  </a:lnTo>
                  <a:lnTo>
                    <a:pt x="127" y="329"/>
                  </a:lnTo>
                  <a:lnTo>
                    <a:pt x="136" y="263"/>
                  </a:lnTo>
                  <a:lnTo>
                    <a:pt x="136" y="194"/>
                  </a:lnTo>
                  <a:lnTo>
                    <a:pt x="130" y="133"/>
                  </a:lnTo>
                  <a:lnTo>
                    <a:pt x="117" y="81"/>
                  </a:lnTo>
                  <a:lnTo>
                    <a:pt x="105" y="43"/>
                  </a:lnTo>
                  <a:lnTo>
                    <a:pt x="93" y="23"/>
                  </a:lnTo>
                  <a:lnTo>
                    <a:pt x="80" y="8"/>
                  </a:lnTo>
                  <a:lnTo>
                    <a:pt x="6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7" name=""/>
          <p:cNvSpPr/>
          <p:nvPr/>
        </p:nvSpPr>
        <p:spPr>
          <a:xfrm>
            <a:off x="3479760" y="3051000"/>
            <a:ext cx="1708200" cy="136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28600" y="3075120"/>
            <a:ext cx="76824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1476360" y="149544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552680" y="1571760"/>
            <a:ext cx="9903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 flipV="1">
            <a:off x="1551960" y="27075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 flipV="1">
            <a:off x="1877400" y="27075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 flipV="1">
            <a:off x="2357280" y="270756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1554120" y="241920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2249640" y="2419200"/>
            <a:ext cx="323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1878120" y="2419200"/>
            <a:ext cx="161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207" name=""/>
          <p:cNvGrpSpPr/>
          <p:nvPr/>
        </p:nvGrpSpPr>
        <p:grpSpPr>
          <a:xfrm>
            <a:off x="1746360" y="1652760"/>
            <a:ext cx="598320" cy="347400"/>
            <a:chOff x="1746360" y="1652760"/>
            <a:chExt cx="598320" cy="347400"/>
          </a:xfrm>
        </p:grpSpPr>
        <p:sp>
          <p:nvSpPr>
            <p:cNvPr id="1208" name=""/>
            <p:cNvSpPr txBox="1"/>
            <p:nvPr/>
          </p:nvSpPr>
          <p:spPr>
            <a:xfrm>
              <a:off x="2106720" y="1652760"/>
              <a:ext cx="23796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209" name=""/>
            <p:cNvSpPr txBox="1"/>
            <p:nvPr/>
          </p:nvSpPr>
          <p:spPr>
            <a:xfrm>
              <a:off x="1746360" y="1657440"/>
              <a:ext cx="28872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4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848160" y="3067200"/>
            <a:ext cx="969480" cy="145800"/>
            <a:chOff x="848160" y="3067200"/>
            <a:chExt cx="969480" cy="145800"/>
          </a:xfrm>
        </p:grpSpPr>
        <p:sp>
          <p:nvSpPr>
            <p:cNvPr id="1211" name=""/>
            <p:cNvSpPr/>
            <p:nvPr/>
          </p:nvSpPr>
          <p:spPr>
            <a:xfrm flipH="1">
              <a:off x="932040" y="313380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H="1">
              <a:off x="848160" y="3085920"/>
              <a:ext cx="280800" cy="10296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H="1">
              <a:off x="1113480" y="30672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>
              <a:off x="1146240" y="3103560"/>
              <a:ext cx="215640" cy="74160"/>
            </a:xfrm>
            <a:prstGeom prst="rect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5" name=""/>
          <p:cNvGrpSpPr/>
          <p:nvPr/>
        </p:nvGrpSpPr>
        <p:grpSpPr>
          <a:xfrm>
            <a:off x="2576520" y="3051000"/>
            <a:ext cx="1031400" cy="145800"/>
            <a:chOff x="2576520" y="3051000"/>
            <a:chExt cx="1031400" cy="145800"/>
          </a:xfrm>
        </p:grpSpPr>
        <p:sp>
          <p:nvSpPr>
            <p:cNvPr id="1216" name=""/>
            <p:cNvSpPr/>
            <p:nvPr/>
          </p:nvSpPr>
          <p:spPr>
            <a:xfrm>
              <a:off x="2576520" y="312696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327120" y="3069720"/>
              <a:ext cx="280800" cy="10332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268440" y="30510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079440" y="3087360"/>
              <a:ext cx="2156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0" name=""/>
          <p:cNvSpPr/>
          <p:nvPr/>
        </p:nvSpPr>
        <p:spPr>
          <a:xfrm flipH="1">
            <a:off x="1790640" y="2809800"/>
            <a:ext cx="16200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428920" y="2809800"/>
            <a:ext cx="15228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4945680" y="2036880"/>
            <a:ext cx="360" cy="98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 rot="16246200">
            <a:off x="4804200" y="2916000"/>
            <a:ext cx="280800" cy="10296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H="1" rot="16246200">
            <a:off x="4912200" y="2732760"/>
            <a:ext cx="74520" cy="145800"/>
          </a:xfrm>
          <a:prstGeom prst="ellipse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576840" y="1994040"/>
            <a:ext cx="0" cy="958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rot="5400000">
            <a:off x="6444000" y="2905920"/>
            <a:ext cx="273240" cy="10332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rot="5400000">
            <a:off x="6543360" y="2727000"/>
            <a:ext cx="73080" cy="14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rot="5400000">
            <a:off x="6472440" y="2647080"/>
            <a:ext cx="209520" cy="74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910040" y="2590920"/>
            <a:ext cx="74880" cy="2188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927680" y="201600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170760" y="201132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343320" y="3381480"/>
            <a:ext cx="0" cy="22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H="1">
            <a:off x="3333240" y="5638680"/>
            <a:ext cx="375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733920" y="55180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129200" y="552600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524480" y="55180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91976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31504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71032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105600" y="55148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H="1">
            <a:off x="3225600" y="3743280"/>
            <a:ext cx="24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H="1">
            <a:off x="3228840" y="413856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H="1">
            <a:off x="3228840" y="453384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3228840" y="492912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H="1">
            <a:off x="3228840" y="532440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1938240" y="4408560"/>
            <a:ext cx="704880" cy="342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ol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4735440" y="6145200"/>
            <a:ext cx="1123920" cy="34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mpe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48" name=""/>
          <p:cNvSpPr/>
          <p:nvPr/>
        </p:nvSpPr>
        <p:spPr>
          <a:xfrm>
            <a:off x="6515280" y="55339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910560" y="55339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94056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74048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52168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302880" y="571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173760" y="5709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756160" y="5437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672280" y="4686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672280" y="3918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586960" y="34977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672280" y="4293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672280" y="5093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1287360" y="1023840"/>
            <a:ext cx="1552680" cy="381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Curr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62" name=""/>
          <p:cNvSpPr txBox="1"/>
          <p:nvPr/>
        </p:nvSpPr>
        <p:spPr>
          <a:xfrm>
            <a:off x="3801960" y="247680"/>
            <a:ext cx="3971880" cy="361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Potential Differ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63" name=""/>
          <p:cNvSpPr/>
          <p:nvPr/>
        </p:nvSpPr>
        <p:spPr>
          <a:xfrm>
            <a:off x="3681360" y="5391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062240" y="51624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834080" y="471492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415200" y="378144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 txBox="1"/>
          <p:nvPr/>
        </p:nvSpPr>
        <p:spPr>
          <a:xfrm>
            <a:off x="5967360" y="4495680"/>
            <a:ext cx="2486160" cy="43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Slope is constant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5592600" y="4351320"/>
            <a:ext cx="1569960" cy="821880"/>
            <a:chOff x="5592600" y="4351320"/>
            <a:chExt cx="1569960" cy="821880"/>
          </a:xfrm>
        </p:grpSpPr>
        <p:sp>
          <p:nvSpPr>
            <p:cNvPr id="1269" name=""/>
            <p:cNvSpPr/>
            <p:nvPr/>
          </p:nvSpPr>
          <p:spPr>
            <a:xfrm>
              <a:off x="5657760" y="4495680"/>
              <a:ext cx="1504800" cy="49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 txBox="1"/>
            <p:nvPr/>
          </p:nvSpPr>
          <p:spPr>
            <a:xfrm>
              <a:off x="5767200" y="4351320"/>
              <a:ext cx="70488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olt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271" name=""/>
            <p:cNvSpPr txBox="1"/>
            <p:nvPr/>
          </p:nvSpPr>
          <p:spPr>
            <a:xfrm>
              <a:off x="5592600" y="4830480"/>
              <a:ext cx="112392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Ampere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619600" y="4781160"/>
              <a:ext cx="102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838920" y="466704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838920" y="478116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5" name=""/>
          <p:cNvGrpSpPr/>
          <p:nvPr/>
        </p:nvGrpSpPr>
        <p:grpSpPr>
          <a:xfrm>
            <a:off x="7124760" y="4479840"/>
            <a:ext cx="1714320" cy="415800"/>
            <a:chOff x="7124760" y="4479840"/>
            <a:chExt cx="1714320" cy="415800"/>
          </a:xfrm>
        </p:grpSpPr>
        <p:sp>
          <p:nvSpPr>
            <p:cNvPr id="1276" name=""/>
            <p:cNvSpPr/>
            <p:nvPr/>
          </p:nvSpPr>
          <p:spPr>
            <a:xfrm>
              <a:off x="7124760" y="4493880"/>
              <a:ext cx="171432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 txBox="1"/>
            <p:nvPr/>
          </p:nvSpPr>
          <p:spPr>
            <a:xfrm>
              <a:off x="7174440" y="4479840"/>
              <a:ext cx="1601280" cy="351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 Black"/>
                </a:rPr>
                <a:t>resistance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1278" name=""/>
          <p:cNvSpPr/>
          <p:nvPr/>
        </p:nvSpPr>
        <p:spPr>
          <a:xfrm>
            <a:off x="5505480" y="4229280"/>
            <a:ext cx="3429000" cy="1009440"/>
          </a:xfrm>
          <a:custGeom>
            <a:avLst/>
            <a:gdLst/>
            <a:ahLst/>
            <a:rect l="l" t="t" r="r" b="b"/>
            <a:pathLst>
              <a:path w="2160" h="636">
                <a:moveTo>
                  <a:pt x="288" y="0"/>
                </a:moveTo>
                <a:lnTo>
                  <a:pt x="96" y="96"/>
                </a:lnTo>
                <a:lnTo>
                  <a:pt x="0" y="396"/>
                </a:lnTo>
                <a:lnTo>
                  <a:pt x="0" y="636"/>
                </a:lnTo>
                <a:lnTo>
                  <a:pt x="2148" y="552"/>
                </a:lnTo>
                <a:lnTo>
                  <a:pt x="2160" y="132"/>
                </a:lnTo>
                <a:lnTo>
                  <a:pt x="2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 txBox="1"/>
          <p:nvPr/>
        </p:nvSpPr>
        <p:spPr>
          <a:xfrm rot="19850400">
            <a:off x="4240080" y="4136760"/>
            <a:ext cx="1602000" cy="352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resistanc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rot="4200">
            <a:off x="3919320" y="3665520"/>
            <a:ext cx="1473120" cy="1295280"/>
          </a:xfrm>
          <a:custGeom>
            <a:avLst/>
            <a:gdLst/>
            <a:ahLst/>
            <a:rect l="l" t="t" r="r" b="b"/>
            <a:pathLst>
              <a:path w="1688" h="1469">
                <a:moveTo>
                  <a:pt x="60" y="859"/>
                </a:moveTo>
                <a:cubicBezTo>
                  <a:pt x="54" y="930"/>
                  <a:pt x="43" y="984"/>
                  <a:pt x="28" y="1050"/>
                </a:cubicBezTo>
                <a:cubicBezTo>
                  <a:pt x="25" y="1099"/>
                  <a:pt x="20" y="1147"/>
                  <a:pt x="20" y="1196"/>
                </a:cubicBezTo>
                <a:cubicBezTo>
                  <a:pt x="20" y="1374"/>
                  <a:pt x="0" y="1417"/>
                  <a:pt x="132" y="1424"/>
                </a:cubicBezTo>
                <a:cubicBezTo>
                  <a:pt x="289" y="1469"/>
                  <a:pt x="327" y="1216"/>
                  <a:pt x="636" y="1224"/>
                </a:cubicBezTo>
                <a:cubicBezTo>
                  <a:pt x="1284" y="1176"/>
                  <a:pt x="1224" y="1416"/>
                  <a:pt x="1508" y="1408"/>
                </a:cubicBezTo>
                <a:cubicBezTo>
                  <a:pt x="1548" y="1399"/>
                  <a:pt x="1606" y="1339"/>
                  <a:pt x="1644" y="1324"/>
                </a:cubicBezTo>
                <a:cubicBezTo>
                  <a:pt x="1652" y="1321"/>
                  <a:pt x="1648" y="1304"/>
                  <a:pt x="1652" y="1297"/>
                </a:cubicBezTo>
                <a:cubicBezTo>
                  <a:pt x="1659" y="1282"/>
                  <a:pt x="1668" y="1272"/>
                  <a:pt x="1676" y="1259"/>
                </a:cubicBezTo>
                <a:cubicBezTo>
                  <a:pt x="1688" y="1202"/>
                  <a:pt x="1676" y="1159"/>
                  <a:pt x="1660" y="1105"/>
                </a:cubicBezTo>
                <a:cubicBezTo>
                  <a:pt x="1649" y="1066"/>
                  <a:pt x="1643" y="1023"/>
                  <a:pt x="1628" y="986"/>
                </a:cubicBezTo>
                <a:cubicBezTo>
                  <a:pt x="1622" y="973"/>
                  <a:pt x="1611" y="962"/>
                  <a:pt x="1604" y="950"/>
                </a:cubicBezTo>
                <a:cubicBezTo>
                  <a:pt x="1581" y="906"/>
                  <a:pt x="1547" y="872"/>
                  <a:pt x="1520" y="832"/>
                </a:cubicBezTo>
                <a:cubicBezTo>
                  <a:pt x="1513" y="799"/>
                  <a:pt x="1498" y="688"/>
                  <a:pt x="1476" y="667"/>
                </a:cubicBezTo>
                <a:cubicBezTo>
                  <a:pt x="1469" y="661"/>
                  <a:pt x="1460" y="661"/>
                  <a:pt x="1452" y="658"/>
                </a:cubicBezTo>
                <a:cubicBezTo>
                  <a:pt x="1423" y="557"/>
                  <a:pt x="1472" y="706"/>
                  <a:pt x="1420" y="612"/>
                </a:cubicBezTo>
                <a:cubicBezTo>
                  <a:pt x="1407" y="588"/>
                  <a:pt x="1401" y="558"/>
                  <a:pt x="1396" y="530"/>
                </a:cubicBezTo>
                <a:cubicBezTo>
                  <a:pt x="1382" y="452"/>
                  <a:pt x="1383" y="354"/>
                  <a:pt x="1348" y="284"/>
                </a:cubicBezTo>
                <a:cubicBezTo>
                  <a:pt x="1335" y="258"/>
                  <a:pt x="1316" y="235"/>
                  <a:pt x="1300" y="211"/>
                </a:cubicBezTo>
                <a:cubicBezTo>
                  <a:pt x="1279" y="140"/>
                  <a:pt x="1267" y="125"/>
                  <a:pt x="1212" y="83"/>
                </a:cubicBezTo>
                <a:cubicBezTo>
                  <a:pt x="1198" y="73"/>
                  <a:pt x="1164" y="65"/>
                  <a:pt x="1164" y="65"/>
                </a:cubicBezTo>
                <a:cubicBezTo>
                  <a:pt x="1096" y="91"/>
                  <a:pt x="1010" y="87"/>
                  <a:pt x="940" y="92"/>
                </a:cubicBezTo>
                <a:cubicBezTo>
                  <a:pt x="822" y="89"/>
                  <a:pt x="675" y="93"/>
                  <a:pt x="548" y="75"/>
                </a:cubicBezTo>
                <a:cubicBezTo>
                  <a:pt x="499" y="66"/>
                  <a:pt x="454" y="46"/>
                  <a:pt x="404" y="37"/>
                </a:cubicBezTo>
                <a:cubicBezTo>
                  <a:pt x="156" y="49"/>
                  <a:pt x="253" y="0"/>
                  <a:pt x="164" y="102"/>
                </a:cubicBezTo>
                <a:cubicBezTo>
                  <a:pt x="146" y="165"/>
                  <a:pt x="134" y="230"/>
                  <a:pt x="116" y="293"/>
                </a:cubicBezTo>
                <a:cubicBezTo>
                  <a:pt x="106" y="421"/>
                  <a:pt x="183" y="546"/>
                  <a:pt x="168" y="672"/>
                </a:cubicBezTo>
                <a:cubicBezTo>
                  <a:pt x="160" y="739"/>
                  <a:pt x="39" y="787"/>
                  <a:pt x="117" y="918"/>
                </a:cubicBezTo>
              </a:path>
            </a:pathLst>
          </a:custGeom>
          <a:gradFill rotWithShape="0">
            <a:gsLst>
              <a:gs pos="0">
                <a:srgbClr val="750075"/>
              </a:gs>
              <a:gs pos="50000">
                <a:srgbClr val="ff00ff"/>
              </a:gs>
              <a:gs pos="100000">
                <a:srgbClr val="750075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4200">
            <a:off x="4185720" y="4290480"/>
            <a:ext cx="1094040" cy="655920"/>
          </a:xfrm>
          <a:custGeom>
            <a:avLst/>
            <a:gdLst/>
            <a:ahLst/>
            <a:rect l="l" t="t" r="r" b="b"/>
            <a:pathLst>
              <a:path w="1175" h="705">
                <a:moveTo>
                  <a:pt x="88" y="67"/>
                </a:moveTo>
                <a:cubicBezTo>
                  <a:pt x="76" y="271"/>
                  <a:pt x="64" y="396"/>
                  <a:pt x="0" y="579"/>
                </a:cubicBezTo>
                <a:cubicBezTo>
                  <a:pt x="4" y="600"/>
                  <a:pt x="2" y="623"/>
                  <a:pt x="13" y="642"/>
                </a:cubicBezTo>
                <a:cubicBezTo>
                  <a:pt x="26" y="665"/>
                  <a:pt x="80" y="677"/>
                  <a:pt x="100" y="679"/>
                </a:cubicBezTo>
                <a:cubicBezTo>
                  <a:pt x="183" y="686"/>
                  <a:pt x="267" y="688"/>
                  <a:pt x="350" y="692"/>
                </a:cubicBezTo>
                <a:cubicBezTo>
                  <a:pt x="375" y="688"/>
                  <a:pt x="403" y="692"/>
                  <a:pt x="425" y="679"/>
                </a:cubicBezTo>
                <a:cubicBezTo>
                  <a:pt x="436" y="673"/>
                  <a:pt x="432" y="654"/>
                  <a:pt x="438" y="642"/>
                </a:cubicBezTo>
                <a:cubicBezTo>
                  <a:pt x="467" y="585"/>
                  <a:pt x="464" y="622"/>
                  <a:pt x="488" y="554"/>
                </a:cubicBezTo>
                <a:cubicBezTo>
                  <a:pt x="503" y="513"/>
                  <a:pt x="525" y="429"/>
                  <a:pt x="525" y="429"/>
                </a:cubicBezTo>
                <a:cubicBezTo>
                  <a:pt x="539" y="336"/>
                  <a:pt x="515" y="312"/>
                  <a:pt x="600" y="292"/>
                </a:cubicBezTo>
                <a:cubicBezTo>
                  <a:pt x="633" y="386"/>
                  <a:pt x="636" y="509"/>
                  <a:pt x="650" y="604"/>
                </a:cubicBezTo>
                <a:cubicBezTo>
                  <a:pt x="654" y="634"/>
                  <a:pt x="695" y="649"/>
                  <a:pt x="725" y="654"/>
                </a:cubicBezTo>
                <a:cubicBezTo>
                  <a:pt x="859" y="678"/>
                  <a:pt x="933" y="694"/>
                  <a:pt x="1075" y="704"/>
                </a:cubicBezTo>
                <a:cubicBezTo>
                  <a:pt x="1104" y="700"/>
                  <a:pt x="1137" y="705"/>
                  <a:pt x="1163" y="692"/>
                </a:cubicBezTo>
                <a:cubicBezTo>
                  <a:pt x="1175" y="686"/>
                  <a:pt x="1175" y="667"/>
                  <a:pt x="1175" y="654"/>
                </a:cubicBezTo>
                <a:cubicBezTo>
                  <a:pt x="1175" y="463"/>
                  <a:pt x="1163" y="472"/>
                  <a:pt x="1075" y="342"/>
                </a:cubicBezTo>
                <a:cubicBezTo>
                  <a:pt x="1071" y="326"/>
                  <a:pt x="1060" y="271"/>
                  <a:pt x="1050" y="254"/>
                </a:cubicBezTo>
                <a:cubicBezTo>
                  <a:pt x="1035" y="228"/>
                  <a:pt x="1000" y="179"/>
                  <a:pt x="1000" y="179"/>
                </a:cubicBezTo>
                <a:cubicBezTo>
                  <a:pt x="979" y="113"/>
                  <a:pt x="995" y="153"/>
                  <a:pt x="938" y="67"/>
                </a:cubicBezTo>
                <a:cubicBezTo>
                  <a:pt x="893" y="0"/>
                  <a:pt x="900" y="78"/>
                  <a:pt x="900" y="17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50000">
                <a:srgbClr val="ccecff"/>
              </a:gs>
              <a:gs pos="100000">
                <a:srgbClr val="00cc99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4200">
            <a:off x="3739680" y="3708360"/>
            <a:ext cx="1473480" cy="803160"/>
          </a:xfrm>
          <a:custGeom>
            <a:avLst/>
            <a:gdLst/>
            <a:ahLst/>
            <a:rect l="l" t="t" r="r" b="b"/>
            <a:pathLst>
              <a:path w="1088" h="840">
                <a:moveTo>
                  <a:pt x="259" y="54"/>
                </a:moveTo>
                <a:cubicBezTo>
                  <a:pt x="247" y="66"/>
                  <a:pt x="237" y="81"/>
                  <a:pt x="223" y="91"/>
                </a:cubicBezTo>
                <a:cubicBezTo>
                  <a:pt x="188" y="117"/>
                  <a:pt x="114" y="163"/>
                  <a:pt x="114" y="163"/>
                </a:cubicBezTo>
                <a:cubicBezTo>
                  <a:pt x="53" y="254"/>
                  <a:pt x="0" y="281"/>
                  <a:pt x="59" y="400"/>
                </a:cubicBezTo>
                <a:cubicBezTo>
                  <a:pt x="68" y="417"/>
                  <a:pt x="95" y="413"/>
                  <a:pt x="114" y="418"/>
                </a:cubicBezTo>
                <a:cubicBezTo>
                  <a:pt x="138" y="425"/>
                  <a:pt x="162" y="430"/>
                  <a:pt x="186" y="436"/>
                </a:cubicBezTo>
                <a:cubicBezTo>
                  <a:pt x="216" y="430"/>
                  <a:pt x="251" y="435"/>
                  <a:pt x="277" y="418"/>
                </a:cubicBezTo>
                <a:cubicBezTo>
                  <a:pt x="293" y="407"/>
                  <a:pt x="285" y="380"/>
                  <a:pt x="295" y="363"/>
                </a:cubicBezTo>
                <a:cubicBezTo>
                  <a:pt x="304" y="348"/>
                  <a:pt x="320" y="339"/>
                  <a:pt x="332" y="327"/>
                </a:cubicBezTo>
                <a:cubicBezTo>
                  <a:pt x="344" y="345"/>
                  <a:pt x="364" y="360"/>
                  <a:pt x="368" y="382"/>
                </a:cubicBezTo>
                <a:cubicBezTo>
                  <a:pt x="448" y="840"/>
                  <a:pt x="186" y="642"/>
                  <a:pt x="1004" y="618"/>
                </a:cubicBezTo>
                <a:cubicBezTo>
                  <a:pt x="998" y="582"/>
                  <a:pt x="1002" y="542"/>
                  <a:pt x="986" y="509"/>
                </a:cubicBezTo>
                <a:cubicBezTo>
                  <a:pt x="964" y="465"/>
                  <a:pt x="900" y="427"/>
                  <a:pt x="859" y="400"/>
                </a:cubicBezTo>
                <a:cubicBezTo>
                  <a:pt x="818" y="275"/>
                  <a:pt x="796" y="318"/>
                  <a:pt x="859" y="254"/>
                </a:cubicBezTo>
                <a:cubicBezTo>
                  <a:pt x="1003" y="303"/>
                  <a:pt x="930" y="298"/>
                  <a:pt x="1077" y="272"/>
                </a:cubicBezTo>
                <a:cubicBezTo>
                  <a:pt x="1066" y="182"/>
                  <a:pt x="1088" y="119"/>
                  <a:pt x="1004" y="72"/>
                </a:cubicBezTo>
                <a:cubicBezTo>
                  <a:pt x="954" y="44"/>
                  <a:pt x="895" y="36"/>
                  <a:pt x="841" y="18"/>
                </a:cubicBezTo>
                <a:cubicBezTo>
                  <a:pt x="823" y="12"/>
                  <a:pt x="786" y="0"/>
                  <a:pt x="786" y="0"/>
                </a:cubicBezTo>
              </a:path>
            </a:pathLst>
          </a:custGeom>
          <a:gradFill rotWithShape="0">
            <a:gsLst>
              <a:gs pos="0">
                <a:srgbClr val="6c0000"/>
              </a:gs>
              <a:gs pos="50000">
                <a:srgbClr val="ff0000"/>
              </a:gs>
              <a:gs pos="100000">
                <a:srgbClr val="6c0000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4200">
            <a:off x="3695400" y="4111200"/>
            <a:ext cx="50472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rot="4800">
            <a:off x="4901760" y="3978360"/>
            <a:ext cx="44604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4200">
            <a:off x="4321080" y="3843360"/>
            <a:ext cx="595440" cy="428760"/>
          </a:xfrm>
          <a:custGeom>
            <a:avLst/>
            <a:gdLst/>
            <a:ahLst/>
            <a:rect l="l" t="t" r="r" b="b"/>
            <a:pathLst>
              <a:path w="640" h="461">
                <a:moveTo>
                  <a:pt x="64" y="445"/>
                </a:moveTo>
                <a:cubicBezTo>
                  <a:pt x="125" y="442"/>
                  <a:pt x="187" y="442"/>
                  <a:pt x="248" y="437"/>
                </a:cubicBezTo>
                <a:cubicBezTo>
                  <a:pt x="259" y="436"/>
                  <a:pt x="276" y="439"/>
                  <a:pt x="280" y="429"/>
                </a:cubicBezTo>
                <a:cubicBezTo>
                  <a:pt x="298" y="382"/>
                  <a:pt x="274" y="374"/>
                  <a:pt x="248" y="357"/>
                </a:cubicBezTo>
                <a:cubicBezTo>
                  <a:pt x="228" y="297"/>
                  <a:pt x="257" y="369"/>
                  <a:pt x="216" y="317"/>
                </a:cubicBezTo>
                <a:cubicBezTo>
                  <a:pt x="210" y="310"/>
                  <a:pt x="188" y="256"/>
                  <a:pt x="184" y="245"/>
                </a:cubicBezTo>
                <a:cubicBezTo>
                  <a:pt x="192" y="112"/>
                  <a:pt x="164" y="95"/>
                  <a:pt x="280" y="109"/>
                </a:cubicBezTo>
                <a:cubicBezTo>
                  <a:pt x="317" y="121"/>
                  <a:pt x="347" y="145"/>
                  <a:pt x="384" y="157"/>
                </a:cubicBezTo>
                <a:cubicBezTo>
                  <a:pt x="457" y="267"/>
                  <a:pt x="415" y="186"/>
                  <a:pt x="424" y="429"/>
                </a:cubicBezTo>
                <a:cubicBezTo>
                  <a:pt x="533" y="424"/>
                  <a:pt x="607" y="457"/>
                  <a:pt x="640" y="357"/>
                </a:cubicBezTo>
                <a:cubicBezTo>
                  <a:pt x="625" y="269"/>
                  <a:pt x="611" y="293"/>
                  <a:pt x="512" y="285"/>
                </a:cubicBezTo>
                <a:cubicBezTo>
                  <a:pt x="485" y="205"/>
                  <a:pt x="475" y="141"/>
                  <a:pt x="408" y="85"/>
                </a:cubicBezTo>
                <a:cubicBezTo>
                  <a:pt x="393" y="73"/>
                  <a:pt x="371" y="43"/>
                  <a:pt x="352" y="37"/>
                </a:cubicBezTo>
                <a:cubicBezTo>
                  <a:pt x="311" y="24"/>
                  <a:pt x="214" y="11"/>
                  <a:pt x="168" y="5"/>
                </a:cubicBezTo>
                <a:cubicBezTo>
                  <a:pt x="141" y="8"/>
                  <a:pt x="88" y="0"/>
                  <a:pt x="64" y="29"/>
                </a:cubicBezTo>
                <a:cubicBezTo>
                  <a:pt x="56" y="38"/>
                  <a:pt x="52" y="50"/>
                  <a:pt x="48" y="61"/>
                </a:cubicBezTo>
                <a:cubicBezTo>
                  <a:pt x="42" y="77"/>
                  <a:pt x="32" y="109"/>
                  <a:pt x="32" y="109"/>
                </a:cubicBezTo>
                <a:cubicBezTo>
                  <a:pt x="37" y="180"/>
                  <a:pt x="22" y="196"/>
                  <a:pt x="56" y="237"/>
                </a:cubicBezTo>
                <a:cubicBezTo>
                  <a:pt x="69" y="253"/>
                  <a:pt x="80" y="271"/>
                  <a:pt x="96" y="285"/>
                </a:cubicBezTo>
                <a:cubicBezTo>
                  <a:pt x="110" y="298"/>
                  <a:pt x="144" y="317"/>
                  <a:pt x="144" y="317"/>
                </a:cubicBezTo>
                <a:cubicBezTo>
                  <a:pt x="177" y="366"/>
                  <a:pt x="162" y="371"/>
                  <a:pt x="104" y="357"/>
                </a:cubicBezTo>
                <a:cubicBezTo>
                  <a:pt x="66" y="347"/>
                  <a:pt x="44" y="329"/>
                  <a:pt x="8" y="317"/>
                </a:cubicBezTo>
                <a:cubicBezTo>
                  <a:pt x="13" y="374"/>
                  <a:pt x="0" y="429"/>
                  <a:pt x="48" y="461"/>
                </a:cubicBezTo>
                <a:cubicBezTo>
                  <a:pt x="86" y="452"/>
                  <a:pt x="90" y="458"/>
                  <a:pt x="64" y="445"/>
                </a:cubicBezTo>
                <a:close/>
              </a:path>
            </a:pathLst>
          </a:custGeom>
          <a:solidFill>
            <a:srgbClr val="3333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448800">
            <a:off x="3885840" y="2784600"/>
            <a:ext cx="260280" cy="250560"/>
          </a:xfrm>
          <a:custGeom>
            <a:avLst/>
            <a:gdLst/>
            <a:ahLst/>
            <a:rect l="l" t="t" r="r" b="b"/>
            <a:pathLst>
              <a:path w="273" h="258">
                <a:moveTo>
                  <a:pt x="273" y="40"/>
                </a:moveTo>
                <a:cubicBezTo>
                  <a:pt x="203" y="17"/>
                  <a:pt x="179" y="0"/>
                  <a:pt x="91" y="40"/>
                </a:cubicBezTo>
                <a:cubicBezTo>
                  <a:pt x="59" y="54"/>
                  <a:pt x="19" y="201"/>
                  <a:pt x="18" y="204"/>
                </a:cubicBezTo>
                <a:cubicBezTo>
                  <a:pt x="12" y="222"/>
                  <a:pt x="0" y="258"/>
                  <a:pt x="0" y="25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448800">
            <a:off x="4134960" y="2643120"/>
            <a:ext cx="274680" cy="211320"/>
          </a:xfrm>
          <a:custGeom>
            <a:avLst/>
            <a:gdLst/>
            <a:ahLst/>
            <a:rect l="l" t="t" r="r" b="b"/>
            <a:pathLst>
              <a:path w="290" h="218">
                <a:moveTo>
                  <a:pt x="0" y="218"/>
                </a:moveTo>
                <a:cubicBezTo>
                  <a:pt x="66" y="118"/>
                  <a:pt x="157" y="0"/>
                  <a:pt x="29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448800">
            <a:off x="4167000" y="2663640"/>
            <a:ext cx="360" cy="195120"/>
          </a:xfrm>
          <a:custGeom>
            <a:avLst/>
            <a:gdLst/>
            <a:ahLst/>
            <a:rect l="l" t="t" r="r" b="b"/>
            <a:pathLst>
              <a:path w="1" h="200">
                <a:moveTo>
                  <a:pt x="0" y="200"/>
                </a:moveTo>
                <a:cubicBezTo>
                  <a:pt x="0" y="133"/>
                  <a:pt x="0" y="67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36880" y="2735280"/>
            <a:ext cx="1211400" cy="1044720"/>
          </a:xfrm>
          <a:custGeom>
            <a:avLst/>
            <a:gdLst/>
            <a:ahLst/>
            <a:rect l="l" t="t" r="r" b="b"/>
            <a:pathLst>
              <a:path w="1050" h="906">
                <a:moveTo>
                  <a:pt x="521" y="24"/>
                </a:moveTo>
                <a:cubicBezTo>
                  <a:pt x="598" y="0"/>
                  <a:pt x="573" y="2"/>
                  <a:pt x="709" y="24"/>
                </a:cubicBezTo>
                <a:cubicBezTo>
                  <a:pt x="734" y="28"/>
                  <a:pt x="784" y="48"/>
                  <a:pt x="784" y="48"/>
                </a:cubicBezTo>
                <a:cubicBezTo>
                  <a:pt x="864" y="105"/>
                  <a:pt x="820" y="70"/>
                  <a:pt x="910" y="157"/>
                </a:cubicBezTo>
                <a:cubicBezTo>
                  <a:pt x="939" y="185"/>
                  <a:pt x="985" y="254"/>
                  <a:pt x="985" y="254"/>
                </a:cubicBezTo>
                <a:cubicBezTo>
                  <a:pt x="1021" y="389"/>
                  <a:pt x="1050" y="536"/>
                  <a:pt x="973" y="664"/>
                </a:cubicBezTo>
                <a:cubicBezTo>
                  <a:pt x="954" y="697"/>
                  <a:pt x="927" y="767"/>
                  <a:pt x="897" y="785"/>
                </a:cubicBezTo>
                <a:cubicBezTo>
                  <a:pt x="847" y="817"/>
                  <a:pt x="805" y="862"/>
                  <a:pt x="747" y="882"/>
                </a:cubicBezTo>
                <a:cubicBezTo>
                  <a:pt x="715" y="894"/>
                  <a:pt x="646" y="906"/>
                  <a:pt x="646" y="906"/>
                </a:cubicBezTo>
                <a:cubicBezTo>
                  <a:pt x="489" y="898"/>
                  <a:pt x="376" y="886"/>
                  <a:pt x="232" y="846"/>
                </a:cubicBezTo>
                <a:cubicBezTo>
                  <a:pt x="153" y="795"/>
                  <a:pt x="100" y="741"/>
                  <a:pt x="69" y="652"/>
                </a:cubicBezTo>
                <a:cubicBezTo>
                  <a:pt x="73" y="521"/>
                  <a:pt x="0" y="178"/>
                  <a:pt x="203" y="114"/>
                </a:cubicBezTo>
                <a:cubicBezTo>
                  <a:pt x="274" y="46"/>
                  <a:pt x="360" y="62"/>
                  <a:pt x="458" y="48"/>
                </a:cubicBezTo>
                <a:cubicBezTo>
                  <a:pt x="537" y="22"/>
                  <a:pt x="560" y="24"/>
                  <a:pt x="521" y="24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20582400">
            <a:off x="4079880" y="2937960"/>
            <a:ext cx="341280" cy="4813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20582400">
            <a:off x="4446720" y="2838600"/>
            <a:ext cx="342720" cy="5079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8088000">
            <a:off x="4143960" y="2964600"/>
            <a:ext cx="751680" cy="70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744" y="1256"/>
                </a:moveTo>
                <a:arcTo wR="10800" hR="10800" stAng="-7074784" swAng="7074784"/>
                <a:lnTo>
                  <a:pt x="10800" y="10800"/>
                </a:lnTo>
                <a:close/>
              </a:path>
              <a:path fill="none" w="21600" h="21600">
                <a:moveTo>
                  <a:pt x="5744" y="1256"/>
                </a:moveTo>
                <a:arcTo wR="10800" hR="10800" stAng="-7074784" swAng="707478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413400">
            <a:off x="4451400" y="3347640"/>
            <a:ext cx="183960" cy="185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413400">
            <a:off x="4086000" y="2943000"/>
            <a:ext cx="241200" cy="268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413400">
            <a:off x="4468680" y="2876040"/>
            <a:ext cx="244440" cy="28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21140400">
            <a:off x="3952440" y="2803320"/>
            <a:ext cx="233280" cy="392040"/>
          </a:xfrm>
          <a:custGeom>
            <a:avLst/>
            <a:gdLst/>
            <a:ahLst/>
            <a:rect l="l" t="t" r="r" b="b"/>
            <a:pathLst>
              <a:path w="273" h="400">
                <a:moveTo>
                  <a:pt x="273" y="0"/>
                </a:moveTo>
                <a:cubicBezTo>
                  <a:pt x="198" y="37"/>
                  <a:pt x="150" y="69"/>
                  <a:pt x="91" y="127"/>
                </a:cubicBezTo>
                <a:cubicBezTo>
                  <a:pt x="61" y="218"/>
                  <a:pt x="0" y="301"/>
                  <a:pt x="0" y="4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662000">
            <a:off x="4185720" y="2719440"/>
            <a:ext cx="246240" cy="131760"/>
          </a:xfrm>
          <a:custGeom>
            <a:avLst/>
            <a:gdLst/>
            <a:ahLst/>
            <a:rect l="l" t="t" r="r" b="b"/>
            <a:pathLst>
              <a:path w="273" h="109">
                <a:moveTo>
                  <a:pt x="0" y="109"/>
                </a:moveTo>
                <a:cubicBezTo>
                  <a:pt x="12" y="91"/>
                  <a:pt x="17" y="66"/>
                  <a:pt x="36" y="54"/>
                </a:cubicBezTo>
                <a:cubicBezTo>
                  <a:pt x="105" y="11"/>
                  <a:pt x="195" y="0"/>
                  <a:pt x="273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67200" y="4917960"/>
            <a:ext cx="590760" cy="285840"/>
          </a:xfrm>
          <a:custGeom>
            <a:avLst/>
            <a:gdLst/>
            <a:ahLst/>
            <a:rect l="l" t="t" r="r" b="b"/>
            <a:pathLst>
              <a:path w="372" h="180">
                <a:moveTo>
                  <a:pt x="30" y="0"/>
                </a:moveTo>
                <a:lnTo>
                  <a:pt x="0" y="136"/>
                </a:lnTo>
                <a:lnTo>
                  <a:pt x="86" y="162"/>
                </a:lnTo>
                <a:lnTo>
                  <a:pt x="92" y="140"/>
                </a:lnTo>
                <a:lnTo>
                  <a:pt x="226" y="178"/>
                </a:lnTo>
                <a:lnTo>
                  <a:pt x="370" y="180"/>
                </a:lnTo>
                <a:lnTo>
                  <a:pt x="372" y="150"/>
                </a:lnTo>
                <a:lnTo>
                  <a:pt x="366" y="124"/>
                </a:lnTo>
                <a:lnTo>
                  <a:pt x="348" y="102"/>
                </a:lnTo>
                <a:lnTo>
                  <a:pt x="328" y="92"/>
                </a:lnTo>
                <a:lnTo>
                  <a:pt x="290" y="82"/>
                </a:lnTo>
                <a:lnTo>
                  <a:pt x="240" y="64"/>
                </a:lnTo>
                <a:lnTo>
                  <a:pt x="208" y="50"/>
                </a:lnTo>
                <a:lnTo>
                  <a:pt x="208" y="22"/>
                </a:lnTo>
                <a:lnTo>
                  <a:pt x="30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06800" y="4921200"/>
            <a:ext cx="536760" cy="260280"/>
          </a:xfrm>
          <a:custGeom>
            <a:avLst/>
            <a:gdLst/>
            <a:ahLst/>
            <a:rect l="l" t="t" r="r" b="b"/>
            <a:pathLst>
              <a:path w="338" h="164">
                <a:moveTo>
                  <a:pt x="158" y="2"/>
                </a:moveTo>
                <a:lnTo>
                  <a:pt x="156" y="18"/>
                </a:lnTo>
                <a:lnTo>
                  <a:pt x="134" y="22"/>
                </a:lnTo>
                <a:lnTo>
                  <a:pt x="108" y="38"/>
                </a:lnTo>
                <a:lnTo>
                  <a:pt x="88" y="44"/>
                </a:lnTo>
                <a:lnTo>
                  <a:pt x="48" y="56"/>
                </a:lnTo>
                <a:lnTo>
                  <a:pt x="22" y="68"/>
                </a:lnTo>
                <a:lnTo>
                  <a:pt x="8" y="86"/>
                </a:lnTo>
                <a:lnTo>
                  <a:pt x="0" y="108"/>
                </a:lnTo>
                <a:lnTo>
                  <a:pt x="0" y="140"/>
                </a:lnTo>
                <a:lnTo>
                  <a:pt x="0" y="162"/>
                </a:lnTo>
                <a:lnTo>
                  <a:pt x="86" y="164"/>
                </a:lnTo>
                <a:lnTo>
                  <a:pt x="180" y="144"/>
                </a:lnTo>
                <a:lnTo>
                  <a:pt x="280" y="100"/>
                </a:lnTo>
                <a:lnTo>
                  <a:pt x="280" y="126"/>
                </a:lnTo>
                <a:lnTo>
                  <a:pt x="336" y="84"/>
                </a:lnTo>
                <a:lnTo>
                  <a:pt x="338" y="0"/>
                </a:lnTo>
                <a:lnTo>
                  <a:pt x="158" y="2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 rot="85200">
            <a:off x="1699920" y="704880"/>
            <a:ext cx="5572080" cy="5657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Ohm's  Law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266760" y="380880"/>
            <a:ext cx="3752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</a:t>
            </a:r>
            <a:br>
              <a:rPr sz="24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chard Terwilli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0" name=""/>
          <p:cNvGrpSpPr/>
          <p:nvPr/>
        </p:nvGrpSpPr>
        <p:grpSpPr>
          <a:xfrm>
            <a:off x="75960" y="3962520"/>
            <a:ext cx="2438640" cy="2675160"/>
            <a:chOff x="75960" y="3962520"/>
            <a:chExt cx="2438640" cy="2675160"/>
          </a:xfrm>
        </p:grpSpPr>
        <p:sp>
          <p:nvSpPr>
            <p:cNvPr id="1281" name=""/>
            <p:cNvSpPr/>
            <p:nvPr/>
          </p:nvSpPr>
          <p:spPr>
            <a:xfrm rot="4200">
              <a:off x="375840" y="5091120"/>
              <a:ext cx="1473120" cy="1295280"/>
            </a:xfrm>
            <a:custGeom>
              <a:avLst/>
              <a:gdLst/>
              <a:ahLst/>
              <a:rect l="l" t="t" r="r" b="b"/>
              <a:pathLst>
                <a:path w="1688" h="1469">
                  <a:moveTo>
                    <a:pt x="60" y="859"/>
                  </a:moveTo>
                  <a:cubicBezTo>
                    <a:pt x="54" y="930"/>
                    <a:pt x="43" y="984"/>
                    <a:pt x="28" y="1050"/>
                  </a:cubicBezTo>
                  <a:cubicBezTo>
                    <a:pt x="25" y="1099"/>
                    <a:pt x="20" y="1147"/>
                    <a:pt x="20" y="1196"/>
                  </a:cubicBezTo>
                  <a:cubicBezTo>
                    <a:pt x="20" y="1374"/>
                    <a:pt x="0" y="1417"/>
                    <a:pt x="132" y="1424"/>
                  </a:cubicBezTo>
                  <a:cubicBezTo>
                    <a:pt x="289" y="1469"/>
                    <a:pt x="327" y="1216"/>
                    <a:pt x="636" y="1224"/>
                  </a:cubicBezTo>
                  <a:cubicBezTo>
                    <a:pt x="1284" y="1176"/>
                    <a:pt x="1224" y="1416"/>
                    <a:pt x="1508" y="1408"/>
                  </a:cubicBezTo>
                  <a:cubicBezTo>
                    <a:pt x="1548" y="1399"/>
                    <a:pt x="1606" y="1339"/>
                    <a:pt x="1644" y="1324"/>
                  </a:cubicBezTo>
                  <a:cubicBezTo>
                    <a:pt x="1652" y="1321"/>
                    <a:pt x="1648" y="1304"/>
                    <a:pt x="1652" y="1297"/>
                  </a:cubicBezTo>
                  <a:cubicBezTo>
                    <a:pt x="1659" y="1282"/>
                    <a:pt x="1668" y="1272"/>
                    <a:pt x="1676" y="1259"/>
                  </a:cubicBezTo>
                  <a:cubicBezTo>
                    <a:pt x="1688" y="1202"/>
                    <a:pt x="1676" y="1159"/>
                    <a:pt x="1660" y="1105"/>
                  </a:cubicBezTo>
                  <a:cubicBezTo>
                    <a:pt x="1649" y="1066"/>
                    <a:pt x="1643" y="1023"/>
                    <a:pt x="1628" y="986"/>
                  </a:cubicBezTo>
                  <a:cubicBezTo>
                    <a:pt x="1622" y="973"/>
                    <a:pt x="1611" y="962"/>
                    <a:pt x="1604" y="950"/>
                  </a:cubicBezTo>
                  <a:cubicBezTo>
                    <a:pt x="1581" y="906"/>
                    <a:pt x="1547" y="872"/>
                    <a:pt x="1520" y="832"/>
                  </a:cubicBezTo>
                  <a:cubicBezTo>
                    <a:pt x="1513" y="799"/>
                    <a:pt x="1498" y="688"/>
                    <a:pt x="1476" y="667"/>
                  </a:cubicBezTo>
                  <a:cubicBezTo>
                    <a:pt x="1469" y="661"/>
                    <a:pt x="1460" y="661"/>
                    <a:pt x="1452" y="658"/>
                  </a:cubicBezTo>
                  <a:cubicBezTo>
                    <a:pt x="1423" y="557"/>
                    <a:pt x="1472" y="706"/>
                    <a:pt x="1420" y="612"/>
                  </a:cubicBezTo>
                  <a:cubicBezTo>
                    <a:pt x="1407" y="588"/>
                    <a:pt x="1401" y="558"/>
                    <a:pt x="1396" y="530"/>
                  </a:cubicBezTo>
                  <a:cubicBezTo>
                    <a:pt x="1382" y="452"/>
                    <a:pt x="1383" y="354"/>
                    <a:pt x="1348" y="284"/>
                  </a:cubicBezTo>
                  <a:cubicBezTo>
                    <a:pt x="1335" y="258"/>
                    <a:pt x="1316" y="235"/>
                    <a:pt x="1300" y="211"/>
                  </a:cubicBezTo>
                  <a:cubicBezTo>
                    <a:pt x="1279" y="140"/>
                    <a:pt x="1267" y="125"/>
                    <a:pt x="1212" y="83"/>
                  </a:cubicBezTo>
                  <a:cubicBezTo>
                    <a:pt x="1198" y="73"/>
                    <a:pt x="1164" y="65"/>
                    <a:pt x="1164" y="65"/>
                  </a:cubicBezTo>
                  <a:cubicBezTo>
                    <a:pt x="1096" y="91"/>
                    <a:pt x="1010" y="87"/>
                    <a:pt x="940" y="92"/>
                  </a:cubicBezTo>
                  <a:cubicBezTo>
                    <a:pt x="822" y="89"/>
                    <a:pt x="675" y="93"/>
                    <a:pt x="548" y="75"/>
                  </a:cubicBezTo>
                  <a:cubicBezTo>
                    <a:pt x="499" y="66"/>
                    <a:pt x="454" y="46"/>
                    <a:pt x="404" y="37"/>
                  </a:cubicBezTo>
                  <a:cubicBezTo>
                    <a:pt x="156" y="49"/>
                    <a:pt x="253" y="0"/>
                    <a:pt x="164" y="102"/>
                  </a:cubicBezTo>
                  <a:cubicBezTo>
                    <a:pt x="146" y="165"/>
                    <a:pt x="134" y="230"/>
                    <a:pt x="116" y="293"/>
                  </a:cubicBezTo>
                  <a:cubicBezTo>
                    <a:pt x="106" y="421"/>
                    <a:pt x="183" y="546"/>
                    <a:pt x="168" y="672"/>
                  </a:cubicBezTo>
                  <a:cubicBezTo>
                    <a:pt x="160" y="739"/>
                    <a:pt x="39" y="787"/>
                    <a:pt x="117" y="918"/>
                  </a:cubicBezTo>
                </a:path>
              </a:pathLst>
            </a:custGeom>
            <a:gradFill rotWithShape="0">
              <a:gsLst>
                <a:gs pos="0">
                  <a:srgbClr val="750075"/>
                </a:gs>
                <a:gs pos="50000">
                  <a:srgbClr val="ff00ff"/>
                </a:gs>
                <a:gs pos="100000">
                  <a:srgbClr val="750075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 rot="4800">
              <a:off x="448920" y="6291360"/>
              <a:ext cx="571320" cy="345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rot="4200">
              <a:off x="642600" y="5716080"/>
              <a:ext cx="1093680" cy="655920"/>
            </a:xfrm>
            <a:custGeom>
              <a:avLst/>
              <a:gdLst/>
              <a:ahLst/>
              <a:rect l="l" t="t" r="r" b="b"/>
              <a:pathLst>
                <a:path w="1175" h="705">
                  <a:moveTo>
                    <a:pt x="88" y="67"/>
                  </a:moveTo>
                  <a:cubicBezTo>
                    <a:pt x="76" y="271"/>
                    <a:pt x="64" y="396"/>
                    <a:pt x="0" y="579"/>
                  </a:cubicBezTo>
                  <a:cubicBezTo>
                    <a:pt x="4" y="600"/>
                    <a:pt x="2" y="623"/>
                    <a:pt x="13" y="642"/>
                  </a:cubicBezTo>
                  <a:cubicBezTo>
                    <a:pt x="26" y="665"/>
                    <a:pt x="80" y="677"/>
                    <a:pt x="100" y="679"/>
                  </a:cubicBezTo>
                  <a:cubicBezTo>
                    <a:pt x="183" y="686"/>
                    <a:pt x="267" y="688"/>
                    <a:pt x="350" y="692"/>
                  </a:cubicBezTo>
                  <a:cubicBezTo>
                    <a:pt x="375" y="688"/>
                    <a:pt x="403" y="692"/>
                    <a:pt x="425" y="679"/>
                  </a:cubicBezTo>
                  <a:cubicBezTo>
                    <a:pt x="436" y="673"/>
                    <a:pt x="432" y="654"/>
                    <a:pt x="438" y="642"/>
                  </a:cubicBezTo>
                  <a:cubicBezTo>
                    <a:pt x="467" y="585"/>
                    <a:pt x="464" y="622"/>
                    <a:pt x="488" y="554"/>
                  </a:cubicBezTo>
                  <a:cubicBezTo>
                    <a:pt x="503" y="513"/>
                    <a:pt x="525" y="429"/>
                    <a:pt x="525" y="429"/>
                  </a:cubicBezTo>
                  <a:cubicBezTo>
                    <a:pt x="539" y="336"/>
                    <a:pt x="515" y="312"/>
                    <a:pt x="600" y="292"/>
                  </a:cubicBezTo>
                  <a:cubicBezTo>
                    <a:pt x="633" y="386"/>
                    <a:pt x="636" y="509"/>
                    <a:pt x="650" y="604"/>
                  </a:cubicBezTo>
                  <a:cubicBezTo>
                    <a:pt x="654" y="634"/>
                    <a:pt x="695" y="649"/>
                    <a:pt x="725" y="654"/>
                  </a:cubicBezTo>
                  <a:cubicBezTo>
                    <a:pt x="859" y="678"/>
                    <a:pt x="933" y="694"/>
                    <a:pt x="1075" y="704"/>
                  </a:cubicBezTo>
                  <a:cubicBezTo>
                    <a:pt x="1104" y="700"/>
                    <a:pt x="1137" y="705"/>
                    <a:pt x="1163" y="692"/>
                  </a:cubicBezTo>
                  <a:cubicBezTo>
                    <a:pt x="1175" y="686"/>
                    <a:pt x="1175" y="667"/>
                    <a:pt x="1175" y="654"/>
                  </a:cubicBezTo>
                  <a:cubicBezTo>
                    <a:pt x="1175" y="463"/>
                    <a:pt x="1163" y="472"/>
                    <a:pt x="1075" y="342"/>
                  </a:cubicBezTo>
                  <a:cubicBezTo>
                    <a:pt x="1071" y="326"/>
                    <a:pt x="1060" y="271"/>
                    <a:pt x="1050" y="254"/>
                  </a:cubicBezTo>
                  <a:cubicBezTo>
                    <a:pt x="1035" y="228"/>
                    <a:pt x="1000" y="179"/>
                    <a:pt x="1000" y="179"/>
                  </a:cubicBezTo>
                  <a:cubicBezTo>
                    <a:pt x="979" y="113"/>
                    <a:pt x="995" y="153"/>
                    <a:pt x="938" y="67"/>
                  </a:cubicBezTo>
                  <a:cubicBezTo>
                    <a:pt x="893" y="0"/>
                    <a:pt x="900" y="78"/>
                    <a:pt x="900" y="17"/>
                  </a:cubicBezTo>
                </a:path>
              </a:pathLst>
            </a:custGeom>
            <a:gradFill rotWithShape="0">
              <a:gsLst>
                <a:gs pos="0">
                  <a:srgbClr val="00cc99"/>
                </a:gs>
                <a:gs pos="50000">
                  <a:srgbClr val="ccecff"/>
                </a:gs>
                <a:gs pos="100000">
                  <a:srgbClr val="00cc99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rot="4200">
              <a:off x="1310760" y="6342120"/>
              <a:ext cx="617760" cy="291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52280" y="4979880"/>
              <a:ext cx="1495440" cy="1003320"/>
            </a:xfrm>
            <a:custGeom>
              <a:avLst/>
              <a:gdLst/>
              <a:ahLst/>
              <a:rect l="l" t="t" r="r" b="b"/>
              <a:pathLst>
                <a:path w="942" h="632">
                  <a:moveTo>
                    <a:pt x="221" y="159"/>
                  </a:moveTo>
                  <a:cubicBezTo>
                    <a:pt x="211" y="166"/>
                    <a:pt x="202" y="175"/>
                    <a:pt x="190" y="181"/>
                  </a:cubicBezTo>
                  <a:cubicBezTo>
                    <a:pt x="160" y="196"/>
                    <a:pt x="97" y="224"/>
                    <a:pt x="97" y="224"/>
                  </a:cubicBezTo>
                  <a:cubicBezTo>
                    <a:pt x="45" y="279"/>
                    <a:pt x="0" y="295"/>
                    <a:pt x="50" y="367"/>
                  </a:cubicBezTo>
                  <a:cubicBezTo>
                    <a:pt x="58" y="377"/>
                    <a:pt x="81" y="375"/>
                    <a:pt x="97" y="378"/>
                  </a:cubicBezTo>
                  <a:cubicBezTo>
                    <a:pt x="117" y="382"/>
                    <a:pt x="137" y="385"/>
                    <a:pt x="158" y="389"/>
                  </a:cubicBezTo>
                  <a:cubicBezTo>
                    <a:pt x="183" y="385"/>
                    <a:pt x="213" y="388"/>
                    <a:pt x="236" y="378"/>
                  </a:cubicBezTo>
                  <a:cubicBezTo>
                    <a:pt x="250" y="371"/>
                    <a:pt x="243" y="355"/>
                    <a:pt x="252" y="345"/>
                  </a:cubicBezTo>
                  <a:cubicBezTo>
                    <a:pt x="259" y="336"/>
                    <a:pt x="273" y="330"/>
                    <a:pt x="283" y="323"/>
                  </a:cubicBezTo>
                  <a:cubicBezTo>
                    <a:pt x="293" y="334"/>
                    <a:pt x="310" y="343"/>
                    <a:pt x="314" y="356"/>
                  </a:cubicBezTo>
                  <a:cubicBezTo>
                    <a:pt x="381" y="632"/>
                    <a:pt x="158" y="513"/>
                    <a:pt x="855" y="499"/>
                  </a:cubicBezTo>
                  <a:cubicBezTo>
                    <a:pt x="850" y="478"/>
                    <a:pt x="854" y="453"/>
                    <a:pt x="840" y="434"/>
                  </a:cubicBezTo>
                  <a:cubicBezTo>
                    <a:pt x="821" y="407"/>
                    <a:pt x="848" y="339"/>
                    <a:pt x="814" y="323"/>
                  </a:cubicBezTo>
                  <a:cubicBezTo>
                    <a:pt x="804" y="261"/>
                    <a:pt x="806" y="273"/>
                    <a:pt x="802" y="261"/>
                  </a:cubicBezTo>
                  <a:cubicBezTo>
                    <a:pt x="831" y="248"/>
                    <a:pt x="815" y="243"/>
                    <a:pt x="831" y="220"/>
                  </a:cubicBezTo>
                  <a:cubicBezTo>
                    <a:pt x="847" y="197"/>
                    <a:pt x="894" y="155"/>
                    <a:pt x="900" y="121"/>
                  </a:cubicBezTo>
                  <a:cubicBezTo>
                    <a:pt x="890" y="67"/>
                    <a:pt x="942" y="45"/>
                    <a:pt x="870" y="16"/>
                  </a:cubicBezTo>
                  <a:cubicBezTo>
                    <a:pt x="828" y="0"/>
                    <a:pt x="805" y="87"/>
                    <a:pt x="759" y="76"/>
                  </a:cubicBezTo>
                  <a:cubicBezTo>
                    <a:pt x="744" y="72"/>
                    <a:pt x="670" y="127"/>
                    <a:pt x="670" y="127"/>
                  </a:cubicBezTo>
                </a:path>
              </a:pathLst>
            </a:custGeom>
            <a:gradFill rotWithShape="0">
              <a:gsLst>
                <a:gs pos="0">
                  <a:srgbClr val="6c0000"/>
                </a:gs>
                <a:gs pos="50000">
                  <a:srgbClr val="ff0000"/>
                </a:gs>
                <a:gs pos="100000">
                  <a:srgbClr val="6c0000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rot="4200">
              <a:off x="75960" y="5589360"/>
              <a:ext cx="50472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 rot="16122000">
              <a:off x="1517400" y="4882320"/>
              <a:ext cx="44604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rot="4200">
              <a:off x="777960" y="5268960"/>
              <a:ext cx="595080" cy="428400"/>
            </a:xfrm>
            <a:custGeom>
              <a:avLst/>
              <a:gdLst/>
              <a:ahLst/>
              <a:rect l="l" t="t" r="r" b="b"/>
              <a:pathLst>
                <a:path w="640" h="461">
                  <a:moveTo>
                    <a:pt x="64" y="445"/>
                  </a:moveTo>
                  <a:cubicBezTo>
                    <a:pt x="125" y="442"/>
                    <a:pt x="187" y="442"/>
                    <a:pt x="248" y="437"/>
                  </a:cubicBezTo>
                  <a:cubicBezTo>
                    <a:pt x="259" y="436"/>
                    <a:pt x="276" y="439"/>
                    <a:pt x="280" y="429"/>
                  </a:cubicBezTo>
                  <a:cubicBezTo>
                    <a:pt x="298" y="382"/>
                    <a:pt x="274" y="374"/>
                    <a:pt x="248" y="357"/>
                  </a:cubicBezTo>
                  <a:cubicBezTo>
                    <a:pt x="228" y="297"/>
                    <a:pt x="257" y="369"/>
                    <a:pt x="216" y="317"/>
                  </a:cubicBezTo>
                  <a:cubicBezTo>
                    <a:pt x="210" y="310"/>
                    <a:pt x="188" y="256"/>
                    <a:pt x="184" y="245"/>
                  </a:cubicBezTo>
                  <a:cubicBezTo>
                    <a:pt x="192" y="112"/>
                    <a:pt x="164" y="95"/>
                    <a:pt x="280" y="109"/>
                  </a:cubicBezTo>
                  <a:cubicBezTo>
                    <a:pt x="317" y="121"/>
                    <a:pt x="347" y="145"/>
                    <a:pt x="384" y="157"/>
                  </a:cubicBezTo>
                  <a:cubicBezTo>
                    <a:pt x="457" y="267"/>
                    <a:pt x="415" y="186"/>
                    <a:pt x="424" y="429"/>
                  </a:cubicBezTo>
                  <a:cubicBezTo>
                    <a:pt x="533" y="424"/>
                    <a:pt x="607" y="457"/>
                    <a:pt x="640" y="357"/>
                  </a:cubicBezTo>
                  <a:cubicBezTo>
                    <a:pt x="625" y="269"/>
                    <a:pt x="611" y="293"/>
                    <a:pt x="512" y="285"/>
                  </a:cubicBezTo>
                  <a:cubicBezTo>
                    <a:pt x="485" y="205"/>
                    <a:pt x="475" y="141"/>
                    <a:pt x="408" y="85"/>
                  </a:cubicBezTo>
                  <a:cubicBezTo>
                    <a:pt x="393" y="73"/>
                    <a:pt x="371" y="43"/>
                    <a:pt x="352" y="37"/>
                  </a:cubicBezTo>
                  <a:cubicBezTo>
                    <a:pt x="311" y="24"/>
                    <a:pt x="214" y="11"/>
                    <a:pt x="168" y="5"/>
                  </a:cubicBezTo>
                  <a:cubicBezTo>
                    <a:pt x="141" y="8"/>
                    <a:pt x="88" y="0"/>
                    <a:pt x="64" y="29"/>
                  </a:cubicBezTo>
                  <a:cubicBezTo>
                    <a:pt x="56" y="38"/>
                    <a:pt x="52" y="50"/>
                    <a:pt x="48" y="61"/>
                  </a:cubicBezTo>
                  <a:cubicBezTo>
                    <a:pt x="42" y="77"/>
                    <a:pt x="32" y="109"/>
                    <a:pt x="32" y="109"/>
                  </a:cubicBezTo>
                  <a:cubicBezTo>
                    <a:pt x="37" y="180"/>
                    <a:pt x="22" y="196"/>
                    <a:pt x="56" y="237"/>
                  </a:cubicBezTo>
                  <a:cubicBezTo>
                    <a:pt x="69" y="253"/>
                    <a:pt x="80" y="271"/>
                    <a:pt x="96" y="285"/>
                  </a:cubicBezTo>
                  <a:cubicBezTo>
                    <a:pt x="110" y="298"/>
                    <a:pt x="144" y="317"/>
                    <a:pt x="144" y="317"/>
                  </a:cubicBezTo>
                  <a:cubicBezTo>
                    <a:pt x="177" y="366"/>
                    <a:pt x="162" y="371"/>
                    <a:pt x="104" y="357"/>
                  </a:cubicBezTo>
                  <a:cubicBezTo>
                    <a:pt x="66" y="347"/>
                    <a:pt x="44" y="329"/>
                    <a:pt x="8" y="317"/>
                  </a:cubicBezTo>
                  <a:cubicBezTo>
                    <a:pt x="13" y="374"/>
                    <a:pt x="0" y="429"/>
                    <a:pt x="48" y="461"/>
                  </a:cubicBezTo>
                  <a:cubicBezTo>
                    <a:pt x="86" y="452"/>
                    <a:pt x="90" y="458"/>
                    <a:pt x="64" y="445"/>
                  </a:cubicBezTo>
                  <a:close/>
                </a:path>
              </a:pathLst>
            </a:custGeom>
            <a:solidFill>
              <a:srgbClr val="3333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93760" y="4160880"/>
              <a:ext cx="1211040" cy="1044360"/>
            </a:xfrm>
            <a:custGeom>
              <a:avLst/>
              <a:gdLst/>
              <a:ahLst/>
              <a:rect l="l" t="t" r="r" b="b"/>
              <a:pathLst>
                <a:path w="1050" h="906">
                  <a:moveTo>
                    <a:pt x="521" y="24"/>
                  </a:moveTo>
                  <a:cubicBezTo>
                    <a:pt x="598" y="0"/>
                    <a:pt x="573" y="2"/>
                    <a:pt x="709" y="24"/>
                  </a:cubicBezTo>
                  <a:cubicBezTo>
                    <a:pt x="734" y="28"/>
                    <a:pt x="784" y="48"/>
                    <a:pt x="784" y="48"/>
                  </a:cubicBezTo>
                  <a:cubicBezTo>
                    <a:pt x="864" y="105"/>
                    <a:pt x="820" y="70"/>
                    <a:pt x="910" y="157"/>
                  </a:cubicBezTo>
                  <a:cubicBezTo>
                    <a:pt x="939" y="185"/>
                    <a:pt x="985" y="254"/>
                    <a:pt x="985" y="254"/>
                  </a:cubicBezTo>
                  <a:cubicBezTo>
                    <a:pt x="1021" y="389"/>
                    <a:pt x="1050" y="536"/>
                    <a:pt x="973" y="664"/>
                  </a:cubicBezTo>
                  <a:cubicBezTo>
                    <a:pt x="954" y="697"/>
                    <a:pt x="927" y="767"/>
                    <a:pt x="897" y="785"/>
                  </a:cubicBezTo>
                  <a:cubicBezTo>
                    <a:pt x="847" y="817"/>
                    <a:pt x="805" y="862"/>
                    <a:pt x="747" y="882"/>
                  </a:cubicBezTo>
                  <a:cubicBezTo>
                    <a:pt x="715" y="894"/>
                    <a:pt x="646" y="906"/>
                    <a:pt x="646" y="906"/>
                  </a:cubicBezTo>
                  <a:cubicBezTo>
                    <a:pt x="489" y="898"/>
                    <a:pt x="376" y="886"/>
                    <a:pt x="232" y="846"/>
                  </a:cubicBezTo>
                  <a:cubicBezTo>
                    <a:pt x="153" y="795"/>
                    <a:pt x="100" y="741"/>
                    <a:pt x="69" y="652"/>
                  </a:cubicBezTo>
                  <a:cubicBezTo>
                    <a:pt x="73" y="521"/>
                    <a:pt x="0" y="178"/>
                    <a:pt x="203" y="114"/>
                  </a:cubicBezTo>
                  <a:cubicBezTo>
                    <a:pt x="274" y="46"/>
                    <a:pt x="360" y="62"/>
                    <a:pt x="458" y="48"/>
                  </a:cubicBezTo>
                  <a:cubicBezTo>
                    <a:pt x="537" y="22"/>
                    <a:pt x="560" y="24"/>
                    <a:pt x="521" y="24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rot="20582400">
              <a:off x="536400" y="4363560"/>
              <a:ext cx="341640" cy="4809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rot="20582400">
              <a:off x="903240" y="4264200"/>
              <a:ext cx="343080" cy="50796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rot="8088000">
              <a:off x="601200" y="4390560"/>
              <a:ext cx="751680" cy="70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44" y="1256"/>
                  </a:moveTo>
                  <a:arcTo wR="10800" hR="10800" stAng="-7074784" swAng="7074784"/>
                  <a:lnTo>
                    <a:pt x="10800" y="10800"/>
                  </a:lnTo>
                  <a:close/>
                </a:path>
                <a:path fill="none" w="21600" h="21600">
                  <a:moveTo>
                    <a:pt x="5744" y="1256"/>
                  </a:moveTo>
                  <a:arcTo wR="10800" hR="10800" stAng="-7074784" swAng="707478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rot="413400">
              <a:off x="907920" y="4773240"/>
              <a:ext cx="184320" cy="1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rot="413400">
              <a:off x="677880" y="4422240"/>
              <a:ext cx="182520" cy="257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rot="413400">
              <a:off x="1004760" y="4300200"/>
              <a:ext cx="182520" cy="257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rot="448800">
              <a:off x="328320" y="4195800"/>
              <a:ext cx="260280" cy="250920"/>
            </a:xfrm>
            <a:custGeom>
              <a:avLst/>
              <a:gdLst/>
              <a:ahLst/>
              <a:rect l="l" t="t" r="r" b="b"/>
              <a:pathLst>
                <a:path w="273" h="258">
                  <a:moveTo>
                    <a:pt x="273" y="40"/>
                  </a:moveTo>
                  <a:cubicBezTo>
                    <a:pt x="203" y="17"/>
                    <a:pt x="179" y="0"/>
                    <a:pt x="91" y="40"/>
                  </a:cubicBezTo>
                  <a:cubicBezTo>
                    <a:pt x="59" y="54"/>
                    <a:pt x="19" y="201"/>
                    <a:pt x="18" y="204"/>
                  </a:cubicBezTo>
                  <a:cubicBezTo>
                    <a:pt x="12" y="222"/>
                    <a:pt x="0" y="258"/>
                    <a:pt x="0" y="25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rot="448800">
              <a:off x="587160" y="4092480"/>
              <a:ext cx="274320" cy="211320"/>
            </a:xfrm>
            <a:custGeom>
              <a:avLst/>
              <a:gdLst/>
              <a:ahLst/>
              <a:rect l="l" t="t" r="r" b="b"/>
              <a:pathLst>
                <a:path w="290" h="218">
                  <a:moveTo>
                    <a:pt x="0" y="218"/>
                  </a:moveTo>
                  <a:cubicBezTo>
                    <a:pt x="66" y="118"/>
                    <a:pt x="157" y="0"/>
                    <a:pt x="29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rot="448800">
              <a:off x="632880" y="4065480"/>
              <a:ext cx="1800" cy="195480"/>
            </a:xfrm>
            <a:custGeom>
              <a:avLst/>
              <a:gdLst/>
              <a:ahLst/>
              <a:rect l="l" t="t" r="r" b="b"/>
              <a:pathLst>
                <a:path w="1" h="200">
                  <a:moveTo>
                    <a:pt x="0" y="200"/>
                  </a:moveTo>
                  <a:cubicBezTo>
                    <a:pt x="0" y="133"/>
                    <a:pt x="0" y="67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rot="21140400">
              <a:off x="418680" y="4266720"/>
              <a:ext cx="233280" cy="392400"/>
            </a:xfrm>
            <a:custGeom>
              <a:avLst/>
              <a:gdLst/>
              <a:ahLst/>
              <a:rect l="l" t="t" r="r" b="b"/>
              <a:pathLst>
                <a:path w="273" h="400">
                  <a:moveTo>
                    <a:pt x="273" y="0"/>
                  </a:moveTo>
                  <a:cubicBezTo>
                    <a:pt x="198" y="37"/>
                    <a:pt x="150" y="69"/>
                    <a:pt x="91" y="127"/>
                  </a:cubicBezTo>
                  <a:cubicBezTo>
                    <a:pt x="61" y="218"/>
                    <a:pt x="0" y="301"/>
                    <a:pt x="0" y="4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rot="1662000">
              <a:off x="651960" y="4183200"/>
              <a:ext cx="246240" cy="131760"/>
            </a:xfrm>
            <a:custGeom>
              <a:avLst/>
              <a:gdLst/>
              <a:ahLst/>
              <a:rect l="l" t="t" r="r" b="b"/>
              <a:pathLst>
                <a:path w="273" h="109">
                  <a:moveTo>
                    <a:pt x="0" y="109"/>
                  </a:moveTo>
                  <a:cubicBezTo>
                    <a:pt x="12" y="91"/>
                    <a:pt x="17" y="66"/>
                    <a:pt x="36" y="54"/>
                  </a:cubicBezTo>
                  <a:cubicBezTo>
                    <a:pt x="105" y="11"/>
                    <a:pt x="195" y="0"/>
                    <a:pt x="27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523880" y="3962520"/>
              <a:ext cx="990720" cy="1218960"/>
            </a:xfrm>
            <a:custGeom>
              <a:avLst/>
              <a:gdLst/>
              <a:ahLst/>
              <a:rect l="l" t="t" r="r" b="b"/>
              <a:pathLst>
                <a:path w="624" h="768">
                  <a:moveTo>
                    <a:pt x="0" y="720"/>
                  </a:moveTo>
                  <a:lnTo>
                    <a:pt x="48" y="768"/>
                  </a:lnTo>
                  <a:lnTo>
                    <a:pt x="624" y="0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2" name=""/>
          <p:cNvSpPr/>
          <p:nvPr/>
        </p:nvSpPr>
        <p:spPr>
          <a:xfrm>
            <a:off x="0" y="0"/>
            <a:ext cx="5219640" cy="3048120"/>
          </a:xfrm>
          <a:prstGeom prst="cloudCallout">
            <a:avLst>
              <a:gd name="adj1" fmla="val -38199"/>
              <a:gd name="adj2" fmla="val 62449"/>
            </a:avLst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767040" y="1386000"/>
            <a:ext cx="803520" cy="62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87280" y="1460520"/>
            <a:ext cx="803160" cy="630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66760" y="474480"/>
            <a:ext cx="4761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rg Simon Oh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787-1854)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d tha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ur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proportional to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tential dif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1500120" y="2924280"/>
            <a:ext cx="7262640" cy="3620880"/>
            <a:chOff x="1500120" y="2924280"/>
            <a:chExt cx="7262640" cy="3620880"/>
          </a:xfrm>
        </p:grpSpPr>
        <p:sp>
          <p:nvSpPr>
            <p:cNvPr id="1307" name=""/>
            <p:cNvSpPr txBox="1"/>
            <p:nvPr/>
          </p:nvSpPr>
          <p:spPr>
            <a:xfrm>
              <a:off x="2986200" y="4008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(Volts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308" name=""/>
            <p:cNvSpPr txBox="1"/>
            <p:nvPr/>
          </p:nvSpPr>
          <p:spPr>
            <a:xfrm>
              <a:off x="6259680" y="6164280"/>
              <a:ext cx="1238040" cy="380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(Amperes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V="1">
              <a:off x="5048280" y="3105000"/>
              <a:ext cx="3543120" cy="2076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19840" y="2924280"/>
              <a:ext cx="0" cy="226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H="1">
              <a:off x="5009760" y="5181480"/>
              <a:ext cx="375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410080" y="506088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805360" y="506880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200640" y="506088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595920" y="505764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991200" y="505764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386480" y="505764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781760" y="505764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>
              <a:off x="4902120" y="328608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H="1">
              <a:off x="4905360" y="368136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4905360" y="407664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H="1">
              <a:off x="4905360" y="447192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>
              <a:off x="4905360" y="486720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8191440" y="507672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8586720" y="507672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617080" y="5256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417000" y="5256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198200" y="5256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979040" y="5256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850280" y="5252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432680" y="4980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348800" y="42296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348800" y="34614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263480" y="304056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348800" y="38358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348800" y="46360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357880" y="493380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738760" y="47052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510240" y="425772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091360" y="33242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 txBox="1"/>
            <p:nvPr/>
          </p:nvSpPr>
          <p:spPr>
            <a:xfrm rot="19850400">
              <a:off x="5916600" y="3679920"/>
              <a:ext cx="1601640" cy="3524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 Black"/>
                </a:rPr>
                <a:t>resistance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342" name=""/>
            <p:cNvSpPr txBox="1"/>
            <p:nvPr/>
          </p:nvSpPr>
          <p:spPr>
            <a:xfrm>
              <a:off x="1500120" y="3284640"/>
              <a:ext cx="2819520" cy="5331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Potential Differenc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343" name=""/>
            <p:cNvSpPr txBox="1"/>
            <p:nvPr/>
          </p:nvSpPr>
          <p:spPr>
            <a:xfrm>
              <a:off x="5916600" y="5573880"/>
              <a:ext cx="1866960" cy="4950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Curren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 txBox="1"/>
          <p:nvPr/>
        </p:nvSpPr>
        <p:spPr>
          <a:xfrm>
            <a:off x="2986200" y="4008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(Volts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345" name=""/>
          <p:cNvSpPr txBox="1"/>
          <p:nvPr/>
        </p:nvSpPr>
        <p:spPr>
          <a:xfrm>
            <a:off x="6259680" y="6164280"/>
            <a:ext cx="1238040" cy="380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(Amperes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5048280" y="3105000"/>
            <a:ext cx="3543120" cy="2076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019840" y="2924280"/>
            <a:ext cx="0" cy="22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H="1">
            <a:off x="5009760" y="5181480"/>
            <a:ext cx="375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410080" y="50608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805360" y="506880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200640" y="50608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59592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99120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38648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778176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H="1">
            <a:off x="4902120" y="328608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H="1">
            <a:off x="4905360" y="368136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4905360" y="407664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H="1">
            <a:off x="4905360" y="447192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4905360" y="486720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8191440" y="50767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8586720" y="50767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61708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41700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719820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97904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850280" y="5252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432680" y="498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348800" y="4229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348800" y="3461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263480" y="30405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348800" y="3835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348800" y="4636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357880" y="49338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738760" y="4705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510240" y="42577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8091360" y="33242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 txBox="1"/>
          <p:nvPr/>
        </p:nvSpPr>
        <p:spPr>
          <a:xfrm rot="19850400">
            <a:off x="5916600" y="3679920"/>
            <a:ext cx="1601640" cy="352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resistanc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75960" y="3962520"/>
            <a:ext cx="2438640" cy="2675160"/>
            <a:chOff x="75960" y="3962520"/>
            <a:chExt cx="2438640" cy="2675160"/>
          </a:xfrm>
        </p:grpSpPr>
        <p:sp>
          <p:nvSpPr>
            <p:cNvPr id="1380" name=""/>
            <p:cNvSpPr/>
            <p:nvPr/>
          </p:nvSpPr>
          <p:spPr>
            <a:xfrm rot="4200">
              <a:off x="375840" y="5091120"/>
              <a:ext cx="1473120" cy="1295280"/>
            </a:xfrm>
            <a:custGeom>
              <a:avLst/>
              <a:gdLst/>
              <a:ahLst/>
              <a:rect l="l" t="t" r="r" b="b"/>
              <a:pathLst>
                <a:path w="1688" h="1469">
                  <a:moveTo>
                    <a:pt x="60" y="859"/>
                  </a:moveTo>
                  <a:cubicBezTo>
                    <a:pt x="54" y="930"/>
                    <a:pt x="43" y="984"/>
                    <a:pt x="28" y="1050"/>
                  </a:cubicBezTo>
                  <a:cubicBezTo>
                    <a:pt x="25" y="1099"/>
                    <a:pt x="20" y="1147"/>
                    <a:pt x="20" y="1196"/>
                  </a:cubicBezTo>
                  <a:cubicBezTo>
                    <a:pt x="20" y="1374"/>
                    <a:pt x="0" y="1417"/>
                    <a:pt x="132" y="1424"/>
                  </a:cubicBezTo>
                  <a:cubicBezTo>
                    <a:pt x="289" y="1469"/>
                    <a:pt x="327" y="1216"/>
                    <a:pt x="636" y="1224"/>
                  </a:cubicBezTo>
                  <a:cubicBezTo>
                    <a:pt x="1284" y="1176"/>
                    <a:pt x="1224" y="1416"/>
                    <a:pt x="1508" y="1408"/>
                  </a:cubicBezTo>
                  <a:cubicBezTo>
                    <a:pt x="1548" y="1399"/>
                    <a:pt x="1606" y="1339"/>
                    <a:pt x="1644" y="1324"/>
                  </a:cubicBezTo>
                  <a:cubicBezTo>
                    <a:pt x="1652" y="1321"/>
                    <a:pt x="1648" y="1304"/>
                    <a:pt x="1652" y="1297"/>
                  </a:cubicBezTo>
                  <a:cubicBezTo>
                    <a:pt x="1659" y="1282"/>
                    <a:pt x="1668" y="1272"/>
                    <a:pt x="1676" y="1259"/>
                  </a:cubicBezTo>
                  <a:cubicBezTo>
                    <a:pt x="1688" y="1202"/>
                    <a:pt x="1676" y="1159"/>
                    <a:pt x="1660" y="1105"/>
                  </a:cubicBezTo>
                  <a:cubicBezTo>
                    <a:pt x="1649" y="1066"/>
                    <a:pt x="1643" y="1023"/>
                    <a:pt x="1628" y="986"/>
                  </a:cubicBezTo>
                  <a:cubicBezTo>
                    <a:pt x="1622" y="973"/>
                    <a:pt x="1611" y="962"/>
                    <a:pt x="1604" y="950"/>
                  </a:cubicBezTo>
                  <a:cubicBezTo>
                    <a:pt x="1581" y="906"/>
                    <a:pt x="1547" y="872"/>
                    <a:pt x="1520" y="832"/>
                  </a:cubicBezTo>
                  <a:cubicBezTo>
                    <a:pt x="1513" y="799"/>
                    <a:pt x="1498" y="688"/>
                    <a:pt x="1476" y="667"/>
                  </a:cubicBezTo>
                  <a:cubicBezTo>
                    <a:pt x="1469" y="661"/>
                    <a:pt x="1460" y="661"/>
                    <a:pt x="1452" y="658"/>
                  </a:cubicBezTo>
                  <a:cubicBezTo>
                    <a:pt x="1423" y="557"/>
                    <a:pt x="1472" y="706"/>
                    <a:pt x="1420" y="612"/>
                  </a:cubicBezTo>
                  <a:cubicBezTo>
                    <a:pt x="1407" y="588"/>
                    <a:pt x="1401" y="558"/>
                    <a:pt x="1396" y="530"/>
                  </a:cubicBezTo>
                  <a:cubicBezTo>
                    <a:pt x="1382" y="452"/>
                    <a:pt x="1383" y="354"/>
                    <a:pt x="1348" y="284"/>
                  </a:cubicBezTo>
                  <a:cubicBezTo>
                    <a:pt x="1335" y="258"/>
                    <a:pt x="1316" y="235"/>
                    <a:pt x="1300" y="211"/>
                  </a:cubicBezTo>
                  <a:cubicBezTo>
                    <a:pt x="1279" y="140"/>
                    <a:pt x="1267" y="125"/>
                    <a:pt x="1212" y="83"/>
                  </a:cubicBezTo>
                  <a:cubicBezTo>
                    <a:pt x="1198" y="73"/>
                    <a:pt x="1164" y="65"/>
                    <a:pt x="1164" y="65"/>
                  </a:cubicBezTo>
                  <a:cubicBezTo>
                    <a:pt x="1096" y="91"/>
                    <a:pt x="1010" y="87"/>
                    <a:pt x="940" y="92"/>
                  </a:cubicBezTo>
                  <a:cubicBezTo>
                    <a:pt x="822" y="89"/>
                    <a:pt x="675" y="93"/>
                    <a:pt x="548" y="75"/>
                  </a:cubicBezTo>
                  <a:cubicBezTo>
                    <a:pt x="499" y="66"/>
                    <a:pt x="454" y="46"/>
                    <a:pt x="404" y="37"/>
                  </a:cubicBezTo>
                  <a:cubicBezTo>
                    <a:pt x="156" y="49"/>
                    <a:pt x="253" y="0"/>
                    <a:pt x="164" y="102"/>
                  </a:cubicBezTo>
                  <a:cubicBezTo>
                    <a:pt x="146" y="165"/>
                    <a:pt x="134" y="230"/>
                    <a:pt x="116" y="293"/>
                  </a:cubicBezTo>
                  <a:cubicBezTo>
                    <a:pt x="106" y="421"/>
                    <a:pt x="183" y="546"/>
                    <a:pt x="168" y="672"/>
                  </a:cubicBezTo>
                  <a:cubicBezTo>
                    <a:pt x="160" y="739"/>
                    <a:pt x="39" y="787"/>
                    <a:pt x="117" y="918"/>
                  </a:cubicBezTo>
                </a:path>
              </a:pathLst>
            </a:custGeom>
            <a:gradFill rotWithShape="0">
              <a:gsLst>
                <a:gs pos="0">
                  <a:srgbClr val="750075"/>
                </a:gs>
                <a:gs pos="50000">
                  <a:srgbClr val="ff00ff"/>
                </a:gs>
                <a:gs pos="100000">
                  <a:srgbClr val="750075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 rot="4800">
              <a:off x="448920" y="6291360"/>
              <a:ext cx="571320" cy="345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rot="4200">
              <a:off x="642600" y="5716080"/>
              <a:ext cx="1093680" cy="655920"/>
            </a:xfrm>
            <a:custGeom>
              <a:avLst/>
              <a:gdLst/>
              <a:ahLst/>
              <a:rect l="l" t="t" r="r" b="b"/>
              <a:pathLst>
                <a:path w="1175" h="705">
                  <a:moveTo>
                    <a:pt x="88" y="67"/>
                  </a:moveTo>
                  <a:cubicBezTo>
                    <a:pt x="76" y="271"/>
                    <a:pt x="64" y="396"/>
                    <a:pt x="0" y="579"/>
                  </a:cubicBezTo>
                  <a:cubicBezTo>
                    <a:pt x="4" y="600"/>
                    <a:pt x="2" y="623"/>
                    <a:pt x="13" y="642"/>
                  </a:cubicBezTo>
                  <a:cubicBezTo>
                    <a:pt x="26" y="665"/>
                    <a:pt x="80" y="677"/>
                    <a:pt x="100" y="679"/>
                  </a:cubicBezTo>
                  <a:cubicBezTo>
                    <a:pt x="183" y="686"/>
                    <a:pt x="267" y="688"/>
                    <a:pt x="350" y="692"/>
                  </a:cubicBezTo>
                  <a:cubicBezTo>
                    <a:pt x="375" y="688"/>
                    <a:pt x="403" y="692"/>
                    <a:pt x="425" y="679"/>
                  </a:cubicBezTo>
                  <a:cubicBezTo>
                    <a:pt x="436" y="673"/>
                    <a:pt x="432" y="654"/>
                    <a:pt x="438" y="642"/>
                  </a:cubicBezTo>
                  <a:cubicBezTo>
                    <a:pt x="467" y="585"/>
                    <a:pt x="464" y="622"/>
                    <a:pt x="488" y="554"/>
                  </a:cubicBezTo>
                  <a:cubicBezTo>
                    <a:pt x="503" y="513"/>
                    <a:pt x="525" y="429"/>
                    <a:pt x="525" y="429"/>
                  </a:cubicBezTo>
                  <a:cubicBezTo>
                    <a:pt x="539" y="336"/>
                    <a:pt x="515" y="312"/>
                    <a:pt x="600" y="292"/>
                  </a:cubicBezTo>
                  <a:cubicBezTo>
                    <a:pt x="633" y="386"/>
                    <a:pt x="636" y="509"/>
                    <a:pt x="650" y="604"/>
                  </a:cubicBezTo>
                  <a:cubicBezTo>
                    <a:pt x="654" y="634"/>
                    <a:pt x="695" y="649"/>
                    <a:pt x="725" y="654"/>
                  </a:cubicBezTo>
                  <a:cubicBezTo>
                    <a:pt x="859" y="678"/>
                    <a:pt x="933" y="694"/>
                    <a:pt x="1075" y="704"/>
                  </a:cubicBezTo>
                  <a:cubicBezTo>
                    <a:pt x="1104" y="700"/>
                    <a:pt x="1137" y="705"/>
                    <a:pt x="1163" y="692"/>
                  </a:cubicBezTo>
                  <a:cubicBezTo>
                    <a:pt x="1175" y="686"/>
                    <a:pt x="1175" y="667"/>
                    <a:pt x="1175" y="654"/>
                  </a:cubicBezTo>
                  <a:cubicBezTo>
                    <a:pt x="1175" y="463"/>
                    <a:pt x="1163" y="472"/>
                    <a:pt x="1075" y="342"/>
                  </a:cubicBezTo>
                  <a:cubicBezTo>
                    <a:pt x="1071" y="326"/>
                    <a:pt x="1060" y="271"/>
                    <a:pt x="1050" y="254"/>
                  </a:cubicBezTo>
                  <a:cubicBezTo>
                    <a:pt x="1035" y="228"/>
                    <a:pt x="1000" y="179"/>
                    <a:pt x="1000" y="179"/>
                  </a:cubicBezTo>
                  <a:cubicBezTo>
                    <a:pt x="979" y="113"/>
                    <a:pt x="995" y="153"/>
                    <a:pt x="938" y="67"/>
                  </a:cubicBezTo>
                  <a:cubicBezTo>
                    <a:pt x="893" y="0"/>
                    <a:pt x="900" y="78"/>
                    <a:pt x="900" y="17"/>
                  </a:cubicBezTo>
                </a:path>
              </a:pathLst>
            </a:custGeom>
            <a:gradFill rotWithShape="0">
              <a:gsLst>
                <a:gs pos="0">
                  <a:srgbClr val="00cc99"/>
                </a:gs>
                <a:gs pos="50000">
                  <a:srgbClr val="ccecff"/>
                </a:gs>
                <a:gs pos="100000">
                  <a:srgbClr val="00cc99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rot="4200">
              <a:off x="1310760" y="6342120"/>
              <a:ext cx="617760" cy="291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52280" y="4979880"/>
              <a:ext cx="1495440" cy="1003320"/>
            </a:xfrm>
            <a:custGeom>
              <a:avLst/>
              <a:gdLst/>
              <a:ahLst/>
              <a:rect l="l" t="t" r="r" b="b"/>
              <a:pathLst>
                <a:path w="942" h="632">
                  <a:moveTo>
                    <a:pt x="221" y="159"/>
                  </a:moveTo>
                  <a:cubicBezTo>
                    <a:pt x="211" y="166"/>
                    <a:pt x="202" y="175"/>
                    <a:pt x="190" y="181"/>
                  </a:cubicBezTo>
                  <a:cubicBezTo>
                    <a:pt x="160" y="196"/>
                    <a:pt x="97" y="224"/>
                    <a:pt x="97" y="224"/>
                  </a:cubicBezTo>
                  <a:cubicBezTo>
                    <a:pt x="45" y="279"/>
                    <a:pt x="0" y="295"/>
                    <a:pt x="50" y="367"/>
                  </a:cubicBezTo>
                  <a:cubicBezTo>
                    <a:pt x="58" y="377"/>
                    <a:pt x="81" y="375"/>
                    <a:pt x="97" y="378"/>
                  </a:cubicBezTo>
                  <a:cubicBezTo>
                    <a:pt x="117" y="382"/>
                    <a:pt x="137" y="385"/>
                    <a:pt x="158" y="389"/>
                  </a:cubicBezTo>
                  <a:cubicBezTo>
                    <a:pt x="183" y="385"/>
                    <a:pt x="213" y="388"/>
                    <a:pt x="236" y="378"/>
                  </a:cubicBezTo>
                  <a:cubicBezTo>
                    <a:pt x="250" y="371"/>
                    <a:pt x="243" y="355"/>
                    <a:pt x="252" y="345"/>
                  </a:cubicBezTo>
                  <a:cubicBezTo>
                    <a:pt x="259" y="336"/>
                    <a:pt x="273" y="330"/>
                    <a:pt x="283" y="323"/>
                  </a:cubicBezTo>
                  <a:cubicBezTo>
                    <a:pt x="293" y="334"/>
                    <a:pt x="310" y="343"/>
                    <a:pt x="314" y="356"/>
                  </a:cubicBezTo>
                  <a:cubicBezTo>
                    <a:pt x="381" y="632"/>
                    <a:pt x="158" y="513"/>
                    <a:pt x="855" y="499"/>
                  </a:cubicBezTo>
                  <a:cubicBezTo>
                    <a:pt x="850" y="478"/>
                    <a:pt x="854" y="453"/>
                    <a:pt x="840" y="434"/>
                  </a:cubicBezTo>
                  <a:cubicBezTo>
                    <a:pt x="821" y="407"/>
                    <a:pt x="848" y="339"/>
                    <a:pt x="814" y="323"/>
                  </a:cubicBezTo>
                  <a:cubicBezTo>
                    <a:pt x="804" y="261"/>
                    <a:pt x="806" y="273"/>
                    <a:pt x="802" y="261"/>
                  </a:cubicBezTo>
                  <a:cubicBezTo>
                    <a:pt x="831" y="248"/>
                    <a:pt x="815" y="243"/>
                    <a:pt x="831" y="220"/>
                  </a:cubicBezTo>
                  <a:cubicBezTo>
                    <a:pt x="847" y="197"/>
                    <a:pt x="894" y="155"/>
                    <a:pt x="900" y="121"/>
                  </a:cubicBezTo>
                  <a:cubicBezTo>
                    <a:pt x="890" y="67"/>
                    <a:pt x="942" y="45"/>
                    <a:pt x="870" y="16"/>
                  </a:cubicBezTo>
                  <a:cubicBezTo>
                    <a:pt x="828" y="0"/>
                    <a:pt x="805" y="87"/>
                    <a:pt x="759" y="76"/>
                  </a:cubicBezTo>
                  <a:cubicBezTo>
                    <a:pt x="744" y="72"/>
                    <a:pt x="670" y="127"/>
                    <a:pt x="670" y="127"/>
                  </a:cubicBezTo>
                </a:path>
              </a:pathLst>
            </a:custGeom>
            <a:gradFill rotWithShape="0">
              <a:gsLst>
                <a:gs pos="0">
                  <a:srgbClr val="6c0000"/>
                </a:gs>
                <a:gs pos="50000">
                  <a:srgbClr val="ff0000"/>
                </a:gs>
                <a:gs pos="100000">
                  <a:srgbClr val="6c0000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rot="4200">
              <a:off x="75960" y="5589360"/>
              <a:ext cx="50472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H="1" rot="16122000">
              <a:off x="1517400" y="4882320"/>
              <a:ext cx="44604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rot="4200">
              <a:off x="777960" y="5268960"/>
              <a:ext cx="595080" cy="428400"/>
            </a:xfrm>
            <a:custGeom>
              <a:avLst/>
              <a:gdLst/>
              <a:ahLst/>
              <a:rect l="l" t="t" r="r" b="b"/>
              <a:pathLst>
                <a:path w="640" h="461">
                  <a:moveTo>
                    <a:pt x="64" y="445"/>
                  </a:moveTo>
                  <a:cubicBezTo>
                    <a:pt x="125" y="442"/>
                    <a:pt x="187" y="442"/>
                    <a:pt x="248" y="437"/>
                  </a:cubicBezTo>
                  <a:cubicBezTo>
                    <a:pt x="259" y="436"/>
                    <a:pt x="276" y="439"/>
                    <a:pt x="280" y="429"/>
                  </a:cubicBezTo>
                  <a:cubicBezTo>
                    <a:pt x="298" y="382"/>
                    <a:pt x="274" y="374"/>
                    <a:pt x="248" y="357"/>
                  </a:cubicBezTo>
                  <a:cubicBezTo>
                    <a:pt x="228" y="297"/>
                    <a:pt x="257" y="369"/>
                    <a:pt x="216" y="317"/>
                  </a:cubicBezTo>
                  <a:cubicBezTo>
                    <a:pt x="210" y="310"/>
                    <a:pt x="188" y="256"/>
                    <a:pt x="184" y="245"/>
                  </a:cubicBezTo>
                  <a:cubicBezTo>
                    <a:pt x="192" y="112"/>
                    <a:pt x="164" y="95"/>
                    <a:pt x="280" y="109"/>
                  </a:cubicBezTo>
                  <a:cubicBezTo>
                    <a:pt x="317" y="121"/>
                    <a:pt x="347" y="145"/>
                    <a:pt x="384" y="157"/>
                  </a:cubicBezTo>
                  <a:cubicBezTo>
                    <a:pt x="457" y="267"/>
                    <a:pt x="415" y="186"/>
                    <a:pt x="424" y="429"/>
                  </a:cubicBezTo>
                  <a:cubicBezTo>
                    <a:pt x="533" y="424"/>
                    <a:pt x="607" y="457"/>
                    <a:pt x="640" y="357"/>
                  </a:cubicBezTo>
                  <a:cubicBezTo>
                    <a:pt x="625" y="269"/>
                    <a:pt x="611" y="293"/>
                    <a:pt x="512" y="285"/>
                  </a:cubicBezTo>
                  <a:cubicBezTo>
                    <a:pt x="485" y="205"/>
                    <a:pt x="475" y="141"/>
                    <a:pt x="408" y="85"/>
                  </a:cubicBezTo>
                  <a:cubicBezTo>
                    <a:pt x="393" y="73"/>
                    <a:pt x="371" y="43"/>
                    <a:pt x="352" y="37"/>
                  </a:cubicBezTo>
                  <a:cubicBezTo>
                    <a:pt x="311" y="24"/>
                    <a:pt x="214" y="11"/>
                    <a:pt x="168" y="5"/>
                  </a:cubicBezTo>
                  <a:cubicBezTo>
                    <a:pt x="141" y="8"/>
                    <a:pt x="88" y="0"/>
                    <a:pt x="64" y="29"/>
                  </a:cubicBezTo>
                  <a:cubicBezTo>
                    <a:pt x="56" y="38"/>
                    <a:pt x="52" y="50"/>
                    <a:pt x="48" y="61"/>
                  </a:cubicBezTo>
                  <a:cubicBezTo>
                    <a:pt x="42" y="77"/>
                    <a:pt x="32" y="109"/>
                    <a:pt x="32" y="109"/>
                  </a:cubicBezTo>
                  <a:cubicBezTo>
                    <a:pt x="37" y="180"/>
                    <a:pt x="22" y="196"/>
                    <a:pt x="56" y="237"/>
                  </a:cubicBezTo>
                  <a:cubicBezTo>
                    <a:pt x="69" y="253"/>
                    <a:pt x="80" y="271"/>
                    <a:pt x="96" y="285"/>
                  </a:cubicBezTo>
                  <a:cubicBezTo>
                    <a:pt x="110" y="298"/>
                    <a:pt x="144" y="317"/>
                    <a:pt x="144" y="317"/>
                  </a:cubicBezTo>
                  <a:cubicBezTo>
                    <a:pt x="177" y="366"/>
                    <a:pt x="162" y="371"/>
                    <a:pt x="104" y="357"/>
                  </a:cubicBezTo>
                  <a:cubicBezTo>
                    <a:pt x="66" y="347"/>
                    <a:pt x="44" y="329"/>
                    <a:pt x="8" y="317"/>
                  </a:cubicBezTo>
                  <a:cubicBezTo>
                    <a:pt x="13" y="374"/>
                    <a:pt x="0" y="429"/>
                    <a:pt x="48" y="461"/>
                  </a:cubicBezTo>
                  <a:cubicBezTo>
                    <a:pt x="86" y="452"/>
                    <a:pt x="90" y="458"/>
                    <a:pt x="64" y="445"/>
                  </a:cubicBezTo>
                  <a:close/>
                </a:path>
              </a:pathLst>
            </a:custGeom>
            <a:solidFill>
              <a:srgbClr val="3333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93760" y="4160880"/>
              <a:ext cx="1211040" cy="1044360"/>
            </a:xfrm>
            <a:custGeom>
              <a:avLst/>
              <a:gdLst/>
              <a:ahLst/>
              <a:rect l="l" t="t" r="r" b="b"/>
              <a:pathLst>
                <a:path w="1050" h="906">
                  <a:moveTo>
                    <a:pt x="521" y="24"/>
                  </a:moveTo>
                  <a:cubicBezTo>
                    <a:pt x="598" y="0"/>
                    <a:pt x="573" y="2"/>
                    <a:pt x="709" y="24"/>
                  </a:cubicBezTo>
                  <a:cubicBezTo>
                    <a:pt x="734" y="28"/>
                    <a:pt x="784" y="48"/>
                    <a:pt x="784" y="48"/>
                  </a:cubicBezTo>
                  <a:cubicBezTo>
                    <a:pt x="864" y="105"/>
                    <a:pt x="820" y="70"/>
                    <a:pt x="910" y="157"/>
                  </a:cubicBezTo>
                  <a:cubicBezTo>
                    <a:pt x="939" y="185"/>
                    <a:pt x="985" y="254"/>
                    <a:pt x="985" y="254"/>
                  </a:cubicBezTo>
                  <a:cubicBezTo>
                    <a:pt x="1021" y="389"/>
                    <a:pt x="1050" y="536"/>
                    <a:pt x="973" y="664"/>
                  </a:cubicBezTo>
                  <a:cubicBezTo>
                    <a:pt x="954" y="697"/>
                    <a:pt x="927" y="767"/>
                    <a:pt x="897" y="785"/>
                  </a:cubicBezTo>
                  <a:cubicBezTo>
                    <a:pt x="847" y="817"/>
                    <a:pt x="805" y="862"/>
                    <a:pt x="747" y="882"/>
                  </a:cubicBezTo>
                  <a:cubicBezTo>
                    <a:pt x="715" y="894"/>
                    <a:pt x="646" y="906"/>
                    <a:pt x="646" y="906"/>
                  </a:cubicBezTo>
                  <a:cubicBezTo>
                    <a:pt x="489" y="898"/>
                    <a:pt x="376" y="886"/>
                    <a:pt x="232" y="846"/>
                  </a:cubicBezTo>
                  <a:cubicBezTo>
                    <a:pt x="153" y="795"/>
                    <a:pt x="100" y="741"/>
                    <a:pt x="69" y="652"/>
                  </a:cubicBezTo>
                  <a:cubicBezTo>
                    <a:pt x="73" y="521"/>
                    <a:pt x="0" y="178"/>
                    <a:pt x="203" y="114"/>
                  </a:cubicBezTo>
                  <a:cubicBezTo>
                    <a:pt x="274" y="46"/>
                    <a:pt x="360" y="62"/>
                    <a:pt x="458" y="48"/>
                  </a:cubicBezTo>
                  <a:cubicBezTo>
                    <a:pt x="537" y="22"/>
                    <a:pt x="560" y="24"/>
                    <a:pt x="521" y="24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rot="20582400">
              <a:off x="536400" y="4363560"/>
              <a:ext cx="341640" cy="4809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rot="20582400">
              <a:off x="903240" y="4264200"/>
              <a:ext cx="343080" cy="50796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rot="8088000">
              <a:off x="601200" y="4390560"/>
              <a:ext cx="751680" cy="70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44" y="1256"/>
                  </a:moveTo>
                  <a:arcTo wR="10800" hR="10800" stAng="-7074784" swAng="7074784"/>
                  <a:lnTo>
                    <a:pt x="10800" y="10800"/>
                  </a:lnTo>
                  <a:close/>
                </a:path>
                <a:path fill="none" w="21600" h="21600">
                  <a:moveTo>
                    <a:pt x="5744" y="1256"/>
                  </a:moveTo>
                  <a:arcTo wR="10800" hR="10800" stAng="-7074784" swAng="707478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rot="413400">
              <a:off x="907920" y="4773240"/>
              <a:ext cx="184320" cy="1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rot="413400">
              <a:off x="677880" y="4422240"/>
              <a:ext cx="182520" cy="257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rot="413400">
              <a:off x="1004760" y="4300200"/>
              <a:ext cx="182520" cy="257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rot="448800">
              <a:off x="328320" y="4195800"/>
              <a:ext cx="260280" cy="250920"/>
            </a:xfrm>
            <a:custGeom>
              <a:avLst/>
              <a:gdLst/>
              <a:ahLst/>
              <a:rect l="l" t="t" r="r" b="b"/>
              <a:pathLst>
                <a:path w="273" h="258">
                  <a:moveTo>
                    <a:pt x="273" y="40"/>
                  </a:moveTo>
                  <a:cubicBezTo>
                    <a:pt x="203" y="17"/>
                    <a:pt x="179" y="0"/>
                    <a:pt x="91" y="40"/>
                  </a:cubicBezTo>
                  <a:cubicBezTo>
                    <a:pt x="59" y="54"/>
                    <a:pt x="19" y="201"/>
                    <a:pt x="18" y="204"/>
                  </a:cubicBezTo>
                  <a:cubicBezTo>
                    <a:pt x="12" y="222"/>
                    <a:pt x="0" y="258"/>
                    <a:pt x="0" y="25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rot="448800">
              <a:off x="587160" y="4092480"/>
              <a:ext cx="274320" cy="211320"/>
            </a:xfrm>
            <a:custGeom>
              <a:avLst/>
              <a:gdLst/>
              <a:ahLst/>
              <a:rect l="l" t="t" r="r" b="b"/>
              <a:pathLst>
                <a:path w="290" h="218">
                  <a:moveTo>
                    <a:pt x="0" y="218"/>
                  </a:moveTo>
                  <a:cubicBezTo>
                    <a:pt x="66" y="118"/>
                    <a:pt x="157" y="0"/>
                    <a:pt x="29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rot="448800">
              <a:off x="632880" y="4065480"/>
              <a:ext cx="1800" cy="195480"/>
            </a:xfrm>
            <a:custGeom>
              <a:avLst/>
              <a:gdLst/>
              <a:ahLst/>
              <a:rect l="l" t="t" r="r" b="b"/>
              <a:pathLst>
                <a:path w="1" h="200">
                  <a:moveTo>
                    <a:pt x="0" y="200"/>
                  </a:moveTo>
                  <a:cubicBezTo>
                    <a:pt x="0" y="133"/>
                    <a:pt x="0" y="67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rot="21140400">
              <a:off x="418680" y="4266720"/>
              <a:ext cx="233280" cy="392400"/>
            </a:xfrm>
            <a:custGeom>
              <a:avLst/>
              <a:gdLst/>
              <a:ahLst/>
              <a:rect l="l" t="t" r="r" b="b"/>
              <a:pathLst>
                <a:path w="273" h="400">
                  <a:moveTo>
                    <a:pt x="273" y="0"/>
                  </a:moveTo>
                  <a:cubicBezTo>
                    <a:pt x="198" y="37"/>
                    <a:pt x="150" y="69"/>
                    <a:pt x="91" y="127"/>
                  </a:cubicBezTo>
                  <a:cubicBezTo>
                    <a:pt x="61" y="218"/>
                    <a:pt x="0" y="301"/>
                    <a:pt x="0" y="4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rot="1662000">
              <a:off x="651960" y="4183200"/>
              <a:ext cx="246240" cy="131760"/>
            </a:xfrm>
            <a:custGeom>
              <a:avLst/>
              <a:gdLst/>
              <a:ahLst/>
              <a:rect l="l" t="t" r="r" b="b"/>
              <a:pathLst>
                <a:path w="273" h="109">
                  <a:moveTo>
                    <a:pt x="0" y="109"/>
                  </a:moveTo>
                  <a:cubicBezTo>
                    <a:pt x="12" y="91"/>
                    <a:pt x="17" y="66"/>
                    <a:pt x="36" y="54"/>
                  </a:cubicBezTo>
                  <a:cubicBezTo>
                    <a:pt x="105" y="11"/>
                    <a:pt x="195" y="0"/>
                    <a:pt x="27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523880" y="3962520"/>
              <a:ext cx="990720" cy="1218960"/>
            </a:xfrm>
            <a:custGeom>
              <a:avLst/>
              <a:gdLst/>
              <a:ahLst/>
              <a:rect l="l" t="t" r="r" b="b"/>
              <a:pathLst>
                <a:path w="624" h="768">
                  <a:moveTo>
                    <a:pt x="0" y="720"/>
                  </a:moveTo>
                  <a:lnTo>
                    <a:pt x="48" y="768"/>
                  </a:lnTo>
                  <a:lnTo>
                    <a:pt x="624" y="0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1" name=""/>
          <p:cNvSpPr/>
          <p:nvPr/>
        </p:nvSpPr>
        <p:spPr>
          <a:xfrm>
            <a:off x="0" y="0"/>
            <a:ext cx="5276880" cy="3333600"/>
          </a:xfrm>
          <a:prstGeom prst="cloudCallout">
            <a:avLst>
              <a:gd name="adj1" fmla="val -39050"/>
              <a:gd name="adj2" fmla="val 57953"/>
            </a:avLst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786120" y="1614600"/>
            <a:ext cx="803520" cy="62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87280" y="1460520"/>
            <a:ext cx="803160" cy="630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99960" y="500040"/>
            <a:ext cx="47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stant of proportionality was called resi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5" name=""/>
          <p:cNvGrpSpPr/>
          <p:nvPr/>
        </p:nvGrpSpPr>
        <p:grpSpPr>
          <a:xfrm>
            <a:off x="357120" y="1379520"/>
            <a:ext cx="4494240" cy="1069560"/>
            <a:chOff x="357120" y="1379520"/>
            <a:chExt cx="4494240" cy="1069560"/>
          </a:xfrm>
        </p:grpSpPr>
        <p:sp>
          <p:nvSpPr>
            <p:cNvPr id="1406" name=""/>
            <p:cNvSpPr txBox="1"/>
            <p:nvPr/>
          </p:nvSpPr>
          <p:spPr>
            <a:xfrm>
              <a:off x="357120" y="1379520"/>
              <a:ext cx="2400480" cy="4759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Potential Differenc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407" name=""/>
            <p:cNvSpPr txBox="1"/>
            <p:nvPr/>
          </p:nvSpPr>
          <p:spPr>
            <a:xfrm>
              <a:off x="982800" y="2049120"/>
              <a:ext cx="1181160" cy="3999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Curren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62160" y="1942920"/>
              <a:ext cx="2305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9" name=""/>
            <p:cNvGrpSpPr/>
            <p:nvPr/>
          </p:nvGrpSpPr>
          <p:grpSpPr>
            <a:xfrm>
              <a:off x="2876760" y="1866600"/>
              <a:ext cx="247680" cy="114120"/>
              <a:chOff x="2876760" y="1866600"/>
              <a:chExt cx="247680" cy="114120"/>
            </a:xfrm>
          </p:grpSpPr>
          <p:sp>
            <p:nvSpPr>
              <p:cNvPr id="1410" name=""/>
              <p:cNvSpPr/>
              <p:nvPr/>
            </p:nvSpPr>
            <p:spPr>
              <a:xfrm>
                <a:off x="2876760" y="186660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876760" y="198072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2" name=""/>
            <p:cNvSpPr txBox="1"/>
            <p:nvPr/>
          </p:nvSpPr>
          <p:spPr>
            <a:xfrm>
              <a:off x="3249720" y="1679400"/>
              <a:ext cx="1601640" cy="352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 Black"/>
                </a:rPr>
                <a:t>resistance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1413" name=""/>
          <p:cNvSpPr txBox="1"/>
          <p:nvPr/>
        </p:nvSpPr>
        <p:spPr>
          <a:xfrm>
            <a:off x="1500120" y="3284640"/>
            <a:ext cx="281952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Potential Differ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414" name=""/>
          <p:cNvSpPr txBox="1"/>
          <p:nvPr/>
        </p:nvSpPr>
        <p:spPr>
          <a:xfrm>
            <a:off x="5916600" y="5573880"/>
            <a:ext cx="1866960" cy="49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Curr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5" name=""/>
          <p:cNvGrpSpPr/>
          <p:nvPr/>
        </p:nvGrpSpPr>
        <p:grpSpPr>
          <a:xfrm>
            <a:off x="75960" y="3962520"/>
            <a:ext cx="2438640" cy="2675160"/>
            <a:chOff x="75960" y="3962520"/>
            <a:chExt cx="2438640" cy="2675160"/>
          </a:xfrm>
        </p:grpSpPr>
        <p:sp>
          <p:nvSpPr>
            <p:cNvPr id="1416" name=""/>
            <p:cNvSpPr/>
            <p:nvPr/>
          </p:nvSpPr>
          <p:spPr>
            <a:xfrm rot="4200">
              <a:off x="375840" y="5091120"/>
              <a:ext cx="1473120" cy="1295280"/>
            </a:xfrm>
            <a:custGeom>
              <a:avLst/>
              <a:gdLst/>
              <a:ahLst/>
              <a:rect l="l" t="t" r="r" b="b"/>
              <a:pathLst>
                <a:path w="1688" h="1469">
                  <a:moveTo>
                    <a:pt x="60" y="859"/>
                  </a:moveTo>
                  <a:cubicBezTo>
                    <a:pt x="54" y="930"/>
                    <a:pt x="43" y="984"/>
                    <a:pt x="28" y="1050"/>
                  </a:cubicBezTo>
                  <a:cubicBezTo>
                    <a:pt x="25" y="1099"/>
                    <a:pt x="20" y="1147"/>
                    <a:pt x="20" y="1196"/>
                  </a:cubicBezTo>
                  <a:cubicBezTo>
                    <a:pt x="20" y="1374"/>
                    <a:pt x="0" y="1417"/>
                    <a:pt x="132" y="1424"/>
                  </a:cubicBezTo>
                  <a:cubicBezTo>
                    <a:pt x="289" y="1469"/>
                    <a:pt x="327" y="1216"/>
                    <a:pt x="636" y="1224"/>
                  </a:cubicBezTo>
                  <a:cubicBezTo>
                    <a:pt x="1284" y="1176"/>
                    <a:pt x="1224" y="1416"/>
                    <a:pt x="1508" y="1408"/>
                  </a:cubicBezTo>
                  <a:cubicBezTo>
                    <a:pt x="1548" y="1399"/>
                    <a:pt x="1606" y="1339"/>
                    <a:pt x="1644" y="1324"/>
                  </a:cubicBezTo>
                  <a:cubicBezTo>
                    <a:pt x="1652" y="1321"/>
                    <a:pt x="1648" y="1304"/>
                    <a:pt x="1652" y="1297"/>
                  </a:cubicBezTo>
                  <a:cubicBezTo>
                    <a:pt x="1659" y="1282"/>
                    <a:pt x="1668" y="1272"/>
                    <a:pt x="1676" y="1259"/>
                  </a:cubicBezTo>
                  <a:cubicBezTo>
                    <a:pt x="1688" y="1202"/>
                    <a:pt x="1676" y="1159"/>
                    <a:pt x="1660" y="1105"/>
                  </a:cubicBezTo>
                  <a:cubicBezTo>
                    <a:pt x="1649" y="1066"/>
                    <a:pt x="1643" y="1023"/>
                    <a:pt x="1628" y="986"/>
                  </a:cubicBezTo>
                  <a:cubicBezTo>
                    <a:pt x="1622" y="973"/>
                    <a:pt x="1611" y="962"/>
                    <a:pt x="1604" y="950"/>
                  </a:cubicBezTo>
                  <a:cubicBezTo>
                    <a:pt x="1581" y="906"/>
                    <a:pt x="1547" y="872"/>
                    <a:pt x="1520" y="832"/>
                  </a:cubicBezTo>
                  <a:cubicBezTo>
                    <a:pt x="1513" y="799"/>
                    <a:pt x="1498" y="688"/>
                    <a:pt x="1476" y="667"/>
                  </a:cubicBezTo>
                  <a:cubicBezTo>
                    <a:pt x="1469" y="661"/>
                    <a:pt x="1460" y="661"/>
                    <a:pt x="1452" y="658"/>
                  </a:cubicBezTo>
                  <a:cubicBezTo>
                    <a:pt x="1423" y="557"/>
                    <a:pt x="1472" y="706"/>
                    <a:pt x="1420" y="612"/>
                  </a:cubicBezTo>
                  <a:cubicBezTo>
                    <a:pt x="1407" y="588"/>
                    <a:pt x="1401" y="558"/>
                    <a:pt x="1396" y="530"/>
                  </a:cubicBezTo>
                  <a:cubicBezTo>
                    <a:pt x="1382" y="452"/>
                    <a:pt x="1383" y="354"/>
                    <a:pt x="1348" y="284"/>
                  </a:cubicBezTo>
                  <a:cubicBezTo>
                    <a:pt x="1335" y="258"/>
                    <a:pt x="1316" y="235"/>
                    <a:pt x="1300" y="211"/>
                  </a:cubicBezTo>
                  <a:cubicBezTo>
                    <a:pt x="1279" y="140"/>
                    <a:pt x="1267" y="125"/>
                    <a:pt x="1212" y="83"/>
                  </a:cubicBezTo>
                  <a:cubicBezTo>
                    <a:pt x="1198" y="73"/>
                    <a:pt x="1164" y="65"/>
                    <a:pt x="1164" y="65"/>
                  </a:cubicBezTo>
                  <a:cubicBezTo>
                    <a:pt x="1096" y="91"/>
                    <a:pt x="1010" y="87"/>
                    <a:pt x="940" y="92"/>
                  </a:cubicBezTo>
                  <a:cubicBezTo>
                    <a:pt x="822" y="89"/>
                    <a:pt x="675" y="93"/>
                    <a:pt x="548" y="75"/>
                  </a:cubicBezTo>
                  <a:cubicBezTo>
                    <a:pt x="499" y="66"/>
                    <a:pt x="454" y="46"/>
                    <a:pt x="404" y="37"/>
                  </a:cubicBezTo>
                  <a:cubicBezTo>
                    <a:pt x="156" y="49"/>
                    <a:pt x="253" y="0"/>
                    <a:pt x="164" y="102"/>
                  </a:cubicBezTo>
                  <a:cubicBezTo>
                    <a:pt x="146" y="165"/>
                    <a:pt x="134" y="230"/>
                    <a:pt x="116" y="293"/>
                  </a:cubicBezTo>
                  <a:cubicBezTo>
                    <a:pt x="106" y="421"/>
                    <a:pt x="183" y="546"/>
                    <a:pt x="168" y="672"/>
                  </a:cubicBezTo>
                  <a:cubicBezTo>
                    <a:pt x="160" y="739"/>
                    <a:pt x="39" y="787"/>
                    <a:pt x="117" y="918"/>
                  </a:cubicBezTo>
                </a:path>
              </a:pathLst>
            </a:custGeom>
            <a:gradFill rotWithShape="0">
              <a:gsLst>
                <a:gs pos="0">
                  <a:srgbClr val="750075"/>
                </a:gs>
                <a:gs pos="50000">
                  <a:srgbClr val="ff00ff"/>
                </a:gs>
                <a:gs pos="100000">
                  <a:srgbClr val="750075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 rot="4800">
              <a:off x="448920" y="6291360"/>
              <a:ext cx="571320" cy="345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rot="4200">
              <a:off x="642600" y="5716080"/>
              <a:ext cx="1093680" cy="655920"/>
            </a:xfrm>
            <a:custGeom>
              <a:avLst/>
              <a:gdLst/>
              <a:ahLst/>
              <a:rect l="l" t="t" r="r" b="b"/>
              <a:pathLst>
                <a:path w="1175" h="705">
                  <a:moveTo>
                    <a:pt x="88" y="67"/>
                  </a:moveTo>
                  <a:cubicBezTo>
                    <a:pt x="76" y="271"/>
                    <a:pt x="64" y="396"/>
                    <a:pt x="0" y="579"/>
                  </a:cubicBezTo>
                  <a:cubicBezTo>
                    <a:pt x="4" y="600"/>
                    <a:pt x="2" y="623"/>
                    <a:pt x="13" y="642"/>
                  </a:cubicBezTo>
                  <a:cubicBezTo>
                    <a:pt x="26" y="665"/>
                    <a:pt x="80" y="677"/>
                    <a:pt x="100" y="679"/>
                  </a:cubicBezTo>
                  <a:cubicBezTo>
                    <a:pt x="183" y="686"/>
                    <a:pt x="267" y="688"/>
                    <a:pt x="350" y="692"/>
                  </a:cubicBezTo>
                  <a:cubicBezTo>
                    <a:pt x="375" y="688"/>
                    <a:pt x="403" y="692"/>
                    <a:pt x="425" y="679"/>
                  </a:cubicBezTo>
                  <a:cubicBezTo>
                    <a:pt x="436" y="673"/>
                    <a:pt x="432" y="654"/>
                    <a:pt x="438" y="642"/>
                  </a:cubicBezTo>
                  <a:cubicBezTo>
                    <a:pt x="467" y="585"/>
                    <a:pt x="464" y="622"/>
                    <a:pt x="488" y="554"/>
                  </a:cubicBezTo>
                  <a:cubicBezTo>
                    <a:pt x="503" y="513"/>
                    <a:pt x="525" y="429"/>
                    <a:pt x="525" y="429"/>
                  </a:cubicBezTo>
                  <a:cubicBezTo>
                    <a:pt x="539" y="336"/>
                    <a:pt x="515" y="312"/>
                    <a:pt x="600" y="292"/>
                  </a:cubicBezTo>
                  <a:cubicBezTo>
                    <a:pt x="633" y="386"/>
                    <a:pt x="636" y="509"/>
                    <a:pt x="650" y="604"/>
                  </a:cubicBezTo>
                  <a:cubicBezTo>
                    <a:pt x="654" y="634"/>
                    <a:pt x="695" y="649"/>
                    <a:pt x="725" y="654"/>
                  </a:cubicBezTo>
                  <a:cubicBezTo>
                    <a:pt x="859" y="678"/>
                    <a:pt x="933" y="694"/>
                    <a:pt x="1075" y="704"/>
                  </a:cubicBezTo>
                  <a:cubicBezTo>
                    <a:pt x="1104" y="700"/>
                    <a:pt x="1137" y="705"/>
                    <a:pt x="1163" y="692"/>
                  </a:cubicBezTo>
                  <a:cubicBezTo>
                    <a:pt x="1175" y="686"/>
                    <a:pt x="1175" y="667"/>
                    <a:pt x="1175" y="654"/>
                  </a:cubicBezTo>
                  <a:cubicBezTo>
                    <a:pt x="1175" y="463"/>
                    <a:pt x="1163" y="472"/>
                    <a:pt x="1075" y="342"/>
                  </a:cubicBezTo>
                  <a:cubicBezTo>
                    <a:pt x="1071" y="326"/>
                    <a:pt x="1060" y="271"/>
                    <a:pt x="1050" y="254"/>
                  </a:cubicBezTo>
                  <a:cubicBezTo>
                    <a:pt x="1035" y="228"/>
                    <a:pt x="1000" y="179"/>
                    <a:pt x="1000" y="179"/>
                  </a:cubicBezTo>
                  <a:cubicBezTo>
                    <a:pt x="979" y="113"/>
                    <a:pt x="995" y="153"/>
                    <a:pt x="938" y="67"/>
                  </a:cubicBezTo>
                  <a:cubicBezTo>
                    <a:pt x="893" y="0"/>
                    <a:pt x="900" y="78"/>
                    <a:pt x="900" y="17"/>
                  </a:cubicBezTo>
                </a:path>
              </a:pathLst>
            </a:custGeom>
            <a:gradFill rotWithShape="0">
              <a:gsLst>
                <a:gs pos="0">
                  <a:srgbClr val="00cc99"/>
                </a:gs>
                <a:gs pos="50000">
                  <a:srgbClr val="ccecff"/>
                </a:gs>
                <a:gs pos="100000">
                  <a:srgbClr val="00cc99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rot="4200">
              <a:off x="1310760" y="6342120"/>
              <a:ext cx="617760" cy="291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52280" y="4979880"/>
              <a:ext cx="1495440" cy="1003320"/>
            </a:xfrm>
            <a:custGeom>
              <a:avLst/>
              <a:gdLst/>
              <a:ahLst/>
              <a:rect l="l" t="t" r="r" b="b"/>
              <a:pathLst>
                <a:path w="942" h="632">
                  <a:moveTo>
                    <a:pt x="221" y="159"/>
                  </a:moveTo>
                  <a:cubicBezTo>
                    <a:pt x="211" y="166"/>
                    <a:pt x="202" y="175"/>
                    <a:pt x="190" y="181"/>
                  </a:cubicBezTo>
                  <a:cubicBezTo>
                    <a:pt x="160" y="196"/>
                    <a:pt x="97" y="224"/>
                    <a:pt x="97" y="224"/>
                  </a:cubicBezTo>
                  <a:cubicBezTo>
                    <a:pt x="45" y="279"/>
                    <a:pt x="0" y="295"/>
                    <a:pt x="50" y="367"/>
                  </a:cubicBezTo>
                  <a:cubicBezTo>
                    <a:pt x="58" y="377"/>
                    <a:pt x="81" y="375"/>
                    <a:pt x="97" y="378"/>
                  </a:cubicBezTo>
                  <a:cubicBezTo>
                    <a:pt x="117" y="382"/>
                    <a:pt x="137" y="385"/>
                    <a:pt x="158" y="389"/>
                  </a:cubicBezTo>
                  <a:cubicBezTo>
                    <a:pt x="183" y="385"/>
                    <a:pt x="213" y="388"/>
                    <a:pt x="236" y="378"/>
                  </a:cubicBezTo>
                  <a:cubicBezTo>
                    <a:pt x="250" y="371"/>
                    <a:pt x="243" y="355"/>
                    <a:pt x="252" y="345"/>
                  </a:cubicBezTo>
                  <a:cubicBezTo>
                    <a:pt x="259" y="336"/>
                    <a:pt x="273" y="330"/>
                    <a:pt x="283" y="323"/>
                  </a:cubicBezTo>
                  <a:cubicBezTo>
                    <a:pt x="293" y="334"/>
                    <a:pt x="310" y="343"/>
                    <a:pt x="314" y="356"/>
                  </a:cubicBezTo>
                  <a:cubicBezTo>
                    <a:pt x="381" y="632"/>
                    <a:pt x="158" y="513"/>
                    <a:pt x="855" y="499"/>
                  </a:cubicBezTo>
                  <a:cubicBezTo>
                    <a:pt x="850" y="478"/>
                    <a:pt x="854" y="453"/>
                    <a:pt x="840" y="434"/>
                  </a:cubicBezTo>
                  <a:cubicBezTo>
                    <a:pt x="821" y="407"/>
                    <a:pt x="848" y="339"/>
                    <a:pt x="814" y="323"/>
                  </a:cubicBezTo>
                  <a:cubicBezTo>
                    <a:pt x="804" y="261"/>
                    <a:pt x="806" y="273"/>
                    <a:pt x="802" y="261"/>
                  </a:cubicBezTo>
                  <a:cubicBezTo>
                    <a:pt x="831" y="248"/>
                    <a:pt x="815" y="243"/>
                    <a:pt x="831" y="220"/>
                  </a:cubicBezTo>
                  <a:cubicBezTo>
                    <a:pt x="847" y="197"/>
                    <a:pt x="894" y="155"/>
                    <a:pt x="900" y="121"/>
                  </a:cubicBezTo>
                  <a:cubicBezTo>
                    <a:pt x="890" y="67"/>
                    <a:pt x="942" y="45"/>
                    <a:pt x="870" y="16"/>
                  </a:cubicBezTo>
                  <a:cubicBezTo>
                    <a:pt x="828" y="0"/>
                    <a:pt x="805" y="87"/>
                    <a:pt x="759" y="76"/>
                  </a:cubicBezTo>
                  <a:cubicBezTo>
                    <a:pt x="744" y="72"/>
                    <a:pt x="670" y="127"/>
                    <a:pt x="670" y="127"/>
                  </a:cubicBezTo>
                </a:path>
              </a:pathLst>
            </a:custGeom>
            <a:gradFill rotWithShape="0">
              <a:gsLst>
                <a:gs pos="0">
                  <a:srgbClr val="6c0000"/>
                </a:gs>
                <a:gs pos="50000">
                  <a:srgbClr val="ff0000"/>
                </a:gs>
                <a:gs pos="100000">
                  <a:srgbClr val="6c0000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rot="4200">
              <a:off x="75960" y="5589360"/>
              <a:ext cx="50472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 rot="16122000">
              <a:off x="1517400" y="4882320"/>
              <a:ext cx="44604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rot="4200">
              <a:off x="777960" y="5268960"/>
              <a:ext cx="595080" cy="428400"/>
            </a:xfrm>
            <a:custGeom>
              <a:avLst/>
              <a:gdLst/>
              <a:ahLst/>
              <a:rect l="l" t="t" r="r" b="b"/>
              <a:pathLst>
                <a:path w="640" h="461">
                  <a:moveTo>
                    <a:pt x="64" y="445"/>
                  </a:moveTo>
                  <a:cubicBezTo>
                    <a:pt x="125" y="442"/>
                    <a:pt x="187" y="442"/>
                    <a:pt x="248" y="437"/>
                  </a:cubicBezTo>
                  <a:cubicBezTo>
                    <a:pt x="259" y="436"/>
                    <a:pt x="276" y="439"/>
                    <a:pt x="280" y="429"/>
                  </a:cubicBezTo>
                  <a:cubicBezTo>
                    <a:pt x="298" y="382"/>
                    <a:pt x="274" y="374"/>
                    <a:pt x="248" y="357"/>
                  </a:cubicBezTo>
                  <a:cubicBezTo>
                    <a:pt x="228" y="297"/>
                    <a:pt x="257" y="369"/>
                    <a:pt x="216" y="317"/>
                  </a:cubicBezTo>
                  <a:cubicBezTo>
                    <a:pt x="210" y="310"/>
                    <a:pt x="188" y="256"/>
                    <a:pt x="184" y="245"/>
                  </a:cubicBezTo>
                  <a:cubicBezTo>
                    <a:pt x="192" y="112"/>
                    <a:pt x="164" y="95"/>
                    <a:pt x="280" y="109"/>
                  </a:cubicBezTo>
                  <a:cubicBezTo>
                    <a:pt x="317" y="121"/>
                    <a:pt x="347" y="145"/>
                    <a:pt x="384" y="157"/>
                  </a:cubicBezTo>
                  <a:cubicBezTo>
                    <a:pt x="457" y="267"/>
                    <a:pt x="415" y="186"/>
                    <a:pt x="424" y="429"/>
                  </a:cubicBezTo>
                  <a:cubicBezTo>
                    <a:pt x="533" y="424"/>
                    <a:pt x="607" y="457"/>
                    <a:pt x="640" y="357"/>
                  </a:cubicBezTo>
                  <a:cubicBezTo>
                    <a:pt x="625" y="269"/>
                    <a:pt x="611" y="293"/>
                    <a:pt x="512" y="285"/>
                  </a:cubicBezTo>
                  <a:cubicBezTo>
                    <a:pt x="485" y="205"/>
                    <a:pt x="475" y="141"/>
                    <a:pt x="408" y="85"/>
                  </a:cubicBezTo>
                  <a:cubicBezTo>
                    <a:pt x="393" y="73"/>
                    <a:pt x="371" y="43"/>
                    <a:pt x="352" y="37"/>
                  </a:cubicBezTo>
                  <a:cubicBezTo>
                    <a:pt x="311" y="24"/>
                    <a:pt x="214" y="11"/>
                    <a:pt x="168" y="5"/>
                  </a:cubicBezTo>
                  <a:cubicBezTo>
                    <a:pt x="141" y="8"/>
                    <a:pt x="88" y="0"/>
                    <a:pt x="64" y="29"/>
                  </a:cubicBezTo>
                  <a:cubicBezTo>
                    <a:pt x="56" y="38"/>
                    <a:pt x="52" y="50"/>
                    <a:pt x="48" y="61"/>
                  </a:cubicBezTo>
                  <a:cubicBezTo>
                    <a:pt x="42" y="77"/>
                    <a:pt x="32" y="109"/>
                    <a:pt x="32" y="109"/>
                  </a:cubicBezTo>
                  <a:cubicBezTo>
                    <a:pt x="37" y="180"/>
                    <a:pt x="22" y="196"/>
                    <a:pt x="56" y="237"/>
                  </a:cubicBezTo>
                  <a:cubicBezTo>
                    <a:pt x="69" y="253"/>
                    <a:pt x="80" y="271"/>
                    <a:pt x="96" y="285"/>
                  </a:cubicBezTo>
                  <a:cubicBezTo>
                    <a:pt x="110" y="298"/>
                    <a:pt x="144" y="317"/>
                    <a:pt x="144" y="317"/>
                  </a:cubicBezTo>
                  <a:cubicBezTo>
                    <a:pt x="177" y="366"/>
                    <a:pt x="162" y="371"/>
                    <a:pt x="104" y="357"/>
                  </a:cubicBezTo>
                  <a:cubicBezTo>
                    <a:pt x="66" y="347"/>
                    <a:pt x="44" y="329"/>
                    <a:pt x="8" y="317"/>
                  </a:cubicBezTo>
                  <a:cubicBezTo>
                    <a:pt x="13" y="374"/>
                    <a:pt x="0" y="429"/>
                    <a:pt x="48" y="461"/>
                  </a:cubicBezTo>
                  <a:cubicBezTo>
                    <a:pt x="86" y="452"/>
                    <a:pt x="90" y="458"/>
                    <a:pt x="64" y="445"/>
                  </a:cubicBezTo>
                  <a:close/>
                </a:path>
              </a:pathLst>
            </a:custGeom>
            <a:solidFill>
              <a:srgbClr val="3333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93760" y="4160880"/>
              <a:ext cx="1211040" cy="1044360"/>
            </a:xfrm>
            <a:custGeom>
              <a:avLst/>
              <a:gdLst/>
              <a:ahLst/>
              <a:rect l="l" t="t" r="r" b="b"/>
              <a:pathLst>
                <a:path w="1050" h="906">
                  <a:moveTo>
                    <a:pt x="521" y="24"/>
                  </a:moveTo>
                  <a:cubicBezTo>
                    <a:pt x="598" y="0"/>
                    <a:pt x="573" y="2"/>
                    <a:pt x="709" y="24"/>
                  </a:cubicBezTo>
                  <a:cubicBezTo>
                    <a:pt x="734" y="28"/>
                    <a:pt x="784" y="48"/>
                    <a:pt x="784" y="48"/>
                  </a:cubicBezTo>
                  <a:cubicBezTo>
                    <a:pt x="864" y="105"/>
                    <a:pt x="820" y="70"/>
                    <a:pt x="910" y="157"/>
                  </a:cubicBezTo>
                  <a:cubicBezTo>
                    <a:pt x="939" y="185"/>
                    <a:pt x="985" y="254"/>
                    <a:pt x="985" y="254"/>
                  </a:cubicBezTo>
                  <a:cubicBezTo>
                    <a:pt x="1021" y="389"/>
                    <a:pt x="1050" y="536"/>
                    <a:pt x="973" y="664"/>
                  </a:cubicBezTo>
                  <a:cubicBezTo>
                    <a:pt x="954" y="697"/>
                    <a:pt x="927" y="767"/>
                    <a:pt x="897" y="785"/>
                  </a:cubicBezTo>
                  <a:cubicBezTo>
                    <a:pt x="847" y="817"/>
                    <a:pt x="805" y="862"/>
                    <a:pt x="747" y="882"/>
                  </a:cubicBezTo>
                  <a:cubicBezTo>
                    <a:pt x="715" y="894"/>
                    <a:pt x="646" y="906"/>
                    <a:pt x="646" y="906"/>
                  </a:cubicBezTo>
                  <a:cubicBezTo>
                    <a:pt x="489" y="898"/>
                    <a:pt x="376" y="886"/>
                    <a:pt x="232" y="846"/>
                  </a:cubicBezTo>
                  <a:cubicBezTo>
                    <a:pt x="153" y="795"/>
                    <a:pt x="100" y="741"/>
                    <a:pt x="69" y="652"/>
                  </a:cubicBezTo>
                  <a:cubicBezTo>
                    <a:pt x="73" y="521"/>
                    <a:pt x="0" y="178"/>
                    <a:pt x="203" y="114"/>
                  </a:cubicBezTo>
                  <a:cubicBezTo>
                    <a:pt x="274" y="46"/>
                    <a:pt x="360" y="62"/>
                    <a:pt x="458" y="48"/>
                  </a:cubicBezTo>
                  <a:cubicBezTo>
                    <a:pt x="537" y="22"/>
                    <a:pt x="560" y="24"/>
                    <a:pt x="521" y="24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rot="20582400">
              <a:off x="536400" y="4363560"/>
              <a:ext cx="341640" cy="4809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rot="20582400">
              <a:off x="903240" y="4264200"/>
              <a:ext cx="343080" cy="50796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rot="8088000">
              <a:off x="601200" y="4390560"/>
              <a:ext cx="751680" cy="70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44" y="1256"/>
                  </a:moveTo>
                  <a:arcTo wR="10800" hR="10800" stAng="-7074784" swAng="7074784"/>
                  <a:lnTo>
                    <a:pt x="10800" y="10800"/>
                  </a:lnTo>
                  <a:close/>
                </a:path>
                <a:path fill="none" w="21600" h="21600">
                  <a:moveTo>
                    <a:pt x="5744" y="1256"/>
                  </a:moveTo>
                  <a:arcTo wR="10800" hR="10800" stAng="-7074784" swAng="707478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rot="413400">
              <a:off x="907920" y="4773240"/>
              <a:ext cx="184320" cy="1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rot="413400">
              <a:off x="677880" y="4422240"/>
              <a:ext cx="182520" cy="257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rot="413400">
              <a:off x="1004760" y="4300200"/>
              <a:ext cx="182520" cy="257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rot="448800">
              <a:off x="328320" y="4195800"/>
              <a:ext cx="260280" cy="250920"/>
            </a:xfrm>
            <a:custGeom>
              <a:avLst/>
              <a:gdLst/>
              <a:ahLst/>
              <a:rect l="l" t="t" r="r" b="b"/>
              <a:pathLst>
                <a:path w="273" h="258">
                  <a:moveTo>
                    <a:pt x="273" y="40"/>
                  </a:moveTo>
                  <a:cubicBezTo>
                    <a:pt x="203" y="17"/>
                    <a:pt x="179" y="0"/>
                    <a:pt x="91" y="40"/>
                  </a:cubicBezTo>
                  <a:cubicBezTo>
                    <a:pt x="59" y="54"/>
                    <a:pt x="19" y="201"/>
                    <a:pt x="18" y="204"/>
                  </a:cubicBezTo>
                  <a:cubicBezTo>
                    <a:pt x="12" y="222"/>
                    <a:pt x="0" y="258"/>
                    <a:pt x="0" y="25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rot="448800">
              <a:off x="587160" y="4092480"/>
              <a:ext cx="274320" cy="211320"/>
            </a:xfrm>
            <a:custGeom>
              <a:avLst/>
              <a:gdLst/>
              <a:ahLst/>
              <a:rect l="l" t="t" r="r" b="b"/>
              <a:pathLst>
                <a:path w="290" h="218">
                  <a:moveTo>
                    <a:pt x="0" y="218"/>
                  </a:moveTo>
                  <a:cubicBezTo>
                    <a:pt x="66" y="118"/>
                    <a:pt x="157" y="0"/>
                    <a:pt x="29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rot="448800">
              <a:off x="632880" y="4065480"/>
              <a:ext cx="1800" cy="195480"/>
            </a:xfrm>
            <a:custGeom>
              <a:avLst/>
              <a:gdLst/>
              <a:ahLst/>
              <a:rect l="l" t="t" r="r" b="b"/>
              <a:pathLst>
                <a:path w="1" h="200">
                  <a:moveTo>
                    <a:pt x="0" y="200"/>
                  </a:moveTo>
                  <a:cubicBezTo>
                    <a:pt x="0" y="133"/>
                    <a:pt x="0" y="67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rot="21140400">
              <a:off x="418680" y="4266720"/>
              <a:ext cx="233280" cy="392400"/>
            </a:xfrm>
            <a:custGeom>
              <a:avLst/>
              <a:gdLst/>
              <a:ahLst/>
              <a:rect l="l" t="t" r="r" b="b"/>
              <a:pathLst>
                <a:path w="273" h="400">
                  <a:moveTo>
                    <a:pt x="273" y="0"/>
                  </a:moveTo>
                  <a:cubicBezTo>
                    <a:pt x="198" y="37"/>
                    <a:pt x="150" y="69"/>
                    <a:pt x="91" y="127"/>
                  </a:cubicBezTo>
                  <a:cubicBezTo>
                    <a:pt x="61" y="218"/>
                    <a:pt x="0" y="301"/>
                    <a:pt x="0" y="4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rot="1662000">
              <a:off x="651960" y="4183200"/>
              <a:ext cx="246240" cy="131760"/>
            </a:xfrm>
            <a:custGeom>
              <a:avLst/>
              <a:gdLst/>
              <a:ahLst/>
              <a:rect l="l" t="t" r="r" b="b"/>
              <a:pathLst>
                <a:path w="273" h="109">
                  <a:moveTo>
                    <a:pt x="0" y="109"/>
                  </a:moveTo>
                  <a:cubicBezTo>
                    <a:pt x="12" y="91"/>
                    <a:pt x="17" y="66"/>
                    <a:pt x="36" y="54"/>
                  </a:cubicBezTo>
                  <a:cubicBezTo>
                    <a:pt x="105" y="11"/>
                    <a:pt x="195" y="0"/>
                    <a:pt x="27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523880" y="3962520"/>
              <a:ext cx="990720" cy="1218960"/>
            </a:xfrm>
            <a:custGeom>
              <a:avLst/>
              <a:gdLst/>
              <a:ahLst/>
              <a:rect l="l" t="t" r="r" b="b"/>
              <a:pathLst>
                <a:path w="624" h="768">
                  <a:moveTo>
                    <a:pt x="0" y="720"/>
                  </a:moveTo>
                  <a:lnTo>
                    <a:pt x="48" y="768"/>
                  </a:lnTo>
                  <a:lnTo>
                    <a:pt x="624" y="0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7" name=""/>
          <p:cNvSpPr/>
          <p:nvPr/>
        </p:nvSpPr>
        <p:spPr>
          <a:xfrm>
            <a:off x="0" y="0"/>
            <a:ext cx="5219640" cy="3048120"/>
          </a:xfrm>
          <a:prstGeom prst="cloudCallout">
            <a:avLst>
              <a:gd name="adj1" fmla="val -42944"/>
              <a:gd name="adj2" fmla="val 71199"/>
            </a:avLst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767040" y="1386000"/>
            <a:ext cx="803520" cy="62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87280" y="1460520"/>
            <a:ext cx="803160" cy="630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28600" y="538200"/>
            <a:ext cx="47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m’s L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usually written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V="1">
            <a:off x="5048280" y="3105000"/>
            <a:ext cx="3543120" cy="2076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019840" y="2924280"/>
            <a:ext cx="0" cy="22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5009760" y="5181480"/>
            <a:ext cx="375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410080" y="50608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805360" y="506880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200640" y="50608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59592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699120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738648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78176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H="1">
            <a:off x="4902120" y="328608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H="1">
            <a:off x="4905360" y="368136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H="1">
            <a:off x="4905360" y="407664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H="1">
            <a:off x="4905360" y="447192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H="1">
            <a:off x="4905360" y="486720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8191440" y="50767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8586720" y="50767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561708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41700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19820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97904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850280" y="5252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432680" y="498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348800" y="4229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348800" y="3461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263480" y="30405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348800" y="3835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348800" y="4636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357880" y="4952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738760" y="4705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6510240" y="42577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8091360" y="33242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 txBox="1"/>
          <p:nvPr/>
        </p:nvSpPr>
        <p:spPr>
          <a:xfrm rot="19850400">
            <a:off x="5916600" y="3679920"/>
            <a:ext cx="1601640" cy="352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resistanc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474" name=""/>
          <p:cNvSpPr txBox="1"/>
          <p:nvPr/>
        </p:nvSpPr>
        <p:spPr>
          <a:xfrm>
            <a:off x="2986200" y="4008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(Volts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475" name=""/>
          <p:cNvSpPr txBox="1"/>
          <p:nvPr/>
        </p:nvSpPr>
        <p:spPr>
          <a:xfrm>
            <a:off x="6259680" y="6164280"/>
            <a:ext cx="1238040" cy="380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(Amperes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1500120" y="3284640"/>
            <a:ext cx="281952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Potential Differ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5916600" y="5573880"/>
            <a:ext cx="1866960" cy="49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Curr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478" name=""/>
          <p:cNvGrpSpPr/>
          <p:nvPr/>
        </p:nvGrpSpPr>
        <p:grpSpPr>
          <a:xfrm>
            <a:off x="1195560" y="1668600"/>
            <a:ext cx="2779560" cy="704880"/>
            <a:chOff x="1195560" y="1668600"/>
            <a:chExt cx="2779560" cy="704880"/>
          </a:xfrm>
        </p:grpSpPr>
        <p:sp>
          <p:nvSpPr>
            <p:cNvPr id="1479" name=""/>
            <p:cNvSpPr/>
            <p:nvPr/>
          </p:nvSpPr>
          <p:spPr>
            <a:xfrm>
              <a:off x="2019240" y="203832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019240" y="215280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933640" y="2019240"/>
              <a:ext cx="20952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H="1">
              <a:off x="2933640" y="2019240"/>
              <a:ext cx="20952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 txBox="1"/>
            <p:nvPr/>
          </p:nvSpPr>
          <p:spPr>
            <a:xfrm>
              <a:off x="1195560" y="1801800"/>
              <a:ext cx="628560" cy="5716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484" name=""/>
            <p:cNvSpPr txBox="1"/>
            <p:nvPr/>
          </p:nvSpPr>
          <p:spPr>
            <a:xfrm>
              <a:off x="2563920" y="1668600"/>
              <a:ext cx="171360" cy="704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485" name=""/>
            <p:cNvSpPr txBox="1"/>
            <p:nvPr/>
          </p:nvSpPr>
          <p:spPr>
            <a:xfrm>
              <a:off x="3306600" y="1811160"/>
              <a:ext cx="668520" cy="5623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 Black"/>
                </a:rPr>
                <a:t>R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6" name=""/>
          <p:cNvGrpSpPr/>
          <p:nvPr/>
        </p:nvGrpSpPr>
        <p:grpSpPr>
          <a:xfrm>
            <a:off x="75960" y="3962520"/>
            <a:ext cx="2438640" cy="2675160"/>
            <a:chOff x="75960" y="3962520"/>
            <a:chExt cx="2438640" cy="2675160"/>
          </a:xfrm>
        </p:grpSpPr>
        <p:sp>
          <p:nvSpPr>
            <p:cNvPr id="1487" name=""/>
            <p:cNvSpPr/>
            <p:nvPr/>
          </p:nvSpPr>
          <p:spPr>
            <a:xfrm rot="4200">
              <a:off x="375840" y="5091120"/>
              <a:ext cx="1473120" cy="1295280"/>
            </a:xfrm>
            <a:custGeom>
              <a:avLst/>
              <a:gdLst/>
              <a:ahLst/>
              <a:rect l="l" t="t" r="r" b="b"/>
              <a:pathLst>
                <a:path w="1688" h="1469">
                  <a:moveTo>
                    <a:pt x="60" y="859"/>
                  </a:moveTo>
                  <a:cubicBezTo>
                    <a:pt x="54" y="930"/>
                    <a:pt x="43" y="984"/>
                    <a:pt x="28" y="1050"/>
                  </a:cubicBezTo>
                  <a:cubicBezTo>
                    <a:pt x="25" y="1099"/>
                    <a:pt x="20" y="1147"/>
                    <a:pt x="20" y="1196"/>
                  </a:cubicBezTo>
                  <a:cubicBezTo>
                    <a:pt x="20" y="1374"/>
                    <a:pt x="0" y="1417"/>
                    <a:pt x="132" y="1424"/>
                  </a:cubicBezTo>
                  <a:cubicBezTo>
                    <a:pt x="289" y="1469"/>
                    <a:pt x="327" y="1216"/>
                    <a:pt x="636" y="1224"/>
                  </a:cubicBezTo>
                  <a:cubicBezTo>
                    <a:pt x="1284" y="1176"/>
                    <a:pt x="1224" y="1416"/>
                    <a:pt x="1508" y="1408"/>
                  </a:cubicBezTo>
                  <a:cubicBezTo>
                    <a:pt x="1548" y="1399"/>
                    <a:pt x="1606" y="1339"/>
                    <a:pt x="1644" y="1324"/>
                  </a:cubicBezTo>
                  <a:cubicBezTo>
                    <a:pt x="1652" y="1321"/>
                    <a:pt x="1648" y="1304"/>
                    <a:pt x="1652" y="1297"/>
                  </a:cubicBezTo>
                  <a:cubicBezTo>
                    <a:pt x="1659" y="1282"/>
                    <a:pt x="1668" y="1272"/>
                    <a:pt x="1676" y="1259"/>
                  </a:cubicBezTo>
                  <a:cubicBezTo>
                    <a:pt x="1688" y="1202"/>
                    <a:pt x="1676" y="1159"/>
                    <a:pt x="1660" y="1105"/>
                  </a:cubicBezTo>
                  <a:cubicBezTo>
                    <a:pt x="1649" y="1066"/>
                    <a:pt x="1643" y="1023"/>
                    <a:pt x="1628" y="986"/>
                  </a:cubicBezTo>
                  <a:cubicBezTo>
                    <a:pt x="1622" y="973"/>
                    <a:pt x="1611" y="962"/>
                    <a:pt x="1604" y="950"/>
                  </a:cubicBezTo>
                  <a:cubicBezTo>
                    <a:pt x="1581" y="906"/>
                    <a:pt x="1547" y="872"/>
                    <a:pt x="1520" y="832"/>
                  </a:cubicBezTo>
                  <a:cubicBezTo>
                    <a:pt x="1513" y="799"/>
                    <a:pt x="1498" y="688"/>
                    <a:pt x="1476" y="667"/>
                  </a:cubicBezTo>
                  <a:cubicBezTo>
                    <a:pt x="1469" y="661"/>
                    <a:pt x="1460" y="661"/>
                    <a:pt x="1452" y="658"/>
                  </a:cubicBezTo>
                  <a:cubicBezTo>
                    <a:pt x="1423" y="557"/>
                    <a:pt x="1472" y="706"/>
                    <a:pt x="1420" y="612"/>
                  </a:cubicBezTo>
                  <a:cubicBezTo>
                    <a:pt x="1407" y="588"/>
                    <a:pt x="1401" y="558"/>
                    <a:pt x="1396" y="530"/>
                  </a:cubicBezTo>
                  <a:cubicBezTo>
                    <a:pt x="1382" y="452"/>
                    <a:pt x="1383" y="354"/>
                    <a:pt x="1348" y="284"/>
                  </a:cubicBezTo>
                  <a:cubicBezTo>
                    <a:pt x="1335" y="258"/>
                    <a:pt x="1316" y="235"/>
                    <a:pt x="1300" y="211"/>
                  </a:cubicBezTo>
                  <a:cubicBezTo>
                    <a:pt x="1279" y="140"/>
                    <a:pt x="1267" y="125"/>
                    <a:pt x="1212" y="83"/>
                  </a:cubicBezTo>
                  <a:cubicBezTo>
                    <a:pt x="1198" y="73"/>
                    <a:pt x="1164" y="65"/>
                    <a:pt x="1164" y="65"/>
                  </a:cubicBezTo>
                  <a:cubicBezTo>
                    <a:pt x="1096" y="91"/>
                    <a:pt x="1010" y="87"/>
                    <a:pt x="940" y="92"/>
                  </a:cubicBezTo>
                  <a:cubicBezTo>
                    <a:pt x="822" y="89"/>
                    <a:pt x="675" y="93"/>
                    <a:pt x="548" y="75"/>
                  </a:cubicBezTo>
                  <a:cubicBezTo>
                    <a:pt x="499" y="66"/>
                    <a:pt x="454" y="46"/>
                    <a:pt x="404" y="37"/>
                  </a:cubicBezTo>
                  <a:cubicBezTo>
                    <a:pt x="156" y="49"/>
                    <a:pt x="253" y="0"/>
                    <a:pt x="164" y="102"/>
                  </a:cubicBezTo>
                  <a:cubicBezTo>
                    <a:pt x="146" y="165"/>
                    <a:pt x="134" y="230"/>
                    <a:pt x="116" y="293"/>
                  </a:cubicBezTo>
                  <a:cubicBezTo>
                    <a:pt x="106" y="421"/>
                    <a:pt x="183" y="546"/>
                    <a:pt x="168" y="672"/>
                  </a:cubicBezTo>
                  <a:cubicBezTo>
                    <a:pt x="160" y="739"/>
                    <a:pt x="39" y="787"/>
                    <a:pt x="117" y="918"/>
                  </a:cubicBezTo>
                </a:path>
              </a:pathLst>
            </a:custGeom>
            <a:gradFill rotWithShape="0">
              <a:gsLst>
                <a:gs pos="0">
                  <a:srgbClr val="750075"/>
                </a:gs>
                <a:gs pos="50000">
                  <a:srgbClr val="ff00ff"/>
                </a:gs>
                <a:gs pos="100000">
                  <a:srgbClr val="750075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 rot="4800">
              <a:off x="448920" y="6291360"/>
              <a:ext cx="571320" cy="345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rot="4200">
              <a:off x="642600" y="5716080"/>
              <a:ext cx="1093680" cy="655920"/>
            </a:xfrm>
            <a:custGeom>
              <a:avLst/>
              <a:gdLst/>
              <a:ahLst/>
              <a:rect l="l" t="t" r="r" b="b"/>
              <a:pathLst>
                <a:path w="1175" h="705">
                  <a:moveTo>
                    <a:pt x="88" y="67"/>
                  </a:moveTo>
                  <a:cubicBezTo>
                    <a:pt x="76" y="271"/>
                    <a:pt x="64" y="396"/>
                    <a:pt x="0" y="579"/>
                  </a:cubicBezTo>
                  <a:cubicBezTo>
                    <a:pt x="4" y="600"/>
                    <a:pt x="2" y="623"/>
                    <a:pt x="13" y="642"/>
                  </a:cubicBezTo>
                  <a:cubicBezTo>
                    <a:pt x="26" y="665"/>
                    <a:pt x="80" y="677"/>
                    <a:pt x="100" y="679"/>
                  </a:cubicBezTo>
                  <a:cubicBezTo>
                    <a:pt x="183" y="686"/>
                    <a:pt x="267" y="688"/>
                    <a:pt x="350" y="692"/>
                  </a:cubicBezTo>
                  <a:cubicBezTo>
                    <a:pt x="375" y="688"/>
                    <a:pt x="403" y="692"/>
                    <a:pt x="425" y="679"/>
                  </a:cubicBezTo>
                  <a:cubicBezTo>
                    <a:pt x="436" y="673"/>
                    <a:pt x="432" y="654"/>
                    <a:pt x="438" y="642"/>
                  </a:cubicBezTo>
                  <a:cubicBezTo>
                    <a:pt x="467" y="585"/>
                    <a:pt x="464" y="622"/>
                    <a:pt x="488" y="554"/>
                  </a:cubicBezTo>
                  <a:cubicBezTo>
                    <a:pt x="503" y="513"/>
                    <a:pt x="525" y="429"/>
                    <a:pt x="525" y="429"/>
                  </a:cubicBezTo>
                  <a:cubicBezTo>
                    <a:pt x="539" y="336"/>
                    <a:pt x="515" y="312"/>
                    <a:pt x="600" y="292"/>
                  </a:cubicBezTo>
                  <a:cubicBezTo>
                    <a:pt x="633" y="386"/>
                    <a:pt x="636" y="509"/>
                    <a:pt x="650" y="604"/>
                  </a:cubicBezTo>
                  <a:cubicBezTo>
                    <a:pt x="654" y="634"/>
                    <a:pt x="695" y="649"/>
                    <a:pt x="725" y="654"/>
                  </a:cubicBezTo>
                  <a:cubicBezTo>
                    <a:pt x="859" y="678"/>
                    <a:pt x="933" y="694"/>
                    <a:pt x="1075" y="704"/>
                  </a:cubicBezTo>
                  <a:cubicBezTo>
                    <a:pt x="1104" y="700"/>
                    <a:pt x="1137" y="705"/>
                    <a:pt x="1163" y="692"/>
                  </a:cubicBezTo>
                  <a:cubicBezTo>
                    <a:pt x="1175" y="686"/>
                    <a:pt x="1175" y="667"/>
                    <a:pt x="1175" y="654"/>
                  </a:cubicBezTo>
                  <a:cubicBezTo>
                    <a:pt x="1175" y="463"/>
                    <a:pt x="1163" y="472"/>
                    <a:pt x="1075" y="342"/>
                  </a:cubicBezTo>
                  <a:cubicBezTo>
                    <a:pt x="1071" y="326"/>
                    <a:pt x="1060" y="271"/>
                    <a:pt x="1050" y="254"/>
                  </a:cubicBezTo>
                  <a:cubicBezTo>
                    <a:pt x="1035" y="228"/>
                    <a:pt x="1000" y="179"/>
                    <a:pt x="1000" y="179"/>
                  </a:cubicBezTo>
                  <a:cubicBezTo>
                    <a:pt x="979" y="113"/>
                    <a:pt x="995" y="153"/>
                    <a:pt x="938" y="67"/>
                  </a:cubicBezTo>
                  <a:cubicBezTo>
                    <a:pt x="893" y="0"/>
                    <a:pt x="900" y="78"/>
                    <a:pt x="900" y="17"/>
                  </a:cubicBezTo>
                </a:path>
              </a:pathLst>
            </a:custGeom>
            <a:gradFill rotWithShape="0">
              <a:gsLst>
                <a:gs pos="0">
                  <a:srgbClr val="00cc99"/>
                </a:gs>
                <a:gs pos="50000">
                  <a:srgbClr val="ccecff"/>
                </a:gs>
                <a:gs pos="100000">
                  <a:srgbClr val="00cc99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rot="4200">
              <a:off x="1310760" y="6342120"/>
              <a:ext cx="617760" cy="291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52280" y="4979880"/>
              <a:ext cx="1495440" cy="1003320"/>
            </a:xfrm>
            <a:custGeom>
              <a:avLst/>
              <a:gdLst/>
              <a:ahLst/>
              <a:rect l="l" t="t" r="r" b="b"/>
              <a:pathLst>
                <a:path w="942" h="632">
                  <a:moveTo>
                    <a:pt x="221" y="159"/>
                  </a:moveTo>
                  <a:cubicBezTo>
                    <a:pt x="211" y="166"/>
                    <a:pt x="202" y="175"/>
                    <a:pt x="190" y="181"/>
                  </a:cubicBezTo>
                  <a:cubicBezTo>
                    <a:pt x="160" y="196"/>
                    <a:pt x="97" y="224"/>
                    <a:pt x="97" y="224"/>
                  </a:cubicBezTo>
                  <a:cubicBezTo>
                    <a:pt x="45" y="279"/>
                    <a:pt x="0" y="295"/>
                    <a:pt x="50" y="367"/>
                  </a:cubicBezTo>
                  <a:cubicBezTo>
                    <a:pt x="58" y="377"/>
                    <a:pt x="81" y="375"/>
                    <a:pt x="97" y="378"/>
                  </a:cubicBezTo>
                  <a:cubicBezTo>
                    <a:pt x="117" y="382"/>
                    <a:pt x="137" y="385"/>
                    <a:pt x="158" y="389"/>
                  </a:cubicBezTo>
                  <a:cubicBezTo>
                    <a:pt x="183" y="385"/>
                    <a:pt x="213" y="388"/>
                    <a:pt x="236" y="378"/>
                  </a:cubicBezTo>
                  <a:cubicBezTo>
                    <a:pt x="250" y="371"/>
                    <a:pt x="243" y="355"/>
                    <a:pt x="252" y="345"/>
                  </a:cubicBezTo>
                  <a:cubicBezTo>
                    <a:pt x="259" y="336"/>
                    <a:pt x="273" y="330"/>
                    <a:pt x="283" y="323"/>
                  </a:cubicBezTo>
                  <a:cubicBezTo>
                    <a:pt x="293" y="334"/>
                    <a:pt x="310" y="343"/>
                    <a:pt x="314" y="356"/>
                  </a:cubicBezTo>
                  <a:cubicBezTo>
                    <a:pt x="381" y="632"/>
                    <a:pt x="158" y="513"/>
                    <a:pt x="855" y="499"/>
                  </a:cubicBezTo>
                  <a:cubicBezTo>
                    <a:pt x="850" y="478"/>
                    <a:pt x="854" y="453"/>
                    <a:pt x="840" y="434"/>
                  </a:cubicBezTo>
                  <a:cubicBezTo>
                    <a:pt x="821" y="407"/>
                    <a:pt x="848" y="339"/>
                    <a:pt x="814" y="323"/>
                  </a:cubicBezTo>
                  <a:cubicBezTo>
                    <a:pt x="804" y="261"/>
                    <a:pt x="806" y="273"/>
                    <a:pt x="802" y="261"/>
                  </a:cubicBezTo>
                  <a:cubicBezTo>
                    <a:pt x="831" y="248"/>
                    <a:pt x="815" y="243"/>
                    <a:pt x="831" y="220"/>
                  </a:cubicBezTo>
                  <a:cubicBezTo>
                    <a:pt x="847" y="197"/>
                    <a:pt x="894" y="155"/>
                    <a:pt x="900" y="121"/>
                  </a:cubicBezTo>
                  <a:cubicBezTo>
                    <a:pt x="890" y="67"/>
                    <a:pt x="942" y="45"/>
                    <a:pt x="870" y="16"/>
                  </a:cubicBezTo>
                  <a:cubicBezTo>
                    <a:pt x="828" y="0"/>
                    <a:pt x="805" y="87"/>
                    <a:pt x="759" y="76"/>
                  </a:cubicBezTo>
                  <a:cubicBezTo>
                    <a:pt x="744" y="72"/>
                    <a:pt x="670" y="127"/>
                    <a:pt x="670" y="127"/>
                  </a:cubicBezTo>
                </a:path>
              </a:pathLst>
            </a:custGeom>
            <a:gradFill rotWithShape="0">
              <a:gsLst>
                <a:gs pos="0">
                  <a:srgbClr val="6c0000"/>
                </a:gs>
                <a:gs pos="50000">
                  <a:srgbClr val="ff0000"/>
                </a:gs>
                <a:gs pos="100000">
                  <a:srgbClr val="6c0000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rot="4200">
              <a:off x="75960" y="5589360"/>
              <a:ext cx="50472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 rot="16122000">
              <a:off x="1517400" y="4882320"/>
              <a:ext cx="44604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rot="4200">
              <a:off x="777960" y="5268960"/>
              <a:ext cx="595080" cy="428400"/>
            </a:xfrm>
            <a:custGeom>
              <a:avLst/>
              <a:gdLst/>
              <a:ahLst/>
              <a:rect l="l" t="t" r="r" b="b"/>
              <a:pathLst>
                <a:path w="640" h="461">
                  <a:moveTo>
                    <a:pt x="64" y="445"/>
                  </a:moveTo>
                  <a:cubicBezTo>
                    <a:pt x="125" y="442"/>
                    <a:pt x="187" y="442"/>
                    <a:pt x="248" y="437"/>
                  </a:cubicBezTo>
                  <a:cubicBezTo>
                    <a:pt x="259" y="436"/>
                    <a:pt x="276" y="439"/>
                    <a:pt x="280" y="429"/>
                  </a:cubicBezTo>
                  <a:cubicBezTo>
                    <a:pt x="298" y="382"/>
                    <a:pt x="274" y="374"/>
                    <a:pt x="248" y="357"/>
                  </a:cubicBezTo>
                  <a:cubicBezTo>
                    <a:pt x="228" y="297"/>
                    <a:pt x="257" y="369"/>
                    <a:pt x="216" y="317"/>
                  </a:cubicBezTo>
                  <a:cubicBezTo>
                    <a:pt x="210" y="310"/>
                    <a:pt x="188" y="256"/>
                    <a:pt x="184" y="245"/>
                  </a:cubicBezTo>
                  <a:cubicBezTo>
                    <a:pt x="192" y="112"/>
                    <a:pt x="164" y="95"/>
                    <a:pt x="280" y="109"/>
                  </a:cubicBezTo>
                  <a:cubicBezTo>
                    <a:pt x="317" y="121"/>
                    <a:pt x="347" y="145"/>
                    <a:pt x="384" y="157"/>
                  </a:cubicBezTo>
                  <a:cubicBezTo>
                    <a:pt x="457" y="267"/>
                    <a:pt x="415" y="186"/>
                    <a:pt x="424" y="429"/>
                  </a:cubicBezTo>
                  <a:cubicBezTo>
                    <a:pt x="533" y="424"/>
                    <a:pt x="607" y="457"/>
                    <a:pt x="640" y="357"/>
                  </a:cubicBezTo>
                  <a:cubicBezTo>
                    <a:pt x="625" y="269"/>
                    <a:pt x="611" y="293"/>
                    <a:pt x="512" y="285"/>
                  </a:cubicBezTo>
                  <a:cubicBezTo>
                    <a:pt x="485" y="205"/>
                    <a:pt x="475" y="141"/>
                    <a:pt x="408" y="85"/>
                  </a:cubicBezTo>
                  <a:cubicBezTo>
                    <a:pt x="393" y="73"/>
                    <a:pt x="371" y="43"/>
                    <a:pt x="352" y="37"/>
                  </a:cubicBezTo>
                  <a:cubicBezTo>
                    <a:pt x="311" y="24"/>
                    <a:pt x="214" y="11"/>
                    <a:pt x="168" y="5"/>
                  </a:cubicBezTo>
                  <a:cubicBezTo>
                    <a:pt x="141" y="8"/>
                    <a:pt x="88" y="0"/>
                    <a:pt x="64" y="29"/>
                  </a:cubicBezTo>
                  <a:cubicBezTo>
                    <a:pt x="56" y="38"/>
                    <a:pt x="52" y="50"/>
                    <a:pt x="48" y="61"/>
                  </a:cubicBezTo>
                  <a:cubicBezTo>
                    <a:pt x="42" y="77"/>
                    <a:pt x="32" y="109"/>
                    <a:pt x="32" y="109"/>
                  </a:cubicBezTo>
                  <a:cubicBezTo>
                    <a:pt x="37" y="180"/>
                    <a:pt x="22" y="196"/>
                    <a:pt x="56" y="237"/>
                  </a:cubicBezTo>
                  <a:cubicBezTo>
                    <a:pt x="69" y="253"/>
                    <a:pt x="80" y="271"/>
                    <a:pt x="96" y="285"/>
                  </a:cubicBezTo>
                  <a:cubicBezTo>
                    <a:pt x="110" y="298"/>
                    <a:pt x="144" y="317"/>
                    <a:pt x="144" y="317"/>
                  </a:cubicBezTo>
                  <a:cubicBezTo>
                    <a:pt x="177" y="366"/>
                    <a:pt x="162" y="371"/>
                    <a:pt x="104" y="357"/>
                  </a:cubicBezTo>
                  <a:cubicBezTo>
                    <a:pt x="66" y="347"/>
                    <a:pt x="44" y="329"/>
                    <a:pt x="8" y="317"/>
                  </a:cubicBezTo>
                  <a:cubicBezTo>
                    <a:pt x="13" y="374"/>
                    <a:pt x="0" y="429"/>
                    <a:pt x="48" y="461"/>
                  </a:cubicBezTo>
                  <a:cubicBezTo>
                    <a:pt x="86" y="452"/>
                    <a:pt x="90" y="458"/>
                    <a:pt x="64" y="445"/>
                  </a:cubicBezTo>
                  <a:close/>
                </a:path>
              </a:pathLst>
            </a:custGeom>
            <a:solidFill>
              <a:srgbClr val="3333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93760" y="4160880"/>
              <a:ext cx="1211040" cy="1044360"/>
            </a:xfrm>
            <a:custGeom>
              <a:avLst/>
              <a:gdLst/>
              <a:ahLst/>
              <a:rect l="l" t="t" r="r" b="b"/>
              <a:pathLst>
                <a:path w="1050" h="906">
                  <a:moveTo>
                    <a:pt x="521" y="24"/>
                  </a:moveTo>
                  <a:cubicBezTo>
                    <a:pt x="598" y="0"/>
                    <a:pt x="573" y="2"/>
                    <a:pt x="709" y="24"/>
                  </a:cubicBezTo>
                  <a:cubicBezTo>
                    <a:pt x="734" y="28"/>
                    <a:pt x="784" y="48"/>
                    <a:pt x="784" y="48"/>
                  </a:cubicBezTo>
                  <a:cubicBezTo>
                    <a:pt x="864" y="105"/>
                    <a:pt x="820" y="70"/>
                    <a:pt x="910" y="157"/>
                  </a:cubicBezTo>
                  <a:cubicBezTo>
                    <a:pt x="939" y="185"/>
                    <a:pt x="985" y="254"/>
                    <a:pt x="985" y="254"/>
                  </a:cubicBezTo>
                  <a:cubicBezTo>
                    <a:pt x="1021" y="389"/>
                    <a:pt x="1050" y="536"/>
                    <a:pt x="973" y="664"/>
                  </a:cubicBezTo>
                  <a:cubicBezTo>
                    <a:pt x="954" y="697"/>
                    <a:pt x="927" y="767"/>
                    <a:pt x="897" y="785"/>
                  </a:cubicBezTo>
                  <a:cubicBezTo>
                    <a:pt x="847" y="817"/>
                    <a:pt x="805" y="862"/>
                    <a:pt x="747" y="882"/>
                  </a:cubicBezTo>
                  <a:cubicBezTo>
                    <a:pt x="715" y="894"/>
                    <a:pt x="646" y="906"/>
                    <a:pt x="646" y="906"/>
                  </a:cubicBezTo>
                  <a:cubicBezTo>
                    <a:pt x="489" y="898"/>
                    <a:pt x="376" y="886"/>
                    <a:pt x="232" y="846"/>
                  </a:cubicBezTo>
                  <a:cubicBezTo>
                    <a:pt x="153" y="795"/>
                    <a:pt x="100" y="741"/>
                    <a:pt x="69" y="652"/>
                  </a:cubicBezTo>
                  <a:cubicBezTo>
                    <a:pt x="73" y="521"/>
                    <a:pt x="0" y="178"/>
                    <a:pt x="203" y="114"/>
                  </a:cubicBezTo>
                  <a:cubicBezTo>
                    <a:pt x="274" y="46"/>
                    <a:pt x="360" y="62"/>
                    <a:pt x="458" y="48"/>
                  </a:cubicBezTo>
                  <a:cubicBezTo>
                    <a:pt x="537" y="22"/>
                    <a:pt x="560" y="24"/>
                    <a:pt x="521" y="24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rot="20582400">
              <a:off x="536400" y="4363560"/>
              <a:ext cx="341640" cy="4809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rot="20582400">
              <a:off x="903240" y="4264200"/>
              <a:ext cx="343080" cy="50796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rot="8088000">
              <a:off x="601200" y="4390560"/>
              <a:ext cx="751680" cy="70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44" y="1256"/>
                  </a:moveTo>
                  <a:arcTo wR="10800" hR="10800" stAng="-7074784" swAng="7074784"/>
                  <a:lnTo>
                    <a:pt x="10800" y="10800"/>
                  </a:lnTo>
                  <a:close/>
                </a:path>
                <a:path fill="none" w="21600" h="21600">
                  <a:moveTo>
                    <a:pt x="5744" y="1256"/>
                  </a:moveTo>
                  <a:arcTo wR="10800" hR="10800" stAng="-7074784" swAng="707478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rot="413400">
              <a:off x="907920" y="4773240"/>
              <a:ext cx="184320" cy="1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rot="413400">
              <a:off x="677880" y="4422240"/>
              <a:ext cx="182520" cy="257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rot="413400">
              <a:off x="1004760" y="4300200"/>
              <a:ext cx="182520" cy="257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 rot="448800">
              <a:off x="328320" y="4195800"/>
              <a:ext cx="260280" cy="250920"/>
            </a:xfrm>
            <a:custGeom>
              <a:avLst/>
              <a:gdLst/>
              <a:ahLst/>
              <a:rect l="l" t="t" r="r" b="b"/>
              <a:pathLst>
                <a:path w="273" h="258">
                  <a:moveTo>
                    <a:pt x="273" y="40"/>
                  </a:moveTo>
                  <a:cubicBezTo>
                    <a:pt x="203" y="17"/>
                    <a:pt x="179" y="0"/>
                    <a:pt x="91" y="40"/>
                  </a:cubicBezTo>
                  <a:cubicBezTo>
                    <a:pt x="59" y="54"/>
                    <a:pt x="19" y="201"/>
                    <a:pt x="18" y="204"/>
                  </a:cubicBezTo>
                  <a:cubicBezTo>
                    <a:pt x="12" y="222"/>
                    <a:pt x="0" y="258"/>
                    <a:pt x="0" y="25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rot="448800">
              <a:off x="587160" y="4092480"/>
              <a:ext cx="274320" cy="211320"/>
            </a:xfrm>
            <a:custGeom>
              <a:avLst/>
              <a:gdLst/>
              <a:ahLst/>
              <a:rect l="l" t="t" r="r" b="b"/>
              <a:pathLst>
                <a:path w="290" h="218">
                  <a:moveTo>
                    <a:pt x="0" y="218"/>
                  </a:moveTo>
                  <a:cubicBezTo>
                    <a:pt x="66" y="118"/>
                    <a:pt x="157" y="0"/>
                    <a:pt x="29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rot="448800">
              <a:off x="632880" y="4065480"/>
              <a:ext cx="1800" cy="195480"/>
            </a:xfrm>
            <a:custGeom>
              <a:avLst/>
              <a:gdLst/>
              <a:ahLst/>
              <a:rect l="l" t="t" r="r" b="b"/>
              <a:pathLst>
                <a:path w="1" h="200">
                  <a:moveTo>
                    <a:pt x="0" y="200"/>
                  </a:moveTo>
                  <a:cubicBezTo>
                    <a:pt x="0" y="133"/>
                    <a:pt x="0" y="67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rot="21140400">
              <a:off x="418680" y="4266720"/>
              <a:ext cx="233280" cy="392400"/>
            </a:xfrm>
            <a:custGeom>
              <a:avLst/>
              <a:gdLst/>
              <a:ahLst/>
              <a:rect l="l" t="t" r="r" b="b"/>
              <a:pathLst>
                <a:path w="273" h="400">
                  <a:moveTo>
                    <a:pt x="273" y="0"/>
                  </a:moveTo>
                  <a:cubicBezTo>
                    <a:pt x="198" y="37"/>
                    <a:pt x="150" y="69"/>
                    <a:pt x="91" y="127"/>
                  </a:cubicBezTo>
                  <a:cubicBezTo>
                    <a:pt x="61" y="218"/>
                    <a:pt x="0" y="301"/>
                    <a:pt x="0" y="4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rot="1662000">
              <a:off x="651960" y="4183200"/>
              <a:ext cx="246240" cy="131760"/>
            </a:xfrm>
            <a:custGeom>
              <a:avLst/>
              <a:gdLst/>
              <a:ahLst/>
              <a:rect l="l" t="t" r="r" b="b"/>
              <a:pathLst>
                <a:path w="273" h="109">
                  <a:moveTo>
                    <a:pt x="0" y="109"/>
                  </a:moveTo>
                  <a:cubicBezTo>
                    <a:pt x="12" y="91"/>
                    <a:pt x="17" y="66"/>
                    <a:pt x="36" y="54"/>
                  </a:cubicBezTo>
                  <a:cubicBezTo>
                    <a:pt x="105" y="11"/>
                    <a:pt x="195" y="0"/>
                    <a:pt x="27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523880" y="3962520"/>
              <a:ext cx="990720" cy="1218960"/>
            </a:xfrm>
            <a:custGeom>
              <a:avLst/>
              <a:gdLst/>
              <a:ahLst/>
              <a:rect l="l" t="t" r="r" b="b"/>
              <a:pathLst>
                <a:path w="624" h="768">
                  <a:moveTo>
                    <a:pt x="0" y="720"/>
                  </a:moveTo>
                  <a:lnTo>
                    <a:pt x="48" y="768"/>
                  </a:lnTo>
                  <a:lnTo>
                    <a:pt x="624" y="0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8" name=""/>
          <p:cNvSpPr/>
          <p:nvPr/>
        </p:nvSpPr>
        <p:spPr>
          <a:xfrm>
            <a:off x="0" y="0"/>
            <a:ext cx="5219640" cy="3048120"/>
          </a:xfrm>
          <a:prstGeom prst="cloudCallout">
            <a:avLst>
              <a:gd name="adj1" fmla="val -41120"/>
              <a:gd name="adj2" fmla="val 71824"/>
            </a:avLst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3767040" y="1386000"/>
            <a:ext cx="803520" cy="62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87280" y="1460520"/>
            <a:ext cx="803160" cy="630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795240" y="484200"/>
            <a:ext cx="3886200" cy="704880"/>
            <a:chOff x="795240" y="484200"/>
            <a:chExt cx="3886200" cy="704880"/>
          </a:xfrm>
        </p:grpSpPr>
        <p:sp>
          <p:nvSpPr>
            <p:cNvPr id="1512" name=""/>
            <p:cNvSpPr/>
            <p:nvPr/>
          </p:nvSpPr>
          <p:spPr>
            <a:xfrm>
              <a:off x="1504800" y="626040"/>
              <a:ext cx="10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s 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 txBox="1"/>
            <p:nvPr/>
          </p:nvSpPr>
          <p:spPr>
            <a:xfrm>
              <a:off x="795240" y="525600"/>
              <a:ext cx="628920" cy="5713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514" name=""/>
            <p:cNvSpPr txBox="1"/>
            <p:nvPr/>
          </p:nvSpPr>
          <p:spPr>
            <a:xfrm>
              <a:off x="2567160" y="484200"/>
              <a:ext cx="2114280" cy="704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Potential 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Differenc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1515" name=""/>
          <p:cNvSpPr/>
          <p:nvPr/>
        </p:nvSpPr>
        <p:spPr>
          <a:xfrm flipV="1">
            <a:off x="5048280" y="3105000"/>
            <a:ext cx="3543120" cy="2076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5019840" y="2924280"/>
            <a:ext cx="0" cy="22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H="1">
            <a:off x="5009760" y="5181480"/>
            <a:ext cx="375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410080" y="50608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5805360" y="506880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200640" y="50608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59592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99120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738648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78176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flipH="1">
            <a:off x="4902120" y="328608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flipH="1">
            <a:off x="4905360" y="368136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H="1">
            <a:off x="4905360" y="407664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 flipH="1">
            <a:off x="4905360" y="447192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 flipH="1">
            <a:off x="4905360" y="486720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8191440" y="50767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8586720" y="50767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561708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41700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719820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797904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850280" y="5252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432680" y="498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4348800" y="4229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348800" y="3461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4263480" y="30405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348800" y="3835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348800" y="4636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357880" y="49338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5738760" y="4705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6510240" y="42577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8091360" y="33242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 txBox="1"/>
          <p:nvPr/>
        </p:nvSpPr>
        <p:spPr>
          <a:xfrm rot="19850400">
            <a:off x="5916600" y="3679920"/>
            <a:ext cx="1601640" cy="352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resistanc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2986200" y="4008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(Volts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6259680" y="6164280"/>
            <a:ext cx="1238040" cy="380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(Amperes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1500120" y="3284640"/>
            <a:ext cx="281952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Potential Differ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5916600" y="5573880"/>
            <a:ext cx="1866960" cy="49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Curr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552" name=""/>
          <p:cNvGrpSpPr/>
          <p:nvPr/>
        </p:nvGrpSpPr>
        <p:grpSpPr>
          <a:xfrm>
            <a:off x="1195560" y="1668600"/>
            <a:ext cx="2779560" cy="704880"/>
            <a:chOff x="1195560" y="1668600"/>
            <a:chExt cx="2779560" cy="704880"/>
          </a:xfrm>
        </p:grpSpPr>
        <p:sp>
          <p:nvSpPr>
            <p:cNvPr id="1553" name=""/>
            <p:cNvSpPr/>
            <p:nvPr/>
          </p:nvSpPr>
          <p:spPr>
            <a:xfrm>
              <a:off x="2019240" y="203832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019240" y="215280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933640" y="2019240"/>
              <a:ext cx="20952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>
              <a:off x="2933640" y="2019240"/>
              <a:ext cx="20952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 txBox="1"/>
            <p:nvPr/>
          </p:nvSpPr>
          <p:spPr>
            <a:xfrm>
              <a:off x="1195560" y="1801800"/>
              <a:ext cx="628560" cy="5716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558" name=""/>
            <p:cNvSpPr txBox="1"/>
            <p:nvPr/>
          </p:nvSpPr>
          <p:spPr>
            <a:xfrm>
              <a:off x="2563920" y="1668600"/>
              <a:ext cx="171360" cy="704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559" name=""/>
            <p:cNvSpPr txBox="1"/>
            <p:nvPr/>
          </p:nvSpPr>
          <p:spPr>
            <a:xfrm>
              <a:off x="3306600" y="1811160"/>
              <a:ext cx="668520" cy="5623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 Black"/>
                </a:rPr>
                <a:t>R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0" name=""/>
          <p:cNvGrpSpPr/>
          <p:nvPr/>
        </p:nvGrpSpPr>
        <p:grpSpPr>
          <a:xfrm>
            <a:off x="75960" y="3962520"/>
            <a:ext cx="2438640" cy="2675160"/>
            <a:chOff x="75960" y="3962520"/>
            <a:chExt cx="2438640" cy="2675160"/>
          </a:xfrm>
        </p:grpSpPr>
        <p:sp>
          <p:nvSpPr>
            <p:cNvPr id="1561" name=""/>
            <p:cNvSpPr/>
            <p:nvPr/>
          </p:nvSpPr>
          <p:spPr>
            <a:xfrm rot="4200">
              <a:off x="375840" y="5091120"/>
              <a:ext cx="1473120" cy="1295280"/>
            </a:xfrm>
            <a:custGeom>
              <a:avLst/>
              <a:gdLst/>
              <a:ahLst/>
              <a:rect l="l" t="t" r="r" b="b"/>
              <a:pathLst>
                <a:path w="1688" h="1469">
                  <a:moveTo>
                    <a:pt x="60" y="859"/>
                  </a:moveTo>
                  <a:cubicBezTo>
                    <a:pt x="54" y="930"/>
                    <a:pt x="43" y="984"/>
                    <a:pt x="28" y="1050"/>
                  </a:cubicBezTo>
                  <a:cubicBezTo>
                    <a:pt x="25" y="1099"/>
                    <a:pt x="20" y="1147"/>
                    <a:pt x="20" y="1196"/>
                  </a:cubicBezTo>
                  <a:cubicBezTo>
                    <a:pt x="20" y="1374"/>
                    <a:pt x="0" y="1417"/>
                    <a:pt x="132" y="1424"/>
                  </a:cubicBezTo>
                  <a:cubicBezTo>
                    <a:pt x="289" y="1469"/>
                    <a:pt x="327" y="1216"/>
                    <a:pt x="636" y="1224"/>
                  </a:cubicBezTo>
                  <a:cubicBezTo>
                    <a:pt x="1284" y="1176"/>
                    <a:pt x="1224" y="1416"/>
                    <a:pt x="1508" y="1408"/>
                  </a:cubicBezTo>
                  <a:cubicBezTo>
                    <a:pt x="1548" y="1399"/>
                    <a:pt x="1606" y="1339"/>
                    <a:pt x="1644" y="1324"/>
                  </a:cubicBezTo>
                  <a:cubicBezTo>
                    <a:pt x="1652" y="1321"/>
                    <a:pt x="1648" y="1304"/>
                    <a:pt x="1652" y="1297"/>
                  </a:cubicBezTo>
                  <a:cubicBezTo>
                    <a:pt x="1659" y="1282"/>
                    <a:pt x="1668" y="1272"/>
                    <a:pt x="1676" y="1259"/>
                  </a:cubicBezTo>
                  <a:cubicBezTo>
                    <a:pt x="1688" y="1202"/>
                    <a:pt x="1676" y="1159"/>
                    <a:pt x="1660" y="1105"/>
                  </a:cubicBezTo>
                  <a:cubicBezTo>
                    <a:pt x="1649" y="1066"/>
                    <a:pt x="1643" y="1023"/>
                    <a:pt x="1628" y="986"/>
                  </a:cubicBezTo>
                  <a:cubicBezTo>
                    <a:pt x="1622" y="973"/>
                    <a:pt x="1611" y="962"/>
                    <a:pt x="1604" y="950"/>
                  </a:cubicBezTo>
                  <a:cubicBezTo>
                    <a:pt x="1581" y="906"/>
                    <a:pt x="1547" y="872"/>
                    <a:pt x="1520" y="832"/>
                  </a:cubicBezTo>
                  <a:cubicBezTo>
                    <a:pt x="1513" y="799"/>
                    <a:pt x="1498" y="688"/>
                    <a:pt x="1476" y="667"/>
                  </a:cubicBezTo>
                  <a:cubicBezTo>
                    <a:pt x="1469" y="661"/>
                    <a:pt x="1460" y="661"/>
                    <a:pt x="1452" y="658"/>
                  </a:cubicBezTo>
                  <a:cubicBezTo>
                    <a:pt x="1423" y="557"/>
                    <a:pt x="1472" y="706"/>
                    <a:pt x="1420" y="612"/>
                  </a:cubicBezTo>
                  <a:cubicBezTo>
                    <a:pt x="1407" y="588"/>
                    <a:pt x="1401" y="558"/>
                    <a:pt x="1396" y="530"/>
                  </a:cubicBezTo>
                  <a:cubicBezTo>
                    <a:pt x="1382" y="452"/>
                    <a:pt x="1383" y="354"/>
                    <a:pt x="1348" y="284"/>
                  </a:cubicBezTo>
                  <a:cubicBezTo>
                    <a:pt x="1335" y="258"/>
                    <a:pt x="1316" y="235"/>
                    <a:pt x="1300" y="211"/>
                  </a:cubicBezTo>
                  <a:cubicBezTo>
                    <a:pt x="1279" y="140"/>
                    <a:pt x="1267" y="125"/>
                    <a:pt x="1212" y="83"/>
                  </a:cubicBezTo>
                  <a:cubicBezTo>
                    <a:pt x="1198" y="73"/>
                    <a:pt x="1164" y="65"/>
                    <a:pt x="1164" y="65"/>
                  </a:cubicBezTo>
                  <a:cubicBezTo>
                    <a:pt x="1096" y="91"/>
                    <a:pt x="1010" y="87"/>
                    <a:pt x="940" y="92"/>
                  </a:cubicBezTo>
                  <a:cubicBezTo>
                    <a:pt x="822" y="89"/>
                    <a:pt x="675" y="93"/>
                    <a:pt x="548" y="75"/>
                  </a:cubicBezTo>
                  <a:cubicBezTo>
                    <a:pt x="499" y="66"/>
                    <a:pt x="454" y="46"/>
                    <a:pt x="404" y="37"/>
                  </a:cubicBezTo>
                  <a:cubicBezTo>
                    <a:pt x="156" y="49"/>
                    <a:pt x="253" y="0"/>
                    <a:pt x="164" y="102"/>
                  </a:cubicBezTo>
                  <a:cubicBezTo>
                    <a:pt x="146" y="165"/>
                    <a:pt x="134" y="230"/>
                    <a:pt x="116" y="293"/>
                  </a:cubicBezTo>
                  <a:cubicBezTo>
                    <a:pt x="106" y="421"/>
                    <a:pt x="183" y="546"/>
                    <a:pt x="168" y="672"/>
                  </a:cubicBezTo>
                  <a:cubicBezTo>
                    <a:pt x="160" y="739"/>
                    <a:pt x="39" y="787"/>
                    <a:pt x="117" y="918"/>
                  </a:cubicBezTo>
                </a:path>
              </a:pathLst>
            </a:custGeom>
            <a:gradFill rotWithShape="0">
              <a:gsLst>
                <a:gs pos="0">
                  <a:srgbClr val="750075"/>
                </a:gs>
                <a:gs pos="50000">
                  <a:srgbClr val="ff00ff"/>
                </a:gs>
                <a:gs pos="100000">
                  <a:srgbClr val="750075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 rot="4800">
              <a:off x="448920" y="6291360"/>
              <a:ext cx="571320" cy="345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rot="4200">
              <a:off x="642600" y="5716080"/>
              <a:ext cx="1093680" cy="655920"/>
            </a:xfrm>
            <a:custGeom>
              <a:avLst/>
              <a:gdLst/>
              <a:ahLst/>
              <a:rect l="l" t="t" r="r" b="b"/>
              <a:pathLst>
                <a:path w="1175" h="705">
                  <a:moveTo>
                    <a:pt x="88" y="67"/>
                  </a:moveTo>
                  <a:cubicBezTo>
                    <a:pt x="76" y="271"/>
                    <a:pt x="64" y="396"/>
                    <a:pt x="0" y="579"/>
                  </a:cubicBezTo>
                  <a:cubicBezTo>
                    <a:pt x="4" y="600"/>
                    <a:pt x="2" y="623"/>
                    <a:pt x="13" y="642"/>
                  </a:cubicBezTo>
                  <a:cubicBezTo>
                    <a:pt x="26" y="665"/>
                    <a:pt x="80" y="677"/>
                    <a:pt x="100" y="679"/>
                  </a:cubicBezTo>
                  <a:cubicBezTo>
                    <a:pt x="183" y="686"/>
                    <a:pt x="267" y="688"/>
                    <a:pt x="350" y="692"/>
                  </a:cubicBezTo>
                  <a:cubicBezTo>
                    <a:pt x="375" y="688"/>
                    <a:pt x="403" y="692"/>
                    <a:pt x="425" y="679"/>
                  </a:cubicBezTo>
                  <a:cubicBezTo>
                    <a:pt x="436" y="673"/>
                    <a:pt x="432" y="654"/>
                    <a:pt x="438" y="642"/>
                  </a:cubicBezTo>
                  <a:cubicBezTo>
                    <a:pt x="467" y="585"/>
                    <a:pt x="464" y="622"/>
                    <a:pt x="488" y="554"/>
                  </a:cubicBezTo>
                  <a:cubicBezTo>
                    <a:pt x="503" y="513"/>
                    <a:pt x="525" y="429"/>
                    <a:pt x="525" y="429"/>
                  </a:cubicBezTo>
                  <a:cubicBezTo>
                    <a:pt x="539" y="336"/>
                    <a:pt x="515" y="312"/>
                    <a:pt x="600" y="292"/>
                  </a:cubicBezTo>
                  <a:cubicBezTo>
                    <a:pt x="633" y="386"/>
                    <a:pt x="636" y="509"/>
                    <a:pt x="650" y="604"/>
                  </a:cubicBezTo>
                  <a:cubicBezTo>
                    <a:pt x="654" y="634"/>
                    <a:pt x="695" y="649"/>
                    <a:pt x="725" y="654"/>
                  </a:cubicBezTo>
                  <a:cubicBezTo>
                    <a:pt x="859" y="678"/>
                    <a:pt x="933" y="694"/>
                    <a:pt x="1075" y="704"/>
                  </a:cubicBezTo>
                  <a:cubicBezTo>
                    <a:pt x="1104" y="700"/>
                    <a:pt x="1137" y="705"/>
                    <a:pt x="1163" y="692"/>
                  </a:cubicBezTo>
                  <a:cubicBezTo>
                    <a:pt x="1175" y="686"/>
                    <a:pt x="1175" y="667"/>
                    <a:pt x="1175" y="654"/>
                  </a:cubicBezTo>
                  <a:cubicBezTo>
                    <a:pt x="1175" y="463"/>
                    <a:pt x="1163" y="472"/>
                    <a:pt x="1075" y="342"/>
                  </a:cubicBezTo>
                  <a:cubicBezTo>
                    <a:pt x="1071" y="326"/>
                    <a:pt x="1060" y="271"/>
                    <a:pt x="1050" y="254"/>
                  </a:cubicBezTo>
                  <a:cubicBezTo>
                    <a:pt x="1035" y="228"/>
                    <a:pt x="1000" y="179"/>
                    <a:pt x="1000" y="179"/>
                  </a:cubicBezTo>
                  <a:cubicBezTo>
                    <a:pt x="979" y="113"/>
                    <a:pt x="995" y="153"/>
                    <a:pt x="938" y="67"/>
                  </a:cubicBezTo>
                  <a:cubicBezTo>
                    <a:pt x="893" y="0"/>
                    <a:pt x="900" y="78"/>
                    <a:pt x="900" y="17"/>
                  </a:cubicBezTo>
                </a:path>
              </a:pathLst>
            </a:custGeom>
            <a:gradFill rotWithShape="0">
              <a:gsLst>
                <a:gs pos="0">
                  <a:srgbClr val="00cc99"/>
                </a:gs>
                <a:gs pos="50000">
                  <a:srgbClr val="ccecff"/>
                </a:gs>
                <a:gs pos="100000">
                  <a:srgbClr val="00cc99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rot="4200">
              <a:off x="1310760" y="6342120"/>
              <a:ext cx="617760" cy="291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52280" y="4979880"/>
              <a:ext cx="1495440" cy="1003320"/>
            </a:xfrm>
            <a:custGeom>
              <a:avLst/>
              <a:gdLst/>
              <a:ahLst/>
              <a:rect l="l" t="t" r="r" b="b"/>
              <a:pathLst>
                <a:path w="942" h="632">
                  <a:moveTo>
                    <a:pt x="221" y="159"/>
                  </a:moveTo>
                  <a:cubicBezTo>
                    <a:pt x="211" y="166"/>
                    <a:pt x="202" y="175"/>
                    <a:pt x="190" y="181"/>
                  </a:cubicBezTo>
                  <a:cubicBezTo>
                    <a:pt x="160" y="196"/>
                    <a:pt x="97" y="224"/>
                    <a:pt x="97" y="224"/>
                  </a:cubicBezTo>
                  <a:cubicBezTo>
                    <a:pt x="45" y="279"/>
                    <a:pt x="0" y="295"/>
                    <a:pt x="50" y="367"/>
                  </a:cubicBezTo>
                  <a:cubicBezTo>
                    <a:pt x="58" y="377"/>
                    <a:pt x="81" y="375"/>
                    <a:pt x="97" y="378"/>
                  </a:cubicBezTo>
                  <a:cubicBezTo>
                    <a:pt x="117" y="382"/>
                    <a:pt x="137" y="385"/>
                    <a:pt x="158" y="389"/>
                  </a:cubicBezTo>
                  <a:cubicBezTo>
                    <a:pt x="183" y="385"/>
                    <a:pt x="213" y="388"/>
                    <a:pt x="236" y="378"/>
                  </a:cubicBezTo>
                  <a:cubicBezTo>
                    <a:pt x="250" y="371"/>
                    <a:pt x="243" y="355"/>
                    <a:pt x="252" y="345"/>
                  </a:cubicBezTo>
                  <a:cubicBezTo>
                    <a:pt x="259" y="336"/>
                    <a:pt x="273" y="330"/>
                    <a:pt x="283" y="323"/>
                  </a:cubicBezTo>
                  <a:cubicBezTo>
                    <a:pt x="293" y="334"/>
                    <a:pt x="310" y="343"/>
                    <a:pt x="314" y="356"/>
                  </a:cubicBezTo>
                  <a:cubicBezTo>
                    <a:pt x="381" y="632"/>
                    <a:pt x="158" y="513"/>
                    <a:pt x="855" y="499"/>
                  </a:cubicBezTo>
                  <a:cubicBezTo>
                    <a:pt x="850" y="478"/>
                    <a:pt x="854" y="453"/>
                    <a:pt x="840" y="434"/>
                  </a:cubicBezTo>
                  <a:cubicBezTo>
                    <a:pt x="821" y="407"/>
                    <a:pt x="848" y="339"/>
                    <a:pt x="814" y="323"/>
                  </a:cubicBezTo>
                  <a:cubicBezTo>
                    <a:pt x="804" y="261"/>
                    <a:pt x="806" y="273"/>
                    <a:pt x="802" y="261"/>
                  </a:cubicBezTo>
                  <a:cubicBezTo>
                    <a:pt x="831" y="248"/>
                    <a:pt x="815" y="243"/>
                    <a:pt x="831" y="220"/>
                  </a:cubicBezTo>
                  <a:cubicBezTo>
                    <a:pt x="847" y="197"/>
                    <a:pt x="894" y="155"/>
                    <a:pt x="900" y="121"/>
                  </a:cubicBezTo>
                  <a:cubicBezTo>
                    <a:pt x="890" y="67"/>
                    <a:pt x="942" y="45"/>
                    <a:pt x="870" y="16"/>
                  </a:cubicBezTo>
                  <a:cubicBezTo>
                    <a:pt x="828" y="0"/>
                    <a:pt x="805" y="87"/>
                    <a:pt x="759" y="76"/>
                  </a:cubicBezTo>
                  <a:cubicBezTo>
                    <a:pt x="744" y="72"/>
                    <a:pt x="670" y="127"/>
                    <a:pt x="670" y="127"/>
                  </a:cubicBezTo>
                </a:path>
              </a:pathLst>
            </a:custGeom>
            <a:gradFill rotWithShape="0">
              <a:gsLst>
                <a:gs pos="0">
                  <a:srgbClr val="6c0000"/>
                </a:gs>
                <a:gs pos="50000">
                  <a:srgbClr val="ff0000"/>
                </a:gs>
                <a:gs pos="100000">
                  <a:srgbClr val="6c0000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rot="4200">
              <a:off x="75960" y="5589360"/>
              <a:ext cx="50472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 rot="16122000">
              <a:off x="1517400" y="4882320"/>
              <a:ext cx="44604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rot="4200">
              <a:off x="777960" y="5268960"/>
              <a:ext cx="595080" cy="428400"/>
            </a:xfrm>
            <a:custGeom>
              <a:avLst/>
              <a:gdLst/>
              <a:ahLst/>
              <a:rect l="l" t="t" r="r" b="b"/>
              <a:pathLst>
                <a:path w="640" h="461">
                  <a:moveTo>
                    <a:pt x="64" y="445"/>
                  </a:moveTo>
                  <a:cubicBezTo>
                    <a:pt x="125" y="442"/>
                    <a:pt x="187" y="442"/>
                    <a:pt x="248" y="437"/>
                  </a:cubicBezTo>
                  <a:cubicBezTo>
                    <a:pt x="259" y="436"/>
                    <a:pt x="276" y="439"/>
                    <a:pt x="280" y="429"/>
                  </a:cubicBezTo>
                  <a:cubicBezTo>
                    <a:pt x="298" y="382"/>
                    <a:pt x="274" y="374"/>
                    <a:pt x="248" y="357"/>
                  </a:cubicBezTo>
                  <a:cubicBezTo>
                    <a:pt x="228" y="297"/>
                    <a:pt x="257" y="369"/>
                    <a:pt x="216" y="317"/>
                  </a:cubicBezTo>
                  <a:cubicBezTo>
                    <a:pt x="210" y="310"/>
                    <a:pt x="188" y="256"/>
                    <a:pt x="184" y="245"/>
                  </a:cubicBezTo>
                  <a:cubicBezTo>
                    <a:pt x="192" y="112"/>
                    <a:pt x="164" y="95"/>
                    <a:pt x="280" y="109"/>
                  </a:cubicBezTo>
                  <a:cubicBezTo>
                    <a:pt x="317" y="121"/>
                    <a:pt x="347" y="145"/>
                    <a:pt x="384" y="157"/>
                  </a:cubicBezTo>
                  <a:cubicBezTo>
                    <a:pt x="457" y="267"/>
                    <a:pt x="415" y="186"/>
                    <a:pt x="424" y="429"/>
                  </a:cubicBezTo>
                  <a:cubicBezTo>
                    <a:pt x="533" y="424"/>
                    <a:pt x="607" y="457"/>
                    <a:pt x="640" y="357"/>
                  </a:cubicBezTo>
                  <a:cubicBezTo>
                    <a:pt x="625" y="269"/>
                    <a:pt x="611" y="293"/>
                    <a:pt x="512" y="285"/>
                  </a:cubicBezTo>
                  <a:cubicBezTo>
                    <a:pt x="485" y="205"/>
                    <a:pt x="475" y="141"/>
                    <a:pt x="408" y="85"/>
                  </a:cubicBezTo>
                  <a:cubicBezTo>
                    <a:pt x="393" y="73"/>
                    <a:pt x="371" y="43"/>
                    <a:pt x="352" y="37"/>
                  </a:cubicBezTo>
                  <a:cubicBezTo>
                    <a:pt x="311" y="24"/>
                    <a:pt x="214" y="11"/>
                    <a:pt x="168" y="5"/>
                  </a:cubicBezTo>
                  <a:cubicBezTo>
                    <a:pt x="141" y="8"/>
                    <a:pt x="88" y="0"/>
                    <a:pt x="64" y="29"/>
                  </a:cubicBezTo>
                  <a:cubicBezTo>
                    <a:pt x="56" y="38"/>
                    <a:pt x="52" y="50"/>
                    <a:pt x="48" y="61"/>
                  </a:cubicBezTo>
                  <a:cubicBezTo>
                    <a:pt x="42" y="77"/>
                    <a:pt x="32" y="109"/>
                    <a:pt x="32" y="109"/>
                  </a:cubicBezTo>
                  <a:cubicBezTo>
                    <a:pt x="37" y="180"/>
                    <a:pt x="22" y="196"/>
                    <a:pt x="56" y="237"/>
                  </a:cubicBezTo>
                  <a:cubicBezTo>
                    <a:pt x="69" y="253"/>
                    <a:pt x="80" y="271"/>
                    <a:pt x="96" y="285"/>
                  </a:cubicBezTo>
                  <a:cubicBezTo>
                    <a:pt x="110" y="298"/>
                    <a:pt x="144" y="317"/>
                    <a:pt x="144" y="317"/>
                  </a:cubicBezTo>
                  <a:cubicBezTo>
                    <a:pt x="177" y="366"/>
                    <a:pt x="162" y="371"/>
                    <a:pt x="104" y="357"/>
                  </a:cubicBezTo>
                  <a:cubicBezTo>
                    <a:pt x="66" y="347"/>
                    <a:pt x="44" y="329"/>
                    <a:pt x="8" y="317"/>
                  </a:cubicBezTo>
                  <a:cubicBezTo>
                    <a:pt x="13" y="374"/>
                    <a:pt x="0" y="429"/>
                    <a:pt x="48" y="461"/>
                  </a:cubicBezTo>
                  <a:cubicBezTo>
                    <a:pt x="86" y="452"/>
                    <a:pt x="90" y="458"/>
                    <a:pt x="64" y="445"/>
                  </a:cubicBezTo>
                  <a:close/>
                </a:path>
              </a:pathLst>
            </a:custGeom>
            <a:solidFill>
              <a:srgbClr val="3333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93760" y="4160880"/>
              <a:ext cx="1211040" cy="1044360"/>
            </a:xfrm>
            <a:custGeom>
              <a:avLst/>
              <a:gdLst/>
              <a:ahLst/>
              <a:rect l="l" t="t" r="r" b="b"/>
              <a:pathLst>
                <a:path w="1050" h="906">
                  <a:moveTo>
                    <a:pt x="521" y="24"/>
                  </a:moveTo>
                  <a:cubicBezTo>
                    <a:pt x="598" y="0"/>
                    <a:pt x="573" y="2"/>
                    <a:pt x="709" y="24"/>
                  </a:cubicBezTo>
                  <a:cubicBezTo>
                    <a:pt x="734" y="28"/>
                    <a:pt x="784" y="48"/>
                    <a:pt x="784" y="48"/>
                  </a:cubicBezTo>
                  <a:cubicBezTo>
                    <a:pt x="864" y="105"/>
                    <a:pt x="820" y="70"/>
                    <a:pt x="910" y="157"/>
                  </a:cubicBezTo>
                  <a:cubicBezTo>
                    <a:pt x="939" y="185"/>
                    <a:pt x="985" y="254"/>
                    <a:pt x="985" y="254"/>
                  </a:cubicBezTo>
                  <a:cubicBezTo>
                    <a:pt x="1021" y="389"/>
                    <a:pt x="1050" y="536"/>
                    <a:pt x="973" y="664"/>
                  </a:cubicBezTo>
                  <a:cubicBezTo>
                    <a:pt x="954" y="697"/>
                    <a:pt x="927" y="767"/>
                    <a:pt x="897" y="785"/>
                  </a:cubicBezTo>
                  <a:cubicBezTo>
                    <a:pt x="847" y="817"/>
                    <a:pt x="805" y="862"/>
                    <a:pt x="747" y="882"/>
                  </a:cubicBezTo>
                  <a:cubicBezTo>
                    <a:pt x="715" y="894"/>
                    <a:pt x="646" y="906"/>
                    <a:pt x="646" y="906"/>
                  </a:cubicBezTo>
                  <a:cubicBezTo>
                    <a:pt x="489" y="898"/>
                    <a:pt x="376" y="886"/>
                    <a:pt x="232" y="846"/>
                  </a:cubicBezTo>
                  <a:cubicBezTo>
                    <a:pt x="153" y="795"/>
                    <a:pt x="100" y="741"/>
                    <a:pt x="69" y="652"/>
                  </a:cubicBezTo>
                  <a:cubicBezTo>
                    <a:pt x="73" y="521"/>
                    <a:pt x="0" y="178"/>
                    <a:pt x="203" y="114"/>
                  </a:cubicBezTo>
                  <a:cubicBezTo>
                    <a:pt x="274" y="46"/>
                    <a:pt x="360" y="62"/>
                    <a:pt x="458" y="48"/>
                  </a:cubicBezTo>
                  <a:cubicBezTo>
                    <a:pt x="537" y="22"/>
                    <a:pt x="560" y="24"/>
                    <a:pt x="521" y="24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rot="20582400">
              <a:off x="536400" y="4363560"/>
              <a:ext cx="341640" cy="4809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rot="20582400">
              <a:off x="903240" y="4264200"/>
              <a:ext cx="343080" cy="50796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rot="8088000">
              <a:off x="601200" y="4390560"/>
              <a:ext cx="751680" cy="70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44" y="1256"/>
                  </a:moveTo>
                  <a:arcTo wR="10800" hR="10800" stAng="-7074784" swAng="7074784"/>
                  <a:lnTo>
                    <a:pt x="10800" y="10800"/>
                  </a:lnTo>
                  <a:close/>
                </a:path>
                <a:path fill="none" w="21600" h="21600">
                  <a:moveTo>
                    <a:pt x="5744" y="1256"/>
                  </a:moveTo>
                  <a:arcTo wR="10800" hR="10800" stAng="-7074784" swAng="707478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rot="413400">
              <a:off x="907920" y="4773240"/>
              <a:ext cx="184320" cy="1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rot="413400">
              <a:off x="677880" y="4422240"/>
              <a:ext cx="182520" cy="257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rot="413400">
              <a:off x="1004760" y="4300200"/>
              <a:ext cx="182520" cy="257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rot="448800">
              <a:off x="328320" y="4195800"/>
              <a:ext cx="260280" cy="250920"/>
            </a:xfrm>
            <a:custGeom>
              <a:avLst/>
              <a:gdLst/>
              <a:ahLst/>
              <a:rect l="l" t="t" r="r" b="b"/>
              <a:pathLst>
                <a:path w="273" h="258">
                  <a:moveTo>
                    <a:pt x="273" y="40"/>
                  </a:moveTo>
                  <a:cubicBezTo>
                    <a:pt x="203" y="17"/>
                    <a:pt x="179" y="0"/>
                    <a:pt x="91" y="40"/>
                  </a:cubicBezTo>
                  <a:cubicBezTo>
                    <a:pt x="59" y="54"/>
                    <a:pt x="19" y="201"/>
                    <a:pt x="18" y="204"/>
                  </a:cubicBezTo>
                  <a:cubicBezTo>
                    <a:pt x="12" y="222"/>
                    <a:pt x="0" y="258"/>
                    <a:pt x="0" y="25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rot="448800">
              <a:off x="587160" y="4092480"/>
              <a:ext cx="274320" cy="211320"/>
            </a:xfrm>
            <a:custGeom>
              <a:avLst/>
              <a:gdLst/>
              <a:ahLst/>
              <a:rect l="l" t="t" r="r" b="b"/>
              <a:pathLst>
                <a:path w="290" h="218">
                  <a:moveTo>
                    <a:pt x="0" y="218"/>
                  </a:moveTo>
                  <a:cubicBezTo>
                    <a:pt x="66" y="118"/>
                    <a:pt x="157" y="0"/>
                    <a:pt x="29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rot="448800">
              <a:off x="632880" y="4065480"/>
              <a:ext cx="1800" cy="195480"/>
            </a:xfrm>
            <a:custGeom>
              <a:avLst/>
              <a:gdLst/>
              <a:ahLst/>
              <a:rect l="l" t="t" r="r" b="b"/>
              <a:pathLst>
                <a:path w="1" h="200">
                  <a:moveTo>
                    <a:pt x="0" y="200"/>
                  </a:moveTo>
                  <a:cubicBezTo>
                    <a:pt x="0" y="133"/>
                    <a:pt x="0" y="67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rot="21140400">
              <a:off x="418680" y="4266720"/>
              <a:ext cx="233280" cy="392400"/>
            </a:xfrm>
            <a:custGeom>
              <a:avLst/>
              <a:gdLst/>
              <a:ahLst/>
              <a:rect l="l" t="t" r="r" b="b"/>
              <a:pathLst>
                <a:path w="273" h="400">
                  <a:moveTo>
                    <a:pt x="273" y="0"/>
                  </a:moveTo>
                  <a:cubicBezTo>
                    <a:pt x="198" y="37"/>
                    <a:pt x="150" y="69"/>
                    <a:pt x="91" y="127"/>
                  </a:cubicBezTo>
                  <a:cubicBezTo>
                    <a:pt x="61" y="218"/>
                    <a:pt x="0" y="301"/>
                    <a:pt x="0" y="4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rot="1662000">
              <a:off x="651960" y="4183200"/>
              <a:ext cx="246240" cy="131760"/>
            </a:xfrm>
            <a:custGeom>
              <a:avLst/>
              <a:gdLst/>
              <a:ahLst/>
              <a:rect l="l" t="t" r="r" b="b"/>
              <a:pathLst>
                <a:path w="273" h="109">
                  <a:moveTo>
                    <a:pt x="0" y="109"/>
                  </a:moveTo>
                  <a:cubicBezTo>
                    <a:pt x="12" y="91"/>
                    <a:pt x="17" y="66"/>
                    <a:pt x="36" y="54"/>
                  </a:cubicBezTo>
                  <a:cubicBezTo>
                    <a:pt x="105" y="11"/>
                    <a:pt x="195" y="0"/>
                    <a:pt x="27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523880" y="3962520"/>
              <a:ext cx="990720" cy="1218960"/>
            </a:xfrm>
            <a:custGeom>
              <a:avLst/>
              <a:gdLst/>
              <a:ahLst/>
              <a:rect l="l" t="t" r="r" b="b"/>
              <a:pathLst>
                <a:path w="624" h="768">
                  <a:moveTo>
                    <a:pt x="0" y="720"/>
                  </a:moveTo>
                  <a:lnTo>
                    <a:pt x="48" y="768"/>
                  </a:lnTo>
                  <a:lnTo>
                    <a:pt x="624" y="0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2" name=""/>
          <p:cNvSpPr/>
          <p:nvPr/>
        </p:nvSpPr>
        <p:spPr>
          <a:xfrm>
            <a:off x="0" y="0"/>
            <a:ext cx="5219640" cy="3048120"/>
          </a:xfrm>
          <a:prstGeom prst="cloudCallout">
            <a:avLst>
              <a:gd name="adj1" fmla="val -41120"/>
              <a:gd name="adj2" fmla="val 71824"/>
            </a:avLst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767040" y="1386000"/>
            <a:ext cx="803520" cy="62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287280" y="1460520"/>
            <a:ext cx="803160" cy="630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571680" y="484200"/>
            <a:ext cx="4109760" cy="704880"/>
            <a:chOff x="571680" y="484200"/>
            <a:chExt cx="4109760" cy="704880"/>
          </a:xfrm>
        </p:grpSpPr>
        <p:sp>
          <p:nvSpPr>
            <p:cNvPr id="1586" name=""/>
            <p:cNvSpPr/>
            <p:nvPr/>
          </p:nvSpPr>
          <p:spPr>
            <a:xfrm>
              <a:off x="571680" y="626040"/>
              <a:ext cx="199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asured 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 txBox="1"/>
            <p:nvPr/>
          </p:nvSpPr>
          <p:spPr>
            <a:xfrm>
              <a:off x="2567160" y="484200"/>
              <a:ext cx="2114280" cy="704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olt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1588" name=""/>
          <p:cNvSpPr/>
          <p:nvPr/>
        </p:nvSpPr>
        <p:spPr>
          <a:xfrm flipV="1">
            <a:off x="5048280" y="3105000"/>
            <a:ext cx="3543120" cy="2076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019840" y="2924280"/>
            <a:ext cx="0" cy="22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flipH="1">
            <a:off x="5009760" y="5181480"/>
            <a:ext cx="375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5410080" y="50608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5805360" y="506880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6200640" y="50608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59592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99120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38648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78176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 flipH="1">
            <a:off x="4902120" y="328608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flipH="1">
            <a:off x="4905360" y="368136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flipH="1">
            <a:off x="4905360" y="407664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 flipH="1">
            <a:off x="4905360" y="447192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flipH="1">
            <a:off x="4905360" y="486720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8191440" y="50767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8586720" y="50767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561708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41700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19820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797904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850280" y="5252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4432680" y="498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348800" y="4229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4348800" y="3461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4263480" y="30405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4348800" y="3835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4348800" y="4636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5357880" y="49338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738760" y="4705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510240" y="42577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8091360" y="33242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 txBox="1"/>
          <p:nvPr/>
        </p:nvSpPr>
        <p:spPr>
          <a:xfrm rot="19850400">
            <a:off x="5916600" y="3679920"/>
            <a:ext cx="1601640" cy="352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resistanc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2986200" y="4008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(Volts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22" name=""/>
          <p:cNvSpPr txBox="1"/>
          <p:nvPr/>
        </p:nvSpPr>
        <p:spPr>
          <a:xfrm>
            <a:off x="6259680" y="6164280"/>
            <a:ext cx="1238040" cy="380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(Amperes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1500120" y="3284640"/>
            <a:ext cx="281952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Potential Differ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24" name=""/>
          <p:cNvSpPr txBox="1"/>
          <p:nvPr/>
        </p:nvSpPr>
        <p:spPr>
          <a:xfrm>
            <a:off x="5916600" y="5573880"/>
            <a:ext cx="1866960" cy="49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Curr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625" name=""/>
          <p:cNvGrpSpPr/>
          <p:nvPr/>
        </p:nvGrpSpPr>
        <p:grpSpPr>
          <a:xfrm>
            <a:off x="1195560" y="1668600"/>
            <a:ext cx="2779560" cy="704880"/>
            <a:chOff x="1195560" y="1668600"/>
            <a:chExt cx="2779560" cy="704880"/>
          </a:xfrm>
        </p:grpSpPr>
        <p:sp>
          <p:nvSpPr>
            <p:cNvPr id="1626" name=""/>
            <p:cNvSpPr/>
            <p:nvPr/>
          </p:nvSpPr>
          <p:spPr>
            <a:xfrm>
              <a:off x="2019240" y="203832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019240" y="215280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933640" y="2019240"/>
              <a:ext cx="20952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H="1">
              <a:off x="2933640" y="2019240"/>
              <a:ext cx="20952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 txBox="1"/>
            <p:nvPr/>
          </p:nvSpPr>
          <p:spPr>
            <a:xfrm>
              <a:off x="1195560" y="1801800"/>
              <a:ext cx="628560" cy="5716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631" name=""/>
            <p:cNvSpPr txBox="1"/>
            <p:nvPr/>
          </p:nvSpPr>
          <p:spPr>
            <a:xfrm>
              <a:off x="2563920" y="1668600"/>
              <a:ext cx="171360" cy="704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632" name=""/>
            <p:cNvSpPr txBox="1"/>
            <p:nvPr/>
          </p:nvSpPr>
          <p:spPr>
            <a:xfrm>
              <a:off x="3306600" y="1811160"/>
              <a:ext cx="668520" cy="5623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 Black"/>
                </a:rPr>
                <a:t>R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3" name=""/>
          <p:cNvGrpSpPr/>
          <p:nvPr/>
        </p:nvGrpSpPr>
        <p:grpSpPr>
          <a:xfrm>
            <a:off x="75960" y="3962520"/>
            <a:ext cx="2438640" cy="2675160"/>
            <a:chOff x="75960" y="3962520"/>
            <a:chExt cx="2438640" cy="2675160"/>
          </a:xfrm>
        </p:grpSpPr>
        <p:sp>
          <p:nvSpPr>
            <p:cNvPr id="1634" name=""/>
            <p:cNvSpPr/>
            <p:nvPr/>
          </p:nvSpPr>
          <p:spPr>
            <a:xfrm rot="4200">
              <a:off x="375840" y="5091120"/>
              <a:ext cx="1473120" cy="1295280"/>
            </a:xfrm>
            <a:custGeom>
              <a:avLst/>
              <a:gdLst/>
              <a:ahLst/>
              <a:rect l="l" t="t" r="r" b="b"/>
              <a:pathLst>
                <a:path w="1688" h="1469">
                  <a:moveTo>
                    <a:pt x="60" y="859"/>
                  </a:moveTo>
                  <a:cubicBezTo>
                    <a:pt x="54" y="930"/>
                    <a:pt x="43" y="984"/>
                    <a:pt x="28" y="1050"/>
                  </a:cubicBezTo>
                  <a:cubicBezTo>
                    <a:pt x="25" y="1099"/>
                    <a:pt x="20" y="1147"/>
                    <a:pt x="20" y="1196"/>
                  </a:cubicBezTo>
                  <a:cubicBezTo>
                    <a:pt x="20" y="1374"/>
                    <a:pt x="0" y="1417"/>
                    <a:pt x="132" y="1424"/>
                  </a:cubicBezTo>
                  <a:cubicBezTo>
                    <a:pt x="289" y="1469"/>
                    <a:pt x="327" y="1216"/>
                    <a:pt x="636" y="1224"/>
                  </a:cubicBezTo>
                  <a:cubicBezTo>
                    <a:pt x="1284" y="1176"/>
                    <a:pt x="1224" y="1416"/>
                    <a:pt x="1508" y="1408"/>
                  </a:cubicBezTo>
                  <a:cubicBezTo>
                    <a:pt x="1548" y="1399"/>
                    <a:pt x="1606" y="1339"/>
                    <a:pt x="1644" y="1324"/>
                  </a:cubicBezTo>
                  <a:cubicBezTo>
                    <a:pt x="1652" y="1321"/>
                    <a:pt x="1648" y="1304"/>
                    <a:pt x="1652" y="1297"/>
                  </a:cubicBezTo>
                  <a:cubicBezTo>
                    <a:pt x="1659" y="1282"/>
                    <a:pt x="1668" y="1272"/>
                    <a:pt x="1676" y="1259"/>
                  </a:cubicBezTo>
                  <a:cubicBezTo>
                    <a:pt x="1688" y="1202"/>
                    <a:pt x="1676" y="1159"/>
                    <a:pt x="1660" y="1105"/>
                  </a:cubicBezTo>
                  <a:cubicBezTo>
                    <a:pt x="1649" y="1066"/>
                    <a:pt x="1643" y="1023"/>
                    <a:pt x="1628" y="986"/>
                  </a:cubicBezTo>
                  <a:cubicBezTo>
                    <a:pt x="1622" y="973"/>
                    <a:pt x="1611" y="962"/>
                    <a:pt x="1604" y="950"/>
                  </a:cubicBezTo>
                  <a:cubicBezTo>
                    <a:pt x="1581" y="906"/>
                    <a:pt x="1547" y="872"/>
                    <a:pt x="1520" y="832"/>
                  </a:cubicBezTo>
                  <a:cubicBezTo>
                    <a:pt x="1513" y="799"/>
                    <a:pt x="1498" y="688"/>
                    <a:pt x="1476" y="667"/>
                  </a:cubicBezTo>
                  <a:cubicBezTo>
                    <a:pt x="1469" y="661"/>
                    <a:pt x="1460" y="661"/>
                    <a:pt x="1452" y="658"/>
                  </a:cubicBezTo>
                  <a:cubicBezTo>
                    <a:pt x="1423" y="557"/>
                    <a:pt x="1472" y="706"/>
                    <a:pt x="1420" y="612"/>
                  </a:cubicBezTo>
                  <a:cubicBezTo>
                    <a:pt x="1407" y="588"/>
                    <a:pt x="1401" y="558"/>
                    <a:pt x="1396" y="530"/>
                  </a:cubicBezTo>
                  <a:cubicBezTo>
                    <a:pt x="1382" y="452"/>
                    <a:pt x="1383" y="354"/>
                    <a:pt x="1348" y="284"/>
                  </a:cubicBezTo>
                  <a:cubicBezTo>
                    <a:pt x="1335" y="258"/>
                    <a:pt x="1316" y="235"/>
                    <a:pt x="1300" y="211"/>
                  </a:cubicBezTo>
                  <a:cubicBezTo>
                    <a:pt x="1279" y="140"/>
                    <a:pt x="1267" y="125"/>
                    <a:pt x="1212" y="83"/>
                  </a:cubicBezTo>
                  <a:cubicBezTo>
                    <a:pt x="1198" y="73"/>
                    <a:pt x="1164" y="65"/>
                    <a:pt x="1164" y="65"/>
                  </a:cubicBezTo>
                  <a:cubicBezTo>
                    <a:pt x="1096" y="91"/>
                    <a:pt x="1010" y="87"/>
                    <a:pt x="940" y="92"/>
                  </a:cubicBezTo>
                  <a:cubicBezTo>
                    <a:pt x="822" y="89"/>
                    <a:pt x="675" y="93"/>
                    <a:pt x="548" y="75"/>
                  </a:cubicBezTo>
                  <a:cubicBezTo>
                    <a:pt x="499" y="66"/>
                    <a:pt x="454" y="46"/>
                    <a:pt x="404" y="37"/>
                  </a:cubicBezTo>
                  <a:cubicBezTo>
                    <a:pt x="156" y="49"/>
                    <a:pt x="253" y="0"/>
                    <a:pt x="164" y="102"/>
                  </a:cubicBezTo>
                  <a:cubicBezTo>
                    <a:pt x="146" y="165"/>
                    <a:pt x="134" y="230"/>
                    <a:pt x="116" y="293"/>
                  </a:cubicBezTo>
                  <a:cubicBezTo>
                    <a:pt x="106" y="421"/>
                    <a:pt x="183" y="546"/>
                    <a:pt x="168" y="672"/>
                  </a:cubicBezTo>
                  <a:cubicBezTo>
                    <a:pt x="160" y="739"/>
                    <a:pt x="39" y="787"/>
                    <a:pt x="117" y="918"/>
                  </a:cubicBezTo>
                </a:path>
              </a:pathLst>
            </a:custGeom>
            <a:gradFill rotWithShape="0">
              <a:gsLst>
                <a:gs pos="0">
                  <a:srgbClr val="750075"/>
                </a:gs>
                <a:gs pos="50000">
                  <a:srgbClr val="ff00ff"/>
                </a:gs>
                <a:gs pos="100000">
                  <a:srgbClr val="750075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 rot="4800">
              <a:off x="448920" y="6291360"/>
              <a:ext cx="571320" cy="345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rot="4200">
              <a:off x="642600" y="5716080"/>
              <a:ext cx="1093680" cy="655920"/>
            </a:xfrm>
            <a:custGeom>
              <a:avLst/>
              <a:gdLst/>
              <a:ahLst/>
              <a:rect l="l" t="t" r="r" b="b"/>
              <a:pathLst>
                <a:path w="1175" h="705">
                  <a:moveTo>
                    <a:pt x="88" y="67"/>
                  </a:moveTo>
                  <a:cubicBezTo>
                    <a:pt x="76" y="271"/>
                    <a:pt x="64" y="396"/>
                    <a:pt x="0" y="579"/>
                  </a:cubicBezTo>
                  <a:cubicBezTo>
                    <a:pt x="4" y="600"/>
                    <a:pt x="2" y="623"/>
                    <a:pt x="13" y="642"/>
                  </a:cubicBezTo>
                  <a:cubicBezTo>
                    <a:pt x="26" y="665"/>
                    <a:pt x="80" y="677"/>
                    <a:pt x="100" y="679"/>
                  </a:cubicBezTo>
                  <a:cubicBezTo>
                    <a:pt x="183" y="686"/>
                    <a:pt x="267" y="688"/>
                    <a:pt x="350" y="692"/>
                  </a:cubicBezTo>
                  <a:cubicBezTo>
                    <a:pt x="375" y="688"/>
                    <a:pt x="403" y="692"/>
                    <a:pt x="425" y="679"/>
                  </a:cubicBezTo>
                  <a:cubicBezTo>
                    <a:pt x="436" y="673"/>
                    <a:pt x="432" y="654"/>
                    <a:pt x="438" y="642"/>
                  </a:cubicBezTo>
                  <a:cubicBezTo>
                    <a:pt x="467" y="585"/>
                    <a:pt x="464" y="622"/>
                    <a:pt x="488" y="554"/>
                  </a:cubicBezTo>
                  <a:cubicBezTo>
                    <a:pt x="503" y="513"/>
                    <a:pt x="525" y="429"/>
                    <a:pt x="525" y="429"/>
                  </a:cubicBezTo>
                  <a:cubicBezTo>
                    <a:pt x="539" y="336"/>
                    <a:pt x="515" y="312"/>
                    <a:pt x="600" y="292"/>
                  </a:cubicBezTo>
                  <a:cubicBezTo>
                    <a:pt x="633" y="386"/>
                    <a:pt x="636" y="509"/>
                    <a:pt x="650" y="604"/>
                  </a:cubicBezTo>
                  <a:cubicBezTo>
                    <a:pt x="654" y="634"/>
                    <a:pt x="695" y="649"/>
                    <a:pt x="725" y="654"/>
                  </a:cubicBezTo>
                  <a:cubicBezTo>
                    <a:pt x="859" y="678"/>
                    <a:pt x="933" y="694"/>
                    <a:pt x="1075" y="704"/>
                  </a:cubicBezTo>
                  <a:cubicBezTo>
                    <a:pt x="1104" y="700"/>
                    <a:pt x="1137" y="705"/>
                    <a:pt x="1163" y="692"/>
                  </a:cubicBezTo>
                  <a:cubicBezTo>
                    <a:pt x="1175" y="686"/>
                    <a:pt x="1175" y="667"/>
                    <a:pt x="1175" y="654"/>
                  </a:cubicBezTo>
                  <a:cubicBezTo>
                    <a:pt x="1175" y="463"/>
                    <a:pt x="1163" y="472"/>
                    <a:pt x="1075" y="342"/>
                  </a:cubicBezTo>
                  <a:cubicBezTo>
                    <a:pt x="1071" y="326"/>
                    <a:pt x="1060" y="271"/>
                    <a:pt x="1050" y="254"/>
                  </a:cubicBezTo>
                  <a:cubicBezTo>
                    <a:pt x="1035" y="228"/>
                    <a:pt x="1000" y="179"/>
                    <a:pt x="1000" y="179"/>
                  </a:cubicBezTo>
                  <a:cubicBezTo>
                    <a:pt x="979" y="113"/>
                    <a:pt x="995" y="153"/>
                    <a:pt x="938" y="67"/>
                  </a:cubicBezTo>
                  <a:cubicBezTo>
                    <a:pt x="893" y="0"/>
                    <a:pt x="900" y="78"/>
                    <a:pt x="900" y="17"/>
                  </a:cubicBezTo>
                </a:path>
              </a:pathLst>
            </a:custGeom>
            <a:gradFill rotWithShape="0">
              <a:gsLst>
                <a:gs pos="0">
                  <a:srgbClr val="00cc99"/>
                </a:gs>
                <a:gs pos="50000">
                  <a:srgbClr val="ccecff"/>
                </a:gs>
                <a:gs pos="100000">
                  <a:srgbClr val="00cc99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rot="4200">
              <a:off x="1310760" y="6342120"/>
              <a:ext cx="617760" cy="291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52280" y="4979880"/>
              <a:ext cx="1495440" cy="1003320"/>
            </a:xfrm>
            <a:custGeom>
              <a:avLst/>
              <a:gdLst/>
              <a:ahLst/>
              <a:rect l="l" t="t" r="r" b="b"/>
              <a:pathLst>
                <a:path w="942" h="632">
                  <a:moveTo>
                    <a:pt x="221" y="159"/>
                  </a:moveTo>
                  <a:cubicBezTo>
                    <a:pt x="211" y="166"/>
                    <a:pt x="202" y="175"/>
                    <a:pt x="190" y="181"/>
                  </a:cubicBezTo>
                  <a:cubicBezTo>
                    <a:pt x="160" y="196"/>
                    <a:pt x="97" y="224"/>
                    <a:pt x="97" y="224"/>
                  </a:cubicBezTo>
                  <a:cubicBezTo>
                    <a:pt x="45" y="279"/>
                    <a:pt x="0" y="295"/>
                    <a:pt x="50" y="367"/>
                  </a:cubicBezTo>
                  <a:cubicBezTo>
                    <a:pt x="58" y="377"/>
                    <a:pt x="81" y="375"/>
                    <a:pt x="97" y="378"/>
                  </a:cubicBezTo>
                  <a:cubicBezTo>
                    <a:pt x="117" y="382"/>
                    <a:pt x="137" y="385"/>
                    <a:pt x="158" y="389"/>
                  </a:cubicBezTo>
                  <a:cubicBezTo>
                    <a:pt x="183" y="385"/>
                    <a:pt x="213" y="388"/>
                    <a:pt x="236" y="378"/>
                  </a:cubicBezTo>
                  <a:cubicBezTo>
                    <a:pt x="250" y="371"/>
                    <a:pt x="243" y="355"/>
                    <a:pt x="252" y="345"/>
                  </a:cubicBezTo>
                  <a:cubicBezTo>
                    <a:pt x="259" y="336"/>
                    <a:pt x="273" y="330"/>
                    <a:pt x="283" y="323"/>
                  </a:cubicBezTo>
                  <a:cubicBezTo>
                    <a:pt x="293" y="334"/>
                    <a:pt x="310" y="343"/>
                    <a:pt x="314" y="356"/>
                  </a:cubicBezTo>
                  <a:cubicBezTo>
                    <a:pt x="381" y="632"/>
                    <a:pt x="158" y="513"/>
                    <a:pt x="855" y="499"/>
                  </a:cubicBezTo>
                  <a:cubicBezTo>
                    <a:pt x="850" y="478"/>
                    <a:pt x="854" y="453"/>
                    <a:pt x="840" y="434"/>
                  </a:cubicBezTo>
                  <a:cubicBezTo>
                    <a:pt x="821" y="407"/>
                    <a:pt x="848" y="339"/>
                    <a:pt x="814" y="323"/>
                  </a:cubicBezTo>
                  <a:cubicBezTo>
                    <a:pt x="804" y="261"/>
                    <a:pt x="806" y="273"/>
                    <a:pt x="802" y="261"/>
                  </a:cubicBezTo>
                  <a:cubicBezTo>
                    <a:pt x="831" y="248"/>
                    <a:pt x="815" y="243"/>
                    <a:pt x="831" y="220"/>
                  </a:cubicBezTo>
                  <a:cubicBezTo>
                    <a:pt x="847" y="197"/>
                    <a:pt x="894" y="155"/>
                    <a:pt x="900" y="121"/>
                  </a:cubicBezTo>
                  <a:cubicBezTo>
                    <a:pt x="890" y="67"/>
                    <a:pt x="942" y="45"/>
                    <a:pt x="870" y="16"/>
                  </a:cubicBezTo>
                  <a:cubicBezTo>
                    <a:pt x="828" y="0"/>
                    <a:pt x="805" y="87"/>
                    <a:pt x="759" y="76"/>
                  </a:cubicBezTo>
                  <a:cubicBezTo>
                    <a:pt x="744" y="72"/>
                    <a:pt x="670" y="127"/>
                    <a:pt x="670" y="127"/>
                  </a:cubicBezTo>
                </a:path>
              </a:pathLst>
            </a:custGeom>
            <a:gradFill rotWithShape="0">
              <a:gsLst>
                <a:gs pos="0">
                  <a:srgbClr val="6c0000"/>
                </a:gs>
                <a:gs pos="50000">
                  <a:srgbClr val="ff0000"/>
                </a:gs>
                <a:gs pos="100000">
                  <a:srgbClr val="6c0000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rot="4200">
              <a:off x="75960" y="5589360"/>
              <a:ext cx="50472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H="1" rot="16122000">
              <a:off x="1517400" y="4882320"/>
              <a:ext cx="44604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rot="4200">
              <a:off x="777960" y="5268960"/>
              <a:ext cx="595080" cy="428400"/>
            </a:xfrm>
            <a:custGeom>
              <a:avLst/>
              <a:gdLst/>
              <a:ahLst/>
              <a:rect l="l" t="t" r="r" b="b"/>
              <a:pathLst>
                <a:path w="640" h="461">
                  <a:moveTo>
                    <a:pt x="64" y="445"/>
                  </a:moveTo>
                  <a:cubicBezTo>
                    <a:pt x="125" y="442"/>
                    <a:pt x="187" y="442"/>
                    <a:pt x="248" y="437"/>
                  </a:cubicBezTo>
                  <a:cubicBezTo>
                    <a:pt x="259" y="436"/>
                    <a:pt x="276" y="439"/>
                    <a:pt x="280" y="429"/>
                  </a:cubicBezTo>
                  <a:cubicBezTo>
                    <a:pt x="298" y="382"/>
                    <a:pt x="274" y="374"/>
                    <a:pt x="248" y="357"/>
                  </a:cubicBezTo>
                  <a:cubicBezTo>
                    <a:pt x="228" y="297"/>
                    <a:pt x="257" y="369"/>
                    <a:pt x="216" y="317"/>
                  </a:cubicBezTo>
                  <a:cubicBezTo>
                    <a:pt x="210" y="310"/>
                    <a:pt x="188" y="256"/>
                    <a:pt x="184" y="245"/>
                  </a:cubicBezTo>
                  <a:cubicBezTo>
                    <a:pt x="192" y="112"/>
                    <a:pt x="164" y="95"/>
                    <a:pt x="280" y="109"/>
                  </a:cubicBezTo>
                  <a:cubicBezTo>
                    <a:pt x="317" y="121"/>
                    <a:pt x="347" y="145"/>
                    <a:pt x="384" y="157"/>
                  </a:cubicBezTo>
                  <a:cubicBezTo>
                    <a:pt x="457" y="267"/>
                    <a:pt x="415" y="186"/>
                    <a:pt x="424" y="429"/>
                  </a:cubicBezTo>
                  <a:cubicBezTo>
                    <a:pt x="533" y="424"/>
                    <a:pt x="607" y="457"/>
                    <a:pt x="640" y="357"/>
                  </a:cubicBezTo>
                  <a:cubicBezTo>
                    <a:pt x="625" y="269"/>
                    <a:pt x="611" y="293"/>
                    <a:pt x="512" y="285"/>
                  </a:cubicBezTo>
                  <a:cubicBezTo>
                    <a:pt x="485" y="205"/>
                    <a:pt x="475" y="141"/>
                    <a:pt x="408" y="85"/>
                  </a:cubicBezTo>
                  <a:cubicBezTo>
                    <a:pt x="393" y="73"/>
                    <a:pt x="371" y="43"/>
                    <a:pt x="352" y="37"/>
                  </a:cubicBezTo>
                  <a:cubicBezTo>
                    <a:pt x="311" y="24"/>
                    <a:pt x="214" y="11"/>
                    <a:pt x="168" y="5"/>
                  </a:cubicBezTo>
                  <a:cubicBezTo>
                    <a:pt x="141" y="8"/>
                    <a:pt x="88" y="0"/>
                    <a:pt x="64" y="29"/>
                  </a:cubicBezTo>
                  <a:cubicBezTo>
                    <a:pt x="56" y="38"/>
                    <a:pt x="52" y="50"/>
                    <a:pt x="48" y="61"/>
                  </a:cubicBezTo>
                  <a:cubicBezTo>
                    <a:pt x="42" y="77"/>
                    <a:pt x="32" y="109"/>
                    <a:pt x="32" y="109"/>
                  </a:cubicBezTo>
                  <a:cubicBezTo>
                    <a:pt x="37" y="180"/>
                    <a:pt x="22" y="196"/>
                    <a:pt x="56" y="237"/>
                  </a:cubicBezTo>
                  <a:cubicBezTo>
                    <a:pt x="69" y="253"/>
                    <a:pt x="80" y="271"/>
                    <a:pt x="96" y="285"/>
                  </a:cubicBezTo>
                  <a:cubicBezTo>
                    <a:pt x="110" y="298"/>
                    <a:pt x="144" y="317"/>
                    <a:pt x="144" y="317"/>
                  </a:cubicBezTo>
                  <a:cubicBezTo>
                    <a:pt x="177" y="366"/>
                    <a:pt x="162" y="371"/>
                    <a:pt x="104" y="357"/>
                  </a:cubicBezTo>
                  <a:cubicBezTo>
                    <a:pt x="66" y="347"/>
                    <a:pt x="44" y="329"/>
                    <a:pt x="8" y="317"/>
                  </a:cubicBezTo>
                  <a:cubicBezTo>
                    <a:pt x="13" y="374"/>
                    <a:pt x="0" y="429"/>
                    <a:pt x="48" y="461"/>
                  </a:cubicBezTo>
                  <a:cubicBezTo>
                    <a:pt x="86" y="452"/>
                    <a:pt x="90" y="458"/>
                    <a:pt x="64" y="445"/>
                  </a:cubicBezTo>
                  <a:close/>
                </a:path>
              </a:pathLst>
            </a:custGeom>
            <a:solidFill>
              <a:srgbClr val="3333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93760" y="4160880"/>
              <a:ext cx="1211040" cy="1044360"/>
            </a:xfrm>
            <a:custGeom>
              <a:avLst/>
              <a:gdLst/>
              <a:ahLst/>
              <a:rect l="l" t="t" r="r" b="b"/>
              <a:pathLst>
                <a:path w="1050" h="906">
                  <a:moveTo>
                    <a:pt x="521" y="24"/>
                  </a:moveTo>
                  <a:cubicBezTo>
                    <a:pt x="598" y="0"/>
                    <a:pt x="573" y="2"/>
                    <a:pt x="709" y="24"/>
                  </a:cubicBezTo>
                  <a:cubicBezTo>
                    <a:pt x="734" y="28"/>
                    <a:pt x="784" y="48"/>
                    <a:pt x="784" y="48"/>
                  </a:cubicBezTo>
                  <a:cubicBezTo>
                    <a:pt x="864" y="105"/>
                    <a:pt x="820" y="70"/>
                    <a:pt x="910" y="157"/>
                  </a:cubicBezTo>
                  <a:cubicBezTo>
                    <a:pt x="939" y="185"/>
                    <a:pt x="985" y="254"/>
                    <a:pt x="985" y="254"/>
                  </a:cubicBezTo>
                  <a:cubicBezTo>
                    <a:pt x="1021" y="389"/>
                    <a:pt x="1050" y="536"/>
                    <a:pt x="973" y="664"/>
                  </a:cubicBezTo>
                  <a:cubicBezTo>
                    <a:pt x="954" y="697"/>
                    <a:pt x="927" y="767"/>
                    <a:pt x="897" y="785"/>
                  </a:cubicBezTo>
                  <a:cubicBezTo>
                    <a:pt x="847" y="817"/>
                    <a:pt x="805" y="862"/>
                    <a:pt x="747" y="882"/>
                  </a:cubicBezTo>
                  <a:cubicBezTo>
                    <a:pt x="715" y="894"/>
                    <a:pt x="646" y="906"/>
                    <a:pt x="646" y="906"/>
                  </a:cubicBezTo>
                  <a:cubicBezTo>
                    <a:pt x="489" y="898"/>
                    <a:pt x="376" y="886"/>
                    <a:pt x="232" y="846"/>
                  </a:cubicBezTo>
                  <a:cubicBezTo>
                    <a:pt x="153" y="795"/>
                    <a:pt x="100" y="741"/>
                    <a:pt x="69" y="652"/>
                  </a:cubicBezTo>
                  <a:cubicBezTo>
                    <a:pt x="73" y="521"/>
                    <a:pt x="0" y="178"/>
                    <a:pt x="203" y="114"/>
                  </a:cubicBezTo>
                  <a:cubicBezTo>
                    <a:pt x="274" y="46"/>
                    <a:pt x="360" y="62"/>
                    <a:pt x="458" y="48"/>
                  </a:cubicBezTo>
                  <a:cubicBezTo>
                    <a:pt x="537" y="22"/>
                    <a:pt x="560" y="24"/>
                    <a:pt x="521" y="24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rot="20582400">
              <a:off x="536400" y="4363560"/>
              <a:ext cx="341640" cy="4809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rot="20582400">
              <a:off x="903240" y="4264200"/>
              <a:ext cx="343080" cy="50796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rot="8088000">
              <a:off x="601200" y="4390560"/>
              <a:ext cx="751680" cy="70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44" y="1256"/>
                  </a:moveTo>
                  <a:arcTo wR="10800" hR="10800" stAng="-7074784" swAng="7074784"/>
                  <a:lnTo>
                    <a:pt x="10800" y="10800"/>
                  </a:lnTo>
                  <a:close/>
                </a:path>
                <a:path fill="none" w="21600" h="21600">
                  <a:moveTo>
                    <a:pt x="5744" y="1256"/>
                  </a:moveTo>
                  <a:arcTo wR="10800" hR="10800" stAng="-7074784" swAng="707478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rot="413400">
              <a:off x="907920" y="4773240"/>
              <a:ext cx="184320" cy="1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rot="413400">
              <a:off x="677880" y="4422240"/>
              <a:ext cx="182520" cy="257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rot="413400">
              <a:off x="1004760" y="4300200"/>
              <a:ext cx="182520" cy="257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rot="448800">
              <a:off x="328320" y="4195800"/>
              <a:ext cx="260280" cy="250920"/>
            </a:xfrm>
            <a:custGeom>
              <a:avLst/>
              <a:gdLst/>
              <a:ahLst/>
              <a:rect l="l" t="t" r="r" b="b"/>
              <a:pathLst>
                <a:path w="273" h="258">
                  <a:moveTo>
                    <a:pt x="273" y="40"/>
                  </a:moveTo>
                  <a:cubicBezTo>
                    <a:pt x="203" y="17"/>
                    <a:pt x="179" y="0"/>
                    <a:pt x="91" y="40"/>
                  </a:cubicBezTo>
                  <a:cubicBezTo>
                    <a:pt x="59" y="54"/>
                    <a:pt x="19" y="201"/>
                    <a:pt x="18" y="204"/>
                  </a:cubicBezTo>
                  <a:cubicBezTo>
                    <a:pt x="12" y="222"/>
                    <a:pt x="0" y="258"/>
                    <a:pt x="0" y="25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rot="448800">
              <a:off x="587160" y="4092480"/>
              <a:ext cx="274320" cy="211320"/>
            </a:xfrm>
            <a:custGeom>
              <a:avLst/>
              <a:gdLst/>
              <a:ahLst/>
              <a:rect l="l" t="t" r="r" b="b"/>
              <a:pathLst>
                <a:path w="290" h="218">
                  <a:moveTo>
                    <a:pt x="0" y="218"/>
                  </a:moveTo>
                  <a:cubicBezTo>
                    <a:pt x="66" y="118"/>
                    <a:pt x="157" y="0"/>
                    <a:pt x="29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rot="448800">
              <a:off x="632880" y="4065480"/>
              <a:ext cx="1800" cy="195480"/>
            </a:xfrm>
            <a:custGeom>
              <a:avLst/>
              <a:gdLst/>
              <a:ahLst/>
              <a:rect l="l" t="t" r="r" b="b"/>
              <a:pathLst>
                <a:path w="1" h="200">
                  <a:moveTo>
                    <a:pt x="0" y="200"/>
                  </a:moveTo>
                  <a:cubicBezTo>
                    <a:pt x="0" y="133"/>
                    <a:pt x="0" y="67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rot="21140400">
              <a:off x="418680" y="4266720"/>
              <a:ext cx="233280" cy="392400"/>
            </a:xfrm>
            <a:custGeom>
              <a:avLst/>
              <a:gdLst/>
              <a:ahLst/>
              <a:rect l="l" t="t" r="r" b="b"/>
              <a:pathLst>
                <a:path w="273" h="400">
                  <a:moveTo>
                    <a:pt x="273" y="0"/>
                  </a:moveTo>
                  <a:cubicBezTo>
                    <a:pt x="198" y="37"/>
                    <a:pt x="150" y="69"/>
                    <a:pt x="91" y="127"/>
                  </a:cubicBezTo>
                  <a:cubicBezTo>
                    <a:pt x="61" y="218"/>
                    <a:pt x="0" y="301"/>
                    <a:pt x="0" y="4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rot="1662000">
              <a:off x="651960" y="4183200"/>
              <a:ext cx="246240" cy="131760"/>
            </a:xfrm>
            <a:custGeom>
              <a:avLst/>
              <a:gdLst/>
              <a:ahLst/>
              <a:rect l="l" t="t" r="r" b="b"/>
              <a:pathLst>
                <a:path w="273" h="109">
                  <a:moveTo>
                    <a:pt x="0" y="109"/>
                  </a:moveTo>
                  <a:cubicBezTo>
                    <a:pt x="12" y="91"/>
                    <a:pt x="17" y="66"/>
                    <a:pt x="36" y="54"/>
                  </a:cubicBezTo>
                  <a:cubicBezTo>
                    <a:pt x="105" y="11"/>
                    <a:pt x="195" y="0"/>
                    <a:pt x="27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523880" y="3962520"/>
              <a:ext cx="990720" cy="1218960"/>
            </a:xfrm>
            <a:custGeom>
              <a:avLst/>
              <a:gdLst/>
              <a:ahLst/>
              <a:rect l="l" t="t" r="r" b="b"/>
              <a:pathLst>
                <a:path w="624" h="768">
                  <a:moveTo>
                    <a:pt x="0" y="720"/>
                  </a:moveTo>
                  <a:lnTo>
                    <a:pt x="48" y="768"/>
                  </a:lnTo>
                  <a:lnTo>
                    <a:pt x="624" y="0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5" name=""/>
          <p:cNvSpPr/>
          <p:nvPr/>
        </p:nvSpPr>
        <p:spPr>
          <a:xfrm>
            <a:off x="0" y="0"/>
            <a:ext cx="5219640" cy="3048120"/>
          </a:xfrm>
          <a:prstGeom prst="cloudCallout">
            <a:avLst>
              <a:gd name="adj1" fmla="val -41120"/>
              <a:gd name="adj2" fmla="val 71824"/>
            </a:avLst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767040" y="1386000"/>
            <a:ext cx="803520" cy="62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287280" y="1460520"/>
            <a:ext cx="803160" cy="630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 flipV="1">
            <a:off x="5048280" y="3105000"/>
            <a:ext cx="3543120" cy="2076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5019840" y="2924280"/>
            <a:ext cx="0" cy="22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flipH="1">
            <a:off x="5009760" y="5181480"/>
            <a:ext cx="375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5410080" y="50608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5805360" y="506880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6200640" y="50608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659592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99120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38648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78176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H="1">
            <a:off x="4902120" y="328608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H="1">
            <a:off x="4905360" y="368136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 flipH="1">
            <a:off x="4905360" y="407664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 flipH="1">
            <a:off x="4905360" y="447192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 flipH="1">
            <a:off x="4905360" y="486720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8191440" y="50767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8586720" y="50767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561708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41700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19820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97904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4850280" y="5252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4432680" y="498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348800" y="4229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4348800" y="3461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4263480" y="30405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4348800" y="3835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4348800" y="4636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357880" y="49338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5738760" y="4705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510240" y="42577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8091360" y="33242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 txBox="1"/>
          <p:nvPr/>
        </p:nvSpPr>
        <p:spPr>
          <a:xfrm rot="19850400">
            <a:off x="5916600" y="3679920"/>
            <a:ext cx="1601640" cy="352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resistanc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691" name=""/>
          <p:cNvSpPr txBox="1"/>
          <p:nvPr/>
        </p:nvSpPr>
        <p:spPr>
          <a:xfrm>
            <a:off x="2986200" y="4008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(Volts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92" name=""/>
          <p:cNvSpPr txBox="1"/>
          <p:nvPr/>
        </p:nvSpPr>
        <p:spPr>
          <a:xfrm>
            <a:off x="6259680" y="6164280"/>
            <a:ext cx="1238040" cy="380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(Amperes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93" name=""/>
          <p:cNvSpPr txBox="1"/>
          <p:nvPr/>
        </p:nvSpPr>
        <p:spPr>
          <a:xfrm>
            <a:off x="1500120" y="3284640"/>
            <a:ext cx="281952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Potential Differ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94" name=""/>
          <p:cNvSpPr txBox="1"/>
          <p:nvPr/>
        </p:nvSpPr>
        <p:spPr>
          <a:xfrm>
            <a:off x="5916600" y="5573880"/>
            <a:ext cx="1866960" cy="49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Curr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695" name=""/>
          <p:cNvGrpSpPr/>
          <p:nvPr/>
        </p:nvGrpSpPr>
        <p:grpSpPr>
          <a:xfrm>
            <a:off x="1257480" y="388800"/>
            <a:ext cx="2776320" cy="971640"/>
            <a:chOff x="1257480" y="388800"/>
            <a:chExt cx="2776320" cy="971640"/>
          </a:xfrm>
        </p:grpSpPr>
        <p:sp>
          <p:nvSpPr>
            <p:cNvPr id="1696" name=""/>
            <p:cNvSpPr/>
            <p:nvPr/>
          </p:nvSpPr>
          <p:spPr>
            <a:xfrm>
              <a:off x="1257480" y="625680"/>
              <a:ext cx="74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 txBox="1"/>
            <p:nvPr/>
          </p:nvSpPr>
          <p:spPr>
            <a:xfrm>
              <a:off x="2357640" y="388800"/>
              <a:ext cx="1638360" cy="3999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Joule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698" name=""/>
            <p:cNvSpPr txBox="1"/>
            <p:nvPr/>
          </p:nvSpPr>
          <p:spPr>
            <a:xfrm>
              <a:off x="2395800" y="960120"/>
              <a:ext cx="1638000" cy="4003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Coulomb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381400" y="89532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0" name=""/>
          <p:cNvGrpSpPr/>
          <p:nvPr/>
        </p:nvGrpSpPr>
        <p:grpSpPr>
          <a:xfrm>
            <a:off x="1195560" y="1668600"/>
            <a:ext cx="2779560" cy="704880"/>
            <a:chOff x="1195560" y="1668600"/>
            <a:chExt cx="2779560" cy="704880"/>
          </a:xfrm>
        </p:grpSpPr>
        <p:sp>
          <p:nvSpPr>
            <p:cNvPr id="1701" name=""/>
            <p:cNvSpPr/>
            <p:nvPr/>
          </p:nvSpPr>
          <p:spPr>
            <a:xfrm>
              <a:off x="2019240" y="203832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019240" y="215280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2933640" y="2019240"/>
              <a:ext cx="20952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2933640" y="2019240"/>
              <a:ext cx="20952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 txBox="1"/>
            <p:nvPr/>
          </p:nvSpPr>
          <p:spPr>
            <a:xfrm>
              <a:off x="1195560" y="1801800"/>
              <a:ext cx="628560" cy="5716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706" name=""/>
            <p:cNvSpPr txBox="1"/>
            <p:nvPr/>
          </p:nvSpPr>
          <p:spPr>
            <a:xfrm>
              <a:off x="2563920" y="1668600"/>
              <a:ext cx="171360" cy="704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707" name=""/>
            <p:cNvSpPr txBox="1"/>
            <p:nvPr/>
          </p:nvSpPr>
          <p:spPr>
            <a:xfrm>
              <a:off x="3306600" y="1811160"/>
              <a:ext cx="668520" cy="5623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 Black"/>
                </a:rPr>
                <a:t>R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8" name=""/>
          <p:cNvGrpSpPr/>
          <p:nvPr/>
        </p:nvGrpSpPr>
        <p:grpSpPr>
          <a:xfrm>
            <a:off x="75960" y="3962520"/>
            <a:ext cx="2438640" cy="2675160"/>
            <a:chOff x="75960" y="3962520"/>
            <a:chExt cx="2438640" cy="2675160"/>
          </a:xfrm>
        </p:grpSpPr>
        <p:sp>
          <p:nvSpPr>
            <p:cNvPr id="1709" name=""/>
            <p:cNvSpPr/>
            <p:nvPr/>
          </p:nvSpPr>
          <p:spPr>
            <a:xfrm rot="4200">
              <a:off x="375840" y="5091120"/>
              <a:ext cx="1473120" cy="1295280"/>
            </a:xfrm>
            <a:custGeom>
              <a:avLst/>
              <a:gdLst/>
              <a:ahLst/>
              <a:rect l="l" t="t" r="r" b="b"/>
              <a:pathLst>
                <a:path w="1688" h="1469">
                  <a:moveTo>
                    <a:pt x="60" y="859"/>
                  </a:moveTo>
                  <a:cubicBezTo>
                    <a:pt x="54" y="930"/>
                    <a:pt x="43" y="984"/>
                    <a:pt x="28" y="1050"/>
                  </a:cubicBezTo>
                  <a:cubicBezTo>
                    <a:pt x="25" y="1099"/>
                    <a:pt x="20" y="1147"/>
                    <a:pt x="20" y="1196"/>
                  </a:cubicBezTo>
                  <a:cubicBezTo>
                    <a:pt x="20" y="1374"/>
                    <a:pt x="0" y="1417"/>
                    <a:pt x="132" y="1424"/>
                  </a:cubicBezTo>
                  <a:cubicBezTo>
                    <a:pt x="289" y="1469"/>
                    <a:pt x="327" y="1216"/>
                    <a:pt x="636" y="1224"/>
                  </a:cubicBezTo>
                  <a:cubicBezTo>
                    <a:pt x="1284" y="1176"/>
                    <a:pt x="1224" y="1416"/>
                    <a:pt x="1508" y="1408"/>
                  </a:cubicBezTo>
                  <a:cubicBezTo>
                    <a:pt x="1548" y="1399"/>
                    <a:pt x="1606" y="1339"/>
                    <a:pt x="1644" y="1324"/>
                  </a:cubicBezTo>
                  <a:cubicBezTo>
                    <a:pt x="1652" y="1321"/>
                    <a:pt x="1648" y="1304"/>
                    <a:pt x="1652" y="1297"/>
                  </a:cubicBezTo>
                  <a:cubicBezTo>
                    <a:pt x="1659" y="1282"/>
                    <a:pt x="1668" y="1272"/>
                    <a:pt x="1676" y="1259"/>
                  </a:cubicBezTo>
                  <a:cubicBezTo>
                    <a:pt x="1688" y="1202"/>
                    <a:pt x="1676" y="1159"/>
                    <a:pt x="1660" y="1105"/>
                  </a:cubicBezTo>
                  <a:cubicBezTo>
                    <a:pt x="1649" y="1066"/>
                    <a:pt x="1643" y="1023"/>
                    <a:pt x="1628" y="986"/>
                  </a:cubicBezTo>
                  <a:cubicBezTo>
                    <a:pt x="1622" y="973"/>
                    <a:pt x="1611" y="962"/>
                    <a:pt x="1604" y="950"/>
                  </a:cubicBezTo>
                  <a:cubicBezTo>
                    <a:pt x="1581" y="906"/>
                    <a:pt x="1547" y="872"/>
                    <a:pt x="1520" y="832"/>
                  </a:cubicBezTo>
                  <a:cubicBezTo>
                    <a:pt x="1513" y="799"/>
                    <a:pt x="1498" y="688"/>
                    <a:pt x="1476" y="667"/>
                  </a:cubicBezTo>
                  <a:cubicBezTo>
                    <a:pt x="1469" y="661"/>
                    <a:pt x="1460" y="661"/>
                    <a:pt x="1452" y="658"/>
                  </a:cubicBezTo>
                  <a:cubicBezTo>
                    <a:pt x="1423" y="557"/>
                    <a:pt x="1472" y="706"/>
                    <a:pt x="1420" y="612"/>
                  </a:cubicBezTo>
                  <a:cubicBezTo>
                    <a:pt x="1407" y="588"/>
                    <a:pt x="1401" y="558"/>
                    <a:pt x="1396" y="530"/>
                  </a:cubicBezTo>
                  <a:cubicBezTo>
                    <a:pt x="1382" y="452"/>
                    <a:pt x="1383" y="354"/>
                    <a:pt x="1348" y="284"/>
                  </a:cubicBezTo>
                  <a:cubicBezTo>
                    <a:pt x="1335" y="258"/>
                    <a:pt x="1316" y="235"/>
                    <a:pt x="1300" y="211"/>
                  </a:cubicBezTo>
                  <a:cubicBezTo>
                    <a:pt x="1279" y="140"/>
                    <a:pt x="1267" y="125"/>
                    <a:pt x="1212" y="83"/>
                  </a:cubicBezTo>
                  <a:cubicBezTo>
                    <a:pt x="1198" y="73"/>
                    <a:pt x="1164" y="65"/>
                    <a:pt x="1164" y="65"/>
                  </a:cubicBezTo>
                  <a:cubicBezTo>
                    <a:pt x="1096" y="91"/>
                    <a:pt x="1010" y="87"/>
                    <a:pt x="940" y="92"/>
                  </a:cubicBezTo>
                  <a:cubicBezTo>
                    <a:pt x="822" y="89"/>
                    <a:pt x="675" y="93"/>
                    <a:pt x="548" y="75"/>
                  </a:cubicBezTo>
                  <a:cubicBezTo>
                    <a:pt x="499" y="66"/>
                    <a:pt x="454" y="46"/>
                    <a:pt x="404" y="37"/>
                  </a:cubicBezTo>
                  <a:cubicBezTo>
                    <a:pt x="156" y="49"/>
                    <a:pt x="253" y="0"/>
                    <a:pt x="164" y="102"/>
                  </a:cubicBezTo>
                  <a:cubicBezTo>
                    <a:pt x="146" y="165"/>
                    <a:pt x="134" y="230"/>
                    <a:pt x="116" y="293"/>
                  </a:cubicBezTo>
                  <a:cubicBezTo>
                    <a:pt x="106" y="421"/>
                    <a:pt x="183" y="546"/>
                    <a:pt x="168" y="672"/>
                  </a:cubicBezTo>
                  <a:cubicBezTo>
                    <a:pt x="160" y="739"/>
                    <a:pt x="39" y="787"/>
                    <a:pt x="117" y="918"/>
                  </a:cubicBezTo>
                </a:path>
              </a:pathLst>
            </a:custGeom>
            <a:gradFill rotWithShape="0">
              <a:gsLst>
                <a:gs pos="0">
                  <a:srgbClr val="750075"/>
                </a:gs>
                <a:gs pos="50000">
                  <a:srgbClr val="ff00ff"/>
                </a:gs>
                <a:gs pos="100000">
                  <a:srgbClr val="750075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 rot="4800">
              <a:off x="448920" y="6291360"/>
              <a:ext cx="571320" cy="345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rot="4200">
              <a:off x="642600" y="5716080"/>
              <a:ext cx="1093680" cy="655920"/>
            </a:xfrm>
            <a:custGeom>
              <a:avLst/>
              <a:gdLst/>
              <a:ahLst/>
              <a:rect l="l" t="t" r="r" b="b"/>
              <a:pathLst>
                <a:path w="1175" h="705">
                  <a:moveTo>
                    <a:pt x="88" y="67"/>
                  </a:moveTo>
                  <a:cubicBezTo>
                    <a:pt x="76" y="271"/>
                    <a:pt x="64" y="396"/>
                    <a:pt x="0" y="579"/>
                  </a:cubicBezTo>
                  <a:cubicBezTo>
                    <a:pt x="4" y="600"/>
                    <a:pt x="2" y="623"/>
                    <a:pt x="13" y="642"/>
                  </a:cubicBezTo>
                  <a:cubicBezTo>
                    <a:pt x="26" y="665"/>
                    <a:pt x="80" y="677"/>
                    <a:pt x="100" y="679"/>
                  </a:cubicBezTo>
                  <a:cubicBezTo>
                    <a:pt x="183" y="686"/>
                    <a:pt x="267" y="688"/>
                    <a:pt x="350" y="692"/>
                  </a:cubicBezTo>
                  <a:cubicBezTo>
                    <a:pt x="375" y="688"/>
                    <a:pt x="403" y="692"/>
                    <a:pt x="425" y="679"/>
                  </a:cubicBezTo>
                  <a:cubicBezTo>
                    <a:pt x="436" y="673"/>
                    <a:pt x="432" y="654"/>
                    <a:pt x="438" y="642"/>
                  </a:cubicBezTo>
                  <a:cubicBezTo>
                    <a:pt x="467" y="585"/>
                    <a:pt x="464" y="622"/>
                    <a:pt x="488" y="554"/>
                  </a:cubicBezTo>
                  <a:cubicBezTo>
                    <a:pt x="503" y="513"/>
                    <a:pt x="525" y="429"/>
                    <a:pt x="525" y="429"/>
                  </a:cubicBezTo>
                  <a:cubicBezTo>
                    <a:pt x="539" y="336"/>
                    <a:pt x="515" y="312"/>
                    <a:pt x="600" y="292"/>
                  </a:cubicBezTo>
                  <a:cubicBezTo>
                    <a:pt x="633" y="386"/>
                    <a:pt x="636" y="509"/>
                    <a:pt x="650" y="604"/>
                  </a:cubicBezTo>
                  <a:cubicBezTo>
                    <a:pt x="654" y="634"/>
                    <a:pt x="695" y="649"/>
                    <a:pt x="725" y="654"/>
                  </a:cubicBezTo>
                  <a:cubicBezTo>
                    <a:pt x="859" y="678"/>
                    <a:pt x="933" y="694"/>
                    <a:pt x="1075" y="704"/>
                  </a:cubicBezTo>
                  <a:cubicBezTo>
                    <a:pt x="1104" y="700"/>
                    <a:pt x="1137" y="705"/>
                    <a:pt x="1163" y="692"/>
                  </a:cubicBezTo>
                  <a:cubicBezTo>
                    <a:pt x="1175" y="686"/>
                    <a:pt x="1175" y="667"/>
                    <a:pt x="1175" y="654"/>
                  </a:cubicBezTo>
                  <a:cubicBezTo>
                    <a:pt x="1175" y="463"/>
                    <a:pt x="1163" y="472"/>
                    <a:pt x="1075" y="342"/>
                  </a:cubicBezTo>
                  <a:cubicBezTo>
                    <a:pt x="1071" y="326"/>
                    <a:pt x="1060" y="271"/>
                    <a:pt x="1050" y="254"/>
                  </a:cubicBezTo>
                  <a:cubicBezTo>
                    <a:pt x="1035" y="228"/>
                    <a:pt x="1000" y="179"/>
                    <a:pt x="1000" y="179"/>
                  </a:cubicBezTo>
                  <a:cubicBezTo>
                    <a:pt x="979" y="113"/>
                    <a:pt x="995" y="153"/>
                    <a:pt x="938" y="67"/>
                  </a:cubicBezTo>
                  <a:cubicBezTo>
                    <a:pt x="893" y="0"/>
                    <a:pt x="900" y="78"/>
                    <a:pt x="900" y="17"/>
                  </a:cubicBezTo>
                </a:path>
              </a:pathLst>
            </a:custGeom>
            <a:gradFill rotWithShape="0">
              <a:gsLst>
                <a:gs pos="0">
                  <a:srgbClr val="00cc99"/>
                </a:gs>
                <a:gs pos="50000">
                  <a:srgbClr val="ccecff"/>
                </a:gs>
                <a:gs pos="100000">
                  <a:srgbClr val="00cc99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rot="4200">
              <a:off x="1310760" y="6342120"/>
              <a:ext cx="617760" cy="291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52280" y="4979880"/>
              <a:ext cx="1495440" cy="1003320"/>
            </a:xfrm>
            <a:custGeom>
              <a:avLst/>
              <a:gdLst/>
              <a:ahLst/>
              <a:rect l="l" t="t" r="r" b="b"/>
              <a:pathLst>
                <a:path w="942" h="632">
                  <a:moveTo>
                    <a:pt x="221" y="159"/>
                  </a:moveTo>
                  <a:cubicBezTo>
                    <a:pt x="211" y="166"/>
                    <a:pt x="202" y="175"/>
                    <a:pt x="190" y="181"/>
                  </a:cubicBezTo>
                  <a:cubicBezTo>
                    <a:pt x="160" y="196"/>
                    <a:pt x="97" y="224"/>
                    <a:pt x="97" y="224"/>
                  </a:cubicBezTo>
                  <a:cubicBezTo>
                    <a:pt x="45" y="279"/>
                    <a:pt x="0" y="295"/>
                    <a:pt x="50" y="367"/>
                  </a:cubicBezTo>
                  <a:cubicBezTo>
                    <a:pt x="58" y="377"/>
                    <a:pt x="81" y="375"/>
                    <a:pt x="97" y="378"/>
                  </a:cubicBezTo>
                  <a:cubicBezTo>
                    <a:pt x="117" y="382"/>
                    <a:pt x="137" y="385"/>
                    <a:pt x="158" y="389"/>
                  </a:cubicBezTo>
                  <a:cubicBezTo>
                    <a:pt x="183" y="385"/>
                    <a:pt x="213" y="388"/>
                    <a:pt x="236" y="378"/>
                  </a:cubicBezTo>
                  <a:cubicBezTo>
                    <a:pt x="250" y="371"/>
                    <a:pt x="243" y="355"/>
                    <a:pt x="252" y="345"/>
                  </a:cubicBezTo>
                  <a:cubicBezTo>
                    <a:pt x="259" y="336"/>
                    <a:pt x="273" y="330"/>
                    <a:pt x="283" y="323"/>
                  </a:cubicBezTo>
                  <a:cubicBezTo>
                    <a:pt x="293" y="334"/>
                    <a:pt x="310" y="343"/>
                    <a:pt x="314" y="356"/>
                  </a:cubicBezTo>
                  <a:cubicBezTo>
                    <a:pt x="381" y="632"/>
                    <a:pt x="158" y="513"/>
                    <a:pt x="855" y="499"/>
                  </a:cubicBezTo>
                  <a:cubicBezTo>
                    <a:pt x="850" y="478"/>
                    <a:pt x="854" y="453"/>
                    <a:pt x="840" y="434"/>
                  </a:cubicBezTo>
                  <a:cubicBezTo>
                    <a:pt x="821" y="407"/>
                    <a:pt x="848" y="339"/>
                    <a:pt x="814" y="323"/>
                  </a:cubicBezTo>
                  <a:cubicBezTo>
                    <a:pt x="804" y="261"/>
                    <a:pt x="806" y="273"/>
                    <a:pt x="802" y="261"/>
                  </a:cubicBezTo>
                  <a:cubicBezTo>
                    <a:pt x="831" y="248"/>
                    <a:pt x="815" y="243"/>
                    <a:pt x="831" y="220"/>
                  </a:cubicBezTo>
                  <a:cubicBezTo>
                    <a:pt x="847" y="197"/>
                    <a:pt x="894" y="155"/>
                    <a:pt x="900" y="121"/>
                  </a:cubicBezTo>
                  <a:cubicBezTo>
                    <a:pt x="890" y="67"/>
                    <a:pt x="942" y="45"/>
                    <a:pt x="870" y="16"/>
                  </a:cubicBezTo>
                  <a:cubicBezTo>
                    <a:pt x="828" y="0"/>
                    <a:pt x="805" y="87"/>
                    <a:pt x="759" y="76"/>
                  </a:cubicBezTo>
                  <a:cubicBezTo>
                    <a:pt x="744" y="72"/>
                    <a:pt x="670" y="127"/>
                    <a:pt x="670" y="127"/>
                  </a:cubicBezTo>
                </a:path>
              </a:pathLst>
            </a:custGeom>
            <a:gradFill rotWithShape="0">
              <a:gsLst>
                <a:gs pos="0">
                  <a:srgbClr val="6c0000"/>
                </a:gs>
                <a:gs pos="50000">
                  <a:srgbClr val="ff0000"/>
                </a:gs>
                <a:gs pos="100000">
                  <a:srgbClr val="6c0000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rot="4200">
              <a:off x="75960" y="5589360"/>
              <a:ext cx="50472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H="1" rot="16122000">
              <a:off x="1517400" y="4882320"/>
              <a:ext cx="44604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 rot="4200">
              <a:off x="777960" y="5268960"/>
              <a:ext cx="595080" cy="428400"/>
            </a:xfrm>
            <a:custGeom>
              <a:avLst/>
              <a:gdLst/>
              <a:ahLst/>
              <a:rect l="l" t="t" r="r" b="b"/>
              <a:pathLst>
                <a:path w="640" h="461">
                  <a:moveTo>
                    <a:pt x="64" y="445"/>
                  </a:moveTo>
                  <a:cubicBezTo>
                    <a:pt x="125" y="442"/>
                    <a:pt x="187" y="442"/>
                    <a:pt x="248" y="437"/>
                  </a:cubicBezTo>
                  <a:cubicBezTo>
                    <a:pt x="259" y="436"/>
                    <a:pt x="276" y="439"/>
                    <a:pt x="280" y="429"/>
                  </a:cubicBezTo>
                  <a:cubicBezTo>
                    <a:pt x="298" y="382"/>
                    <a:pt x="274" y="374"/>
                    <a:pt x="248" y="357"/>
                  </a:cubicBezTo>
                  <a:cubicBezTo>
                    <a:pt x="228" y="297"/>
                    <a:pt x="257" y="369"/>
                    <a:pt x="216" y="317"/>
                  </a:cubicBezTo>
                  <a:cubicBezTo>
                    <a:pt x="210" y="310"/>
                    <a:pt x="188" y="256"/>
                    <a:pt x="184" y="245"/>
                  </a:cubicBezTo>
                  <a:cubicBezTo>
                    <a:pt x="192" y="112"/>
                    <a:pt x="164" y="95"/>
                    <a:pt x="280" y="109"/>
                  </a:cubicBezTo>
                  <a:cubicBezTo>
                    <a:pt x="317" y="121"/>
                    <a:pt x="347" y="145"/>
                    <a:pt x="384" y="157"/>
                  </a:cubicBezTo>
                  <a:cubicBezTo>
                    <a:pt x="457" y="267"/>
                    <a:pt x="415" y="186"/>
                    <a:pt x="424" y="429"/>
                  </a:cubicBezTo>
                  <a:cubicBezTo>
                    <a:pt x="533" y="424"/>
                    <a:pt x="607" y="457"/>
                    <a:pt x="640" y="357"/>
                  </a:cubicBezTo>
                  <a:cubicBezTo>
                    <a:pt x="625" y="269"/>
                    <a:pt x="611" y="293"/>
                    <a:pt x="512" y="285"/>
                  </a:cubicBezTo>
                  <a:cubicBezTo>
                    <a:pt x="485" y="205"/>
                    <a:pt x="475" y="141"/>
                    <a:pt x="408" y="85"/>
                  </a:cubicBezTo>
                  <a:cubicBezTo>
                    <a:pt x="393" y="73"/>
                    <a:pt x="371" y="43"/>
                    <a:pt x="352" y="37"/>
                  </a:cubicBezTo>
                  <a:cubicBezTo>
                    <a:pt x="311" y="24"/>
                    <a:pt x="214" y="11"/>
                    <a:pt x="168" y="5"/>
                  </a:cubicBezTo>
                  <a:cubicBezTo>
                    <a:pt x="141" y="8"/>
                    <a:pt x="88" y="0"/>
                    <a:pt x="64" y="29"/>
                  </a:cubicBezTo>
                  <a:cubicBezTo>
                    <a:pt x="56" y="38"/>
                    <a:pt x="52" y="50"/>
                    <a:pt x="48" y="61"/>
                  </a:cubicBezTo>
                  <a:cubicBezTo>
                    <a:pt x="42" y="77"/>
                    <a:pt x="32" y="109"/>
                    <a:pt x="32" y="109"/>
                  </a:cubicBezTo>
                  <a:cubicBezTo>
                    <a:pt x="37" y="180"/>
                    <a:pt x="22" y="196"/>
                    <a:pt x="56" y="237"/>
                  </a:cubicBezTo>
                  <a:cubicBezTo>
                    <a:pt x="69" y="253"/>
                    <a:pt x="80" y="271"/>
                    <a:pt x="96" y="285"/>
                  </a:cubicBezTo>
                  <a:cubicBezTo>
                    <a:pt x="110" y="298"/>
                    <a:pt x="144" y="317"/>
                    <a:pt x="144" y="317"/>
                  </a:cubicBezTo>
                  <a:cubicBezTo>
                    <a:pt x="177" y="366"/>
                    <a:pt x="162" y="371"/>
                    <a:pt x="104" y="357"/>
                  </a:cubicBezTo>
                  <a:cubicBezTo>
                    <a:pt x="66" y="347"/>
                    <a:pt x="44" y="329"/>
                    <a:pt x="8" y="317"/>
                  </a:cubicBezTo>
                  <a:cubicBezTo>
                    <a:pt x="13" y="374"/>
                    <a:pt x="0" y="429"/>
                    <a:pt x="48" y="461"/>
                  </a:cubicBezTo>
                  <a:cubicBezTo>
                    <a:pt x="86" y="452"/>
                    <a:pt x="90" y="458"/>
                    <a:pt x="64" y="445"/>
                  </a:cubicBezTo>
                  <a:close/>
                </a:path>
              </a:pathLst>
            </a:custGeom>
            <a:solidFill>
              <a:srgbClr val="3333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93760" y="4160880"/>
              <a:ext cx="1211040" cy="1044360"/>
            </a:xfrm>
            <a:custGeom>
              <a:avLst/>
              <a:gdLst/>
              <a:ahLst/>
              <a:rect l="l" t="t" r="r" b="b"/>
              <a:pathLst>
                <a:path w="1050" h="906">
                  <a:moveTo>
                    <a:pt x="521" y="24"/>
                  </a:moveTo>
                  <a:cubicBezTo>
                    <a:pt x="598" y="0"/>
                    <a:pt x="573" y="2"/>
                    <a:pt x="709" y="24"/>
                  </a:cubicBezTo>
                  <a:cubicBezTo>
                    <a:pt x="734" y="28"/>
                    <a:pt x="784" y="48"/>
                    <a:pt x="784" y="48"/>
                  </a:cubicBezTo>
                  <a:cubicBezTo>
                    <a:pt x="864" y="105"/>
                    <a:pt x="820" y="70"/>
                    <a:pt x="910" y="157"/>
                  </a:cubicBezTo>
                  <a:cubicBezTo>
                    <a:pt x="939" y="185"/>
                    <a:pt x="985" y="254"/>
                    <a:pt x="985" y="254"/>
                  </a:cubicBezTo>
                  <a:cubicBezTo>
                    <a:pt x="1021" y="389"/>
                    <a:pt x="1050" y="536"/>
                    <a:pt x="973" y="664"/>
                  </a:cubicBezTo>
                  <a:cubicBezTo>
                    <a:pt x="954" y="697"/>
                    <a:pt x="927" y="767"/>
                    <a:pt x="897" y="785"/>
                  </a:cubicBezTo>
                  <a:cubicBezTo>
                    <a:pt x="847" y="817"/>
                    <a:pt x="805" y="862"/>
                    <a:pt x="747" y="882"/>
                  </a:cubicBezTo>
                  <a:cubicBezTo>
                    <a:pt x="715" y="894"/>
                    <a:pt x="646" y="906"/>
                    <a:pt x="646" y="906"/>
                  </a:cubicBezTo>
                  <a:cubicBezTo>
                    <a:pt x="489" y="898"/>
                    <a:pt x="376" y="886"/>
                    <a:pt x="232" y="846"/>
                  </a:cubicBezTo>
                  <a:cubicBezTo>
                    <a:pt x="153" y="795"/>
                    <a:pt x="100" y="741"/>
                    <a:pt x="69" y="652"/>
                  </a:cubicBezTo>
                  <a:cubicBezTo>
                    <a:pt x="73" y="521"/>
                    <a:pt x="0" y="178"/>
                    <a:pt x="203" y="114"/>
                  </a:cubicBezTo>
                  <a:cubicBezTo>
                    <a:pt x="274" y="46"/>
                    <a:pt x="360" y="62"/>
                    <a:pt x="458" y="48"/>
                  </a:cubicBezTo>
                  <a:cubicBezTo>
                    <a:pt x="537" y="22"/>
                    <a:pt x="560" y="24"/>
                    <a:pt x="521" y="24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rot="20582400">
              <a:off x="536400" y="4363560"/>
              <a:ext cx="341640" cy="4809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rot="20582400">
              <a:off x="903240" y="4264200"/>
              <a:ext cx="343080" cy="50796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rot="8088000">
              <a:off x="601200" y="4390560"/>
              <a:ext cx="751680" cy="70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44" y="1256"/>
                  </a:moveTo>
                  <a:arcTo wR="10800" hR="10800" stAng="-7074784" swAng="7074784"/>
                  <a:lnTo>
                    <a:pt x="10800" y="10800"/>
                  </a:lnTo>
                  <a:close/>
                </a:path>
                <a:path fill="none" w="21600" h="21600">
                  <a:moveTo>
                    <a:pt x="5744" y="1256"/>
                  </a:moveTo>
                  <a:arcTo wR="10800" hR="10800" stAng="-7074784" swAng="707478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rot="413400">
              <a:off x="907920" y="4773240"/>
              <a:ext cx="184320" cy="1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rot="413400">
              <a:off x="677880" y="4422240"/>
              <a:ext cx="182520" cy="257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rot="413400">
              <a:off x="1004760" y="4300200"/>
              <a:ext cx="182520" cy="257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rot="448800">
              <a:off x="328320" y="4195800"/>
              <a:ext cx="260280" cy="250920"/>
            </a:xfrm>
            <a:custGeom>
              <a:avLst/>
              <a:gdLst/>
              <a:ahLst/>
              <a:rect l="l" t="t" r="r" b="b"/>
              <a:pathLst>
                <a:path w="273" h="258">
                  <a:moveTo>
                    <a:pt x="273" y="40"/>
                  </a:moveTo>
                  <a:cubicBezTo>
                    <a:pt x="203" y="17"/>
                    <a:pt x="179" y="0"/>
                    <a:pt x="91" y="40"/>
                  </a:cubicBezTo>
                  <a:cubicBezTo>
                    <a:pt x="59" y="54"/>
                    <a:pt x="19" y="201"/>
                    <a:pt x="18" y="204"/>
                  </a:cubicBezTo>
                  <a:cubicBezTo>
                    <a:pt x="12" y="222"/>
                    <a:pt x="0" y="258"/>
                    <a:pt x="0" y="25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rot="448800">
              <a:off x="587160" y="4092480"/>
              <a:ext cx="274320" cy="211320"/>
            </a:xfrm>
            <a:custGeom>
              <a:avLst/>
              <a:gdLst/>
              <a:ahLst/>
              <a:rect l="l" t="t" r="r" b="b"/>
              <a:pathLst>
                <a:path w="290" h="218">
                  <a:moveTo>
                    <a:pt x="0" y="218"/>
                  </a:moveTo>
                  <a:cubicBezTo>
                    <a:pt x="66" y="118"/>
                    <a:pt x="157" y="0"/>
                    <a:pt x="29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rot="448800">
              <a:off x="632880" y="4065480"/>
              <a:ext cx="1800" cy="195480"/>
            </a:xfrm>
            <a:custGeom>
              <a:avLst/>
              <a:gdLst/>
              <a:ahLst/>
              <a:rect l="l" t="t" r="r" b="b"/>
              <a:pathLst>
                <a:path w="1" h="200">
                  <a:moveTo>
                    <a:pt x="0" y="200"/>
                  </a:moveTo>
                  <a:cubicBezTo>
                    <a:pt x="0" y="133"/>
                    <a:pt x="0" y="67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 rot="21140400">
              <a:off x="418680" y="4266720"/>
              <a:ext cx="233280" cy="392400"/>
            </a:xfrm>
            <a:custGeom>
              <a:avLst/>
              <a:gdLst/>
              <a:ahLst/>
              <a:rect l="l" t="t" r="r" b="b"/>
              <a:pathLst>
                <a:path w="273" h="400">
                  <a:moveTo>
                    <a:pt x="273" y="0"/>
                  </a:moveTo>
                  <a:cubicBezTo>
                    <a:pt x="198" y="37"/>
                    <a:pt x="150" y="69"/>
                    <a:pt x="91" y="127"/>
                  </a:cubicBezTo>
                  <a:cubicBezTo>
                    <a:pt x="61" y="218"/>
                    <a:pt x="0" y="301"/>
                    <a:pt x="0" y="4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rot="1662000">
              <a:off x="651960" y="4183200"/>
              <a:ext cx="246240" cy="131760"/>
            </a:xfrm>
            <a:custGeom>
              <a:avLst/>
              <a:gdLst/>
              <a:ahLst/>
              <a:rect l="l" t="t" r="r" b="b"/>
              <a:pathLst>
                <a:path w="273" h="109">
                  <a:moveTo>
                    <a:pt x="0" y="109"/>
                  </a:moveTo>
                  <a:cubicBezTo>
                    <a:pt x="12" y="91"/>
                    <a:pt x="17" y="66"/>
                    <a:pt x="36" y="54"/>
                  </a:cubicBezTo>
                  <a:cubicBezTo>
                    <a:pt x="105" y="11"/>
                    <a:pt x="195" y="0"/>
                    <a:pt x="27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523880" y="3962520"/>
              <a:ext cx="990720" cy="1218960"/>
            </a:xfrm>
            <a:custGeom>
              <a:avLst/>
              <a:gdLst/>
              <a:ahLst/>
              <a:rect l="l" t="t" r="r" b="b"/>
              <a:pathLst>
                <a:path w="624" h="768">
                  <a:moveTo>
                    <a:pt x="0" y="720"/>
                  </a:moveTo>
                  <a:lnTo>
                    <a:pt x="48" y="768"/>
                  </a:lnTo>
                  <a:lnTo>
                    <a:pt x="624" y="0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0" name=""/>
          <p:cNvSpPr/>
          <p:nvPr/>
        </p:nvSpPr>
        <p:spPr>
          <a:xfrm>
            <a:off x="0" y="0"/>
            <a:ext cx="5219640" cy="3048120"/>
          </a:xfrm>
          <a:prstGeom prst="cloudCallout">
            <a:avLst>
              <a:gd name="adj1" fmla="val -41120"/>
              <a:gd name="adj2" fmla="val 71824"/>
            </a:avLst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3767040" y="1386000"/>
            <a:ext cx="803520" cy="62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287280" y="1460520"/>
            <a:ext cx="803160" cy="630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3" name=""/>
          <p:cNvGrpSpPr/>
          <p:nvPr/>
        </p:nvGrpSpPr>
        <p:grpSpPr>
          <a:xfrm>
            <a:off x="1195560" y="1668600"/>
            <a:ext cx="2779560" cy="704880"/>
            <a:chOff x="1195560" y="1668600"/>
            <a:chExt cx="2779560" cy="704880"/>
          </a:xfrm>
        </p:grpSpPr>
        <p:sp>
          <p:nvSpPr>
            <p:cNvPr id="1734" name=""/>
            <p:cNvSpPr/>
            <p:nvPr/>
          </p:nvSpPr>
          <p:spPr>
            <a:xfrm>
              <a:off x="2019240" y="203832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2019240" y="215280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933640" y="2019240"/>
              <a:ext cx="20952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H="1">
              <a:off x="2933640" y="2019240"/>
              <a:ext cx="20952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 txBox="1"/>
            <p:nvPr/>
          </p:nvSpPr>
          <p:spPr>
            <a:xfrm>
              <a:off x="1195560" y="1801800"/>
              <a:ext cx="628560" cy="5716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739" name=""/>
            <p:cNvSpPr txBox="1"/>
            <p:nvPr/>
          </p:nvSpPr>
          <p:spPr>
            <a:xfrm>
              <a:off x="2563920" y="1668600"/>
              <a:ext cx="171360" cy="704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740" name=""/>
            <p:cNvSpPr txBox="1"/>
            <p:nvPr/>
          </p:nvSpPr>
          <p:spPr>
            <a:xfrm>
              <a:off x="3306600" y="1811160"/>
              <a:ext cx="668520" cy="5623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 Black"/>
                </a:rPr>
                <a:t>R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1741" name=""/>
          <p:cNvSpPr/>
          <p:nvPr/>
        </p:nvSpPr>
        <p:spPr>
          <a:xfrm flipV="1">
            <a:off x="5048280" y="3105000"/>
            <a:ext cx="3543120" cy="2076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019840" y="2924280"/>
            <a:ext cx="0" cy="22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 flipH="1">
            <a:off x="5009760" y="5181480"/>
            <a:ext cx="375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410080" y="50608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5805360" y="506880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6200640" y="50608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59592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99120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38648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78176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flipH="1">
            <a:off x="4902120" y="328608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flipH="1">
            <a:off x="4905360" y="368136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flipH="1">
            <a:off x="4905360" y="407664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flipH="1">
            <a:off x="4905360" y="447192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flipH="1">
            <a:off x="4905360" y="486720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8191440" y="50767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8586720" y="50767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561708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41700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19820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97904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4850280" y="5252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432680" y="498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4348800" y="4229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4348800" y="3461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4263480" y="30405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4348800" y="3835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4348800" y="4636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5357880" y="49338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5738760" y="4705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6510240" y="42577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8091360" y="33242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 txBox="1"/>
          <p:nvPr/>
        </p:nvSpPr>
        <p:spPr>
          <a:xfrm rot="19850400">
            <a:off x="5916600" y="3679920"/>
            <a:ext cx="1601640" cy="352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resistanc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774" name=""/>
          <p:cNvSpPr txBox="1"/>
          <p:nvPr/>
        </p:nvSpPr>
        <p:spPr>
          <a:xfrm>
            <a:off x="2986200" y="4008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(Volts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775" name=""/>
          <p:cNvSpPr txBox="1"/>
          <p:nvPr/>
        </p:nvSpPr>
        <p:spPr>
          <a:xfrm>
            <a:off x="6259680" y="6164280"/>
            <a:ext cx="1238040" cy="380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(Amperes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776" name=""/>
          <p:cNvSpPr txBox="1"/>
          <p:nvPr/>
        </p:nvSpPr>
        <p:spPr>
          <a:xfrm>
            <a:off x="1500120" y="3284640"/>
            <a:ext cx="281952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Potential Differ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777" name=""/>
          <p:cNvSpPr txBox="1"/>
          <p:nvPr/>
        </p:nvSpPr>
        <p:spPr>
          <a:xfrm>
            <a:off x="5916600" y="5573880"/>
            <a:ext cx="1866960" cy="49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Curr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778" name=""/>
          <p:cNvGrpSpPr/>
          <p:nvPr/>
        </p:nvGrpSpPr>
        <p:grpSpPr>
          <a:xfrm>
            <a:off x="1154160" y="601560"/>
            <a:ext cx="3295440" cy="704880"/>
            <a:chOff x="1154160" y="601560"/>
            <a:chExt cx="3295440" cy="704880"/>
          </a:xfrm>
        </p:grpSpPr>
        <p:sp>
          <p:nvSpPr>
            <p:cNvPr id="1779" name=""/>
            <p:cNvSpPr txBox="1"/>
            <p:nvPr/>
          </p:nvSpPr>
          <p:spPr>
            <a:xfrm>
              <a:off x="1154160" y="601560"/>
              <a:ext cx="171360" cy="704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540080" y="80856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s 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 txBox="1"/>
            <p:nvPr/>
          </p:nvSpPr>
          <p:spPr>
            <a:xfrm>
              <a:off x="2583000" y="773280"/>
              <a:ext cx="1866600" cy="4950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Curren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2" name=""/>
          <p:cNvGrpSpPr/>
          <p:nvPr/>
        </p:nvGrpSpPr>
        <p:grpSpPr>
          <a:xfrm>
            <a:off x="75960" y="3962520"/>
            <a:ext cx="2438640" cy="2675160"/>
            <a:chOff x="75960" y="3962520"/>
            <a:chExt cx="2438640" cy="2675160"/>
          </a:xfrm>
        </p:grpSpPr>
        <p:sp>
          <p:nvSpPr>
            <p:cNvPr id="1783" name=""/>
            <p:cNvSpPr/>
            <p:nvPr/>
          </p:nvSpPr>
          <p:spPr>
            <a:xfrm rot="4200">
              <a:off x="375840" y="5091120"/>
              <a:ext cx="1473120" cy="1295280"/>
            </a:xfrm>
            <a:custGeom>
              <a:avLst/>
              <a:gdLst/>
              <a:ahLst/>
              <a:rect l="l" t="t" r="r" b="b"/>
              <a:pathLst>
                <a:path w="1688" h="1469">
                  <a:moveTo>
                    <a:pt x="60" y="859"/>
                  </a:moveTo>
                  <a:cubicBezTo>
                    <a:pt x="54" y="930"/>
                    <a:pt x="43" y="984"/>
                    <a:pt x="28" y="1050"/>
                  </a:cubicBezTo>
                  <a:cubicBezTo>
                    <a:pt x="25" y="1099"/>
                    <a:pt x="20" y="1147"/>
                    <a:pt x="20" y="1196"/>
                  </a:cubicBezTo>
                  <a:cubicBezTo>
                    <a:pt x="20" y="1374"/>
                    <a:pt x="0" y="1417"/>
                    <a:pt x="132" y="1424"/>
                  </a:cubicBezTo>
                  <a:cubicBezTo>
                    <a:pt x="289" y="1469"/>
                    <a:pt x="327" y="1216"/>
                    <a:pt x="636" y="1224"/>
                  </a:cubicBezTo>
                  <a:cubicBezTo>
                    <a:pt x="1284" y="1176"/>
                    <a:pt x="1224" y="1416"/>
                    <a:pt x="1508" y="1408"/>
                  </a:cubicBezTo>
                  <a:cubicBezTo>
                    <a:pt x="1548" y="1399"/>
                    <a:pt x="1606" y="1339"/>
                    <a:pt x="1644" y="1324"/>
                  </a:cubicBezTo>
                  <a:cubicBezTo>
                    <a:pt x="1652" y="1321"/>
                    <a:pt x="1648" y="1304"/>
                    <a:pt x="1652" y="1297"/>
                  </a:cubicBezTo>
                  <a:cubicBezTo>
                    <a:pt x="1659" y="1282"/>
                    <a:pt x="1668" y="1272"/>
                    <a:pt x="1676" y="1259"/>
                  </a:cubicBezTo>
                  <a:cubicBezTo>
                    <a:pt x="1688" y="1202"/>
                    <a:pt x="1676" y="1159"/>
                    <a:pt x="1660" y="1105"/>
                  </a:cubicBezTo>
                  <a:cubicBezTo>
                    <a:pt x="1649" y="1066"/>
                    <a:pt x="1643" y="1023"/>
                    <a:pt x="1628" y="986"/>
                  </a:cubicBezTo>
                  <a:cubicBezTo>
                    <a:pt x="1622" y="973"/>
                    <a:pt x="1611" y="962"/>
                    <a:pt x="1604" y="950"/>
                  </a:cubicBezTo>
                  <a:cubicBezTo>
                    <a:pt x="1581" y="906"/>
                    <a:pt x="1547" y="872"/>
                    <a:pt x="1520" y="832"/>
                  </a:cubicBezTo>
                  <a:cubicBezTo>
                    <a:pt x="1513" y="799"/>
                    <a:pt x="1498" y="688"/>
                    <a:pt x="1476" y="667"/>
                  </a:cubicBezTo>
                  <a:cubicBezTo>
                    <a:pt x="1469" y="661"/>
                    <a:pt x="1460" y="661"/>
                    <a:pt x="1452" y="658"/>
                  </a:cubicBezTo>
                  <a:cubicBezTo>
                    <a:pt x="1423" y="557"/>
                    <a:pt x="1472" y="706"/>
                    <a:pt x="1420" y="612"/>
                  </a:cubicBezTo>
                  <a:cubicBezTo>
                    <a:pt x="1407" y="588"/>
                    <a:pt x="1401" y="558"/>
                    <a:pt x="1396" y="530"/>
                  </a:cubicBezTo>
                  <a:cubicBezTo>
                    <a:pt x="1382" y="452"/>
                    <a:pt x="1383" y="354"/>
                    <a:pt x="1348" y="284"/>
                  </a:cubicBezTo>
                  <a:cubicBezTo>
                    <a:pt x="1335" y="258"/>
                    <a:pt x="1316" y="235"/>
                    <a:pt x="1300" y="211"/>
                  </a:cubicBezTo>
                  <a:cubicBezTo>
                    <a:pt x="1279" y="140"/>
                    <a:pt x="1267" y="125"/>
                    <a:pt x="1212" y="83"/>
                  </a:cubicBezTo>
                  <a:cubicBezTo>
                    <a:pt x="1198" y="73"/>
                    <a:pt x="1164" y="65"/>
                    <a:pt x="1164" y="65"/>
                  </a:cubicBezTo>
                  <a:cubicBezTo>
                    <a:pt x="1096" y="91"/>
                    <a:pt x="1010" y="87"/>
                    <a:pt x="940" y="92"/>
                  </a:cubicBezTo>
                  <a:cubicBezTo>
                    <a:pt x="822" y="89"/>
                    <a:pt x="675" y="93"/>
                    <a:pt x="548" y="75"/>
                  </a:cubicBezTo>
                  <a:cubicBezTo>
                    <a:pt x="499" y="66"/>
                    <a:pt x="454" y="46"/>
                    <a:pt x="404" y="37"/>
                  </a:cubicBezTo>
                  <a:cubicBezTo>
                    <a:pt x="156" y="49"/>
                    <a:pt x="253" y="0"/>
                    <a:pt x="164" y="102"/>
                  </a:cubicBezTo>
                  <a:cubicBezTo>
                    <a:pt x="146" y="165"/>
                    <a:pt x="134" y="230"/>
                    <a:pt x="116" y="293"/>
                  </a:cubicBezTo>
                  <a:cubicBezTo>
                    <a:pt x="106" y="421"/>
                    <a:pt x="183" y="546"/>
                    <a:pt x="168" y="672"/>
                  </a:cubicBezTo>
                  <a:cubicBezTo>
                    <a:pt x="160" y="739"/>
                    <a:pt x="39" y="787"/>
                    <a:pt x="117" y="918"/>
                  </a:cubicBezTo>
                </a:path>
              </a:pathLst>
            </a:custGeom>
            <a:gradFill rotWithShape="0">
              <a:gsLst>
                <a:gs pos="0">
                  <a:srgbClr val="750075"/>
                </a:gs>
                <a:gs pos="50000">
                  <a:srgbClr val="ff00ff"/>
                </a:gs>
                <a:gs pos="100000">
                  <a:srgbClr val="750075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H="1" rot="4800">
              <a:off x="448920" y="6291360"/>
              <a:ext cx="571320" cy="345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rot="4200">
              <a:off x="642600" y="5716080"/>
              <a:ext cx="1093680" cy="655920"/>
            </a:xfrm>
            <a:custGeom>
              <a:avLst/>
              <a:gdLst/>
              <a:ahLst/>
              <a:rect l="l" t="t" r="r" b="b"/>
              <a:pathLst>
                <a:path w="1175" h="705">
                  <a:moveTo>
                    <a:pt x="88" y="67"/>
                  </a:moveTo>
                  <a:cubicBezTo>
                    <a:pt x="76" y="271"/>
                    <a:pt x="64" y="396"/>
                    <a:pt x="0" y="579"/>
                  </a:cubicBezTo>
                  <a:cubicBezTo>
                    <a:pt x="4" y="600"/>
                    <a:pt x="2" y="623"/>
                    <a:pt x="13" y="642"/>
                  </a:cubicBezTo>
                  <a:cubicBezTo>
                    <a:pt x="26" y="665"/>
                    <a:pt x="80" y="677"/>
                    <a:pt x="100" y="679"/>
                  </a:cubicBezTo>
                  <a:cubicBezTo>
                    <a:pt x="183" y="686"/>
                    <a:pt x="267" y="688"/>
                    <a:pt x="350" y="692"/>
                  </a:cubicBezTo>
                  <a:cubicBezTo>
                    <a:pt x="375" y="688"/>
                    <a:pt x="403" y="692"/>
                    <a:pt x="425" y="679"/>
                  </a:cubicBezTo>
                  <a:cubicBezTo>
                    <a:pt x="436" y="673"/>
                    <a:pt x="432" y="654"/>
                    <a:pt x="438" y="642"/>
                  </a:cubicBezTo>
                  <a:cubicBezTo>
                    <a:pt x="467" y="585"/>
                    <a:pt x="464" y="622"/>
                    <a:pt x="488" y="554"/>
                  </a:cubicBezTo>
                  <a:cubicBezTo>
                    <a:pt x="503" y="513"/>
                    <a:pt x="525" y="429"/>
                    <a:pt x="525" y="429"/>
                  </a:cubicBezTo>
                  <a:cubicBezTo>
                    <a:pt x="539" y="336"/>
                    <a:pt x="515" y="312"/>
                    <a:pt x="600" y="292"/>
                  </a:cubicBezTo>
                  <a:cubicBezTo>
                    <a:pt x="633" y="386"/>
                    <a:pt x="636" y="509"/>
                    <a:pt x="650" y="604"/>
                  </a:cubicBezTo>
                  <a:cubicBezTo>
                    <a:pt x="654" y="634"/>
                    <a:pt x="695" y="649"/>
                    <a:pt x="725" y="654"/>
                  </a:cubicBezTo>
                  <a:cubicBezTo>
                    <a:pt x="859" y="678"/>
                    <a:pt x="933" y="694"/>
                    <a:pt x="1075" y="704"/>
                  </a:cubicBezTo>
                  <a:cubicBezTo>
                    <a:pt x="1104" y="700"/>
                    <a:pt x="1137" y="705"/>
                    <a:pt x="1163" y="692"/>
                  </a:cubicBezTo>
                  <a:cubicBezTo>
                    <a:pt x="1175" y="686"/>
                    <a:pt x="1175" y="667"/>
                    <a:pt x="1175" y="654"/>
                  </a:cubicBezTo>
                  <a:cubicBezTo>
                    <a:pt x="1175" y="463"/>
                    <a:pt x="1163" y="472"/>
                    <a:pt x="1075" y="342"/>
                  </a:cubicBezTo>
                  <a:cubicBezTo>
                    <a:pt x="1071" y="326"/>
                    <a:pt x="1060" y="271"/>
                    <a:pt x="1050" y="254"/>
                  </a:cubicBezTo>
                  <a:cubicBezTo>
                    <a:pt x="1035" y="228"/>
                    <a:pt x="1000" y="179"/>
                    <a:pt x="1000" y="179"/>
                  </a:cubicBezTo>
                  <a:cubicBezTo>
                    <a:pt x="979" y="113"/>
                    <a:pt x="995" y="153"/>
                    <a:pt x="938" y="67"/>
                  </a:cubicBezTo>
                  <a:cubicBezTo>
                    <a:pt x="893" y="0"/>
                    <a:pt x="900" y="78"/>
                    <a:pt x="900" y="17"/>
                  </a:cubicBezTo>
                </a:path>
              </a:pathLst>
            </a:custGeom>
            <a:gradFill rotWithShape="0">
              <a:gsLst>
                <a:gs pos="0">
                  <a:srgbClr val="00cc99"/>
                </a:gs>
                <a:gs pos="50000">
                  <a:srgbClr val="ccecff"/>
                </a:gs>
                <a:gs pos="100000">
                  <a:srgbClr val="00cc99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rot="4200">
              <a:off x="1310760" y="6342120"/>
              <a:ext cx="617760" cy="291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52280" y="4979880"/>
              <a:ext cx="1495440" cy="1003320"/>
            </a:xfrm>
            <a:custGeom>
              <a:avLst/>
              <a:gdLst/>
              <a:ahLst/>
              <a:rect l="l" t="t" r="r" b="b"/>
              <a:pathLst>
                <a:path w="942" h="632">
                  <a:moveTo>
                    <a:pt x="221" y="159"/>
                  </a:moveTo>
                  <a:cubicBezTo>
                    <a:pt x="211" y="166"/>
                    <a:pt x="202" y="175"/>
                    <a:pt x="190" y="181"/>
                  </a:cubicBezTo>
                  <a:cubicBezTo>
                    <a:pt x="160" y="196"/>
                    <a:pt x="97" y="224"/>
                    <a:pt x="97" y="224"/>
                  </a:cubicBezTo>
                  <a:cubicBezTo>
                    <a:pt x="45" y="279"/>
                    <a:pt x="0" y="295"/>
                    <a:pt x="50" y="367"/>
                  </a:cubicBezTo>
                  <a:cubicBezTo>
                    <a:pt x="58" y="377"/>
                    <a:pt x="81" y="375"/>
                    <a:pt x="97" y="378"/>
                  </a:cubicBezTo>
                  <a:cubicBezTo>
                    <a:pt x="117" y="382"/>
                    <a:pt x="137" y="385"/>
                    <a:pt x="158" y="389"/>
                  </a:cubicBezTo>
                  <a:cubicBezTo>
                    <a:pt x="183" y="385"/>
                    <a:pt x="213" y="388"/>
                    <a:pt x="236" y="378"/>
                  </a:cubicBezTo>
                  <a:cubicBezTo>
                    <a:pt x="250" y="371"/>
                    <a:pt x="243" y="355"/>
                    <a:pt x="252" y="345"/>
                  </a:cubicBezTo>
                  <a:cubicBezTo>
                    <a:pt x="259" y="336"/>
                    <a:pt x="273" y="330"/>
                    <a:pt x="283" y="323"/>
                  </a:cubicBezTo>
                  <a:cubicBezTo>
                    <a:pt x="293" y="334"/>
                    <a:pt x="310" y="343"/>
                    <a:pt x="314" y="356"/>
                  </a:cubicBezTo>
                  <a:cubicBezTo>
                    <a:pt x="381" y="632"/>
                    <a:pt x="158" y="513"/>
                    <a:pt x="855" y="499"/>
                  </a:cubicBezTo>
                  <a:cubicBezTo>
                    <a:pt x="850" y="478"/>
                    <a:pt x="854" y="453"/>
                    <a:pt x="840" y="434"/>
                  </a:cubicBezTo>
                  <a:cubicBezTo>
                    <a:pt x="821" y="407"/>
                    <a:pt x="848" y="339"/>
                    <a:pt x="814" y="323"/>
                  </a:cubicBezTo>
                  <a:cubicBezTo>
                    <a:pt x="804" y="261"/>
                    <a:pt x="806" y="273"/>
                    <a:pt x="802" y="261"/>
                  </a:cubicBezTo>
                  <a:cubicBezTo>
                    <a:pt x="831" y="248"/>
                    <a:pt x="815" y="243"/>
                    <a:pt x="831" y="220"/>
                  </a:cubicBezTo>
                  <a:cubicBezTo>
                    <a:pt x="847" y="197"/>
                    <a:pt x="894" y="155"/>
                    <a:pt x="900" y="121"/>
                  </a:cubicBezTo>
                  <a:cubicBezTo>
                    <a:pt x="890" y="67"/>
                    <a:pt x="942" y="45"/>
                    <a:pt x="870" y="16"/>
                  </a:cubicBezTo>
                  <a:cubicBezTo>
                    <a:pt x="828" y="0"/>
                    <a:pt x="805" y="87"/>
                    <a:pt x="759" y="76"/>
                  </a:cubicBezTo>
                  <a:cubicBezTo>
                    <a:pt x="744" y="72"/>
                    <a:pt x="670" y="127"/>
                    <a:pt x="670" y="127"/>
                  </a:cubicBezTo>
                </a:path>
              </a:pathLst>
            </a:custGeom>
            <a:gradFill rotWithShape="0">
              <a:gsLst>
                <a:gs pos="0">
                  <a:srgbClr val="6c0000"/>
                </a:gs>
                <a:gs pos="50000">
                  <a:srgbClr val="ff0000"/>
                </a:gs>
                <a:gs pos="100000">
                  <a:srgbClr val="6c0000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rot="4200">
              <a:off x="75960" y="5589360"/>
              <a:ext cx="50472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H="1" rot="16122000">
              <a:off x="1517400" y="4882320"/>
              <a:ext cx="44604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rot="4200">
              <a:off x="777960" y="5268960"/>
              <a:ext cx="595080" cy="428400"/>
            </a:xfrm>
            <a:custGeom>
              <a:avLst/>
              <a:gdLst/>
              <a:ahLst/>
              <a:rect l="l" t="t" r="r" b="b"/>
              <a:pathLst>
                <a:path w="640" h="461">
                  <a:moveTo>
                    <a:pt x="64" y="445"/>
                  </a:moveTo>
                  <a:cubicBezTo>
                    <a:pt x="125" y="442"/>
                    <a:pt x="187" y="442"/>
                    <a:pt x="248" y="437"/>
                  </a:cubicBezTo>
                  <a:cubicBezTo>
                    <a:pt x="259" y="436"/>
                    <a:pt x="276" y="439"/>
                    <a:pt x="280" y="429"/>
                  </a:cubicBezTo>
                  <a:cubicBezTo>
                    <a:pt x="298" y="382"/>
                    <a:pt x="274" y="374"/>
                    <a:pt x="248" y="357"/>
                  </a:cubicBezTo>
                  <a:cubicBezTo>
                    <a:pt x="228" y="297"/>
                    <a:pt x="257" y="369"/>
                    <a:pt x="216" y="317"/>
                  </a:cubicBezTo>
                  <a:cubicBezTo>
                    <a:pt x="210" y="310"/>
                    <a:pt x="188" y="256"/>
                    <a:pt x="184" y="245"/>
                  </a:cubicBezTo>
                  <a:cubicBezTo>
                    <a:pt x="192" y="112"/>
                    <a:pt x="164" y="95"/>
                    <a:pt x="280" y="109"/>
                  </a:cubicBezTo>
                  <a:cubicBezTo>
                    <a:pt x="317" y="121"/>
                    <a:pt x="347" y="145"/>
                    <a:pt x="384" y="157"/>
                  </a:cubicBezTo>
                  <a:cubicBezTo>
                    <a:pt x="457" y="267"/>
                    <a:pt x="415" y="186"/>
                    <a:pt x="424" y="429"/>
                  </a:cubicBezTo>
                  <a:cubicBezTo>
                    <a:pt x="533" y="424"/>
                    <a:pt x="607" y="457"/>
                    <a:pt x="640" y="357"/>
                  </a:cubicBezTo>
                  <a:cubicBezTo>
                    <a:pt x="625" y="269"/>
                    <a:pt x="611" y="293"/>
                    <a:pt x="512" y="285"/>
                  </a:cubicBezTo>
                  <a:cubicBezTo>
                    <a:pt x="485" y="205"/>
                    <a:pt x="475" y="141"/>
                    <a:pt x="408" y="85"/>
                  </a:cubicBezTo>
                  <a:cubicBezTo>
                    <a:pt x="393" y="73"/>
                    <a:pt x="371" y="43"/>
                    <a:pt x="352" y="37"/>
                  </a:cubicBezTo>
                  <a:cubicBezTo>
                    <a:pt x="311" y="24"/>
                    <a:pt x="214" y="11"/>
                    <a:pt x="168" y="5"/>
                  </a:cubicBezTo>
                  <a:cubicBezTo>
                    <a:pt x="141" y="8"/>
                    <a:pt x="88" y="0"/>
                    <a:pt x="64" y="29"/>
                  </a:cubicBezTo>
                  <a:cubicBezTo>
                    <a:pt x="56" y="38"/>
                    <a:pt x="52" y="50"/>
                    <a:pt x="48" y="61"/>
                  </a:cubicBezTo>
                  <a:cubicBezTo>
                    <a:pt x="42" y="77"/>
                    <a:pt x="32" y="109"/>
                    <a:pt x="32" y="109"/>
                  </a:cubicBezTo>
                  <a:cubicBezTo>
                    <a:pt x="37" y="180"/>
                    <a:pt x="22" y="196"/>
                    <a:pt x="56" y="237"/>
                  </a:cubicBezTo>
                  <a:cubicBezTo>
                    <a:pt x="69" y="253"/>
                    <a:pt x="80" y="271"/>
                    <a:pt x="96" y="285"/>
                  </a:cubicBezTo>
                  <a:cubicBezTo>
                    <a:pt x="110" y="298"/>
                    <a:pt x="144" y="317"/>
                    <a:pt x="144" y="317"/>
                  </a:cubicBezTo>
                  <a:cubicBezTo>
                    <a:pt x="177" y="366"/>
                    <a:pt x="162" y="371"/>
                    <a:pt x="104" y="357"/>
                  </a:cubicBezTo>
                  <a:cubicBezTo>
                    <a:pt x="66" y="347"/>
                    <a:pt x="44" y="329"/>
                    <a:pt x="8" y="317"/>
                  </a:cubicBezTo>
                  <a:cubicBezTo>
                    <a:pt x="13" y="374"/>
                    <a:pt x="0" y="429"/>
                    <a:pt x="48" y="461"/>
                  </a:cubicBezTo>
                  <a:cubicBezTo>
                    <a:pt x="86" y="452"/>
                    <a:pt x="90" y="458"/>
                    <a:pt x="64" y="445"/>
                  </a:cubicBezTo>
                  <a:close/>
                </a:path>
              </a:pathLst>
            </a:custGeom>
            <a:solidFill>
              <a:srgbClr val="3333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93760" y="4160880"/>
              <a:ext cx="1211040" cy="1044360"/>
            </a:xfrm>
            <a:custGeom>
              <a:avLst/>
              <a:gdLst/>
              <a:ahLst/>
              <a:rect l="l" t="t" r="r" b="b"/>
              <a:pathLst>
                <a:path w="1050" h="906">
                  <a:moveTo>
                    <a:pt x="521" y="24"/>
                  </a:moveTo>
                  <a:cubicBezTo>
                    <a:pt x="598" y="0"/>
                    <a:pt x="573" y="2"/>
                    <a:pt x="709" y="24"/>
                  </a:cubicBezTo>
                  <a:cubicBezTo>
                    <a:pt x="734" y="28"/>
                    <a:pt x="784" y="48"/>
                    <a:pt x="784" y="48"/>
                  </a:cubicBezTo>
                  <a:cubicBezTo>
                    <a:pt x="864" y="105"/>
                    <a:pt x="820" y="70"/>
                    <a:pt x="910" y="157"/>
                  </a:cubicBezTo>
                  <a:cubicBezTo>
                    <a:pt x="939" y="185"/>
                    <a:pt x="985" y="254"/>
                    <a:pt x="985" y="254"/>
                  </a:cubicBezTo>
                  <a:cubicBezTo>
                    <a:pt x="1021" y="389"/>
                    <a:pt x="1050" y="536"/>
                    <a:pt x="973" y="664"/>
                  </a:cubicBezTo>
                  <a:cubicBezTo>
                    <a:pt x="954" y="697"/>
                    <a:pt x="927" y="767"/>
                    <a:pt x="897" y="785"/>
                  </a:cubicBezTo>
                  <a:cubicBezTo>
                    <a:pt x="847" y="817"/>
                    <a:pt x="805" y="862"/>
                    <a:pt x="747" y="882"/>
                  </a:cubicBezTo>
                  <a:cubicBezTo>
                    <a:pt x="715" y="894"/>
                    <a:pt x="646" y="906"/>
                    <a:pt x="646" y="906"/>
                  </a:cubicBezTo>
                  <a:cubicBezTo>
                    <a:pt x="489" y="898"/>
                    <a:pt x="376" y="886"/>
                    <a:pt x="232" y="846"/>
                  </a:cubicBezTo>
                  <a:cubicBezTo>
                    <a:pt x="153" y="795"/>
                    <a:pt x="100" y="741"/>
                    <a:pt x="69" y="652"/>
                  </a:cubicBezTo>
                  <a:cubicBezTo>
                    <a:pt x="73" y="521"/>
                    <a:pt x="0" y="178"/>
                    <a:pt x="203" y="114"/>
                  </a:cubicBezTo>
                  <a:cubicBezTo>
                    <a:pt x="274" y="46"/>
                    <a:pt x="360" y="62"/>
                    <a:pt x="458" y="48"/>
                  </a:cubicBezTo>
                  <a:cubicBezTo>
                    <a:pt x="537" y="22"/>
                    <a:pt x="560" y="24"/>
                    <a:pt x="521" y="24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rot="20582400">
              <a:off x="536400" y="4363560"/>
              <a:ext cx="341640" cy="4809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rot="20582400">
              <a:off x="903240" y="4264200"/>
              <a:ext cx="343080" cy="50796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rot="8088000">
              <a:off x="601200" y="4390560"/>
              <a:ext cx="751680" cy="70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44" y="1256"/>
                  </a:moveTo>
                  <a:arcTo wR="10800" hR="10800" stAng="-7074784" swAng="7074784"/>
                  <a:lnTo>
                    <a:pt x="10800" y="10800"/>
                  </a:lnTo>
                  <a:close/>
                </a:path>
                <a:path fill="none" w="21600" h="21600">
                  <a:moveTo>
                    <a:pt x="5744" y="1256"/>
                  </a:moveTo>
                  <a:arcTo wR="10800" hR="10800" stAng="-7074784" swAng="707478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rot="413400">
              <a:off x="907920" y="4773240"/>
              <a:ext cx="184320" cy="1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rot="413400">
              <a:off x="677880" y="4422240"/>
              <a:ext cx="182520" cy="257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rot="413400">
              <a:off x="1004760" y="4300200"/>
              <a:ext cx="182520" cy="257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rot="448800">
              <a:off x="328320" y="4195800"/>
              <a:ext cx="260280" cy="250920"/>
            </a:xfrm>
            <a:custGeom>
              <a:avLst/>
              <a:gdLst/>
              <a:ahLst/>
              <a:rect l="l" t="t" r="r" b="b"/>
              <a:pathLst>
                <a:path w="273" h="258">
                  <a:moveTo>
                    <a:pt x="273" y="40"/>
                  </a:moveTo>
                  <a:cubicBezTo>
                    <a:pt x="203" y="17"/>
                    <a:pt x="179" y="0"/>
                    <a:pt x="91" y="40"/>
                  </a:cubicBezTo>
                  <a:cubicBezTo>
                    <a:pt x="59" y="54"/>
                    <a:pt x="19" y="201"/>
                    <a:pt x="18" y="204"/>
                  </a:cubicBezTo>
                  <a:cubicBezTo>
                    <a:pt x="12" y="222"/>
                    <a:pt x="0" y="258"/>
                    <a:pt x="0" y="25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rot="448800">
              <a:off x="587160" y="4092480"/>
              <a:ext cx="274320" cy="211320"/>
            </a:xfrm>
            <a:custGeom>
              <a:avLst/>
              <a:gdLst/>
              <a:ahLst/>
              <a:rect l="l" t="t" r="r" b="b"/>
              <a:pathLst>
                <a:path w="290" h="218">
                  <a:moveTo>
                    <a:pt x="0" y="218"/>
                  </a:moveTo>
                  <a:cubicBezTo>
                    <a:pt x="66" y="118"/>
                    <a:pt x="157" y="0"/>
                    <a:pt x="29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rot="448800">
              <a:off x="632880" y="4065480"/>
              <a:ext cx="1800" cy="195480"/>
            </a:xfrm>
            <a:custGeom>
              <a:avLst/>
              <a:gdLst/>
              <a:ahLst/>
              <a:rect l="l" t="t" r="r" b="b"/>
              <a:pathLst>
                <a:path w="1" h="200">
                  <a:moveTo>
                    <a:pt x="0" y="200"/>
                  </a:moveTo>
                  <a:cubicBezTo>
                    <a:pt x="0" y="133"/>
                    <a:pt x="0" y="67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rot="21140400">
              <a:off x="418680" y="4266720"/>
              <a:ext cx="233280" cy="392400"/>
            </a:xfrm>
            <a:custGeom>
              <a:avLst/>
              <a:gdLst/>
              <a:ahLst/>
              <a:rect l="l" t="t" r="r" b="b"/>
              <a:pathLst>
                <a:path w="273" h="400">
                  <a:moveTo>
                    <a:pt x="273" y="0"/>
                  </a:moveTo>
                  <a:cubicBezTo>
                    <a:pt x="198" y="37"/>
                    <a:pt x="150" y="69"/>
                    <a:pt x="91" y="127"/>
                  </a:cubicBezTo>
                  <a:cubicBezTo>
                    <a:pt x="61" y="218"/>
                    <a:pt x="0" y="301"/>
                    <a:pt x="0" y="4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rot="1662000">
              <a:off x="651960" y="4183200"/>
              <a:ext cx="246240" cy="131760"/>
            </a:xfrm>
            <a:custGeom>
              <a:avLst/>
              <a:gdLst/>
              <a:ahLst/>
              <a:rect l="l" t="t" r="r" b="b"/>
              <a:pathLst>
                <a:path w="273" h="109">
                  <a:moveTo>
                    <a:pt x="0" y="109"/>
                  </a:moveTo>
                  <a:cubicBezTo>
                    <a:pt x="12" y="91"/>
                    <a:pt x="17" y="66"/>
                    <a:pt x="36" y="54"/>
                  </a:cubicBezTo>
                  <a:cubicBezTo>
                    <a:pt x="105" y="11"/>
                    <a:pt x="195" y="0"/>
                    <a:pt x="27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523880" y="3962520"/>
              <a:ext cx="990720" cy="1218960"/>
            </a:xfrm>
            <a:custGeom>
              <a:avLst/>
              <a:gdLst/>
              <a:ahLst/>
              <a:rect l="l" t="t" r="r" b="b"/>
              <a:pathLst>
                <a:path w="624" h="768">
                  <a:moveTo>
                    <a:pt x="0" y="720"/>
                  </a:moveTo>
                  <a:lnTo>
                    <a:pt x="48" y="768"/>
                  </a:lnTo>
                  <a:lnTo>
                    <a:pt x="624" y="0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4" name=""/>
          <p:cNvSpPr/>
          <p:nvPr/>
        </p:nvSpPr>
        <p:spPr>
          <a:xfrm>
            <a:off x="0" y="0"/>
            <a:ext cx="5219640" cy="3048120"/>
          </a:xfrm>
          <a:prstGeom prst="cloudCallout">
            <a:avLst>
              <a:gd name="adj1" fmla="val -41120"/>
              <a:gd name="adj2" fmla="val 71824"/>
            </a:avLst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3767040" y="1386000"/>
            <a:ext cx="803520" cy="62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287280" y="1460520"/>
            <a:ext cx="803160" cy="630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7" name=""/>
          <p:cNvGrpSpPr/>
          <p:nvPr/>
        </p:nvGrpSpPr>
        <p:grpSpPr>
          <a:xfrm>
            <a:off x="1195560" y="1668600"/>
            <a:ext cx="2779560" cy="704880"/>
            <a:chOff x="1195560" y="1668600"/>
            <a:chExt cx="2779560" cy="704880"/>
          </a:xfrm>
        </p:grpSpPr>
        <p:sp>
          <p:nvSpPr>
            <p:cNvPr id="1808" name=""/>
            <p:cNvSpPr/>
            <p:nvPr/>
          </p:nvSpPr>
          <p:spPr>
            <a:xfrm>
              <a:off x="2019240" y="203832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019240" y="215280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933640" y="2019240"/>
              <a:ext cx="20952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H="1">
              <a:off x="2933640" y="2019240"/>
              <a:ext cx="20952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 txBox="1"/>
            <p:nvPr/>
          </p:nvSpPr>
          <p:spPr>
            <a:xfrm>
              <a:off x="1195560" y="1801800"/>
              <a:ext cx="628560" cy="5716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813" name=""/>
            <p:cNvSpPr txBox="1"/>
            <p:nvPr/>
          </p:nvSpPr>
          <p:spPr>
            <a:xfrm>
              <a:off x="2563920" y="1668600"/>
              <a:ext cx="171360" cy="704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814" name=""/>
            <p:cNvSpPr txBox="1"/>
            <p:nvPr/>
          </p:nvSpPr>
          <p:spPr>
            <a:xfrm>
              <a:off x="3306600" y="1811160"/>
              <a:ext cx="668520" cy="5623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 Black"/>
                </a:rPr>
                <a:t>R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1815" name=""/>
          <p:cNvSpPr/>
          <p:nvPr/>
        </p:nvSpPr>
        <p:spPr>
          <a:xfrm flipV="1">
            <a:off x="5048280" y="3105000"/>
            <a:ext cx="3543120" cy="2076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5019840" y="2924280"/>
            <a:ext cx="0" cy="22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 flipH="1">
            <a:off x="5009760" y="5181480"/>
            <a:ext cx="375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5410080" y="50608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5805360" y="506880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6200640" y="50608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659592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699120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738648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78176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 flipH="1">
            <a:off x="4902120" y="328608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 flipH="1">
            <a:off x="4905360" y="368136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 flipH="1">
            <a:off x="4905360" y="407664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 flipH="1">
            <a:off x="4905360" y="447192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flipH="1">
            <a:off x="4905360" y="486720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8191440" y="50767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8586720" y="50767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561708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641700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719820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797904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4850280" y="5252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432680" y="498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4348800" y="4229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4348800" y="3461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263480" y="30405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4348800" y="3835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4348800" y="4636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5357880" y="49338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5738760" y="4705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510240" y="42577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8091360" y="33242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 txBox="1"/>
          <p:nvPr/>
        </p:nvSpPr>
        <p:spPr>
          <a:xfrm rot="19850400">
            <a:off x="5916600" y="3679920"/>
            <a:ext cx="1601640" cy="352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resistanc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848" name=""/>
          <p:cNvSpPr txBox="1"/>
          <p:nvPr/>
        </p:nvSpPr>
        <p:spPr>
          <a:xfrm>
            <a:off x="2986200" y="4008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(Volts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49" name=""/>
          <p:cNvSpPr txBox="1"/>
          <p:nvPr/>
        </p:nvSpPr>
        <p:spPr>
          <a:xfrm>
            <a:off x="6259680" y="6164280"/>
            <a:ext cx="1238040" cy="380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(Amperes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50" name=""/>
          <p:cNvSpPr txBox="1"/>
          <p:nvPr/>
        </p:nvSpPr>
        <p:spPr>
          <a:xfrm>
            <a:off x="1500120" y="3284640"/>
            <a:ext cx="281952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Potential Differ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51" name=""/>
          <p:cNvSpPr txBox="1"/>
          <p:nvPr/>
        </p:nvSpPr>
        <p:spPr>
          <a:xfrm>
            <a:off x="5916600" y="5573880"/>
            <a:ext cx="1866960" cy="49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Curr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852" name=""/>
          <p:cNvGrpSpPr/>
          <p:nvPr/>
        </p:nvGrpSpPr>
        <p:grpSpPr>
          <a:xfrm>
            <a:off x="1071720" y="808560"/>
            <a:ext cx="3263760" cy="459720"/>
            <a:chOff x="1071720" y="808560"/>
            <a:chExt cx="3263760" cy="459720"/>
          </a:xfrm>
        </p:grpSpPr>
        <p:sp>
          <p:nvSpPr>
            <p:cNvPr id="1853" name=""/>
            <p:cNvSpPr/>
            <p:nvPr/>
          </p:nvSpPr>
          <p:spPr>
            <a:xfrm>
              <a:off x="1071720" y="808560"/>
              <a:ext cx="185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asured 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 txBox="1"/>
            <p:nvPr/>
          </p:nvSpPr>
          <p:spPr>
            <a:xfrm>
              <a:off x="2963880" y="830160"/>
              <a:ext cx="1371600" cy="4190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Ampere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5" name=""/>
          <p:cNvGrpSpPr/>
          <p:nvPr/>
        </p:nvGrpSpPr>
        <p:grpSpPr>
          <a:xfrm>
            <a:off x="75960" y="3962520"/>
            <a:ext cx="2438640" cy="2675160"/>
            <a:chOff x="75960" y="3962520"/>
            <a:chExt cx="2438640" cy="2675160"/>
          </a:xfrm>
        </p:grpSpPr>
        <p:sp>
          <p:nvSpPr>
            <p:cNvPr id="1856" name=""/>
            <p:cNvSpPr/>
            <p:nvPr/>
          </p:nvSpPr>
          <p:spPr>
            <a:xfrm rot="4200">
              <a:off x="375840" y="5091120"/>
              <a:ext cx="1473120" cy="1295280"/>
            </a:xfrm>
            <a:custGeom>
              <a:avLst/>
              <a:gdLst/>
              <a:ahLst/>
              <a:rect l="l" t="t" r="r" b="b"/>
              <a:pathLst>
                <a:path w="1688" h="1469">
                  <a:moveTo>
                    <a:pt x="60" y="859"/>
                  </a:moveTo>
                  <a:cubicBezTo>
                    <a:pt x="54" y="930"/>
                    <a:pt x="43" y="984"/>
                    <a:pt x="28" y="1050"/>
                  </a:cubicBezTo>
                  <a:cubicBezTo>
                    <a:pt x="25" y="1099"/>
                    <a:pt x="20" y="1147"/>
                    <a:pt x="20" y="1196"/>
                  </a:cubicBezTo>
                  <a:cubicBezTo>
                    <a:pt x="20" y="1374"/>
                    <a:pt x="0" y="1417"/>
                    <a:pt x="132" y="1424"/>
                  </a:cubicBezTo>
                  <a:cubicBezTo>
                    <a:pt x="289" y="1469"/>
                    <a:pt x="327" y="1216"/>
                    <a:pt x="636" y="1224"/>
                  </a:cubicBezTo>
                  <a:cubicBezTo>
                    <a:pt x="1284" y="1176"/>
                    <a:pt x="1224" y="1416"/>
                    <a:pt x="1508" y="1408"/>
                  </a:cubicBezTo>
                  <a:cubicBezTo>
                    <a:pt x="1548" y="1399"/>
                    <a:pt x="1606" y="1339"/>
                    <a:pt x="1644" y="1324"/>
                  </a:cubicBezTo>
                  <a:cubicBezTo>
                    <a:pt x="1652" y="1321"/>
                    <a:pt x="1648" y="1304"/>
                    <a:pt x="1652" y="1297"/>
                  </a:cubicBezTo>
                  <a:cubicBezTo>
                    <a:pt x="1659" y="1282"/>
                    <a:pt x="1668" y="1272"/>
                    <a:pt x="1676" y="1259"/>
                  </a:cubicBezTo>
                  <a:cubicBezTo>
                    <a:pt x="1688" y="1202"/>
                    <a:pt x="1676" y="1159"/>
                    <a:pt x="1660" y="1105"/>
                  </a:cubicBezTo>
                  <a:cubicBezTo>
                    <a:pt x="1649" y="1066"/>
                    <a:pt x="1643" y="1023"/>
                    <a:pt x="1628" y="986"/>
                  </a:cubicBezTo>
                  <a:cubicBezTo>
                    <a:pt x="1622" y="973"/>
                    <a:pt x="1611" y="962"/>
                    <a:pt x="1604" y="950"/>
                  </a:cubicBezTo>
                  <a:cubicBezTo>
                    <a:pt x="1581" y="906"/>
                    <a:pt x="1547" y="872"/>
                    <a:pt x="1520" y="832"/>
                  </a:cubicBezTo>
                  <a:cubicBezTo>
                    <a:pt x="1513" y="799"/>
                    <a:pt x="1498" y="688"/>
                    <a:pt x="1476" y="667"/>
                  </a:cubicBezTo>
                  <a:cubicBezTo>
                    <a:pt x="1469" y="661"/>
                    <a:pt x="1460" y="661"/>
                    <a:pt x="1452" y="658"/>
                  </a:cubicBezTo>
                  <a:cubicBezTo>
                    <a:pt x="1423" y="557"/>
                    <a:pt x="1472" y="706"/>
                    <a:pt x="1420" y="612"/>
                  </a:cubicBezTo>
                  <a:cubicBezTo>
                    <a:pt x="1407" y="588"/>
                    <a:pt x="1401" y="558"/>
                    <a:pt x="1396" y="530"/>
                  </a:cubicBezTo>
                  <a:cubicBezTo>
                    <a:pt x="1382" y="452"/>
                    <a:pt x="1383" y="354"/>
                    <a:pt x="1348" y="284"/>
                  </a:cubicBezTo>
                  <a:cubicBezTo>
                    <a:pt x="1335" y="258"/>
                    <a:pt x="1316" y="235"/>
                    <a:pt x="1300" y="211"/>
                  </a:cubicBezTo>
                  <a:cubicBezTo>
                    <a:pt x="1279" y="140"/>
                    <a:pt x="1267" y="125"/>
                    <a:pt x="1212" y="83"/>
                  </a:cubicBezTo>
                  <a:cubicBezTo>
                    <a:pt x="1198" y="73"/>
                    <a:pt x="1164" y="65"/>
                    <a:pt x="1164" y="65"/>
                  </a:cubicBezTo>
                  <a:cubicBezTo>
                    <a:pt x="1096" y="91"/>
                    <a:pt x="1010" y="87"/>
                    <a:pt x="940" y="92"/>
                  </a:cubicBezTo>
                  <a:cubicBezTo>
                    <a:pt x="822" y="89"/>
                    <a:pt x="675" y="93"/>
                    <a:pt x="548" y="75"/>
                  </a:cubicBezTo>
                  <a:cubicBezTo>
                    <a:pt x="499" y="66"/>
                    <a:pt x="454" y="46"/>
                    <a:pt x="404" y="37"/>
                  </a:cubicBezTo>
                  <a:cubicBezTo>
                    <a:pt x="156" y="49"/>
                    <a:pt x="253" y="0"/>
                    <a:pt x="164" y="102"/>
                  </a:cubicBezTo>
                  <a:cubicBezTo>
                    <a:pt x="146" y="165"/>
                    <a:pt x="134" y="230"/>
                    <a:pt x="116" y="293"/>
                  </a:cubicBezTo>
                  <a:cubicBezTo>
                    <a:pt x="106" y="421"/>
                    <a:pt x="183" y="546"/>
                    <a:pt x="168" y="672"/>
                  </a:cubicBezTo>
                  <a:cubicBezTo>
                    <a:pt x="160" y="739"/>
                    <a:pt x="39" y="787"/>
                    <a:pt x="117" y="918"/>
                  </a:cubicBezTo>
                </a:path>
              </a:pathLst>
            </a:custGeom>
            <a:gradFill rotWithShape="0">
              <a:gsLst>
                <a:gs pos="0">
                  <a:srgbClr val="750075"/>
                </a:gs>
                <a:gs pos="50000">
                  <a:srgbClr val="ff00ff"/>
                </a:gs>
                <a:gs pos="100000">
                  <a:srgbClr val="750075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H="1" rot="4800">
              <a:off x="448920" y="6291360"/>
              <a:ext cx="571320" cy="345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rot="4200">
              <a:off x="642600" y="5716080"/>
              <a:ext cx="1093680" cy="655920"/>
            </a:xfrm>
            <a:custGeom>
              <a:avLst/>
              <a:gdLst/>
              <a:ahLst/>
              <a:rect l="l" t="t" r="r" b="b"/>
              <a:pathLst>
                <a:path w="1175" h="705">
                  <a:moveTo>
                    <a:pt x="88" y="67"/>
                  </a:moveTo>
                  <a:cubicBezTo>
                    <a:pt x="76" y="271"/>
                    <a:pt x="64" y="396"/>
                    <a:pt x="0" y="579"/>
                  </a:cubicBezTo>
                  <a:cubicBezTo>
                    <a:pt x="4" y="600"/>
                    <a:pt x="2" y="623"/>
                    <a:pt x="13" y="642"/>
                  </a:cubicBezTo>
                  <a:cubicBezTo>
                    <a:pt x="26" y="665"/>
                    <a:pt x="80" y="677"/>
                    <a:pt x="100" y="679"/>
                  </a:cubicBezTo>
                  <a:cubicBezTo>
                    <a:pt x="183" y="686"/>
                    <a:pt x="267" y="688"/>
                    <a:pt x="350" y="692"/>
                  </a:cubicBezTo>
                  <a:cubicBezTo>
                    <a:pt x="375" y="688"/>
                    <a:pt x="403" y="692"/>
                    <a:pt x="425" y="679"/>
                  </a:cubicBezTo>
                  <a:cubicBezTo>
                    <a:pt x="436" y="673"/>
                    <a:pt x="432" y="654"/>
                    <a:pt x="438" y="642"/>
                  </a:cubicBezTo>
                  <a:cubicBezTo>
                    <a:pt x="467" y="585"/>
                    <a:pt x="464" y="622"/>
                    <a:pt x="488" y="554"/>
                  </a:cubicBezTo>
                  <a:cubicBezTo>
                    <a:pt x="503" y="513"/>
                    <a:pt x="525" y="429"/>
                    <a:pt x="525" y="429"/>
                  </a:cubicBezTo>
                  <a:cubicBezTo>
                    <a:pt x="539" y="336"/>
                    <a:pt x="515" y="312"/>
                    <a:pt x="600" y="292"/>
                  </a:cubicBezTo>
                  <a:cubicBezTo>
                    <a:pt x="633" y="386"/>
                    <a:pt x="636" y="509"/>
                    <a:pt x="650" y="604"/>
                  </a:cubicBezTo>
                  <a:cubicBezTo>
                    <a:pt x="654" y="634"/>
                    <a:pt x="695" y="649"/>
                    <a:pt x="725" y="654"/>
                  </a:cubicBezTo>
                  <a:cubicBezTo>
                    <a:pt x="859" y="678"/>
                    <a:pt x="933" y="694"/>
                    <a:pt x="1075" y="704"/>
                  </a:cubicBezTo>
                  <a:cubicBezTo>
                    <a:pt x="1104" y="700"/>
                    <a:pt x="1137" y="705"/>
                    <a:pt x="1163" y="692"/>
                  </a:cubicBezTo>
                  <a:cubicBezTo>
                    <a:pt x="1175" y="686"/>
                    <a:pt x="1175" y="667"/>
                    <a:pt x="1175" y="654"/>
                  </a:cubicBezTo>
                  <a:cubicBezTo>
                    <a:pt x="1175" y="463"/>
                    <a:pt x="1163" y="472"/>
                    <a:pt x="1075" y="342"/>
                  </a:cubicBezTo>
                  <a:cubicBezTo>
                    <a:pt x="1071" y="326"/>
                    <a:pt x="1060" y="271"/>
                    <a:pt x="1050" y="254"/>
                  </a:cubicBezTo>
                  <a:cubicBezTo>
                    <a:pt x="1035" y="228"/>
                    <a:pt x="1000" y="179"/>
                    <a:pt x="1000" y="179"/>
                  </a:cubicBezTo>
                  <a:cubicBezTo>
                    <a:pt x="979" y="113"/>
                    <a:pt x="995" y="153"/>
                    <a:pt x="938" y="67"/>
                  </a:cubicBezTo>
                  <a:cubicBezTo>
                    <a:pt x="893" y="0"/>
                    <a:pt x="900" y="78"/>
                    <a:pt x="900" y="17"/>
                  </a:cubicBezTo>
                </a:path>
              </a:pathLst>
            </a:custGeom>
            <a:gradFill rotWithShape="0">
              <a:gsLst>
                <a:gs pos="0">
                  <a:srgbClr val="00cc99"/>
                </a:gs>
                <a:gs pos="50000">
                  <a:srgbClr val="ccecff"/>
                </a:gs>
                <a:gs pos="100000">
                  <a:srgbClr val="00cc99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rot="4200">
              <a:off x="1310760" y="6342120"/>
              <a:ext cx="617760" cy="291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52280" y="4979880"/>
              <a:ext cx="1495440" cy="1003320"/>
            </a:xfrm>
            <a:custGeom>
              <a:avLst/>
              <a:gdLst/>
              <a:ahLst/>
              <a:rect l="l" t="t" r="r" b="b"/>
              <a:pathLst>
                <a:path w="942" h="632">
                  <a:moveTo>
                    <a:pt x="221" y="159"/>
                  </a:moveTo>
                  <a:cubicBezTo>
                    <a:pt x="211" y="166"/>
                    <a:pt x="202" y="175"/>
                    <a:pt x="190" y="181"/>
                  </a:cubicBezTo>
                  <a:cubicBezTo>
                    <a:pt x="160" y="196"/>
                    <a:pt x="97" y="224"/>
                    <a:pt x="97" y="224"/>
                  </a:cubicBezTo>
                  <a:cubicBezTo>
                    <a:pt x="45" y="279"/>
                    <a:pt x="0" y="295"/>
                    <a:pt x="50" y="367"/>
                  </a:cubicBezTo>
                  <a:cubicBezTo>
                    <a:pt x="58" y="377"/>
                    <a:pt x="81" y="375"/>
                    <a:pt x="97" y="378"/>
                  </a:cubicBezTo>
                  <a:cubicBezTo>
                    <a:pt x="117" y="382"/>
                    <a:pt x="137" y="385"/>
                    <a:pt x="158" y="389"/>
                  </a:cubicBezTo>
                  <a:cubicBezTo>
                    <a:pt x="183" y="385"/>
                    <a:pt x="213" y="388"/>
                    <a:pt x="236" y="378"/>
                  </a:cubicBezTo>
                  <a:cubicBezTo>
                    <a:pt x="250" y="371"/>
                    <a:pt x="243" y="355"/>
                    <a:pt x="252" y="345"/>
                  </a:cubicBezTo>
                  <a:cubicBezTo>
                    <a:pt x="259" y="336"/>
                    <a:pt x="273" y="330"/>
                    <a:pt x="283" y="323"/>
                  </a:cubicBezTo>
                  <a:cubicBezTo>
                    <a:pt x="293" y="334"/>
                    <a:pt x="310" y="343"/>
                    <a:pt x="314" y="356"/>
                  </a:cubicBezTo>
                  <a:cubicBezTo>
                    <a:pt x="381" y="632"/>
                    <a:pt x="158" y="513"/>
                    <a:pt x="855" y="499"/>
                  </a:cubicBezTo>
                  <a:cubicBezTo>
                    <a:pt x="850" y="478"/>
                    <a:pt x="854" y="453"/>
                    <a:pt x="840" y="434"/>
                  </a:cubicBezTo>
                  <a:cubicBezTo>
                    <a:pt x="821" y="407"/>
                    <a:pt x="848" y="339"/>
                    <a:pt x="814" y="323"/>
                  </a:cubicBezTo>
                  <a:cubicBezTo>
                    <a:pt x="804" y="261"/>
                    <a:pt x="806" y="273"/>
                    <a:pt x="802" y="261"/>
                  </a:cubicBezTo>
                  <a:cubicBezTo>
                    <a:pt x="831" y="248"/>
                    <a:pt x="815" y="243"/>
                    <a:pt x="831" y="220"/>
                  </a:cubicBezTo>
                  <a:cubicBezTo>
                    <a:pt x="847" y="197"/>
                    <a:pt x="894" y="155"/>
                    <a:pt x="900" y="121"/>
                  </a:cubicBezTo>
                  <a:cubicBezTo>
                    <a:pt x="890" y="67"/>
                    <a:pt x="942" y="45"/>
                    <a:pt x="870" y="16"/>
                  </a:cubicBezTo>
                  <a:cubicBezTo>
                    <a:pt x="828" y="0"/>
                    <a:pt x="805" y="87"/>
                    <a:pt x="759" y="76"/>
                  </a:cubicBezTo>
                  <a:cubicBezTo>
                    <a:pt x="744" y="72"/>
                    <a:pt x="670" y="127"/>
                    <a:pt x="670" y="127"/>
                  </a:cubicBezTo>
                </a:path>
              </a:pathLst>
            </a:custGeom>
            <a:gradFill rotWithShape="0">
              <a:gsLst>
                <a:gs pos="0">
                  <a:srgbClr val="6c0000"/>
                </a:gs>
                <a:gs pos="50000">
                  <a:srgbClr val="ff0000"/>
                </a:gs>
                <a:gs pos="100000">
                  <a:srgbClr val="6c0000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rot="4200">
              <a:off x="75960" y="5589360"/>
              <a:ext cx="50472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 rot="16122000">
              <a:off x="1517400" y="4882320"/>
              <a:ext cx="44604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rot="4200">
              <a:off x="777960" y="5268960"/>
              <a:ext cx="595080" cy="428400"/>
            </a:xfrm>
            <a:custGeom>
              <a:avLst/>
              <a:gdLst/>
              <a:ahLst/>
              <a:rect l="l" t="t" r="r" b="b"/>
              <a:pathLst>
                <a:path w="640" h="461">
                  <a:moveTo>
                    <a:pt x="64" y="445"/>
                  </a:moveTo>
                  <a:cubicBezTo>
                    <a:pt x="125" y="442"/>
                    <a:pt x="187" y="442"/>
                    <a:pt x="248" y="437"/>
                  </a:cubicBezTo>
                  <a:cubicBezTo>
                    <a:pt x="259" y="436"/>
                    <a:pt x="276" y="439"/>
                    <a:pt x="280" y="429"/>
                  </a:cubicBezTo>
                  <a:cubicBezTo>
                    <a:pt x="298" y="382"/>
                    <a:pt x="274" y="374"/>
                    <a:pt x="248" y="357"/>
                  </a:cubicBezTo>
                  <a:cubicBezTo>
                    <a:pt x="228" y="297"/>
                    <a:pt x="257" y="369"/>
                    <a:pt x="216" y="317"/>
                  </a:cubicBezTo>
                  <a:cubicBezTo>
                    <a:pt x="210" y="310"/>
                    <a:pt x="188" y="256"/>
                    <a:pt x="184" y="245"/>
                  </a:cubicBezTo>
                  <a:cubicBezTo>
                    <a:pt x="192" y="112"/>
                    <a:pt x="164" y="95"/>
                    <a:pt x="280" y="109"/>
                  </a:cubicBezTo>
                  <a:cubicBezTo>
                    <a:pt x="317" y="121"/>
                    <a:pt x="347" y="145"/>
                    <a:pt x="384" y="157"/>
                  </a:cubicBezTo>
                  <a:cubicBezTo>
                    <a:pt x="457" y="267"/>
                    <a:pt x="415" y="186"/>
                    <a:pt x="424" y="429"/>
                  </a:cubicBezTo>
                  <a:cubicBezTo>
                    <a:pt x="533" y="424"/>
                    <a:pt x="607" y="457"/>
                    <a:pt x="640" y="357"/>
                  </a:cubicBezTo>
                  <a:cubicBezTo>
                    <a:pt x="625" y="269"/>
                    <a:pt x="611" y="293"/>
                    <a:pt x="512" y="285"/>
                  </a:cubicBezTo>
                  <a:cubicBezTo>
                    <a:pt x="485" y="205"/>
                    <a:pt x="475" y="141"/>
                    <a:pt x="408" y="85"/>
                  </a:cubicBezTo>
                  <a:cubicBezTo>
                    <a:pt x="393" y="73"/>
                    <a:pt x="371" y="43"/>
                    <a:pt x="352" y="37"/>
                  </a:cubicBezTo>
                  <a:cubicBezTo>
                    <a:pt x="311" y="24"/>
                    <a:pt x="214" y="11"/>
                    <a:pt x="168" y="5"/>
                  </a:cubicBezTo>
                  <a:cubicBezTo>
                    <a:pt x="141" y="8"/>
                    <a:pt x="88" y="0"/>
                    <a:pt x="64" y="29"/>
                  </a:cubicBezTo>
                  <a:cubicBezTo>
                    <a:pt x="56" y="38"/>
                    <a:pt x="52" y="50"/>
                    <a:pt x="48" y="61"/>
                  </a:cubicBezTo>
                  <a:cubicBezTo>
                    <a:pt x="42" y="77"/>
                    <a:pt x="32" y="109"/>
                    <a:pt x="32" y="109"/>
                  </a:cubicBezTo>
                  <a:cubicBezTo>
                    <a:pt x="37" y="180"/>
                    <a:pt x="22" y="196"/>
                    <a:pt x="56" y="237"/>
                  </a:cubicBezTo>
                  <a:cubicBezTo>
                    <a:pt x="69" y="253"/>
                    <a:pt x="80" y="271"/>
                    <a:pt x="96" y="285"/>
                  </a:cubicBezTo>
                  <a:cubicBezTo>
                    <a:pt x="110" y="298"/>
                    <a:pt x="144" y="317"/>
                    <a:pt x="144" y="317"/>
                  </a:cubicBezTo>
                  <a:cubicBezTo>
                    <a:pt x="177" y="366"/>
                    <a:pt x="162" y="371"/>
                    <a:pt x="104" y="357"/>
                  </a:cubicBezTo>
                  <a:cubicBezTo>
                    <a:pt x="66" y="347"/>
                    <a:pt x="44" y="329"/>
                    <a:pt x="8" y="317"/>
                  </a:cubicBezTo>
                  <a:cubicBezTo>
                    <a:pt x="13" y="374"/>
                    <a:pt x="0" y="429"/>
                    <a:pt x="48" y="461"/>
                  </a:cubicBezTo>
                  <a:cubicBezTo>
                    <a:pt x="86" y="452"/>
                    <a:pt x="90" y="458"/>
                    <a:pt x="64" y="445"/>
                  </a:cubicBezTo>
                  <a:close/>
                </a:path>
              </a:pathLst>
            </a:custGeom>
            <a:solidFill>
              <a:srgbClr val="3333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293760" y="4160880"/>
              <a:ext cx="1211040" cy="1044360"/>
            </a:xfrm>
            <a:custGeom>
              <a:avLst/>
              <a:gdLst/>
              <a:ahLst/>
              <a:rect l="l" t="t" r="r" b="b"/>
              <a:pathLst>
                <a:path w="1050" h="906">
                  <a:moveTo>
                    <a:pt x="521" y="24"/>
                  </a:moveTo>
                  <a:cubicBezTo>
                    <a:pt x="598" y="0"/>
                    <a:pt x="573" y="2"/>
                    <a:pt x="709" y="24"/>
                  </a:cubicBezTo>
                  <a:cubicBezTo>
                    <a:pt x="734" y="28"/>
                    <a:pt x="784" y="48"/>
                    <a:pt x="784" y="48"/>
                  </a:cubicBezTo>
                  <a:cubicBezTo>
                    <a:pt x="864" y="105"/>
                    <a:pt x="820" y="70"/>
                    <a:pt x="910" y="157"/>
                  </a:cubicBezTo>
                  <a:cubicBezTo>
                    <a:pt x="939" y="185"/>
                    <a:pt x="985" y="254"/>
                    <a:pt x="985" y="254"/>
                  </a:cubicBezTo>
                  <a:cubicBezTo>
                    <a:pt x="1021" y="389"/>
                    <a:pt x="1050" y="536"/>
                    <a:pt x="973" y="664"/>
                  </a:cubicBezTo>
                  <a:cubicBezTo>
                    <a:pt x="954" y="697"/>
                    <a:pt x="927" y="767"/>
                    <a:pt x="897" y="785"/>
                  </a:cubicBezTo>
                  <a:cubicBezTo>
                    <a:pt x="847" y="817"/>
                    <a:pt x="805" y="862"/>
                    <a:pt x="747" y="882"/>
                  </a:cubicBezTo>
                  <a:cubicBezTo>
                    <a:pt x="715" y="894"/>
                    <a:pt x="646" y="906"/>
                    <a:pt x="646" y="906"/>
                  </a:cubicBezTo>
                  <a:cubicBezTo>
                    <a:pt x="489" y="898"/>
                    <a:pt x="376" y="886"/>
                    <a:pt x="232" y="846"/>
                  </a:cubicBezTo>
                  <a:cubicBezTo>
                    <a:pt x="153" y="795"/>
                    <a:pt x="100" y="741"/>
                    <a:pt x="69" y="652"/>
                  </a:cubicBezTo>
                  <a:cubicBezTo>
                    <a:pt x="73" y="521"/>
                    <a:pt x="0" y="178"/>
                    <a:pt x="203" y="114"/>
                  </a:cubicBezTo>
                  <a:cubicBezTo>
                    <a:pt x="274" y="46"/>
                    <a:pt x="360" y="62"/>
                    <a:pt x="458" y="48"/>
                  </a:cubicBezTo>
                  <a:cubicBezTo>
                    <a:pt x="537" y="22"/>
                    <a:pt x="560" y="24"/>
                    <a:pt x="521" y="24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rot="20582400">
              <a:off x="536400" y="4363560"/>
              <a:ext cx="341640" cy="4809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rot="20582400">
              <a:off x="903240" y="4264200"/>
              <a:ext cx="343080" cy="50796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rot="8088000">
              <a:off x="601200" y="4390560"/>
              <a:ext cx="751680" cy="70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44" y="1256"/>
                  </a:moveTo>
                  <a:arcTo wR="10800" hR="10800" stAng="-7074784" swAng="7074784"/>
                  <a:lnTo>
                    <a:pt x="10800" y="10800"/>
                  </a:lnTo>
                  <a:close/>
                </a:path>
                <a:path fill="none" w="21600" h="21600">
                  <a:moveTo>
                    <a:pt x="5744" y="1256"/>
                  </a:moveTo>
                  <a:arcTo wR="10800" hR="10800" stAng="-7074784" swAng="707478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rot="413400">
              <a:off x="907920" y="4773240"/>
              <a:ext cx="184320" cy="1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rot="413400">
              <a:off x="677880" y="4422240"/>
              <a:ext cx="182520" cy="257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rot="413400">
              <a:off x="1004760" y="4300200"/>
              <a:ext cx="182520" cy="257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rot="448800">
              <a:off x="328320" y="4195800"/>
              <a:ext cx="260280" cy="250920"/>
            </a:xfrm>
            <a:custGeom>
              <a:avLst/>
              <a:gdLst/>
              <a:ahLst/>
              <a:rect l="l" t="t" r="r" b="b"/>
              <a:pathLst>
                <a:path w="273" h="258">
                  <a:moveTo>
                    <a:pt x="273" y="40"/>
                  </a:moveTo>
                  <a:cubicBezTo>
                    <a:pt x="203" y="17"/>
                    <a:pt x="179" y="0"/>
                    <a:pt x="91" y="40"/>
                  </a:cubicBezTo>
                  <a:cubicBezTo>
                    <a:pt x="59" y="54"/>
                    <a:pt x="19" y="201"/>
                    <a:pt x="18" y="204"/>
                  </a:cubicBezTo>
                  <a:cubicBezTo>
                    <a:pt x="12" y="222"/>
                    <a:pt x="0" y="258"/>
                    <a:pt x="0" y="25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rot="448800">
              <a:off x="587160" y="4092480"/>
              <a:ext cx="274320" cy="211320"/>
            </a:xfrm>
            <a:custGeom>
              <a:avLst/>
              <a:gdLst/>
              <a:ahLst/>
              <a:rect l="l" t="t" r="r" b="b"/>
              <a:pathLst>
                <a:path w="290" h="218">
                  <a:moveTo>
                    <a:pt x="0" y="218"/>
                  </a:moveTo>
                  <a:cubicBezTo>
                    <a:pt x="66" y="118"/>
                    <a:pt x="157" y="0"/>
                    <a:pt x="29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rot="448800">
              <a:off x="632880" y="4065480"/>
              <a:ext cx="1800" cy="195480"/>
            </a:xfrm>
            <a:custGeom>
              <a:avLst/>
              <a:gdLst/>
              <a:ahLst/>
              <a:rect l="l" t="t" r="r" b="b"/>
              <a:pathLst>
                <a:path w="1" h="200">
                  <a:moveTo>
                    <a:pt x="0" y="200"/>
                  </a:moveTo>
                  <a:cubicBezTo>
                    <a:pt x="0" y="133"/>
                    <a:pt x="0" y="67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rot="21140400">
              <a:off x="418680" y="4266720"/>
              <a:ext cx="233280" cy="392400"/>
            </a:xfrm>
            <a:custGeom>
              <a:avLst/>
              <a:gdLst/>
              <a:ahLst/>
              <a:rect l="l" t="t" r="r" b="b"/>
              <a:pathLst>
                <a:path w="273" h="400">
                  <a:moveTo>
                    <a:pt x="273" y="0"/>
                  </a:moveTo>
                  <a:cubicBezTo>
                    <a:pt x="198" y="37"/>
                    <a:pt x="150" y="69"/>
                    <a:pt x="91" y="127"/>
                  </a:cubicBezTo>
                  <a:cubicBezTo>
                    <a:pt x="61" y="218"/>
                    <a:pt x="0" y="301"/>
                    <a:pt x="0" y="4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rot="1662000">
              <a:off x="651960" y="4183200"/>
              <a:ext cx="246240" cy="131760"/>
            </a:xfrm>
            <a:custGeom>
              <a:avLst/>
              <a:gdLst/>
              <a:ahLst/>
              <a:rect l="l" t="t" r="r" b="b"/>
              <a:pathLst>
                <a:path w="273" h="109">
                  <a:moveTo>
                    <a:pt x="0" y="109"/>
                  </a:moveTo>
                  <a:cubicBezTo>
                    <a:pt x="12" y="91"/>
                    <a:pt x="17" y="66"/>
                    <a:pt x="36" y="54"/>
                  </a:cubicBezTo>
                  <a:cubicBezTo>
                    <a:pt x="105" y="11"/>
                    <a:pt x="195" y="0"/>
                    <a:pt x="27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523880" y="3962520"/>
              <a:ext cx="990720" cy="1218960"/>
            </a:xfrm>
            <a:custGeom>
              <a:avLst/>
              <a:gdLst/>
              <a:ahLst/>
              <a:rect l="l" t="t" r="r" b="b"/>
              <a:pathLst>
                <a:path w="624" h="768">
                  <a:moveTo>
                    <a:pt x="0" y="720"/>
                  </a:moveTo>
                  <a:lnTo>
                    <a:pt x="48" y="768"/>
                  </a:lnTo>
                  <a:lnTo>
                    <a:pt x="624" y="0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7" name=""/>
          <p:cNvSpPr/>
          <p:nvPr/>
        </p:nvSpPr>
        <p:spPr>
          <a:xfrm>
            <a:off x="0" y="0"/>
            <a:ext cx="5219640" cy="3048120"/>
          </a:xfrm>
          <a:prstGeom prst="cloudCallout">
            <a:avLst>
              <a:gd name="adj1" fmla="val -41120"/>
              <a:gd name="adj2" fmla="val 71824"/>
            </a:avLst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3767040" y="1386000"/>
            <a:ext cx="803520" cy="62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287280" y="1460520"/>
            <a:ext cx="803160" cy="630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0" name=""/>
          <p:cNvGrpSpPr/>
          <p:nvPr/>
        </p:nvGrpSpPr>
        <p:grpSpPr>
          <a:xfrm>
            <a:off x="1195560" y="1668600"/>
            <a:ext cx="2779560" cy="704880"/>
            <a:chOff x="1195560" y="1668600"/>
            <a:chExt cx="2779560" cy="704880"/>
          </a:xfrm>
        </p:grpSpPr>
        <p:sp>
          <p:nvSpPr>
            <p:cNvPr id="1881" name=""/>
            <p:cNvSpPr/>
            <p:nvPr/>
          </p:nvSpPr>
          <p:spPr>
            <a:xfrm>
              <a:off x="2019240" y="203832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019240" y="215280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2933640" y="2019240"/>
              <a:ext cx="20952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H="1">
              <a:off x="2933640" y="2019240"/>
              <a:ext cx="20952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 txBox="1"/>
            <p:nvPr/>
          </p:nvSpPr>
          <p:spPr>
            <a:xfrm>
              <a:off x="1195560" y="1801800"/>
              <a:ext cx="628560" cy="5716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886" name=""/>
            <p:cNvSpPr txBox="1"/>
            <p:nvPr/>
          </p:nvSpPr>
          <p:spPr>
            <a:xfrm>
              <a:off x="2563920" y="1668600"/>
              <a:ext cx="171360" cy="704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887" name=""/>
            <p:cNvSpPr txBox="1"/>
            <p:nvPr/>
          </p:nvSpPr>
          <p:spPr>
            <a:xfrm>
              <a:off x="3306600" y="1811160"/>
              <a:ext cx="668520" cy="5623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 Black"/>
                </a:rPr>
                <a:t>R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1888" name=""/>
          <p:cNvSpPr/>
          <p:nvPr/>
        </p:nvSpPr>
        <p:spPr>
          <a:xfrm flipV="1">
            <a:off x="5048280" y="3105000"/>
            <a:ext cx="3543120" cy="2076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5019840" y="2924280"/>
            <a:ext cx="0" cy="22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 flipH="1">
            <a:off x="5009760" y="5181480"/>
            <a:ext cx="375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5410080" y="50608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5805360" y="506880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6200640" y="50608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659592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699120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738648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778176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 flipH="1">
            <a:off x="4902120" y="328608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 flipH="1">
            <a:off x="4905360" y="368136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 flipH="1">
            <a:off x="4905360" y="407664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 flipH="1">
            <a:off x="4905360" y="447192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 flipH="1">
            <a:off x="4905360" y="486720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8191440" y="50767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8586720" y="50767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561708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641700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719820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797904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4850280" y="5252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4432680" y="498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4348800" y="4229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4348800" y="3461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4263480" y="30405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4348800" y="3835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4348800" y="4636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5357880" y="49338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5738760" y="4705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6510240" y="42577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8091360" y="33242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 txBox="1"/>
          <p:nvPr/>
        </p:nvSpPr>
        <p:spPr>
          <a:xfrm rot="19850400">
            <a:off x="5916600" y="3679920"/>
            <a:ext cx="1601640" cy="352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resistanc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921" name=""/>
          <p:cNvSpPr txBox="1"/>
          <p:nvPr/>
        </p:nvSpPr>
        <p:spPr>
          <a:xfrm>
            <a:off x="2986200" y="4008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(Volts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22" name=""/>
          <p:cNvSpPr txBox="1"/>
          <p:nvPr/>
        </p:nvSpPr>
        <p:spPr>
          <a:xfrm>
            <a:off x="6259680" y="6164280"/>
            <a:ext cx="1238040" cy="380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(Amperes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23" name=""/>
          <p:cNvSpPr txBox="1"/>
          <p:nvPr/>
        </p:nvSpPr>
        <p:spPr>
          <a:xfrm>
            <a:off x="1500120" y="3284640"/>
            <a:ext cx="281952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Potential Differ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24" name=""/>
          <p:cNvSpPr txBox="1"/>
          <p:nvPr/>
        </p:nvSpPr>
        <p:spPr>
          <a:xfrm>
            <a:off x="5916600" y="5573880"/>
            <a:ext cx="1866960" cy="49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Curr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925" name=""/>
          <p:cNvGrpSpPr/>
          <p:nvPr/>
        </p:nvGrpSpPr>
        <p:grpSpPr>
          <a:xfrm>
            <a:off x="1697400" y="449280"/>
            <a:ext cx="2036520" cy="971640"/>
            <a:chOff x="1697400" y="449280"/>
            <a:chExt cx="2036520" cy="971640"/>
          </a:xfrm>
        </p:grpSpPr>
        <p:sp>
          <p:nvSpPr>
            <p:cNvPr id="1926" name=""/>
            <p:cNvSpPr/>
            <p:nvPr/>
          </p:nvSpPr>
          <p:spPr>
            <a:xfrm>
              <a:off x="1697400" y="71316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7" name=""/>
            <p:cNvGrpSpPr/>
            <p:nvPr/>
          </p:nvGrpSpPr>
          <p:grpSpPr>
            <a:xfrm>
              <a:off x="2286360" y="449280"/>
              <a:ext cx="1447560" cy="971640"/>
              <a:chOff x="2286360" y="449280"/>
              <a:chExt cx="1447560" cy="971640"/>
            </a:xfrm>
          </p:grpSpPr>
          <p:sp>
            <p:nvSpPr>
              <p:cNvPr id="1928" name=""/>
              <p:cNvSpPr txBox="1"/>
              <p:nvPr/>
            </p:nvSpPr>
            <p:spPr>
              <a:xfrm>
                <a:off x="2335320" y="449280"/>
                <a:ext cx="1371240" cy="4190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  <a:latin typeface="Arial Black"/>
                  </a:rPr>
                  <a:t>Coulombs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  <a:ea typeface="Arial Black"/>
                </a:endParaRPr>
              </a:p>
            </p:txBody>
          </p:sp>
          <p:sp>
            <p:nvSpPr>
              <p:cNvPr id="1929" name=""/>
              <p:cNvSpPr txBox="1"/>
              <p:nvPr/>
            </p:nvSpPr>
            <p:spPr>
              <a:xfrm>
                <a:off x="2411640" y="1039680"/>
                <a:ext cx="1199520" cy="3812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750000"/>
                        </a:gs>
                        <a:gs pos="5000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  <a:latin typeface="Arial Black"/>
                  </a:rPr>
                  <a:t>Second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  <a:ea typeface="Arial Black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286360" y="97164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1" name=""/>
          <p:cNvGrpSpPr/>
          <p:nvPr/>
        </p:nvGrpSpPr>
        <p:grpSpPr>
          <a:xfrm>
            <a:off x="75960" y="3962520"/>
            <a:ext cx="2438640" cy="2675160"/>
            <a:chOff x="75960" y="3962520"/>
            <a:chExt cx="2438640" cy="2675160"/>
          </a:xfrm>
        </p:grpSpPr>
        <p:sp>
          <p:nvSpPr>
            <p:cNvPr id="1932" name=""/>
            <p:cNvSpPr/>
            <p:nvPr/>
          </p:nvSpPr>
          <p:spPr>
            <a:xfrm rot="4200">
              <a:off x="375840" y="5091120"/>
              <a:ext cx="1473120" cy="1295280"/>
            </a:xfrm>
            <a:custGeom>
              <a:avLst/>
              <a:gdLst/>
              <a:ahLst/>
              <a:rect l="l" t="t" r="r" b="b"/>
              <a:pathLst>
                <a:path w="1688" h="1469">
                  <a:moveTo>
                    <a:pt x="60" y="859"/>
                  </a:moveTo>
                  <a:cubicBezTo>
                    <a:pt x="54" y="930"/>
                    <a:pt x="43" y="984"/>
                    <a:pt x="28" y="1050"/>
                  </a:cubicBezTo>
                  <a:cubicBezTo>
                    <a:pt x="25" y="1099"/>
                    <a:pt x="20" y="1147"/>
                    <a:pt x="20" y="1196"/>
                  </a:cubicBezTo>
                  <a:cubicBezTo>
                    <a:pt x="20" y="1374"/>
                    <a:pt x="0" y="1417"/>
                    <a:pt x="132" y="1424"/>
                  </a:cubicBezTo>
                  <a:cubicBezTo>
                    <a:pt x="289" y="1469"/>
                    <a:pt x="327" y="1216"/>
                    <a:pt x="636" y="1224"/>
                  </a:cubicBezTo>
                  <a:cubicBezTo>
                    <a:pt x="1284" y="1176"/>
                    <a:pt x="1224" y="1416"/>
                    <a:pt x="1508" y="1408"/>
                  </a:cubicBezTo>
                  <a:cubicBezTo>
                    <a:pt x="1548" y="1399"/>
                    <a:pt x="1606" y="1339"/>
                    <a:pt x="1644" y="1324"/>
                  </a:cubicBezTo>
                  <a:cubicBezTo>
                    <a:pt x="1652" y="1321"/>
                    <a:pt x="1648" y="1304"/>
                    <a:pt x="1652" y="1297"/>
                  </a:cubicBezTo>
                  <a:cubicBezTo>
                    <a:pt x="1659" y="1282"/>
                    <a:pt x="1668" y="1272"/>
                    <a:pt x="1676" y="1259"/>
                  </a:cubicBezTo>
                  <a:cubicBezTo>
                    <a:pt x="1688" y="1202"/>
                    <a:pt x="1676" y="1159"/>
                    <a:pt x="1660" y="1105"/>
                  </a:cubicBezTo>
                  <a:cubicBezTo>
                    <a:pt x="1649" y="1066"/>
                    <a:pt x="1643" y="1023"/>
                    <a:pt x="1628" y="986"/>
                  </a:cubicBezTo>
                  <a:cubicBezTo>
                    <a:pt x="1622" y="973"/>
                    <a:pt x="1611" y="962"/>
                    <a:pt x="1604" y="950"/>
                  </a:cubicBezTo>
                  <a:cubicBezTo>
                    <a:pt x="1581" y="906"/>
                    <a:pt x="1547" y="872"/>
                    <a:pt x="1520" y="832"/>
                  </a:cubicBezTo>
                  <a:cubicBezTo>
                    <a:pt x="1513" y="799"/>
                    <a:pt x="1498" y="688"/>
                    <a:pt x="1476" y="667"/>
                  </a:cubicBezTo>
                  <a:cubicBezTo>
                    <a:pt x="1469" y="661"/>
                    <a:pt x="1460" y="661"/>
                    <a:pt x="1452" y="658"/>
                  </a:cubicBezTo>
                  <a:cubicBezTo>
                    <a:pt x="1423" y="557"/>
                    <a:pt x="1472" y="706"/>
                    <a:pt x="1420" y="612"/>
                  </a:cubicBezTo>
                  <a:cubicBezTo>
                    <a:pt x="1407" y="588"/>
                    <a:pt x="1401" y="558"/>
                    <a:pt x="1396" y="530"/>
                  </a:cubicBezTo>
                  <a:cubicBezTo>
                    <a:pt x="1382" y="452"/>
                    <a:pt x="1383" y="354"/>
                    <a:pt x="1348" y="284"/>
                  </a:cubicBezTo>
                  <a:cubicBezTo>
                    <a:pt x="1335" y="258"/>
                    <a:pt x="1316" y="235"/>
                    <a:pt x="1300" y="211"/>
                  </a:cubicBezTo>
                  <a:cubicBezTo>
                    <a:pt x="1279" y="140"/>
                    <a:pt x="1267" y="125"/>
                    <a:pt x="1212" y="83"/>
                  </a:cubicBezTo>
                  <a:cubicBezTo>
                    <a:pt x="1198" y="73"/>
                    <a:pt x="1164" y="65"/>
                    <a:pt x="1164" y="65"/>
                  </a:cubicBezTo>
                  <a:cubicBezTo>
                    <a:pt x="1096" y="91"/>
                    <a:pt x="1010" y="87"/>
                    <a:pt x="940" y="92"/>
                  </a:cubicBezTo>
                  <a:cubicBezTo>
                    <a:pt x="822" y="89"/>
                    <a:pt x="675" y="93"/>
                    <a:pt x="548" y="75"/>
                  </a:cubicBezTo>
                  <a:cubicBezTo>
                    <a:pt x="499" y="66"/>
                    <a:pt x="454" y="46"/>
                    <a:pt x="404" y="37"/>
                  </a:cubicBezTo>
                  <a:cubicBezTo>
                    <a:pt x="156" y="49"/>
                    <a:pt x="253" y="0"/>
                    <a:pt x="164" y="102"/>
                  </a:cubicBezTo>
                  <a:cubicBezTo>
                    <a:pt x="146" y="165"/>
                    <a:pt x="134" y="230"/>
                    <a:pt x="116" y="293"/>
                  </a:cubicBezTo>
                  <a:cubicBezTo>
                    <a:pt x="106" y="421"/>
                    <a:pt x="183" y="546"/>
                    <a:pt x="168" y="672"/>
                  </a:cubicBezTo>
                  <a:cubicBezTo>
                    <a:pt x="160" y="739"/>
                    <a:pt x="39" y="787"/>
                    <a:pt x="117" y="918"/>
                  </a:cubicBezTo>
                </a:path>
              </a:pathLst>
            </a:custGeom>
            <a:gradFill rotWithShape="0">
              <a:gsLst>
                <a:gs pos="0">
                  <a:srgbClr val="750075"/>
                </a:gs>
                <a:gs pos="50000">
                  <a:srgbClr val="ff00ff"/>
                </a:gs>
                <a:gs pos="100000">
                  <a:srgbClr val="750075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H="1" rot="4800">
              <a:off x="448920" y="6291360"/>
              <a:ext cx="571320" cy="345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rot="4200">
              <a:off x="642600" y="5716080"/>
              <a:ext cx="1093680" cy="655920"/>
            </a:xfrm>
            <a:custGeom>
              <a:avLst/>
              <a:gdLst/>
              <a:ahLst/>
              <a:rect l="l" t="t" r="r" b="b"/>
              <a:pathLst>
                <a:path w="1175" h="705">
                  <a:moveTo>
                    <a:pt x="88" y="67"/>
                  </a:moveTo>
                  <a:cubicBezTo>
                    <a:pt x="76" y="271"/>
                    <a:pt x="64" y="396"/>
                    <a:pt x="0" y="579"/>
                  </a:cubicBezTo>
                  <a:cubicBezTo>
                    <a:pt x="4" y="600"/>
                    <a:pt x="2" y="623"/>
                    <a:pt x="13" y="642"/>
                  </a:cubicBezTo>
                  <a:cubicBezTo>
                    <a:pt x="26" y="665"/>
                    <a:pt x="80" y="677"/>
                    <a:pt x="100" y="679"/>
                  </a:cubicBezTo>
                  <a:cubicBezTo>
                    <a:pt x="183" y="686"/>
                    <a:pt x="267" y="688"/>
                    <a:pt x="350" y="692"/>
                  </a:cubicBezTo>
                  <a:cubicBezTo>
                    <a:pt x="375" y="688"/>
                    <a:pt x="403" y="692"/>
                    <a:pt x="425" y="679"/>
                  </a:cubicBezTo>
                  <a:cubicBezTo>
                    <a:pt x="436" y="673"/>
                    <a:pt x="432" y="654"/>
                    <a:pt x="438" y="642"/>
                  </a:cubicBezTo>
                  <a:cubicBezTo>
                    <a:pt x="467" y="585"/>
                    <a:pt x="464" y="622"/>
                    <a:pt x="488" y="554"/>
                  </a:cubicBezTo>
                  <a:cubicBezTo>
                    <a:pt x="503" y="513"/>
                    <a:pt x="525" y="429"/>
                    <a:pt x="525" y="429"/>
                  </a:cubicBezTo>
                  <a:cubicBezTo>
                    <a:pt x="539" y="336"/>
                    <a:pt x="515" y="312"/>
                    <a:pt x="600" y="292"/>
                  </a:cubicBezTo>
                  <a:cubicBezTo>
                    <a:pt x="633" y="386"/>
                    <a:pt x="636" y="509"/>
                    <a:pt x="650" y="604"/>
                  </a:cubicBezTo>
                  <a:cubicBezTo>
                    <a:pt x="654" y="634"/>
                    <a:pt x="695" y="649"/>
                    <a:pt x="725" y="654"/>
                  </a:cubicBezTo>
                  <a:cubicBezTo>
                    <a:pt x="859" y="678"/>
                    <a:pt x="933" y="694"/>
                    <a:pt x="1075" y="704"/>
                  </a:cubicBezTo>
                  <a:cubicBezTo>
                    <a:pt x="1104" y="700"/>
                    <a:pt x="1137" y="705"/>
                    <a:pt x="1163" y="692"/>
                  </a:cubicBezTo>
                  <a:cubicBezTo>
                    <a:pt x="1175" y="686"/>
                    <a:pt x="1175" y="667"/>
                    <a:pt x="1175" y="654"/>
                  </a:cubicBezTo>
                  <a:cubicBezTo>
                    <a:pt x="1175" y="463"/>
                    <a:pt x="1163" y="472"/>
                    <a:pt x="1075" y="342"/>
                  </a:cubicBezTo>
                  <a:cubicBezTo>
                    <a:pt x="1071" y="326"/>
                    <a:pt x="1060" y="271"/>
                    <a:pt x="1050" y="254"/>
                  </a:cubicBezTo>
                  <a:cubicBezTo>
                    <a:pt x="1035" y="228"/>
                    <a:pt x="1000" y="179"/>
                    <a:pt x="1000" y="179"/>
                  </a:cubicBezTo>
                  <a:cubicBezTo>
                    <a:pt x="979" y="113"/>
                    <a:pt x="995" y="153"/>
                    <a:pt x="938" y="67"/>
                  </a:cubicBezTo>
                  <a:cubicBezTo>
                    <a:pt x="893" y="0"/>
                    <a:pt x="900" y="78"/>
                    <a:pt x="900" y="17"/>
                  </a:cubicBezTo>
                </a:path>
              </a:pathLst>
            </a:custGeom>
            <a:gradFill rotWithShape="0">
              <a:gsLst>
                <a:gs pos="0">
                  <a:srgbClr val="00cc99"/>
                </a:gs>
                <a:gs pos="50000">
                  <a:srgbClr val="ccecff"/>
                </a:gs>
                <a:gs pos="100000">
                  <a:srgbClr val="00cc99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 rot="4200">
              <a:off x="1310760" y="6342120"/>
              <a:ext cx="617760" cy="291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52280" y="4979880"/>
              <a:ext cx="1495440" cy="1003320"/>
            </a:xfrm>
            <a:custGeom>
              <a:avLst/>
              <a:gdLst/>
              <a:ahLst/>
              <a:rect l="l" t="t" r="r" b="b"/>
              <a:pathLst>
                <a:path w="942" h="632">
                  <a:moveTo>
                    <a:pt x="221" y="159"/>
                  </a:moveTo>
                  <a:cubicBezTo>
                    <a:pt x="211" y="166"/>
                    <a:pt x="202" y="175"/>
                    <a:pt x="190" y="181"/>
                  </a:cubicBezTo>
                  <a:cubicBezTo>
                    <a:pt x="160" y="196"/>
                    <a:pt x="97" y="224"/>
                    <a:pt x="97" y="224"/>
                  </a:cubicBezTo>
                  <a:cubicBezTo>
                    <a:pt x="45" y="279"/>
                    <a:pt x="0" y="295"/>
                    <a:pt x="50" y="367"/>
                  </a:cubicBezTo>
                  <a:cubicBezTo>
                    <a:pt x="58" y="377"/>
                    <a:pt x="81" y="375"/>
                    <a:pt x="97" y="378"/>
                  </a:cubicBezTo>
                  <a:cubicBezTo>
                    <a:pt x="117" y="382"/>
                    <a:pt x="137" y="385"/>
                    <a:pt x="158" y="389"/>
                  </a:cubicBezTo>
                  <a:cubicBezTo>
                    <a:pt x="183" y="385"/>
                    <a:pt x="213" y="388"/>
                    <a:pt x="236" y="378"/>
                  </a:cubicBezTo>
                  <a:cubicBezTo>
                    <a:pt x="250" y="371"/>
                    <a:pt x="243" y="355"/>
                    <a:pt x="252" y="345"/>
                  </a:cubicBezTo>
                  <a:cubicBezTo>
                    <a:pt x="259" y="336"/>
                    <a:pt x="273" y="330"/>
                    <a:pt x="283" y="323"/>
                  </a:cubicBezTo>
                  <a:cubicBezTo>
                    <a:pt x="293" y="334"/>
                    <a:pt x="310" y="343"/>
                    <a:pt x="314" y="356"/>
                  </a:cubicBezTo>
                  <a:cubicBezTo>
                    <a:pt x="381" y="632"/>
                    <a:pt x="158" y="513"/>
                    <a:pt x="855" y="499"/>
                  </a:cubicBezTo>
                  <a:cubicBezTo>
                    <a:pt x="850" y="478"/>
                    <a:pt x="854" y="453"/>
                    <a:pt x="840" y="434"/>
                  </a:cubicBezTo>
                  <a:cubicBezTo>
                    <a:pt x="821" y="407"/>
                    <a:pt x="848" y="339"/>
                    <a:pt x="814" y="323"/>
                  </a:cubicBezTo>
                  <a:cubicBezTo>
                    <a:pt x="804" y="261"/>
                    <a:pt x="806" y="273"/>
                    <a:pt x="802" y="261"/>
                  </a:cubicBezTo>
                  <a:cubicBezTo>
                    <a:pt x="831" y="248"/>
                    <a:pt x="815" y="243"/>
                    <a:pt x="831" y="220"/>
                  </a:cubicBezTo>
                  <a:cubicBezTo>
                    <a:pt x="847" y="197"/>
                    <a:pt x="894" y="155"/>
                    <a:pt x="900" y="121"/>
                  </a:cubicBezTo>
                  <a:cubicBezTo>
                    <a:pt x="890" y="67"/>
                    <a:pt x="942" y="45"/>
                    <a:pt x="870" y="16"/>
                  </a:cubicBezTo>
                  <a:cubicBezTo>
                    <a:pt x="828" y="0"/>
                    <a:pt x="805" y="87"/>
                    <a:pt x="759" y="76"/>
                  </a:cubicBezTo>
                  <a:cubicBezTo>
                    <a:pt x="744" y="72"/>
                    <a:pt x="670" y="127"/>
                    <a:pt x="670" y="127"/>
                  </a:cubicBezTo>
                </a:path>
              </a:pathLst>
            </a:custGeom>
            <a:gradFill rotWithShape="0">
              <a:gsLst>
                <a:gs pos="0">
                  <a:srgbClr val="6c0000"/>
                </a:gs>
                <a:gs pos="50000">
                  <a:srgbClr val="ff0000"/>
                </a:gs>
                <a:gs pos="100000">
                  <a:srgbClr val="6c0000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rot="4200">
              <a:off x="75960" y="5589360"/>
              <a:ext cx="50472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H="1" rot="16122000">
              <a:off x="1517400" y="4882320"/>
              <a:ext cx="44604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rot="4200">
              <a:off x="777960" y="5268960"/>
              <a:ext cx="595080" cy="428400"/>
            </a:xfrm>
            <a:custGeom>
              <a:avLst/>
              <a:gdLst/>
              <a:ahLst/>
              <a:rect l="l" t="t" r="r" b="b"/>
              <a:pathLst>
                <a:path w="640" h="461">
                  <a:moveTo>
                    <a:pt x="64" y="445"/>
                  </a:moveTo>
                  <a:cubicBezTo>
                    <a:pt x="125" y="442"/>
                    <a:pt x="187" y="442"/>
                    <a:pt x="248" y="437"/>
                  </a:cubicBezTo>
                  <a:cubicBezTo>
                    <a:pt x="259" y="436"/>
                    <a:pt x="276" y="439"/>
                    <a:pt x="280" y="429"/>
                  </a:cubicBezTo>
                  <a:cubicBezTo>
                    <a:pt x="298" y="382"/>
                    <a:pt x="274" y="374"/>
                    <a:pt x="248" y="357"/>
                  </a:cubicBezTo>
                  <a:cubicBezTo>
                    <a:pt x="228" y="297"/>
                    <a:pt x="257" y="369"/>
                    <a:pt x="216" y="317"/>
                  </a:cubicBezTo>
                  <a:cubicBezTo>
                    <a:pt x="210" y="310"/>
                    <a:pt x="188" y="256"/>
                    <a:pt x="184" y="245"/>
                  </a:cubicBezTo>
                  <a:cubicBezTo>
                    <a:pt x="192" y="112"/>
                    <a:pt x="164" y="95"/>
                    <a:pt x="280" y="109"/>
                  </a:cubicBezTo>
                  <a:cubicBezTo>
                    <a:pt x="317" y="121"/>
                    <a:pt x="347" y="145"/>
                    <a:pt x="384" y="157"/>
                  </a:cubicBezTo>
                  <a:cubicBezTo>
                    <a:pt x="457" y="267"/>
                    <a:pt x="415" y="186"/>
                    <a:pt x="424" y="429"/>
                  </a:cubicBezTo>
                  <a:cubicBezTo>
                    <a:pt x="533" y="424"/>
                    <a:pt x="607" y="457"/>
                    <a:pt x="640" y="357"/>
                  </a:cubicBezTo>
                  <a:cubicBezTo>
                    <a:pt x="625" y="269"/>
                    <a:pt x="611" y="293"/>
                    <a:pt x="512" y="285"/>
                  </a:cubicBezTo>
                  <a:cubicBezTo>
                    <a:pt x="485" y="205"/>
                    <a:pt x="475" y="141"/>
                    <a:pt x="408" y="85"/>
                  </a:cubicBezTo>
                  <a:cubicBezTo>
                    <a:pt x="393" y="73"/>
                    <a:pt x="371" y="43"/>
                    <a:pt x="352" y="37"/>
                  </a:cubicBezTo>
                  <a:cubicBezTo>
                    <a:pt x="311" y="24"/>
                    <a:pt x="214" y="11"/>
                    <a:pt x="168" y="5"/>
                  </a:cubicBezTo>
                  <a:cubicBezTo>
                    <a:pt x="141" y="8"/>
                    <a:pt x="88" y="0"/>
                    <a:pt x="64" y="29"/>
                  </a:cubicBezTo>
                  <a:cubicBezTo>
                    <a:pt x="56" y="38"/>
                    <a:pt x="52" y="50"/>
                    <a:pt x="48" y="61"/>
                  </a:cubicBezTo>
                  <a:cubicBezTo>
                    <a:pt x="42" y="77"/>
                    <a:pt x="32" y="109"/>
                    <a:pt x="32" y="109"/>
                  </a:cubicBezTo>
                  <a:cubicBezTo>
                    <a:pt x="37" y="180"/>
                    <a:pt x="22" y="196"/>
                    <a:pt x="56" y="237"/>
                  </a:cubicBezTo>
                  <a:cubicBezTo>
                    <a:pt x="69" y="253"/>
                    <a:pt x="80" y="271"/>
                    <a:pt x="96" y="285"/>
                  </a:cubicBezTo>
                  <a:cubicBezTo>
                    <a:pt x="110" y="298"/>
                    <a:pt x="144" y="317"/>
                    <a:pt x="144" y="317"/>
                  </a:cubicBezTo>
                  <a:cubicBezTo>
                    <a:pt x="177" y="366"/>
                    <a:pt x="162" y="371"/>
                    <a:pt x="104" y="357"/>
                  </a:cubicBezTo>
                  <a:cubicBezTo>
                    <a:pt x="66" y="347"/>
                    <a:pt x="44" y="329"/>
                    <a:pt x="8" y="317"/>
                  </a:cubicBezTo>
                  <a:cubicBezTo>
                    <a:pt x="13" y="374"/>
                    <a:pt x="0" y="429"/>
                    <a:pt x="48" y="461"/>
                  </a:cubicBezTo>
                  <a:cubicBezTo>
                    <a:pt x="86" y="452"/>
                    <a:pt x="90" y="458"/>
                    <a:pt x="64" y="445"/>
                  </a:cubicBezTo>
                  <a:close/>
                </a:path>
              </a:pathLst>
            </a:custGeom>
            <a:solidFill>
              <a:srgbClr val="3333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93760" y="4160880"/>
              <a:ext cx="1211040" cy="1044360"/>
            </a:xfrm>
            <a:custGeom>
              <a:avLst/>
              <a:gdLst/>
              <a:ahLst/>
              <a:rect l="l" t="t" r="r" b="b"/>
              <a:pathLst>
                <a:path w="1050" h="906">
                  <a:moveTo>
                    <a:pt x="521" y="24"/>
                  </a:moveTo>
                  <a:cubicBezTo>
                    <a:pt x="598" y="0"/>
                    <a:pt x="573" y="2"/>
                    <a:pt x="709" y="24"/>
                  </a:cubicBezTo>
                  <a:cubicBezTo>
                    <a:pt x="734" y="28"/>
                    <a:pt x="784" y="48"/>
                    <a:pt x="784" y="48"/>
                  </a:cubicBezTo>
                  <a:cubicBezTo>
                    <a:pt x="864" y="105"/>
                    <a:pt x="820" y="70"/>
                    <a:pt x="910" y="157"/>
                  </a:cubicBezTo>
                  <a:cubicBezTo>
                    <a:pt x="939" y="185"/>
                    <a:pt x="985" y="254"/>
                    <a:pt x="985" y="254"/>
                  </a:cubicBezTo>
                  <a:cubicBezTo>
                    <a:pt x="1021" y="389"/>
                    <a:pt x="1050" y="536"/>
                    <a:pt x="973" y="664"/>
                  </a:cubicBezTo>
                  <a:cubicBezTo>
                    <a:pt x="954" y="697"/>
                    <a:pt x="927" y="767"/>
                    <a:pt x="897" y="785"/>
                  </a:cubicBezTo>
                  <a:cubicBezTo>
                    <a:pt x="847" y="817"/>
                    <a:pt x="805" y="862"/>
                    <a:pt x="747" y="882"/>
                  </a:cubicBezTo>
                  <a:cubicBezTo>
                    <a:pt x="715" y="894"/>
                    <a:pt x="646" y="906"/>
                    <a:pt x="646" y="906"/>
                  </a:cubicBezTo>
                  <a:cubicBezTo>
                    <a:pt x="489" y="898"/>
                    <a:pt x="376" y="886"/>
                    <a:pt x="232" y="846"/>
                  </a:cubicBezTo>
                  <a:cubicBezTo>
                    <a:pt x="153" y="795"/>
                    <a:pt x="100" y="741"/>
                    <a:pt x="69" y="652"/>
                  </a:cubicBezTo>
                  <a:cubicBezTo>
                    <a:pt x="73" y="521"/>
                    <a:pt x="0" y="178"/>
                    <a:pt x="203" y="114"/>
                  </a:cubicBezTo>
                  <a:cubicBezTo>
                    <a:pt x="274" y="46"/>
                    <a:pt x="360" y="62"/>
                    <a:pt x="458" y="48"/>
                  </a:cubicBezTo>
                  <a:cubicBezTo>
                    <a:pt x="537" y="22"/>
                    <a:pt x="560" y="24"/>
                    <a:pt x="521" y="24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rot="20582400">
              <a:off x="536400" y="4363560"/>
              <a:ext cx="341640" cy="4809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 rot="20582400">
              <a:off x="903240" y="4264200"/>
              <a:ext cx="343080" cy="50796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rot="8088000">
              <a:off x="601200" y="4390560"/>
              <a:ext cx="751680" cy="70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44" y="1256"/>
                  </a:moveTo>
                  <a:arcTo wR="10800" hR="10800" stAng="-7074784" swAng="7074784"/>
                  <a:lnTo>
                    <a:pt x="10800" y="10800"/>
                  </a:lnTo>
                  <a:close/>
                </a:path>
                <a:path fill="none" w="21600" h="21600">
                  <a:moveTo>
                    <a:pt x="5744" y="1256"/>
                  </a:moveTo>
                  <a:arcTo wR="10800" hR="10800" stAng="-7074784" swAng="707478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rot="413400">
              <a:off x="907920" y="4773240"/>
              <a:ext cx="184320" cy="1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rot="413400">
              <a:off x="677880" y="4422240"/>
              <a:ext cx="182520" cy="257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rot="413400">
              <a:off x="1004760" y="4300200"/>
              <a:ext cx="182520" cy="257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 rot="448800">
              <a:off x="328320" y="4195800"/>
              <a:ext cx="260280" cy="250920"/>
            </a:xfrm>
            <a:custGeom>
              <a:avLst/>
              <a:gdLst/>
              <a:ahLst/>
              <a:rect l="l" t="t" r="r" b="b"/>
              <a:pathLst>
                <a:path w="273" h="258">
                  <a:moveTo>
                    <a:pt x="273" y="40"/>
                  </a:moveTo>
                  <a:cubicBezTo>
                    <a:pt x="203" y="17"/>
                    <a:pt x="179" y="0"/>
                    <a:pt x="91" y="40"/>
                  </a:cubicBezTo>
                  <a:cubicBezTo>
                    <a:pt x="59" y="54"/>
                    <a:pt x="19" y="201"/>
                    <a:pt x="18" y="204"/>
                  </a:cubicBezTo>
                  <a:cubicBezTo>
                    <a:pt x="12" y="222"/>
                    <a:pt x="0" y="258"/>
                    <a:pt x="0" y="25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rot="448800">
              <a:off x="587160" y="4092480"/>
              <a:ext cx="274320" cy="211320"/>
            </a:xfrm>
            <a:custGeom>
              <a:avLst/>
              <a:gdLst/>
              <a:ahLst/>
              <a:rect l="l" t="t" r="r" b="b"/>
              <a:pathLst>
                <a:path w="290" h="218">
                  <a:moveTo>
                    <a:pt x="0" y="218"/>
                  </a:moveTo>
                  <a:cubicBezTo>
                    <a:pt x="66" y="118"/>
                    <a:pt x="157" y="0"/>
                    <a:pt x="29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rot="448800">
              <a:off x="632880" y="4065480"/>
              <a:ext cx="1800" cy="195480"/>
            </a:xfrm>
            <a:custGeom>
              <a:avLst/>
              <a:gdLst/>
              <a:ahLst/>
              <a:rect l="l" t="t" r="r" b="b"/>
              <a:pathLst>
                <a:path w="1" h="200">
                  <a:moveTo>
                    <a:pt x="0" y="200"/>
                  </a:moveTo>
                  <a:cubicBezTo>
                    <a:pt x="0" y="133"/>
                    <a:pt x="0" y="67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rot="21140400">
              <a:off x="418680" y="4266720"/>
              <a:ext cx="233280" cy="392400"/>
            </a:xfrm>
            <a:custGeom>
              <a:avLst/>
              <a:gdLst/>
              <a:ahLst/>
              <a:rect l="l" t="t" r="r" b="b"/>
              <a:pathLst>
                <a:path w="273" h="400">
                  <a:moveTo>
                    <a:pt x="273" y="0"/>
                  </a:moveTo>
                  <a:cubicBezTo>
                    <a:pt x="198" y="37"/>
                    <a:pt x="150" y="69"/>
                    <a:pt x="91" y="127"/>
                  </a:cubicBezTo>
                  <a:cubicBezTo>
                    <a:pt x="61" y="218"/>
                    <a:pt x="0" y="301"/>
                    <a:pt x="0" y="4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rot="1662000">
              <a:off x="651960" y="4183200"/>
              <a:ext cx="246240" cy="131760"/>
            </a:xfrm>
            <a:custGeom>
              <a:avLst/>
              <a:gdLst/>
              <a:ahLst/>
              <a:rect l="l" t="t" r="r" b="b"/>
              <a:pathLst>
                <a:path w="273" h="109">
                  <a:moveTo>
                    <a:pt x="0" y="109"/>
                  </a:moveTo>
                  <a:cubicBezTo>
                    <a:pt x="12" y="91"/>
                    <a:pt x="17" y="66"/>
                    <a:pt x="36" y="54"/>
                  </a:cubicBezTo>
                  <a:cubicBezTo>
                    <a:pt x="105" y="11"/>
                    <a:pt x="195" y="0"/>
                    <a:pt x="27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523880" y="3962520"/>
              <a:ext cx="990720" cy="1218960"/>
            </a:xfrm>
            <a:custGeom>
              <a:avLst/>
              <a:gdLst/>
              <a:ahLst/>
              <a:rect l="l" t="t" r="r" b="b"/>
              <a:pathLst>
                <a:path w="624" h="768">
                  <a:moveTo>
                    <a:pt x="0" y="720"/>
                  </a:moveTo>
                  <a:lnTo>
                    <a:pt x="48" y="768"/>
                  </a:lnTo>
                  <a:lnTo>
                    <a:pt x="624" y="0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3" name=""/>
          <p:cNvSpPr/>
          <p:nvPr/>
        </p:nvSpPr>
        <p:spPr>
          <a:xfrm>
            <a:off x="0" y="0"/>
            <a:ext cx="5219640" cy="3048120"/>
          </a:xfrm>
          <a:prstGeom prst="cloudCallout">
            <a:avLst>
              <a:gd name="adj1" fmla="val -41120"/>
              <a:gd name="adj2" fmla="val 71824"/>
            </a:avLst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3767040" y="1386000"/>
            <a:ext cx="803520" cy="62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287280" y="1460520"/>
            <a:ext cx="803160" cy="630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6" name=""/>
          <p:cNvGrpSpPr/>
          <p:nvPr/>
        </p:nvGrpSpPr>
        <p:grpSpPr>
          <a:xfrm>
            <a:off x="1195560" y="1668600"/>
            <a:ext cx="2779560" cy="704880"/>
            <a:chOff x="1195560" y="1668600"/>
            <a:chExt cx="2779560" cy="704880"/>
          </a:xfrm>
        </p:grpSpPr>
        <p:sp>
          <p:nvSpPr>
            <p:cNvPr id="1957" name=""/>
            <p:cNvSpPr/>
            <p:nvPr/>
          </p:nvSpPr>
          <p:spPr>
            <a:xfrm>
              <a:off x="2019240" y="203832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019240" y="215280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933640" y="2019240"/>
              <a:ext cx="20952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 flipH="1">
              <a:off x="2933640" y="2019240"/>
              <a:ext cx="20952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 txBox="1"/>
            <p:nvPr/>
          </p:nvSpPr>
          <p:spPr>
            <a:xfrm>
              <a:off x="1195560" y="1801800"/>
              <a:ext cx="628560" cy="5716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962" name=""/>
            <p:cNvSpPr txBox="1"/>
            <p:nvPr/>
          </p:nvSpPr>
          <p:spPr>
            <a:xfrm>
              <a:off x="2563920" y="1668600"/>
              <a:ext cx="171360" cy="704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963" name=""/>
            <p:cNvSpPr txBox="1"/>
            <p:nvPr/>
          </p:nvSpPr>
          <p:spPr>
            <a:xfrm>
              <a:off x="3306600" y="1811160"/>
              <a:ext cx="668520" cy="5623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 Black"/>
                </a:rPr>
                <a:t>R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1964" name=""/>
          <p:cNvSpPr/>
          <p:nvPr/>
        </p:nvSpPr>
        <p:spPr>
          <a:xfrm flipV="1">
            <a:off x="5048280" y="3105000"/>
            <a:ext cx="3543120" cy="2076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5019840" y="2924280"/>
            <a:ext cx="0" cy="22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 flipH="1">
            <a:off x="5009760" y="5181480"/>
            <a:ext cx="375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5410080" y="50608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5805360" y="506880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6200640" y="50608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659592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699120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738648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778176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 flipH="1">
            <a:off x="4902120" y="328608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 flipH="1">
            <a:off x="4905360" y="368136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 flipH="1">
            <a:off x="4905360" y="407664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 flipH="1">
            <a:off x="4905360" y="447192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 flipH="1">
            <a:off x="4905360" y="486720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8191440" y="50767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8586720" y="50767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61708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641700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719820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797904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850280" y="5252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4432680" y="498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4348800" y="4229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4348800" y="3461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4263480" y="30405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4348800" y="3835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4348800" y="4636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5357880" y="49338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738760" y="4705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6510240" y="42577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8091360" y="33242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 txBox="1"/>
          <p:nvPr/>
        </p:nvSpPr>
        <p:spPr>
          <a:xfrm rot="19850400">
            <a:off x="5916600" y="3679920"/>
            <a:ext cx="1601640" cy="352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resistanc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997" name=""/>
          <p:cNvSpPr txBox="1"/>
          <p:nvPr/>
        </p:nvSpPr>
        <p:spPr>
          <a:xfrm>
            <a:off x="2986200" y="4008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(Volts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98" name=""/>
          <p:cNvSpPr txBox="1"/>
          <p:nvPr/>
        </p:nvSpPr>
        <p:spPr>
          <a:xfrm>
            <a:off x="6259680" y="6164280"/>
            <a:ext cx="1238040" cy="380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(Amperes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99" name=""/>
          <p:cNvSpPr txBox="1"/>
          <p:nvPr/>
        </p:nvSpPr>
        <p:spPr>
          <a:xfrm>
            <a:off x="1500120" y="3284640"/>
            <a:ext cx="281952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Potential Differ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000" name=""/>
          <p:cNvSpPr txBox="1"/>
          <p:nvPr/>
        </p:nvSpPr>
        <p:spPr>
          <a:xfrm>
            <a:off x="5916600" y="5573880"/>
            <a:ext cx="1866960" cy="49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Curr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493920" y="611280"/>
            <a:ext cx="4414680" cy="600120"/>
            <a:chOff x="493920" y="611280"/>
            <a:chExt cx="4414680" cy="600120"/>
          </a:xfrm>
        </p:grpSpPr>
        <p:sp>
          <p:nvSpPr>
            <p:cNvPr id="2002" name=""/>
            <p:cNvSpPr/>
            <p:nvPr/>
          </p:nvSpPr>
          <p:spPr>
            <a:xfrm>
              <a:off x="493920" y="71316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059920" y="71316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s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 txBox="1"/>
            <p:nvPr/>
          </p:nvSpPr>
          <p:spPr>
            <a:xfrm>
              <a:off x="1363680" y="630360"/>
              <a:ext cx="668160" cy="5619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 Black"/>
                </a:rPr>
                <a:t>R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005" name=""/>
            <p:cNvSpPr txBox="1"/>
            <p:nvPr/>
          </p:nvSpPr>
          <p:spPr>
            <a:xfrm>
              <a:off x="2963880" y="611280"/>
              <a:ext cx="1944720" cy="6001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 Black"/>
                </a:rPr>
                <a:t>Resistance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 rot="4200">
            <a:off x="3919320" y="3665520"/>
            <a:ext cx="1473120" cy="1295280"/>
          </a:xfrm>
          <a:custGeom>
            <a:avLst/>
            <a:gdLst/>
            <a:ahLst/>
            <a:rect l="l" t="t" r="r" b="b"/>
            <a:pathLst>
              <a:path w="1688" h="1469">
                <a:moveTo>
                  <a:pt x="60" y="859"/>
                </a:moveTo>
                <a:cubicBezTo>
                  <a:pt x="54" y="930"/>
                  <a:pt x="43" y="984"/>
                  <a:pt x="28" y="1050"/>
                </a:cubicBezTo>
                <a:cubicBezTo>
                  <a:pt x="25" y="1099"/>
                  <a:pt x="20" y="1147"/>
                  <a:pt x="20" y="1196"/>
                </a:cubicBezTo>
                <a:cubicBezTo>
                  <a:pt x="20" y="1374"/>
                  <a:pt x="0" y="1417"/>
                  <a:pt x="132" y="1424"/>
                </a:cubicBezTo>
                <a:cubicBezTo>
                  <a:pt x="289" y="1469"/>
                  <a:pt x="327" y="1216"/>
                  <a:pt x="636" y="1224"/>
                </a:cubicBezTo>
                <a:cubicBezTo>
                  <a:pt x="1284" y="1176"/>
                  <a:pt x="1224" y="1416"/>
                  <a:pt x="1508" y="1408"/>
                </a:cubicBezTo>
                <a:cubicBezTo>
                  <a:pt x="1548" y="1399"/>
                  <a:pt x="1606" y="1339"/>
                  <a:pt x="1644" y="1324"/>
                </a:cubicBezTo>
                <a:cubicBezTo>
                  <a:pt x="1652" y="1321"/>
                  <a:pt x="1648" y="1304"/>
                  <a:pt x="1652" y="1297"/>
                </a:cubicBezTo>
                <a:cubicBezTo>
                  <a:pt x="1659" y="1282"/>
                  <a:pt x="1668" y="1272"/>
                  <a:pt x="1676" y="1259"/>
                </a:cubicBezTo>
                <a:cubicBezTo>
                  <a:pt x="1688" y="1202"/>
                  <a:pt x="1676" y="1159"/>
                  <a:pt x="1660" y="1105"/>
                </a:cubicBezTo>
                <a:cubicBezTo>
                  <a:pt x="1649" y="1066"/>
                  <a:pt x="1643" y="1023"/>
                  <a:pt x="1628" y="986"/>
                </a:cubicBezTo>
                <a:cubicBezTo>
                  <a:pt x="1622" y="973"/>
                  <a:pt x="1611" y="962"/>
                  <a:pt x="1604" y="950"/>
                </a:cubicBezTo>
                <a:cubicBezTo>
                  <a:pt x="1581" y="906"/>
                  <a:pt x="1547" y="872"/>
                  <a:pt x="1520" y="832"/>
                </a:cubicBezTo>
                <a:cubicBezTo>
                  <a:pt x="1513" y="799"/>
                  <a:pt x="1498" y="688"/>
                  <a:pt x="1476" y="667"/>
                </a:cubicBezTo>
                <a:cubicBezTo>
                  <a:pt x="1469" y="661"/>
                  <a:pt x="1460" y="661"/>
                  <a:pt x="1452" y="658"/>
                </a:cubicBezTo>
                <a:cubicBezTo>
                  <a:pt x="1423" y="557"/>
                  <a:pt x="1472" y="706"/>
                  <a:pt x="1420" y="612"/>
                </a:cubicBezTo>
                <a:cubicBezTo>
                  <a:pt x="1407" y="588"/>
                  <a:pt x="1401" y="558"/>
                  <a:pt x="1396" y="530"/>
                </a:cubicBezTo>
                <a:cubicBezTo>
                  <a:pt x="1382" y="452"/>
                  <a:pt x="1383" y="354"/>
                  <a:pt x="1348" y="284"/>
                </a:cubicBezTo>
                <a:cubicBezTo>
                  <a:pt x="1335" y="258"/>
                  <a:pt x="1316" y="235"/>
                  <a:pt x="1300" y="211"/>
                </a:cubicBezTo>
                <a:cubicBezTo>
                  <a:pt x="1279" y="140"/>
                  <a:pt x="1267" y="125"/>
                  <a:pt x="1212" y="83"/>
                </a:cubicBezTo>
                <a:cubicBezTo>
                  <a:pt x="1198" y="73"/>
                  <a:pt x="1164" y="65"/>
                  <a:pt x="1164" y="65"/>
                </a:cubicBezTo>
                <a:cubicBezTo>
                  <a:pt x="1096" y="91"/>
                  <a:pt x="1010" y="87"/>
                  <a:pt x="940" y="92"/>
                </a:cubicBezTo>
                <a:cubicBezTo>
                  <a:pt x="822" y="89"/>
                  <a:pt x="675" y="93"/>
                  <a:pt x="548" y="75"/>
                </a:cubicBezTo>
                <a:cubicBezTo>
                  <a:pt x="499" y="66"/>
                  <a:pt x="454" y="46"/>
                  <a:pt x="404" y="37"/>
                </a:cubicBezTo>
                <a:cubicBezTo>
                  <a:pt x="156" y="49"/>
                  <a:pt x="253" y="0"/>
                  <a:pt x="164" y="102"/>
                </a:cubicBezTo>
                <a:cubicBezTo>
                  <a:pt x="146" y="165"/>
                  <a:pt x="134" y="230"/>
                  <a:pt x="116" y="293"/>
                </a:cubicBezTo>
                <a:cubicBezTo>
                  <a:pt x="106" y="421"/>
                  <a:pt x="183" y="546"/>
                  <a:pt x="168" y="672"/>
                </a:cubicBezTo>
                <a:cubicBezTo>
                  <a:pt x="160" y="739"/>
                  <a:pt x="39" y="787"/>
                  <a:pt x="117" y="918"/>
                </a:cubicBezTo>
              </a:path>
            </a:pathLst>
          </a:custGeom>
          <a:gradFill rotWithShape="0">
            <a:gsLst>
              <a:gs pos="0">
                <a:srgbClr val="750075"/>
              </a:gs>
              <a:gs pos="50000">
                <a:srgbClr val="ff00ff"/>
              </a:gs>
              <a:gs pos="100000">
                <a:srgbClr val="750075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4200">
            <a:off x="4185720" y="4290480"/>
            <a:ext cx="1094040" cy="655920"/>
          </a:xfrm>
          <a:custGeom>
            <a:avLst/>
            <a:gdLst/>
            <a:ahLst/>
            <a:rect l="l" t="t" r="r" b="b"/>
            <a:pathLst>
              <a:path w="1175" h="705">
                <a:moveTo>
                  <a:pt x="88" y="67"/>
                </a:moveTo>
                <a:cubicBezTo>
                  <a:pt x="76" y="271"/>
                  <a:pt x="64" y="396"/>
                  <a:pt x="0" y="579"/>
                </a:cubicBezTo>
                <a:cubicBezTo>
                  <a:pt x="4" y="600"/>
                  <a:pt x="2" y="623"/>
                  <a:pt x="13" y="642"/>
                </a:cubicBezTo>
                <a:cubicBezTo>
                  <a:pt x="26" y="665"/>
                  <a:pt x="80" y="677"/>
                  <a:pt x="100" y="679"/>
                </a:cubicBezTo>
                <a:cubicBezTo>
                  <a:pt x="183" y="686"/>
                  <a:pt x="267" y="688"/>
                  <a:pt x="350" y="692"/>
                </a:cubicBezTo>
                <a:cubicBezTo>
                  <a:pt x="375" y="688"/>
                  <a:pt x="403" y="692"/>
                  <a:pt x="425" y="679"/>
                </a:cubicBezTo>
                <a:cubicBezTo>
                  <a:pt x="436" y="673"/>
                  <a:pt x="432" y="654"/>
                  <a:pt x="438" y="642"/>
                </a:cubicBezTo>
                <a:cubicBezTo>
                  <a:pt x="467" y="585"/>
                  <a:pt x="464" y="622"/>
                  <a:pt x="488" y="554"/>
                </a:cubicBezTo>
                <a:cubicBezTo>
                  <a:pt x="503" y="513"/>
                  <a:pt x="525" y="429"/>
                  <a:pt x="525" y="429"/>
                </a:cubicBezTo>
                <a:cubicBezTo>
                  <a:pt x="539" y="336"/>
                  <a:pt x="515" y="312"/>
                  <a:pt x="600" y="292"/>
                </a:cubicBezTo>
                <a:cubicBezTo>
                  <a:pt x="633" y="386"/>
                  <a:pt x="636" y="509"/>
                  <a:pt x="650" y="604"/>
                </a:cubicBezTo>
                <a:cubicBezTo>
                  <a:pt x="654" y="634"/>
                  <a:pt x="695" y="649"/>
                  <a:pt x="725" y="654"/>
                </a:cubicBezTo>
                <a:cubicBezTo>
                  <a:pt x="859" y="678"/>
                  <a:pt x="933" y="694"/>
                  <a:pt x="1075" y="704"/>
                </a:cubicBezTo>
                <a:cubicBezTo>
                  <a:pt x="1104" y="700"/>
                  <a:pt x="1137" y="705"/>
                  <a:pt x="1163" y="692"/>
                </a:cubicBezTo>
                <a:cubicBezTo>
                  <a:pt x="1175" y="686"/>
                  <a:pt x="1175" y="667"/>
                  <a:pt x="1175" y="654"/>
                </a:cubicBezTo>
                <a:cubicBezTo>
                  <a:pt x="1175" y="463"/>
                  <a:pt x="1163" y="472"/>
                  <a:pt x="1075" y="342"/>
                </a:cubicBezTo>
                <a:cubicBezTo>
                  <a:pt x="1071" y="326"/>
                  <a:pt x="1060" y="271"/>
                  <a:pt x="1050" y="254"/>
                </a:cubicBezTo>
                <a:cubicBezTo>
                  <a:pt x="1035" y="228"/>
                  <a:pt x="1000" y="179"/>
                  <a:pt x="1000" y="179"/>
                </a:cubicBezTo>
                <a:cubicBezTo>
                  <a:pt x="979" y="113"/>
                  <a:pt x="995" y="153"/>
                  <a:pt x="938" y="67"/>
                </a:cubicBezTo>
                <a:cubicBezTo>
                  <a:pt x="893" y="0"/>
                  <a:pt x="900" y="78"/>
                  <a:pt x="900" y="17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50000">
                <a:srgbClr val="ccecff"/>
              </a:gs>
              <a:gs pos="100000">
                <a:srgbClr val="00cc99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4200">
            <a:off x="3739680" y="3708360"/>
            <a:ext cx="1473480" cy="803160"/>
          </a:xfrm>
          <a:custGeom>
            <a:avLst/>
            <a:gdLst/>
            <a:ahLst/>
            <a:rect l="l" t="t" r="r" b="b"/>
            <a:pathLst>
              <a:path w="1088" h="840">
                <a:moveTo>
                  <a:pt x="259" y="54"/>
                </a:moveTo>
                <a:cubicBezTo>
                  <a:pt x="247" y="66"/>
                  <a:pt x="237" y="81"/>
                  <a:pt x="223" y="91"/>
                </a:cubicBezTo>
                <a:cubicBezTo>
                  <a:pt x="188" y="117"/>
                  <a:pt x="114" y="163"/>
                  <a:pt x="114" y="163"/>
                </a:cubicBezTo>
                <a:cubicBezTo>
                  <a:pt x="53" y="254"/>
                  <a:pt x="0" y="281"/>
                  <a:pt x="59" y="400"/>
                </a:cubicBezTo>
                <a:cubicBezTo>
                  <a:pt x="68" y="417"/>
                  <a:pt x="95" y="413"/>
                  <a:pt x="114" y="418"/>
                </a:cubicBezTo>
                <a:cubicBezTo>
                  <a:pt x="138" y="425"/>
                  <a:pt x="162" y="430"/>
                  <a:pt x="186" y="436"/>
                </a:cubicBezTo>
                <a:cubicBezTo>
                  <a:pt x="216" y="430"/>
                  <a:pt x="251" y="435"/>
                  <a:pt x="277" y="418"/>
                </a:cubicBezTo>
                <a:cubicBezTo>
                  <a:pt x="293" y="407"/>
                  <a:pt x="285" y="380"/>
                  <a:pt x="295" y="363"/>
                </a:cubicBezTo>
                <a:cubicBezTo>
                  <a:pt x="304" y="348"/>
                  <a:pt x="320" y="339"/>
                  <a:pt x="332" y="327"/>
                </a:cubicBezTo>
                <a:cubicBezTo>
                  <a:pt x="344" y="345"/>
                  <a:pt x="364" y="360"/>
                  <a:pt x="368" y="382"/>
                </a:cubicBezTo>
                <a:cubicBezTo>
                  <a:pt x="448" y="840"/>
                  <a:pt x="186" y="642"/>
                  <a:pt x="1004" y="618"/>
                </a:cubicBezTo>
                <a:cubicBezTo>
                  <a:pt x="998" y="582"/>
                  <a:pt x="1002" y="542"/>
                  <a:pt x="986" y="509"/>
                </a:cubicBezTo>
                <a:cubicBezTo>
                  <a:pt x="964" y="465"/>
                  <a:pt x="900" y="427"/>
                  <a:pt x="859" y="400"/>
                </a:cubicBezTo>
                <a:cubicBezTo>
                  <a:pt x="818" y="275"/>
                  <a:pt x="796" y="318"/>
                  <a:pt x="859" y="254"/>
                </a:cubicBezTo>
                <a:cubicBezTo>
                  <a:pt x="1003" y="303"/>
                  <a:pt x="930" y="298"/>
                  <a:pt x="1077" y="272"/>
                </a:cubicBezTo>
                <a:cubicBezTo>
                  <a:pt x="1066" y="182"/>
                  <a:pt x="1088" y="119"/>
                  <a:pt x="1004" y="72"/>
                </a:cubicBezTo>
                <a:cubicBezTo>
                  <a:pt x="954" y="44"/>
                  <a:pt x="895" y="36"/>
                  <a:pt x="841" y="18"/>
                </a:cubicBezTo>
                <a:cubicBezTo>
                  <a:pt x="823" y="12"/>
                  <a:pt x="786" y="0"/>
                  <a:pt x="786" y="0"/>
                </a:cubicBezTo>
              </a:path>
            </a:pathLst>
          </a:custGeom>
          <a:gradFill rotWithShape="0">
            <a:gsLst>
              <a:gs pos="0">
                <a:srgbClr val="6c0000"/>
              </a:gs>
              <a:gs pos="50000">
                <a:srgbClr val="ff0000"/>
              </a:gs>
              <a:gs pos="100000">
                <a:srgbClr val="6c0000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4200">
            <a:off x="3695400" y="4111200"/>
            <a:ext cx="50472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rot="4800">
            <a:off x="4901760" y="3978360"/>
            <a:ext cx="44604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4200">
            <a:off x="4321080" y="3843360"/>
            <a:ext cx="595440" cy="428760"/>
          </a:xfrm>
          <a:custGeom>
            <a:avLst/>
            <a:gdLst/>
            <a:ahLst/>
            <a:rect l="l" t="t" r="r" b="b"/>
            <a:pathLst>
              <a:path w="640" h="461">
                <a:moveTo>
                  <a:pt x="64" y="445"/>
                </a:moveTo>
                <a:cubicBezTo>
                  <a:pt x="125" y="442"/>
                  <a:pt x="187" y="442"/>
                  <a:pt x="248" y="437"/>
                </a:cubicBezTo>
                <a:cubicBezTo>
                  <a:pt x="259" y="436"/>
                  <a:pt x="276" y="439"/>
                  <a:pt x="280" y="429"/>
                </a:cubicBezTo>
                <a:cubicBezTo>
                  <a:pt x="298" y="382"/>
                  <a:pt x="274" y="374"/>
                  <a:pt x="248" y="357"/>
                </a:cubicBezTo>
                <a:cubicBezTo>
                  <a:pt x="228" y="297"/>
                  <a:pt x="257" y="369"/>
                  <a:pt x="216" y="317"/>
                </a:cubicBezTo>
                <a:cubicBezTo>
                  <a:pt x="210" y="310"/>
                  <a:pt x="188" y="256"/>
                  <a:pt x="184" y="245"/>
                </a:cubicBezTo>
                <a:cubicBezTo>
                  <a:pt x="192" y="112"/>
                  <a:pt x="164" y="95"/>
                  <a:pt x="280" y="109"/>
                </a:cubicBezTo>
                <a:cubicBezTo>
                  <a:pt x="317" y="121"/>
                  <a:pt x="347" y="145"/>
                  <a:pt x="384" y="157"/>
                </a:cubicBezTo>
                <a:cubicBezTo>
                  <a:pt x="457" y="267"/>
                  <a:pt x="415" y="186"/>
                  <a:pt x="424" y="429"/>
                </a:cubicBezTo>
                <a:cubicBezTo>
                  <a:pt x="533" y="424"/>
                  <a:pt x="607" y="457"/>
                  <a:pt x="640" y="357"/>
                </a:cubicBezTo>
                <a:cubicBezTo>
                  <a:pt x="625" y="269"/>
                  <a:pt x="611" y="293"/>
                  <a:pt x="512" y="285"/>
                </a:cubicBezTo>
                <a:cubicBezTo>
                  <a:pt x="485" y="205"/>
                  <a:pt x="475" y="141"/>
                  <a:pt x="408" y="85"/>
                </a:cubicBezTo>
                <a:cubicBezTo>
                  <a:pt x="393" y="73"/>
                  <a:pt x="371" y="43"/>
                  <a:pt x="352" y="37"/>
                </a:cubicBezTo>
                <a:cubicBezTo>
                  <a:pt x="311" y="24"/>
                  <a:pt x="214" y="11"/>
                  <a:pt x="168" y="5"/>
                </a:cubicBezTo>
                <a:cubicBezTo>
                  <a:pt x="141" y="8"/>
                  <a:pt x="88" y="0"/>
                  <a:pt x="64" y="29"/>
                </a:cubicBezTo>
                <a:cubicBezTo>
                  <a:pt x="56" y="38"/>
                  <a:pt x="52" y="50"/>
                  <a:pt x="48" y="61"/>
                </a:cubicBezTo>
                <a:cubicBezTo>
                  <a:pt x="42" y="77"/>
                  <a:pt x="32" y="109"/>
                  <a:pt x="32" y="109"/>
                </a:cubicBezTo>
                <a:cubicBezTo>
                  <a:pt x="37" y="180"/>
                  <a:pt x="22" y="196"/>
                  <a:pt x="56" y="237"/>
                </a:cubicBezTo>
                <a:cubicBezTo>
                  <a:pt x="69" y="253"/>
                  <a:pt x="80" y="271"/>
                  <a:pt x="96" y="285"/>
                </a:cubicBezTo>
                <a:cubicBezTo>
                  <a:pt x="110" y="298"/>
                  <a:pt x="144" y="317"/>
                  <a:pt x="144" y="317"/>
                </a:cubicBezTo>
                <a:cubicBezTo>
                  <a:pt x="177" y="366"/>
                  <a:pt x="162" y="371"/>
                  <a:pt x="104" y="357"/>
                </a:cubicBezTo>
                <a:cubicBezTo>
                  <a:pt x="66" y="347"/>
                  <a:pt x="44" y="329"/>
                  <a:pt x="8" y="317"/>
                </a:cubicBezTo>
                <a:cubicBezTo>
                  <a:pt x="13" y="374"/>
                  <a:pt x="0" y="429"/>
                  <a:pt x="48" y="461"/>
                </a:cubicBezTo>
                <a:cubicBezTo>
                  <a:pt x="86" y="452"/>
                  <a:pt x="90" y="458"/>
                  <a:pt x="64" y="445"/>
                </a:cubicBezTo>
                <a:close/>
              </a:path>
            </a:pathLst>
          </a:custGeom>
          <a:solidFill>
            <a:srgbClr val="3333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448800">
            <a:off x="3885840" y="2784600"/>
            <a:ext cx="260280" cy="250560"/>
          </a:xfrm>
          <a:custGeom>
            <a:avLst/>
            <a:gdLst/>
            <a:ahLst/>
            <a:rect l="l" t="t" r="r" b="b"/>
            <a:pathLst>
              <a:path w="273" h="258">
                <a:moveTo>
                  <a:pt x="273" y="40"/>
                </a:moveTo>
                <a:cubicBezTo>
                  <a:pt x="203" y="17"/>
                  <a:pt x="179" y="0"/>
                  <a:pt x="91" y="40"/>
                </a:cubicBezTo>
                <a:cubicBezTo>
                  <a:pt x="59" y="54"/>
                  <a:pt x="19" y="201"/>
                  <a:pt x="18" y="204"/>
                </a:cubicBezTo>
                <a:cubicBezTo>
                  <a:pt x="12" y="222"/>
                  <a:pt x="0" y="258"/>
                  <a:pt x="0" y="25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448800">
            <a:off x="4134960" y="2643120"/>
            <a:ext cx="274680" cy="211320"/>
          </a:xfrm>
          <a:custGeom>
            <a:avLst/>
            <a:gdLst/>
            <a:ahLst/>
            <a:rect l="l" t="t" r="r" b="b"/>
            <a:pathLst>
              <a:path w="290" h="218">
                <a:moveTo>
                  <a:pt x="0" y="218"/>
                </a:moveTo>
                <a:cubicBezTo>
                  <a:pt x="66" y="118"/>
                  <a:pt x="157" y="0"/>
                  <a:pt x="29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448800">
            <a:off x="4167000" y="2663640"/>
            <a:ext cx="360" cy="195120"/>
          </a:xfrm>
          <a:custGeom>
            <a:avLst/>
            <a:gdLst/>
            <a:ahLst/>
            <a:rect l="l" t="t" r="r" b="b"/>
            <a:pathLst>
              <a:path w="1" h="200">
                <a:moveTo>
                  <a:pt x="0" y="200"/>
                </a:moveTo>
                <a:cubicBezTo>
                  <a:pt x="0" y="133"/>
                  <a:pt x="0" y="67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36880" y="2735280"/>
            <a:ext cx="1211400" cy="1044720"/>
          </a:xfrm>
          <a:custGeom>
            <a:avLst/>
            <a:gdLst/>
            <a:ahLst/>
            <a:rect l="l" t="t" r="r" b="b"/>
            <a:pathLst>
              <a:path w="1050" h="906">
                <a:moveTo>
                  <a:pt x="521" y="24"/>
                </a:moveTo>
                <a:cubicBezTo>
                  <a:pt x="598" y="0"/>
                  <a:pt x="573" y="2"/>
                  <a:pt x="709" y="24"/>
                </a:cubicBezTo>
                <a:cubicBezTo>
                  <a:pt x="734" y="28"/>
                  <a:pt x="784" y="48"/>
                  <a:pt x="784" y="48"/>
                </a:cubicBezTo>
                <a:cubicBezTo>
                  <a:pt x="864" y="105"/>
                  <a:pt x="820" y="70"/>
                  <a:pt x="910" y="157"/>
                </a:cubicBezTo>
                <a:cubicBezTo>
                  <a:pt x="939" y="185"/>
                  <a:pt x="985" y="254"/>
                  <a:pt x="985" y="254"/>
                </a:cubicBezTo>
                <a:cubicBezTo>
                  <a:pt x="1021" y="389"/>
                  <a:pt x="1050" y="536"/>
                  <a:pt x="973" y="664"/>
                </a:cubicBezTo>
                <a:cubicBezTo>
                  <a:pt x="954" y="697"/>
                  <a:pt x="927" y="767"/>
                  <a:pt x="897" y="785"/>
                </a:cubicBezTo>
                <a:cubicBezTo>
                  <a:pt x="847" y="817"/>
                  <a:pt x="805" y="862"/>
                  <a:pt x="747" y="882"/>
                </a:cubicBezTo>
                <a:cubicBezTo>
                  <a:pt x="715" y="894"/>
                  <a:pt x="646" y="906"/>
                  <a:pt x="646" y="906"/>
                </a:cubicBezTo>
                <a:cubicBezTo>
                  <a:pt x="489" y="898"/>
                  <a:pt x="376" y="886"/>
                  <a:pt x="232" y="846"/>
                </a:cubicBezTo>
                <a:cubicBezTo>
                  <a:pt x="153" y="795"/>
                  <a:pt x="100" y="741"/>
                  <a:pt x="69" y="652"/>
                </a:cubicBezTo>
                <a:cubicBezTo>
                  <a:pt x="73" y="521"/>
                  <a:pt x="0" y="178"/>
                  <a:pt x="203" y="114"/>
                </a:cubicBezTo>
                <a:cubicBezTo>
                  <a:pt x="274" y="46"/>
                  <a:pt x="360" y="62"/>
                  <a:pt x="458" y="48"/>
                </a:cubicBezTo>
                <a:cubicBezTo>
                  <a:pt x="537" y="22"/>
                  <a:pt x="560" y="24"/>
                  <a:pt x="521" y="24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20582400">
            <a:off x="4079880" y="2937960"/>
            <a:ext cx="341280" cy="4813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20582400">
            <a:off x="4446720" y="2838600"/>
            <a:ext cx="342720" cy="5079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8088000">
            <a:off x="4143960" y="2964600"/>
            <a:ext cx="751680" cy="70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744" y="1256"/>
                </a:moveTo>
                <a:arcTo wR="10800" hR="10800" stAng="-7074784" swAng="7074784"/>
                <a:lnTo>
                  <a:pt x="10800" y="10800"/>
                </a:lnTo>
                <a:close/>
              </a:path>
              <a:path fill="none" w="21600" h="21600">
                <a:moveTo>
                  <a:pt x="5744" y="1256"/>
                </a:moveTo>
                <a:arcTo wR="10800" hR="10800" stAng="-7074784" swAng="707478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413400">
            <a:off x="4451400" y="3347640"/>
            <a:ext cx="183960" cy="185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413400">
            <a:off x="4181040" y="3114360"/>
            <a:ext cx="241200" cy="268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413400">
            <a:off x="4525920" y="3047760"/>
            <a:ext cx="244440" cy="288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21140400">
            <a:off x="3952440" y="2803320"/>
            <a:ext cx="233280" cy="392040"/>
          </a:xfrm>
          <a:custGeom>
            <a:avLst/>
            <a:gdLst/>
            <a:ahLst/>
            <a:rect l="l" t="t" r="r" b="b"/>
            <a:pathLst>
              <a:path w="273" h="400">
                <a:moveTo>
                  <a:pt x="273" y="0"/>
                </a:moveTo>
                <a:cubicBezTo>
                  <a:pt x="198" y="37"/>
                  <a:pt x="150" y="69"/>
                  <a:pt x="91" y="127"/>
                </a:cubicBezTo>
                <a:cubicBezTo>
                  <a:pt x="61" y="218"/>
                  <a:pt x="0" y="301"/>
                  <a:pt x="0" y="4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62000">
            <a:off x="4185720" y="2719440"/>
            <a:ext cx="246240" cy="131760"/>
          </a:xfrm>
          <a:custGeom>
            <a:avLst/>
            <a:gdLst/>
            <a:ahLst/>
            <a:rect l="l" t="t" r="r" b="b"/>
            <a:pathLst>
              <a:path w="273" h="109">
                <a:moveTo>
                  <a:pt x="0" y="109"/>
                </a:moveTo>
                <a:cubicBezTo>
                  <a:pt x="12" y="91"/>
                  <a:pt x="17" y="66"/>
                  <a:pt x="36" y="54"/>
                </a:cubicBezTo>
                <a:cubicBezTo>
                  <a:pt x="105" y="11"/>
                  <a:pt x="195" y="0"/>
                  <a:pt x="273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67200" y="4917960"/>
            <a:ext cx="590760" cy="285840"/>
          </a:xfrm>
          <a:custGeom>
            <a:avLst/>
            <a:gdLst/>
            <a:ahLst/>
            <a:rect l="l" t="t" r="r" b="b"/>
            <a:pathLst>
              <a:path w="372" h="180">
                <a:moveTo>
                  <a:pt x="30" y="0"/>
                </a:moveTo>
                <a:lnTo>
                  <a:pt x="0" y="136"/>
                </a:lnTo>
                <a:lnTo>
                  <a:pt x="86" y="162"/>
                </a:lnTo>
                <a:lnTo>
                  <a:pt x="92" y="140"/>
                </a:lnTo>
                <a:lnTo>
                  <a:pt x="226" y="178"/>
                </a:lnTo>
                <a:lnTo>
                  <a:pt x="370" y="180"/>
                </a:lnTo>
                <a:lnTo>
                  <a:pt x="372" y="150"/>
                </a:lnTo>
                <a:lnTo>
                  <a:pt x="366" y="124"/>
                </a:lnTo>
                <a:lnTo>
                  <a:pt x="348" y="102"/>
                </a:lnTo>
                <a:lnTo>
                  <a:pt x="328" y="92"/>
                </a:lnTo>
                <a:lnTo>
                  <a:pt x="290" y="82"/>
                </a:lnTo>
                <a:lnTo>
                  <a:pt x="240" y="64"/>
                </a:lnTo>
                <a:lnTo>
                  <a:pt x="208" y="50"/>
                </a:lnTo>
                <a:lnTo>
                  <a:pt x="208" y="22"/>
                </a:lnTo>
                <a:lnTo>
                  <a:pt x="30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06800" y="4921200"/>
            <a:ext cx="536760" cy="260280"/>
          </a:xfrm>
          <a:custGeom>
            <a:avLst/>
            <a:gdLst/>
            <a:ahLst/>
            <a:rect l="l" t="t" r="r" b="b"/>
            <a:pathLst>
              <a:path w="338" h="164">
                <a:moveTo>
                  <a:pt x="158" y="2"/>
                </a:moveTo>
                <a:lnTo>
                  <a:pt x="156" y="18"/>
                </a:lnTo>
                <a:lnTo>
                  <a:pt x="134" y="22"/>
                </a:lnTo>
                <a:lnTo>
                  <a:pt x="108" y="38"/>
                </a:lnTo>
                <a:lnTo>
                  <a:pt x="88" y="44"/>
                </a:lnTo>
                <a:lnTo>
                  <a:pt x="48" y="56"/>
                </a:lnTo>
                <a:lnTo>
                  <a:pt x="22" y="68"/>
                </a:lnTo>
                <a:lnTo>
                  <a:pt x="8" y="86"/>
                </a:lnTo>
                <a:lnTo>
                  <a:pt x="0" y="108"/>
                </a:lnTo>
                <a:lnTo>
                  <a:pt x="0" y="140"/>
                </a:lnTo>
                <a:lnTo>
                  <a:pt x="0" y="162"/>
                </a:lnTo>
                <a:lnTo>
                  <a:pt x="86" y="164"/>
                </a:lnTo>
                <a:lnTo>
                  <a:pt x="180" y="144"/>
                </a:lnTo>
                <a:lnTo>
                  <a:pt x="280" y="100"/>
                </a:lnTo>
                <a:lnTo>
                  <a:pt x="280" y="126"/>
                </a:lnTo>
                <a:lnTo>
                  <a:pt x="336" y="84"/>
                </a:lnTo>
                <a:lnTo>
                  <a:pt x="338" y="0"/>
                </a:lnTo>
                <a:lnTo>
                  <a:pt x="158" y="2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 rot="85200">
            <a:off x="1699920" y="704880"/>
            <a:ext cx="5572080" cy="5657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Ohm's  Law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266760" y="380880"/>
            <a:ext cx="3752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</a:t>
            </a:r>
            <a:br>
              <a:rPr sz="24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chard Terwilli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76400" y="5353200"/>
            <a:ext cx="3753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chard Terwilli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6" name=""/>
          <p:cNvGrpSpPr/>
          <p:nvPr/>
        </p:nvGrpSpPr>
        <p:grpSpPr>
          <a:xfrm>
            <a:off x="75960" y="3962520"/>
            <a:ext cx="2438640" cy="2675160"/>
            <a:chOff x="75960" y="3962520"/>
            <a:chExt cx="2438640" cy="2675160"/>
          </a:xfrm>
        </p:grpSpPr>
        <p:sp>
          <p:nvSpPr>
            <p:cNvPr id="2007" name=""/>
            <p:cNvSpPr/>
            <p:nvPr/>
          </p:nvSpPr>
          <p:spPr>
            <a:xfrm rot="4200">
              <a:off x="375840" y="5091120"/>
              <a:ext cx="1473120" cy="1295280"/>
            </a:xfrm>
            <a:custGeom>
              <a:avLst/>
              <a:gdLst/>
              <a:ahLst/>
              <a:rect l="l" t="t" r="r" b="b"/>
              <a:pathLst>
                <a:path w="1688" h="1469">
                  <a:moveTo>
                    <a:pt x="60" y="859"/>
                  </a:moveTo>
                  <a:cubicBezTo>
                    <a:pt x="54" y="930"/>
                    <a:pt x="43" y="984"/>
                    <a:pt x="28" y="1050"/>
                  </a:cubicBezTo>
                  <a:cubicBezTo>
                    <a:pt x="25" y="1099"/>
                    <a:pt x="20" y="1147"/>
                    <a:pt x="20" y="1196"/>
                  </a:cubicBezTo>
                  <a:cubicBezTo>
                    <a:pt x="20" y="1374"/>
                    <a:pt x="0" y="1417"/>
                    <a:pt x="132" y="1424"/>
                  </a:cubicBezTo>
                  <a:cubicBezTo>
                    <a:pt x="289" y="1469"/>
                    <a:pt x="327" y="1216"/>
                    <a:pt x="636" y="1224"/>
                  </a:cubicBezTo>
                  <a:cubicBezTo>
                    <a:pt x="1284" y="1176"/>
                    <a:pt x="1224" y="1416"/>
                    <a:pt x="1508" y="1408"/>
                  </a:cubicBezTo>
                  <a:cubicBezTo>
                    <a:pt x="1548" y="1399"/>
                    <a:pt x="1606" y="1339"/>
                    <a:pt x="1644" y="1324"/>
                  </a:cubicBezTo>
                  <a:cubicBezTo>
                    <a:pt x="1652" y="1321"/>
                    <a:pt x="1648" y="1304"/>
                    <a:pt x="1652" y="1297"/>
                  </a:cubicBezTo>
                  <a:cubicBezTo>
                    <a:pt x="1659" y="1282"/>
                    <a:pt x="1668" y="1272"/>
                    <a:pt x="1676" y="1259"/>
                  </a:cubicBezTo>
                  <a:cubicBezTo>
                    <a:pt x="1688" y="1202"/>
                    <a:pt x="1676" y="1159"/>
                    <a:pt x="1660" y="1105"/>
                  </a:cubicBezTo>
                  <a:cubicBezTo>
                    <a:pt x="1649" y="1066"/>
                    <a:pt x="1643" y="1023"/>
                    <a:pt x="1628" y="986"/>
                  </a:cubicBezTo>
                  <a:cubicBezTo>
                    <a:pt x="1622" y="973"/>
                    <a:pt x="1611" y="962"/>
                    <a:pt x="1604" y="950"/>
                  </a:cubicBezTo>
                  <a:cubicBezTo>
                    <a:pt x="1581" y="906"/>
                    <a:pt x="1547" y="872"/>
                    <a:pt x="1520" y="832"/>
                  </a:cubicBezTo>
                  <a:cubicBezTo>
                    <a:pt x="1513" y="799"/>
                    <a:pt x="1498" y="688"/>
                    <a:pt x="1476" y="667"/>
                  </a:cubicBezTo>
                  <a:cubicBezTo>
                    <a:pt x="1469" y="661"/>
                    <a:pt x="1460" y="661"/>
                    <a:pt x="1452" y="658"/>
                  </a:cubicBezTo>
                  <a:cubicBezTo>
                    <a:pt x="1423" y="557"/>
                    <a:pt x="1472" y="706"/>
                    <a:pt x="1420" y="612"/>
                  </a:cubicBezTo>
                  <a:cubicBezTo>
                    <a:pt x="1407" y="588"/>
                    <a:pt x="1401" y="558"/>
                    <a:pt x="1396" y="530"/>
                  </a:cubicBezTo>
                  <a:cubicBezTo>
                    <a:pt x="1382" y="452"/>
                    <a:pt x="1383" y="354"/>
                    <a:pt x="1348" y="284"/>
                  </a:cubicBezTo>
                  <a:cubicBezTo>
                    <a:pt x="1335" y="258"/>
                    <a:pt x="1316" y="235"/>
                    <a:pt x="1300" y="211"/>
                  </a:cubicBezTo>
                  <a:cubicBezTo>
                    <a:pt x="1279" y="140"/>
                    <a:pt x="1267" y="125"/>
                    <a:pt x="1212" y="83"/>
                  </a:cubicBezTo>
                  <a:cubicBezTo>
                    <a:pt x="1198" y="73"/>
                    <a:pt x="1164" y="65"/>
                    <a:pt x="1164" y="65"/>
                  </a:cubicBezTo>
                  <a:cubicBezTo>
                    <a:pt x="1096" y="91"/>
                    <a:pt x="1010" y="87"/>
                    <a:pt x="940" y="92"/>
                  </a:cubicBezTo>
                  <a:cubicBezTo>
                    <a:pt x="822" y="89"/>
                    <a:pt x="675" y="93"/>
                    <a:pt x="548" y="75"/>
                  </a:cubicBezTo>
                  <a:cubicBezTo>
                    <a:pt x="499" y="66"/>
                    <a:pt x="454" y="46"/>
                    <a:pt x="404" y="37"/>
                  </a:cubicBezTo>
                  <a:cubicBezTo>
                    <a:pt x="156" y="49"/>
                    <a:pt x="253" y="0"/>
                    <a:pt x="164" y="102"/>
                  </a:cubicBezTo>
                  <a:cubicBezTo>
                    <a:pt x="146" y="165"/>
                    <a:pt x="134" y="230"/>
                    <a:pt x="116" y="293"/>
                  </a:cubicBezTo>
                  <a:cubicBezTo>
                    <a:pt x="106" y="421"/>
                    <a:pt x="183" y="546"/>
                    <a:pt x="168" y="672"/>
                  </a:cubicBezTo>
                  <a:cubicBezTo>
                    <a:pt x="160" y="739"/>
                    <a:pt x="39" y="787"/>
                    <a:pt x="117" y="918"/>
                  </a:cubicBezTo>
                </a:path>
              </a:pathLst>
            </a:custGeom>
            <a:gradFill rotWithShape="0">
              <a:gsLst>
                <a:gs pos="0">
                  <a:srgbClr val="750075"/>
                </a:gs>
                <a:gs pos="50000">
                  <a:srgbClr val="ff00ff"/>
                </a:gs>
                <a:gs pos="100000">
                  <a:srgbClr val="750075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 flipH="1" rot="4800">
              <a:off x="448920" y="6291360"/>
              <a:ext cx="571320" cy="345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rot="4200">
              <a:off x="642600" y="5716080"/>
              <a:ext cx="1093680" cy="655920"/>
            </a:xfrm>
            <a:custGeom>
              <a:avLst/>
              <a:gdLst/>
              <a:ahLst/>
              <a:rect l="l" t="t" r="r" b="b"/>
              <a:pathLst>
                <a:path w="1175" h="705">
                  <a:moveTo>
                    <a:pt x="88" y="67"/>
                  </a:moveTo>
                  <a:cubicBezTo>
                    <a:pt x="76" y="271"/>
                    <a:pt x="64" y="396"/>
                    <a:pt x="0" y="579"/>
                  </a:cubicBezTo>
                  <a:cubicBezTo>
                    <a:pt x="4" y="600"/>
                    <a:pt x="2" y="623"/>
                    <a:pt x="13" y="642"/>
                  </a:cubicBezTo>
                  <a:cubicBezTo>
                    <a:pt x="26" y="665"/>
                    <a:pt x="80" y="677"/>
                    <a:pt x="100" y="679"/>
                  </a:cubicBezTo>
                  <a:cubicBezTo>
                    <a:pt x="183" y="686"/>
                    <a:pt x="267" y="688"/>
                    <a:pt x="350" y="692"/>
                  </a:cubicBezTo>
                  <a:cubicBezTo>
                    <a:pt x="375" y="688"/>
                    <a:pt x="403" y="692"/>
                    <a:pt x="425" y="679"/>
                  </a:cubicBezTo>
                  <a:cubicBezTo>
                    <a:pt x="436" y="673"/>
                    <a:pt x="432" y="654"/>
                    <a:pt x="438" y="642"/>
                  </a:cubicBezTo>
                  <a:cubicBezTo>
                    <a:pt x="467" y="585"/>
                    <a:pt x="464" y="622"/>
                    <a:pt x="488" y="554"/>
                  </a:cubicBezTo>
                  <a:cubicBezTo>
                    <a:pt x="503" y="513"/>
                    <a:pt x="525" y="429"/>
                    <a:pt x="525" y="429"/>
                  </a:cubicBezTo>
                  <a:cubicBezTo>
                    <a:pt x="539" y="336"/>
                    <a:pt x="515" y="312"/>
                    <a:pt x="600" y="292"/>
                  </a:cubicBezTo>
                  <a:cubicBezTo>
                    <a:pt x="633" y="386"/>
                    <a:pt x="636" y="509"/>
                    <a:pt x="650" y="604"/>
                  </a:cubicBezTo>
                  <a:cubicBezTo>
                    <a:pt x="654" y="634"/>
                    <a:pt x="695" y="649"/>
                    <a:pt x="725" y="654"/>
                  </a:cubicBezTo>
                  <a:cubicBezTo>
                    <a:pt x="859" y="678"/>
                    <a:pt x="933" y="694"/>
                    <a:pt x="1075" y="704"/>
                  </a:cubicBezTo>
                  <a:cubicBezTo>
                    <a:pt x="1104" y="700"/>
                    <a:pt x="1137" y="705"/>
                    <a:pt x="1163" y="692"/>
                  </a:cubicBezTo>
                  <a:cubicBezTo>
                    <a:pt x="1175" y="686"/>
                    <a:pt x="1175" y="667"/>
                    <a:pt x="1175" y="654"/>
                  </a:cubicBezTo>
                  <a:cubicBezTo>
                    <a:pt x="1175" y="463"/>
                    <a:pt x="1163" y="472"/>
                    <a:pt x="1075" y="342"/>
                  </a:cubicBezTo>
                  <a:cubicBezTo>
                    <a:pt x="1071" y="326"/>
                    <a:pt x="1060" y="271"/>
                    <a:pt x="1050" y="254"/>
                  </a:cubicBezTo>
                  <a:cubicBezTo>
                    <a:pt x="1035" y="228"/>
                    <a:pt x="1000" y="179"/>
                    <a:pt x="1000" y="179"/>
                  </a:cubicBezTo>
                  <a:cubicBezTo>
                    <a:pt x="979" y="113"/>
                    <a:pt x="995" y="153"/>
                    <a:pt x="938" y="67"/>
                  </a:cubicBezTo>
                  <a:cubicBezTo>
                    <a:pt x="893" y="0"/>
                    <a:pt x="900" y="78"/>
                    <a:pt x="900" y="17"/>
                  </a:cubicBezTo>
                </a:path>
              </a:pathLst>
            </a:custGeom>
            <a:gradFill rotWithShape="0">
              <a:gsLst>
                <a:gs pos="0">
                  <a:srgbClr val="00cc99"/>
                </a:gs>
                <a:gs pos="50000">
                  <a:srgbClr val="ccecff"/>
                </a:gs>
                <a:gs pos="100000">
                  <a:srgbClr val="00cc99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 rot="4200">
              <a:off x="1310760" y="6342120"/>
              <a:ext cx="617760" cy="291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152280" y="4979880"/>
              <a:ext cx="1495440" cy="1003320"/>
            </a:xfrm>
            <a:custGeom>
              <a:avLst/>
              <a:gdLst/>
              <a:ahLst/>
              <a:rect l="l" t="t" r="r" b="b"/>
              <a:pathLst>
                <a:path w="942" h="632">
                  <a:moveTo>
                    <a:pt x="221" y="159"/>
                  </a:moveTo>
                  <a:cubicBezTo>
                    <a:pt x="211" y="166"/>
                    <a:pt x="202" y="175"/>
                    <a:pt x="190" y="181"/>
                  </a:cubicBezTo>
                  <a:cubicBezTo>
                    <a:pt x="160" y="196"/>
                    <a:pt x="97" y="224"/>
                    <a:pt x="97" y="224"/>
                  </a:cubicBezTo>
                  <a:cubicBezTo>
                    <a:pt x="45" y="279"/>
                    <a:pt x="0" y="295"/>
                    <a:pt x="50" y="367"/>
                  </a:cubicBezTo>
                  <a:cubicBezTo>
                    <a:pt x="58" y="377"/>
                    <a:pt x="81" y="375"/>
                    <a:pt x="97" y="378"/>
                  </a:cubicBezTo>
                  <a:cubicBezTo>
                    <a:pt x="117" y="382"/>
                    <a:pt x="137" y="385"/>
                    <a:pt x="158" y="389"/>
                  </a:cubicBezTo>
                  <a:cubicBezTo>
                    <a:pt x="183" y="385"/>
                    <a:pt x="213" y="388"/>
                    <a:pt x="236" y="378"/>
                  </a:cubicBezTo>
                  <a:cubicBezTo>
                    <a:pt x="250" y="371"/>
                    <a:pt x="243" y="355"/>
                    <a:pt x="252" y="345"/>
                  </a:cubicBezTo>
                  <a:cubicBezTo>
                    <a:pt x="259" y="336"/>
                    <a:pt x="273" y="330"/>
                    <a:pt x="283" y="323"/>
                  </a:cubicBezTo>
                  <a:cubicBezTo>
                    <a:pt x="293" y="334"/>
                    <a:pt x="310" y="343"/>
                    <a:pt x="314" y="356"/>
                  </a:cubicBezTo>
                  <a:cubicBezTo>
                    <a:pt x="381" y="632"/>
                    <a:pt x="158" y="513"/>
                    <a:pt x="855" y="499"/>
                  </a:cubicBezTo>
                  <a:cubicBezTo>
                    <a:pt x="850" y="478"/>
                    <a:pt x="854" y="453"/>
                    <a:pt x="840" y="434"/>
                  </a:cubicBezTo>
                  <a:cubicBezTo>
                    <a:pt x="821" y="407"/>
                    <a:pt x="848" y="339"/>
                    <a:pt x="814" y="323"/>
                  </a:cubicBezTo>
                  <a:cubicBezTo>
                    <a:pt x="804" y="261"/>
                    <a:pt x="806" y="273"/>
                    <a:pt x="802" y="261"/>
                  </a:cubicBezTo>
                  <a:cubicBezTo>
                    <a:pt x="831" y="248"/>
                    <a:pt x="815" y="243"/>
                    <a:pt x="831" y="220"/>
                  </a:cubicBezTo>
                  <a:cubicBezTo>
                    <a:pt x="847" y="197"/>
                    <a:pt x="894" y="155"/>
                    <a:pt x="900" y="121"/>
                  </a:cubicBezTo>
                  <a:cubicBezTo>
                    <a:pt x="890" y="67"/>
                    <a:pt x="942" y="45"/>
                    <a:pt x="870" y="16"/>
                  </a:cubicBezTo>
                  <a:cubicBezTo>
                    <a:pt x="828" y="0"/>
                    <a:pt x="805" y="87"/>
                    <a:pt x="759" y="76"/>
                  </a:cubicBezTo>
                  <a:cubicBezTo>
                    <a:pt x="744" y="72"/>
                    <a:pt x="670" y="127"/>
                    <a:pt x="670" y="127"/>
                  </a:cubicBezTo>
                </a:path>
              </a:pathLst>
            </a:custGeom>
            <a:gradFill rotWithShape="0">
              <a:gsLst>
                <a:gs pos="0">
                  <a:srgbClr val="6c0000"/>
                </a:gs>
                <a:gs pos="50000">
                  <a:srgbClr val="ff0000"/>
                </a:gs>
                <a:gs pos="100000">
                  <a:srgbClr val="6c0000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 rot="4200">
              <a:off x="75960" y="5589360"/>
              <a:ext cx="50472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 flipH="1" rot="16122000">
              <a:off x="1517400" y="4882320"/>
              <a:ext cx="44604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rot="4200">
              <a:off x="777960" y="5268960"/>
              <a:ext cx="595080" cy="428400"/>
            </a:xfrm>
            <a:custGeom>
              <a:avLst/>
              <a:gdLst/>
              <a:ahLst/>
              <a:rect l="l" t="t" r="r" b="b"/>
              <a:pathLst>
                <a:path w="640" h="461">
                  <a:moveTo>
                    <a:pt x="64" y="445"/>
                  </a:moveTo>
                  <a:cubicBezTo>
                    <a:pt x="125" y="442"/>
                    <a:pt x="187" y="442"/>
                    <a:pt x="248" y="437"/>
                  </a:cubicBezTo>
                  <a:cubicBezTo>
                    <a:pt x="259" y="436"/>
                    <a:pt x="276" y="439"/>
                    <a:pt x="280" y="429"/>
                  </a:cubicBezTo>
                  <a:cubicBezTo>
                    <a:pt x="298" y="382"/>
                    <a:pt x="274" y="374"/>
                    <a:pt x="248" y="357"/>
                  </a:cubicBezTo>
                  <a:cubicBezTo>
                    <a:pt x="228" y="297"/>
                    <a:pt x="257" y="369"/>
                    <a:pt x="216" y="317"/>
                  </a:cubicBezTo>
                  <a:cubicBezTo>
                    <a:pt x="210" y="310"/>
                    <a:pt x="188" y="256"/>
                    <a:pt x="184" y="245"/>
                  </a:cubicBezTo>
                  <a:cubicBezTo>
                    <a:pt x="192" y="112"/>
                    <a:pt x="164" y="95"/>
                    <a:pt x="280" y="109"/>
                  </a:cubicBezTo>
                  <a:cubicBezTo>
                    <a:pt x="317" y="121"/>
                    <a:pt x="347" y="145"/>
                    <a:pt x="384" y="157"/>
                  </a:cubicBezTo>
                  <a:cubicBezTo>
                    <a:pt x="457" y="267"/>
                    <a:pt x="415" y="186"/>
                    <a:pt x="424" y="429"/>
                  </a:cubicBezTo>
                  <a:cubicBezTo>
                    <a:pt x="533" y="424"/>
                    <a:pt x="607" y="457"/>
                    <a:pt x="640" y="357"/>
                  </a:cubicBezTo>
                  <a:cubicBezTo>
                    <a:pt x="625" y="269"/>
                    <a:pt x="611" y="293"/>
                    <a:pt x="512" y="285"/>
                  </a:cubicBezTo>
                  <a:cubicBezTo>
                    <a:pt x="485" y="205"/>
                    <a:pt x="475" y="141"/>
                    <a:pt x="408" y="85"/>
                  </a:cubicBezTo>
                  <a:cubicBezTo>
                    <a:pt x="393" y="73"/>
                    <a:pt x="371" y="43"/>
                    <a:pt x="352" y="37"/>
                  </a:cubicBezTo>
                  <a:cubicBezTo>
                    <a:pt x="311" y="24"/>
                    <a:pt x="214" y="11"/>
                    <a:pt x="168" y="5"/>
                  </a:cubicBezTo>
                  <a:cubicBezTo>
                    <a:pt x="141" y="8"/>
                    <a:pt x="88" y="0"/>
                    <a:pt x="64" y="29"/>
                  </a:cubicBezTo>
                  <a:cubicBezTo>
                    <a:pt x="56" y="38"/>
                    <a:pt x="52" y="50"/>
                    <a:pt x="48" y="61"/>
                  </a:cubicBezTo>
                  <a:cubicBezTo>
                    <a:pt x="42" y="77"/>
                    <a:pt x="32" y="109"/>
                    <a:pt x="32" y="109"/>
                  </a:cubicBezTo>
                  <a:cubicBezTo>
                    <a:pt x="37" y="180"/>
                    <a:pt x="22" y="196"/>
                    <a:pt x="56" y="237"/>
                  </a:cubicBezTo>
                  <a:cubicBezTo>
                    <a:pt x="69" y="253"/>
                    <a:pt x="80" y="271"/>
                    <a:pt x="96" y="285"/>
                  </a:cubicBezTo>
                  <a:cubicBezTo>
                    <a:pt x="110" y="298"/>
                    <a:pt x="144" y="317"/>
                    <a:pt x="144" y="317"/>
                  </a:cubicBezTo>
                  <a:cubicBezTo>
                    <a:pt x="177" y="366"/>
                    <a:pt x="162" y="371"/>
                    <a:pt x="104" y="357"/>
                  </a:cubicBezTo>
                  <a:cubicBezTo>
                    <a:pt x="66" y="347"/>
                    <a:pt x="44" y="329"/>
                    <a:pt x="8" y="317"/>
                  </a:cubicBezTo>
                  <a:cubicBezTo>
                    <a:pt x="13" y="374"/>
                    <a:pt x="0" y="429"/>
                    <a:pt x="48" y="461"/>
                  </a:cubicBezTo>
                  <a:cubicBezTo>
                    <a:pt x="86" y="452"/>
                    <a:pt x="90" y="458"/>
                    <a:pt x="64" y="445"/>
                  </a:cubicBezTo>
                  <a:close/>
                </a:path>
              </a:pathLst>
            </a:custGeom>
            <a:solidFill>
              <a:srgbClr val="3333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293760" y="4160880"/>
              <a:ext cx="1211040" cy="1044360"/>
            </a:xfrm>
            <a:custGeom>
              <a:avLst/>
              <a:gdLst/>
              <a:ahLst/>
              <a:rect l="l" t="t" r="r" b="b"/>
              <a:pathLst>
                <a:path w="1050" h="906">
                  <a:moveTo>
                    <a:pt x="521" y="24"/>
                  </a:moveTo>
                  <a:cubicBezTo>
                    <a:pt x="598" y="0"/>
                    <a:pt x="573" y="2"/>
                    <a:pt x="709" y="24"/>
                  </a:cubicBezTo>
                  <a:cubicBezTo>
                    <a:pt x="734" y="28"/>
                    <a:pt x="784" y="48"/>
                    <a:pt x="784" y="48"/>
                  </a:cubicBezTo>
                  <a:cubicBezTo>
                    <a:pt x="864" y="105"/>
                    <a:pt x="820" y="70"/>
                    <a:pt x="910" y="157"/>
                  </a:cubicBezTo>
                  <a:cubicBezTo>
                    <a:pt x="939" y="185"/>
                    <a:pt x="985" y="254"/>
                    <a:pt x="985" y="254"/>
                  </a:cubicBezTo>
                  <a:cubicBezTo>
                    <a:pt x="1021" y="389"/>
                    <a:pt x="1050" y="536"/>
                    <a:pt x="973" y="664"/>
                  </a:cubicBezTo>
                  <a:cubicBezTo>
                    <a:pt x="954" y="697"/>
                    <a:pt x="927" y="767"/>
                    <a:pt x="897" y="785"/>
                  </a:cubicBezTo>
                  <a:cubicBezTo>
                    <a:pt x="847" y="817"/>
                    <a:pt x="805" y="862"/>
                    <a:pt x="747" y="882"/>
                  </a:cubicBezTo>
                  <a:cubicBezTo>
                    <a:pt x="715" y="894"/>
                    <a:pt x="646" y="906"/>
                    <a:pt x="646" y="906"/>
                  </a:cubicBezTo>
                  <a:cubicBezTo>
                    <a:pt x="489" y="898"/>
                    <a:pt x="376" y="886"/>
                    <a:pt x="232" y="846"/>
                  </a:cubicBezTo>
                  <a:cubicBezTo>
                    <a:pt x="153" y="795"/>
                    <a:pt x="100" y="741"/>
                    <a:pt x="69" y="652"/>
                  </a:cubicBezTo>
                  <a:cubicBezTo>
                    <a:pt x="73" y="521"/>
                    <a:pt x="0" y="178"/>
                    <a:pt x="203" y="114"/>
                  </a:cubicBezTo>
                  <a:cubicBezTo>
                    <a:pt x="274" y="46"/>
                    <a:pt x="360" y="62"/>
                    <a:pt x="458" y="48"/>
                  </a:cubicBezTo>
                  <a:cubicBezTo>
                    <a:pt x="537" y="22"/>
                    <a:pt x="560" y="24"/>
                    <a:pt x="521" y="24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 rot="20582400">
              <a:off x="536400" y="4363560"/>
              <a:ext cx="341640" cy="4809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 rot="20582400">
              <a:off x="903240" y="4264200"/>
              <a:ext cx="343080" cy="50796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 rot="8088000">
              <a:off x="601200" y="4390560"/>
              <a:ext cx="751680" cy="70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44" y="1256"/>
                  </a:moveTo>
                  <a:arcTo wR="10800" hR="10800" stAng="-7074784" swAng="7074784"/>
                  <a:lnTo>
                    <a:pt x="10800" y="10800"/>
                  </a:lnTo>
                  <a:close/>
                </a:path>
                <a:path fill="none" w="21600" h="21600">
                  <a:moveTo>
                    <a:pt x="5744" y="1256"/>
                  </a:moveTo>
                  <a:arcTo wR="10800" hR="10800" stAng="-7074784" swAng="707478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 rot="413400">
              <a:off x="907920" y="4773240"/>
              <a:ext cx="184320" cy="1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 rot="413400">
              <a:off x="677880" y="4422240"/>
              <a:ext cx="182520" cy="257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rot="413400">
              <a:off x="1004760" y="4300200"/>
              <a:ext cx="182520" cy="257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rot="448800">
              <a:off x="328320" y="4195800"/>
              <a:ext cx="260280" cy="250920"/>
            </a:xfrm>
            <a:custGeom>
              <a:avLst/>
              <a:gdLst/>
              <a:ahLst/>
              <a:rect l="l" t="t" r="r" b="b"/>
              <a:pathLst>
                <a:path w="273" h="258">
                  <a:moveTo>
                    <a:pt x="273" y="40"/>
                  </a:moveTo>
                  <a:cubicBezTo>
                    <a:pt x="203" y="17"/>
                    <a:pt x="179" y="0"/>
                    <a:pt x="91" y="40"/>
                  </a:cubicBezTo>
                  <a:cubicBezTo>
                    <a:pt x="59" y="54"/>
                    <a:pt x="19" y="201"/>
                    <a:pt x="18" y="204"/>
                  </a:cubicBezTo>
                  <a:cubicBezTo>
                    <a:pt x="12" y="222"/>
                    <a:pt x="0" y="258"/>
                    <a:pt x="0" y="25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rot="448800">
              <a:off x="587160" y="4092480"/>
              <a:ext cx="274320" cy="211320"/>
            </a:xfrm>
            <a:custGeom>
              <a:avLst/>
              <a:gdLst/>
              <a:ahLst/>
              <a:rect l="l" t="t" r="r" b="b"/>
              <a:pathLst>
                <a:path w="290" h="218">
                  <a:moveTo>
                    <a:pt x="0" y="218"/>
                  </a:moveTo>
                  <a:cubicBezTo>
                    <a:pt x="66" y="118"/>
                    <a:pt x="157" y="0"/>
                    <a:pt x="29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rot="448800">
              <a:off x="632880" y="4065480"/>
              <a:ext cx="1800" cy="195480"/>
            </a:xfrm>
            <a:custGeom>
              <a:avLst/>
              <a:gdLst/>
              <a:ahLst/>
              <a:rect l="l" t="t" r="r" b="b"/>
              <a:pathLst>
                <a:path w="1" h="200">
                  <a:moveTo>
                    <a:pt x="0" y="200"/>
                  </a:moveTo>
                  <a:cubicBezTo>
                    <a:pt x="0" y="133"/>
                    <a:pt x="0" y="67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rot="21140400">
              <a:off x="418680" y="4266720"/>
              <a:ext cx="233280" cy="392400"/>
            </a:xfrm>
            <a:custGeom>
              <a:avLst/>
              <a:gdLst/>
              <a:ahLst/>
              <a:rect l="l" t="t" r="r" b="b"/>
              <a:pathLst>
                <a:path w="273" h="400">
                  <a:moveTo>
                    <a:pt x="273" y="0"/>
                  </a:moveTo>
                  <a:cubicBezTo>
                    <a:pt x="198" y="37"/>
                    <a:pt x="150" y="69"/>
                    <a:pt x="91" y="127"/>
                  </a:cubicBezTo>
                  <a:cubicBezTo>
                    <a:pt x="61" y="218"/>
                    <a:pt x="0" y="301"/>
                    <a:pt x="0" y="4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rot="1662000">
              <a:off x="651960" y="4183200"/>
              <a:ext cx="246240" cy="131760"/>
            </a:xfrm>
            <a:custGeom>
              <a:avLst/>
              <a:gdLst/>
              <a:ahLst/>
              <a:rect l="l" t="t" r="r" b="b"/>
              <a:pathLst>
                <a:path w="273" h="109">
                  <a:moveTo>
                    <a:pt x="0" y="109"/>
                  </a:moveTo>
                  <a:cubicBezTo>
                    <a:pt x="12" y="91"/>
                    <a:pt x="17" y="66"/>
                    <a:pt x="36" y="54"/>
                  </a:cubicBezTo>
                  <a:cubicBezTo>
                    <a:pt x="105" y="11"/>
                    <a:pt x="195" y="0"/>
                    <a:pt x="27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1523880" y="3962520"/>
              <a:ext cx="990720" cy="1218960"/>
            </a:xfrm>
            <a:custGeom>
              <a:avLst/>
              <a:gdLst/>
              <a:ahLst/>
              <a:rect l="l" t="t" r="r" b="b"/>
              <a:pathLst>
                <a:path w="624" h="768">
                  <a:moveTo>
                    <a:pt x="0" y="720"/>
                  </a:moveTo>
                  <a:lnTo>
                    <a:pt x="48" y="768"/>
                  </a:lnTo>
                  <a:lnTo>
                    <a:pt x="624" y="0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8" name=""/>
          <p:cNvSpPr/>
          <p:nvPr/>
        </p:nvSpPr>
        <p:spPr>
          <a:xfrm>
            <a:off x="0" y="0"/>
            <a:ext cx="5219640" cy="3048120"/>
          </a:xfrm>
          <a:prstGeom prst="cloudCallout">
            <a:avLst>
              <a:gd name="adj1" fmla="val -41120"/>
              <a:gd name="adj2" fmla="val 71824"/>
            </a:avLst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767040" y="1386000"/>
            <a:ext cx="803520" cy="62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287280" y="1460520"/>
            <a:ext cx="803160" cy="630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1" name=""/>
          <p:cNvGrpSpPr/>
          <p:nvPr/>
        </p:nvGrpSpPr>
        <p:grpSpPr>
          <a:xfrm>
            <a:off x="1195560" y="1668600"/>
            <a:ext cx="2779560" cy="704880"/>
            <a:chOff x="1195560" y="1668600"/>
            <a:chExt cx="2779560" cy="704880"/>
          </a:xfrm>
        </p:grpSpPr>
        <p:sp>
          <p:nvSpPr>
            <p:cNvPr id="2032" name=""/>
            <p:cNvSpPr/>
            <p:nvPr/>
          </p:nvSpPr>
          <p:spPr>
            <a:xfrm>
              <a:off x="2019240" y="203832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2019240" y="2152800"/>
              <a:ext cx="24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2933640" y="2019240"/>
              <a:ext cx="20952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flipH="1">
              <a:off x="2933640" y="2019240"/>
              <a:ext cx="20952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 txBox="1"/>
            <p:nvPr/>
          </p:nvSpPr>
          <p:spPr>
            <a:xfrm>
              <a:off x="1195560" y="1801800"/>
              <a:ext cx="628560" cy="5716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037" name=""/>
            <p:cNvSpPr txBox="1"/>
            <p:nvPr/>
          </p:nvSpPr>
          <p:spPr>
            <a:xfrm>
              <a:off x="2563920" y="1668600"/>
              <a:ext cx="171360" cy="704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038" name=""/>
            <p:cNvSpPr txBox="1"/>
            <p:nvPr/>
          </p:nvSpPr>
          <p:spPr>
            <a:xfrm>
              <a:off x="3306600" y="1811160"/>
              <a:ext cx="668520" cy="5623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 Black"/>
                </a:rPr>
                <a:t>R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039" name=""/>
          <p:cNvSpPr/>
          <p:nvPr/>
        </p:nvSpPr>
        <p:spPr>
          <a:xfrm flipV="1">
            <a:off x="5048280" y="3105000"/>
            <a:ext cx="3543120" cy="2076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5019840" y="2924280"/>
            <a:ext cx="0" cy="22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 flipH="1">
            <a:off x="5009760" y="5181480"/>
            <a:ext cx="375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5410080" y="50608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5805360" y="506880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6200640" y="506088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659592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699120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738648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7781760" y="505764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 flipH="1">
            <a:off x="4902120" y="328608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 flipH="1">
            <a:off x="4905360" y="368136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 flipH="1">
            <a:off x="4905360" y="407664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 flipH="1">
            <a:off x="4905360" y="447192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 flipH="1">
            <a:off x="4905360" y="486720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8191440" y="50767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8586720" y="50767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561708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641700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719820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7979040" y="525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4850280" y="5252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432680" y="498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4348800" y="4229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4348800" y="3461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4263480" y="30405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4348800" y="3835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4348800" y="4636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5357880" y="49338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5738760" y="4705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6510240" y="42577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8091360" y="33242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 txBox="1"/>
          <p:nvPr/>
        </p:nvSpPr>
        <p:spPr>
          <a:xfrm rot="19850400">
            <a:off x="5916600" y="3679920"/>
            <a:ext cx="1601640" cy="352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resistanc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072" name=""/>
          <p:cNvSpPr txBox="1"/>
          <p:nvPr/>
        </p:nvSpPr>
        <p:spPr>
          <a:xfrm>
            <a:off x="2986200" y="4008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(Volts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073" name=""/>
          <p:cNvSpPr txBox="1"/>
          <p:nvPr/>
        </p:nvSpPr>
        <p:spPr>
          <a:xfrm>
            <a:off x="6259680" y="6164280"/>
            <a:ext cx="1238040" cy="380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(Amperes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074" name=""/>
          <p:cNvSpPr txBox="1"/>
          <p:nvPr/>
        </p:nvSpPr>
        <p:spPr>
          <a:xfrm>
            <a:off x="1500120" y="3284640"/>
            <a:ext cx="281952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Potential Differ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075" name=""/>
          <p:cNvSpPr txBox="1"/>
          <p:nvPr/>
        </p:nvSpPr>
        <p:spPr>
          <a:xfrm>
            <a:off x="5916600" y="5573880"/>
            <a:ext cx="1866960" cy="49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Curr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2076" name=""/>
          <p:cNvGrpSpPr/>
          <p:nvPr/>
        </p:nvGrpSpPr>
        <p:grpSpPr>
          <a:xfrm>
            <a:off x="789840" y="592200"/>
            <a:ext cx="3832920" cy="600120"/>
            <a:chOff x="789840" y="592200"/>
            <a:chExt cx="3832920" cy="600120"/>
          </a:xfrm>
        </p:grpSpPr>
        <p:sp>
          <p:nvSpPr>
            <p:cNvPr id="2077" name=""/>
            <p:cNvSpPr/>
            <p:nvPr/>
          </p:nvSpPr>
          <p:spPr>
            <a:xfrm>
              <a:off x="789840" y="65628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asured i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 txBox="1"/>
            <p:nvPr/>
          </p:nvSpPr>
          <p:spPr>
            <a:xfrm>
              <a:off x="2678040" y="592200"/>
              <a:ext cx="1944720" cy="6001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 Black"/>
                </a:rPr>
                <a:t>Ohms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"/>
          <p:cNvSpPr/>
          <p:nvPr/>
        </p:nvSpPr>
        <p:spPr>
          <a:xfrm rot="4200">
            <a:off x="375840" y="5091120"/>
            <a:ext cx="1473120" cy="1295280"/>
          </a:xfrm>
          <a:custGeom>
            <a:avLst/>
            <a:gdLst/>
            <a:ahLst/>
            <a:rect l="l" t="t" r="r" b="b"/>
            <a:pathLst>
              <a:path w="1688" h="1469">
                <a:moveTo>
                  <a:pt x="60" y="859"/>
                </a:moveTo>
                <a:cubicBezTo>
                  <a:pt x="54" y="930"/>
                  <a:pt x="43" y="984"/>
                  <a:pt x="28" y="1050"/>
                </a:cubicBezTo>
                <a:cubicBezTo>
                  <a:pt x="25" y="1099"/>
                  <a:pt x="20" y="1147"/>
                  <a:pt x="20" y="1196"/>
                </a:cubicBezTo>
                <a:cubicBezTo>
                  <a:pt x="20" y="1374"/>
                  <a:pt x="0" y="1417"/>
                  <a:pt x="132" y="1424"/>
                </a:cubicBezTo>
                <a:cubicBezTo>
                  <a:pt x="289" y="1469"/>
                  <a:pt x="327" y="1216"/>
                  <a:pt x="636" y="1224"/>
                </a:cubicBezTo>
                <a:cubicBezTo>
                  <a:pt x="1284" y="1176"/>
                  <a:pt x="1224" y="1416"/>
                  <a:pt x="1508" y="1408"/>
                </a:cubicBezTo>
                <a:cubicBezTo>
                  <a:pt x="1548" y="1399"/>
                  <a:pt x="1606" y="1339"/>
                  <a:pt x="1644" y="1324"/>
                </a:cubicBezTo>
                <a:cubicBezTo>
                  <a:pt x="1652" y="1321"/>
                  <a:pt x="1648" y="1304"/>
                  <a:pt x="1652" y="1297"/>
                </a:cubicBezTo>
                <a:cubicBezTo>
                  <a:pt x="1659" y="1282"/>
                  <a:pt x="1668" y="1272"/>
                  <a:pt x="1676" y="1259"/>
                </a:cubicBezTo>
                <a:cubicBezTo>
                  <a:pt x="1688" y="1202"/>
                  <a:pt x="1676" y="1159"/>
                  <a:pt x="1660" y="1105"/>
                </a:cubicBezTo>
                <a:cubicBezTo>
                  <a:pt x="1649" y="1066"/>
                  <a:pt x="1643" y="1023"/>
                  <a:pt x="1628" y="986"/>
                </a:cubicBezTo>
                <a:cubicBezTo>
                  <a:pt x="1622" y="973"/>
                  <a:pt x="1611" y="962"/>
                  <a:pt x="1604" y="950"/>
                </a:cubicBezTo>
                <a:cubicBezTo>
                  <a:pt x="1581" y="906"/>
                  <a:pt x="1547" y="872"/>
                  <a:pt x="1520" y="832"/>
                </a:cubicBezTo>
                <a:cubicBezTo>
                  <a:pt x="1513" y="799"/>
                  <a:pt x="1498" y="688"/>
                  <a:pt x="1476" y="667"/>
                </a:cubicBezTo>
                <a:cubicBezTo>
                  <a:pt x="1469" y="661"/>
                  <a:pt x="1460" y="661"/>
                  <a:pt x="1452" y="658"/>
                </a:cubicBezTo>
                <a:cubicBezTo>
                  <a:pt x="1423" y="557"/>
                  <a:pt x="1472" y="706"/>
                  <a:pt x="1420" y="612"/>
                </a:cubicBezTo>
                <a:cubicBezTo>
                  <a:pt x="1407" y="588"/>
                  <a:pt x="1401" y="558"/>
                  <a:pt x="1396" y="530"/>
                </a:cubicBezTo>
                <a:cubicBezTo>
                  <a:pt x="1382" y="452"/>
                  <a:pt x="1383" y="354"/>
                  <a:pt x="1348" y="284"/>
                </a:cubicBezTo>
                <a:cubicBezTo>
                  <a:pt x="1335" y="258"/>
                  <a:pt x="1316" y="235"/>
                  <a:pt x="1300" y="211"/>
                </a:cubicBezTo>
                <a:cubicBezTo>
                  <a:pt x="1279" y="140"/>
                  <a:pt x="1267" y="125"/>
                  <a:pt x="1212" y="83"/>
                </a:cubicBezTo>
                <a:cubicBezTo>
                  <a:pt x="1198" y="73"/>
                  <a:pt x="1164" y="65"/>
                  <a:pt x="1164" y="65"/>
                </a:cubicBezTo>
                <a:cubicBezTo>
                  <a:pt x="1096" y="91"/>
                  <a:pt x="1010" y="87"/>
                  <a:pt x="940" y="92"/>
                </a:cubicBezTo>
                <a:cubicBezTo>
                  <a:pt x="822" y="89"/>
                  <a:pt x="675" y="93"/>
                  <a:pt x="548" y="75"/>
                </a:cubicBezTo>
                <a:cubicBezTo>
                  <a:pt x="499" y="66"/>
                  <a:pt x="454" y="46"/>
                  <a:pt x="404" y="37"/>
                </a:cubicBezTo>
                <a:cubicBezTo>
                  <a:pt x="156" y="49"/>
                  <a:pt x="253" y="0"/>
                  <a:pt x="164" y="102"/>
                </a:cubicBezTo>
                <a:cubicBezTo>
                  <a:pt x="146" y="165"/>
                  <a:pt x="134" y="230"/>
                  <a:pt x="116" y="293"/>
                </a:cubicBezTo>
                <a:cubicBezTo>
                  <a:pt x="106" y="421"/>
                  <a:pt x="183" y="546"/>
                  <a:pt x="168" y="672"/>
                </a:cubicBezTo>
                <a:cubicBezTo>
                  <a:pt x="160" y="739"/>
                  <a:pt x="39" y="787"/>
                  <a:pt x="117" y="918"/>
                </a:cubicBezTo>
              </a:path>
            </a:pathLst>
          </a:custGeom>
          <a:gradFill rotWithShape="0">
            <a:gsLst>
              <a:gs pos="0">
                <a:srgbClr val="750075"/>
              </a:gs>
              <a:gs pos="50000">
                <a:srgbClr val="ff00ff"/>
              </a:gs>
              <a:gs pos="100000">
                <a:srgbClr val="750075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 flipH="1" rot="4800">
            <a:off x="448920" y="6291360"/>
            <a:ext cx="571320" cy="345960"/>
          </a:xfrm>
          <a:custGeom>
            <a:avLst/>
            <a:gdLst/>
            <a:ahLst/>
            <a:rect l="l" t="t" r="r" b="b"/>
            <a:pathLst>
              <a:path w="599" h="265">
                <a:moveTo>
                  <a:pt x="42" y="0"/>
                </a:moveTo>
                <a:cubicBezTo>
                  <a:pt x="23" y="59"/>
                  <a:pt x="0" y="96"/>
                  <a:pt x="30" y="163"/>
                </a:cubicBezTo>
                <a:cubicBezTo>
                  <a:pt x="35" y="175"/>
                  <a:pt x="113" y="211"/>
                  <a:pt x="117" y="213"/>
                </a:cubicBezTo>
                <a:cubicBezTo>
                  <a:pt x="203" y="249"/>
                  <a:pt x="301" y="247"/>
                  <a:pt x="392" y="263"/>
                </a:cubicBezTo>
                <a:cubicBezTo>
                  <a:pt x="455" y="259"/>
                  <a:pt x="519" y="265"/>
                  <a:pt x="580" y="250"/>
                </a:cubicBezTo>
                <a:cubicBezTo>
                  <a:pt x="594" y="247"/>
                  <a:pt x="599" y="175"/>
                  <a:pt x="580" y="150"/>
                </a:cubicBezTo>
                <a:cubicBezTo>
                  <a:pt x="537" y="94"/>
                  <a:pt x="490" y="98"/>
                  <a:pt x="430" y="88"/>
                </a:cubicBezTo>
                <a:cubicBezTo>
                  <a:pt x="395" y="65"/>
                  <a:pt x="372" y="50"/>
                  <a:pt x="330" y="5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 rot="4200">
            <a:off x="642600" y="5716080"/>
            <a:ext cx="1093680" cy="655920"/>
          </a:xfrm>
          <a:custGeom>
            <a:avLst/>
            <a:gdLst/>
            <a:ahLst/>
            <a:rect l="l" t="t" r="r" b="b"/>
            <a:pathLst>
              <a:path w="1175" h="705">
                <a:moveTo>
                  <a:pt x="88" y="67"/>
                </a:moveTo>
                <a:cubicBezTo>
                  <a:pt x="76" y="271"/>
                  <a:pt x="64" y="396"/>
                  <a:pt x="0" y="579"/>
                </a:cubicBezTo>
                <a:cubicBezTo>
                  <a:pt x="4" y="600"/>
                  <a:pt x="2" y="623"/>
                  <a:pt x="13" y="642"/>
                </a:cubicBezTo>
                <a:cubicBezTo>
                  <a:pt x="26" y="665"/>
                  <a:pt x="80" y="677"/>
                  <a:pt x="100" y="679"/>
                </a:cubicBezTo>
                <a:cubicBezTo>
                  <a:pt x="183" y="686"/>
                  <a:pt x="267" y="688"/>
                  <a:pt x="350" y="692"/>
                </a:cubicBezTo>
                <a:cubicBezTo>
                  <a:pt x="375" y="688"/>
                  <a:pt x="403" y="692"/>
                  <a:pt x="425" y="679"/>
                </a:cubicBezTo>
                <a:cubicBezTo>
                  <a:pt x="436" y="673"/>
                  <a:pt x="432" y="654"/>
                  <a:pt x="438" y="642"/>
                </a:cubicBezTo>
                <a:cubicBezTo>
                  <a:pt x="467" y="585"/>
                  <a:pt x="464" y="622"/>
                  <a:pt x="488" y="554"/>
                </a:cubicBezTo>
                <a:cubicBezTo>
                  <a:pt x="503" y="513"/>
                  <a:pt x="525" y="429"/>
                  <a:pt x="525" y="429"/>
                </a:cubicBezTo>
                <a:cubicBezTo>
                  <a:pt x="539" y="336"/>
                  <a:pt x="515" y="312"/>
                  <a:pt x="600" y="292"/>
                </a:cubicBezTo>
                <a:cubicBezTo>
                  <a:pt x="633" y="386"/>
                  <a:pt x="636" y="509"/>
                  <a:pt x="650" y="604"/>
                </a:cubicBezTo>
                <a:cubicBezTo>
                  <a:pt x="654" y="634"/>
                  <a:pt x="695" y="649"/>
                  <a:pt x="725" y="654"/>
                </a:cubicBezTo>
                <a:cubicBezTo>
                  <a:pt x="859" y="678"/>
                  <a:pt x="933" y="694"/>
                  <a:pt x="1075" y="704"/>
                </a:cubicBezTo>
                <a:cubicBezTo>
                  <a:pt x="1104" y="700"/>
                  <a:pt x="1137" y="705"/>
                  <a:pt x="1163" y="692"/>
                </a:cubicBezTo>
                <a:cubicBezTo>
                  <a:pt x="1175" y="686"/>
                  <a:pt x="1175" y="667"/>
                  <a:pt x="1175" y="654"/>
                </a:cubicBezTo>
                <a:cubicBezTo>
                  <a:pt x="1175" y="463"/>
                  <a:pt x="1163" y="472"/>
                  <a:pt x="1075" y="342"/>
                </a:cubicBezTo>
                <a:cubicBezTo>
                  <a:pt x="1071" y="326"/>
                  <a:pt x="1060" y="271"/>
                  <a:pt x="1050" y="254"/>
                </a:cubicBezTo>
                <a:cubicBezTo>
                  <a:pt x="1035" y="228"/>
                  <a:pt x="1000" y="179"/>
                  <a:pt x="1000" y="179"/>
                </a:cubicBezTo>
                <a:cubicBezTo>
                  <a:pt x="979" y="113"/>
                  <a:pt x="995" y="153"/>
                  <a:pt x="938" y="67"/>
                </a:cubicBezTo>
                <a:cubicBezTo>
                  <a:pt x="893" y="0"/>
                  <a:pt x="900" y="78"/>
                  <a:pt x="900" y="17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50000">
                <a:srgbClr val="ccecff"/>
              </a:gs>
              <a:gs pos="100000">
                <a:srgbClr val="00cc99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 rot="4200">
            <a:off x="1310760" y="6342120"/>
            <a:ext cx="617760" cy="291960"/>
          </a:xfrm>
          <a:custGeom>
            <a:avLst/>
            <a:gdLst/>
            <a:ahLst/>
            <a:rect l="l" t="t" r="r" b="b"/>
            <a:pathLst>
              <a:path w="599" h="265">
                <a:moveTo>
                  <a:pt x="42" y="0"/>
                </a:moveTo>
                <a:cubicBezTo>
                  <a:pt x="23" y="59"/>
                  <a:pt x="0" y="96"/>
                  <a:pt x="30" y="163"/>
                </a:cubicBezTo>
                <a:cubicBezTo>
                  <a:pt x="35" y="175"/>
                  <a:pt x="113" y="211"/>
                  <a:pt x="117" y="213"/>
                </a:cubicBezTo>
                <a:cubicBezTo>
                  <a:pt x="203" y="249"/>
                  <a:pt x="301" y="247"/>
                  <a:pt x="392" y="263"/>
                </a:cubicBezTo>
                <a:cubicBezTo>
                  <a:pt x="455" y="259"/>
                  <a:pt x="519" y="265"/>
                  <a:pt x="580" y="250"/>
                </a:cubicBezTo>
                <a:cubicBezTo>
                  <a:pt x="594" y="247"/>
                  <a:pt x="599" y="175"/>
                  <a:pt x="580" y="150"/>
                </a:cubicBezTo>
                <a:cubicBezTo>
                  <a:pt x="537" y="94"/>
                  <a:pt x="490" y="98"/>
                  <a:pt x="430" y="88"/>
                </a:cubicBezTo>
                <a:cubicBezTo>
                  <a:pt x="395" y="65"/>
                  <a:pt x="372" y="50"/>
                  <a:pt x="330" y="50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152280" y="4979880"/>
            <a:ext cx="1495440" cy="1003320"/>
          </a:xfrm>
          <a:custGeom>
            <a:avLst/>
            <a:gdLst/>
            <a:ahLst/>
            <a:rect l="l" t="t" r="r" b="b"/>
            <a:pathLst>
              <a:path w="942" h="632">
                <a:moveTo>
                  <a:pt x="221" y="159"/>
                </a:moveTo>
                <a:cubicBezTo>
                  <a:pt x="211" y="166"/>
                  <a:pt x="202" y="175"/>
                  <a:pt x="190" y="181"/>
                </a:cubicBezTo>
                <a:cubicBezTo>
                  <a:pt x="160" y="196"/>
                  <a:pt x="97" y="224"/>
                  <a:pt x="97" y="224"/>
                </a:cubicBezTo>
                <a:cubicBezTo>
                  <a:pt x="45" y="279"/>
                  <a:pt x="0" y="295"/>
                  <a:pt x="50" y="367"/>
                </a:cubicBezTo>
                <a:cubicBezTo>
                  <a:pt x="58" y="377"/>
                  <a:pt x="81" y="375"/>
                  <a:pt x="97" y="378"/>
                </a:cubicBezTo>
                <a:cubicBezTo>
                  <a:pt x="117" y="382"/>
                  <a:pt x="137" y="385"/>
                  <a:pt x="158" y="389"/>
                </a:cubicBezTo>
                <a:cubicBezTo>
                  <a:pt x="183" y="385"/>
                  <a:pt x="213" y="388"/>
                  <a:pt x="236" y="378"/>
                </a:cubicBezTo>
                <a:cubicBezTo>
                  <a:pt x="250" y="371"/>
                  <a:pt x="243" y="355"/>
                  <a:pt x="252" y="345"/>
                </a:cubicBezTo>
                <a:cubicBezTo>
                  <a:pt x="259" y="336"/>
                  <a:pt x="273" y="330"/>
                  <a:pt x="283" y="323"/>
                </a:cubicBezTo>
                <a:cubicBezTo>
                  <a:pt x="293" y="334"/>
                  <a:pt x="310" y="343"/>
                  <a:pt x="314" y="356"/>
                </a:cubicBezTo>
                <a:cubicBezTo>
                  <a:pt x="381" y="632"/>
                  <a:pt x="158" y="513"/>
                  <a:pt x="855" y="499"/>
                </a:cubicBezTo>
                <a:cubicBezTo>
                  <a:pt x="850" y="478"/>
                  <a:pt x="854" y="453"/>
                  <a:pt x="840" y="434"/>
                </a:cubicBezTo>
                <a:cubicBezTo>
                  <a:pt x="821" y="407"/>
                  <a:pt x="848" y="339"/>
                  <a:pt x="814" y="323"/>
                </a:cubicBezTo>
                <a:cubicBezTo>
                  <a:pt x="804" y="261"/>
                  <a:pt x="806" y="273"/>
                  <a:pt x="802" y="261"/>
                </a:cubicBezTo>
                <a:cubicBezTo>
                  <a:pt x="831" y="248"/>
                  <a:pt x="815" y="243"/>
                  <a:pt x="831" y="220"/>
                </a:cubicBezTo>
                <a:cubicBezTo>
                  <a:pt x="847" y="197"/>
                  <a:pt x="894" y="155"/>
                  <a:pt x="900" y="121"/>
                </a:cubicBezTo>
                <a:cubicBezTo>
                  <a:pt x="890" y="67"/>
                  <a:pt x="942" y="45"/>
                  <a:pt x="870" y="16"/>
                </a:cubicBezTo>
                <a:cubicBezTo>
                  <a:pt x="828" y="0"/>
                  <a:pt x="805" y="87"/>
                  <a:pt x="759" y="76"/>
                </a:cubicBezTo>
                <a:cubicBezTo>
                  <a:pt x="744" y="72"/>
                  <a:pt x="670" y="127"/>
                  <a:pt x="670" y="127"/>
                </a:cubicBezTo>
              </a:path>
            </a:pathLst>
          </a:custGeom>
          <a:gradFill rotWithShape="0">
            <a:gsLst>
              <a:gs pos="0">
                <a:srgbClr val="6c0000"/>
              </a:gs>
              <a:gs pos="50000">
                <a:srgbClr val="ff0000"/>
              </a:gs>
              <a:gs pos="100000">
                <a:srgbClr val="6c0000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 rot="4200">
            <a:off x="75960" y="5589360"/>
            <a:ext cx="50472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 flipH="1" rot="16122000">
            <a:off x="1517400" y="4882320"/>
            <a:ext cx="44604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 rot="4200">
            <a:off x="777960" y="5268960"/>
            <a:ext cx="595080" cy="428400"/>
          </a:xfrm>
          <a:custGeom>
            <a:avLst/>
            <a:gdLst/>
            <a:ahLst/>
            <a:rect l="l" t="t" r="r" b="b"/>
            <a:pathLst>
              <a:path w="640" h="461">
                <a:moveTo>
                  <a:pt x="64" y="445"/>
                </a:moveTo>
                <a:cubicBezTo>
                  <a:pt x="125" y="442"/>
                  <a:pt x="187" y="442"/>
                  <a:pt x="248" y="437"/>
                </a:cubicBezTo>
                <a:cubicBezTo>
                  <a:pt x="259" y="436"/>
                  <a:pt x="276" y="439"/>
                  <a:pt x="280" y="429"/>
                </a:cubicBezTo>
                <a:cubicBezTo>
                  <a:pt x="298" y="382"/>
                  <a:pt x="274" y="374"/>
                  <a:pt x="248" y="357"/>
                </a:cubicBezTo>
                <a:cubicBezTo>
                  <a:pt x="228" y="297"/>
                  <a:pt x="257" y="369"/>
                  <a:pt x="216" y="317"/>
                </a:cubicBezTo>
                <a:cubicBezTo>
                  <a:pt x="210" y="310"/>
                  <a:pt x="188" y="256"/>
                  <a:pt x="184" y="245"/>
                </a:cubicBezTo>
                <a:cubicBezTo>
                  <a:pt x="192" y="112"/>
                  <a:pt x="164" y="95"/>
                  <a:pt x="280" y="109"/>
                </a:cubicBezTo>
                <a:cubicBezTo>
                  <a:pt x="317" y="121"/>
                  <a:pt x="347" y="145"/>
                  <a:pt x="384" y="157"/>
                </a:cubicBezTo>
                <a:cubicBezTo>
                  <a:pt x="457" y="267"/>
                  <a:pt x="415" y="186"/>
                  <a:pt x="424" y="429"/>
                </a:cubicBezTo>
                <a:cubicBezTo>
                  <a:pt x="533" y="424"/>
                  <a:pt x="607" y="457"/>
                  <a:pt x="640" y="357"/>
                </a:cubicBezTo>
                <a:cubicBezTo>
                  <a:pt x="625" y="269"/>
                  <a:pt x="611" y="293"/>
                  <a:pt x="512" y="285"/>
                </a:cubicBezTo>
                <a:cubicBezTo>
                  <a:pt x="485" y="205"/>
                  <a:pt x="475" y="141"/>
                  <a:pt x="408" y="85"/>
                </a:cubicBezTo>
                <a:cubicBezTo>
                  <a:pt x="393" y="73"/>
                  <a:pt x="371" y="43"/>
                  <a:pt x="352" y="37"/>
                </a:cubicBezTo>
                <a:cubicBezTo>
                  <a:pt x="311" y="24"/>
                  <a:pt x="214" y="11"/>
                  <a:pt x="168" y="5"/>
                </a:cubicBezTo>
                <a:cubicBezTo>
                  <a:pt x="141" y="8"/>
                  <a:pt x="88" y="0"/>
                  <a:pt x="64" y="29"/>
                </a:cubicBezTo>
                <a:cubicBezTo>
                  <a:pt x="56" y="38"/>
                  <a:pt x="52" y="50"/>
                  <a:pt x="48" y="61"/>
                </a:cubicBezTo>
                <a:cubicBezTo>
                  <a:pt x="42" y="77"/>
                  <a:pt x="32" y="109"/>
                  <a:pt x="32" y="109"/>
                </a:cubicBezTo>
                <a:cubicBezTo>
                  <a:pt x="37" y="180"/>
                  <a:pt x="22" y="196"/>
                  <a:pt x="56" y="237"/>
                </a:cubicBezTo>
                <a:cubicBezTo>
                  <a:pt x="69" y="253"/>
                  <a:pt x="80" y="271"/>
                  <a:pt x="96" y="285"/>
                </a:cubicBezTo>
                <a:cubicBezTo>
                  <a:pt x="110" y="298"/>
                  <a:pt x="144" y="317"/>
                  <a:pt x="144" y="317"/>
                </a:cubicBezTo>
                <a:cubicBezTo>
                  <a:pt x="177" y="366"/>
                  <a:pt x="162" y="371"/>
                  <a:pt x="104" y="357"/>
                </a:cubicBezTo>
                <a:cubicBezTo>
                  <a:pt x="66" y="347"/>
                  <a:pt x="44" y="329"/>
                  <a:pt x="8" y="317"/>
                </a:cubicBezTo>
                <a:cubicBezTo>
                  <a:pt x="13" y="374"/>
                  <a:pt x="0" y="429"/>
                  <a:pt x="48" y="461"/>
                </a:cubicBezTo>
                <a:cubicBezTo>
                  <a:pt x="86" y="452"/>
                  <a:pt x="90" y="458"/>
                  <a:pt x="64" y="445"/>
                </a:cubicBezTo>
                <a:close/>
              </a:path>
            </a:pathLst>
          </a:custGeom>
          <a:solidFill>
            <a:srgbClr val="3333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293760" y="4160880"/>
            <a:ext cx="1211040" cy="1044360"/>
          </a:xfrm>
          <a:custGeom>
            <a:avLst/>
            <a:gdLst/>
            <a:ahLst/>
            <a:rect l="l" t="t" r="r" b="b"/>
            <a:pathLst>
              <a:path w="1050" h="906">
                <a:moveTo>
                  <a:pt x="521" y="24"/>
                </a:moveTo>
                <a:cubicBezTo>
                  <a:pt x="598" y="0"/>
                  <a:pt x="573" y="2"/>
                  <a:pt x="709" y="24"/>
                </a:cubicBezTo>
                <a:cubicBezTo>
                  <a:pt x="734" y="28"/>
                  <a:pt x="784" y="48"/>
                  <a:pt x="784" y="48"/>
                </a:cubicBezTo>
                <a:cubicBezTo>
                  <a:pt x="864" y="105"/>
                  <a:pt x="820" y="70"/>
                  <a:pt x="910" y="157"/>
                </a:cubicBezTo>
                <a:cubicBezTo>
                  <a:pt x="939" y="185"/>
                  <a:pt x="985" y="254"/>
                  <a:pt x="985" y="254"/>
                </a:cubicBezTo>
                <a:cubicBezTo>
                  <a:pt x="1021" y="389"/>
                  <a:pt x="1050" y="536"/>
                  <a:pt x="973" y="664"/>
                </a:cubicBezTo>
                <a:cubicBezTo>
                  <a:pt x="954" y="697"/>
                  <a:pt x="927" y="767"/>
                  <a:pt x="897" y="785"/>
                </a:cubicBezTo>
                <a:cubicBezTo>
                  <a:pt x="847" y="817"/>
                  <a:pt x="805" y="862"/>
                  <a:pt x="747" y="882"/>
                </a:cubicBezTo>
                <a:cubicBezTo>
                  <a:pt x="715" y="894"/>
                  <a:pt x="646" y="906"/>
                  <a:pt x="646" y="906"/>
                </a:cubicBezTo>
                <a:cubicBezTo>
                  <a:pt x="489" y="898"/>
                  <a:pt x="376" y="886"/>
                  <a:pt x="232" y="846"/>
                </a:cubicBezTo>
                <a:cubicBezTo>
                  <a:pt x="153" y="795"/>
                  <a:pt x="100" y="741"/>
                  <a:pt x="69" y="652"/>
                </a:cubicBezTo>
                <a:cubicBezTo>
                  <a:pt x="73" y="521"/>
                  <a:pt x="0" y="178"/>
                  <a:pt x="203" y="114"/>
                </a:cubicBezTo>
                <a:cubicBezTo>
                  <a:pt x="274" y="46"/>
                  <a:pt x="360" y="62"/>
                  <a:pt x="458" y="48"/>
                </a:cubicBezTo>
                <a:cubicBezTo>
                  <a:pt x="537" y="22"/>
                  <a:pt x="560" y="24"/>
                  <a:pt x="521" y="24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 rot="20582400">
            <a:off x="536400" y="4363560"/>
            <a:ext cx="341640" cy="48096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 rot="20582400">
            <a:off x="903240" y="4264200"/>
            <a:ext cx="343080" cy="50796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 rot="8088000">
            <a:off x="601200" y="4390560"/>
            <a:ext cx="751680" cy="70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744" y="1256"/>
                </a:moveTo>
                <a:arcTo wR="10800" hR="10800" stAng="-7074784" swAng="7074784"/>
                <a:lnTo>
                  <a:pt x="10800" y="10800"/>
                </a:lnTo>
                <a:close/>
              </a:path>
              <a:path fill="none" w="21600" h="21600">
                <a:moveTo>
                  <a:pt x="5744" y="1256"/>
                </a:moveTo>
                <a:arcTo wR="10800" hR="10800" stAng="-7074784" swAng="707478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 rot="413400">
            <a:off x="907920" y="4773240"/>
            <a:ext cx="184320" cy="185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 rot="413400">
            <a:off x="677880" y="4422240"/>
            <a:ext cx="182520" cy="2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 rot="413400">
            <a:off x="1004760" y="4300200"/>
            <a:ext cx="182520" cy="257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 rot="448800">
            <a:off x="328320" y="4195800"/>
            <a:ext cx="260280" cy="250920"/>
          </a:xfrm>
          <a:custGeom>
            <a:avLst/>
            <a:gdLst/>
            <a:ahLst/>
            <a:rect l="l" t="t" r="r" b="b"/>
            <a:pathLst>
              <a:path w="273" h="258">
                <a:moveTo>
                  <a:pt x="273" y="40"/>
                </a:moveTo>
                <a:cubicBezTo>
                  <a:pt x="203" y="17"/>
                  <a:pt x="179" y="0"/>
                  <a:pt x="91" y="40"/>
                </a:cubicBezTo>
                <a:cubicBezTo>
                  <a:pt x="59" y="54"/>
                  <a:pt x="19" y="201"/>
                  <a:pt x="18" y="204"/>
                </a:cubicBezTo>
                <a:cubicBezTo>
                  <a:pt x="12" y="222"/>
                  <a:pt x="0" y="258"/>
                  <a:pt x="0" y="25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 rot="448800">
            <a:off x="587160" y="4092480"/>
            <a:ext cx="274320" cy="211320"/>
          </a:xfrm>
          <a:custGeom>
            <a:avLst/>
            <a:gdLst/>
            <a:ahLst/>
            <a:rect l="l" t="t" r="r" b="b"/>
            <a:pathLst>
              <a:path w="290" h="218">
                <a:moveTo>
                  <a:pt x="0" y="218"/>
                </a:moveTo>
                <a:cubicBezTo>
                  <a:pt x="66" y="118"/>
                  <a:pt x="157" y="0"/>
                  <a:pt x="29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 rot="448800">
            <a:off x="632880" y="4065480"/>
            <a:ext cx="1800" cy="195480"/>
          </a:xfrm>
          <a:custGeom>
            <a:avLst/>
            <a:gdLst/>
            <a:ahLst/>
            <a:rect l="l" t="t" r="r" b="b"/>
            <a:pathLst>
              <a:path w="1" h="200">
                <a:moveTo>
                  <a:pt x="0" y="200"/>
                </a:moveTo>
                <a:cubicBezTo>
                  <a:pt x="0" y="133"/>
                  <a:pt x="0" y="67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 rot="21140400">
            <a:off x="418680" y="4266720"/>
            <a:ext cx="233280" cy="392400"/>
          </a:xfrm>
          <a:custGeom>
            <a:avLst/>
            <a:gdLst/>
            <a:ahLst/>
            <a:rect l="l" t="t" r="r" b="b"/>
            <a:pathLst>
              <a:path w="273" h="400">
                <a:moveTo>
                  <a:pt x="273" y="0"/>
                </a:moveTo>
                <a:cubicBezTo>
                  <a:pt x="198" y="37"/>
                  <a:pt x="150" y="69"/>
                  <a:pt x="91" y="127"/>
                </a:cubicBezTo>
                <a:cubicBezTo>
                  <a:pt x="61" y="218"/>
                  <a:pt x="0" y="301"/>
                  <a:pt x="0" y="4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 rot="1662000">
            <a:off x="651960" y="4183200"/>
            <a:ext cx="246240" cy="131760"/>
          </a:xfrm>
          <a:custGeom>
            <a:avLst/>
            <a:gdLst/>
            <a:ahLst/>
            <a:rect l="l" t="t" r="r" b="b"/>
            <a:pathLst>
              <a:path w="273" h="109">
                <a:moveTo>
                  <a:pt x="0" y="109"/>
                </a:moveTo>
                <a:cubicBezTo>
                  <a:pt x="12" y="91"/>
                  <a:pt x="17" y="66"/>
                  <a:pt x="36" y="54"/>
                </a:cubicBezTo>
                <a:cubicBezTo>
                  <a:pt x="105" y="11"/>
                  <a:pt x="195" y="0"/>
                  <a:pt x="273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 rot="2318400">
            <a:off x="1771200" y="4209840"/>
            <a:ext cx="990720" cy="1218960"/>
          </a:xfrm>
          <a:custGeom>
            <a:avLst/>
            <a:gdLst/>
            <a:ahLst/>
            <a:rect l="l" t="t" r="r" b="b"/>
            <a:pathLst>
              <a:path w="624" h="768">
                <a:moveTo>
                  <a:pt x="0" y="720"/>
                </a:moveTo>
                <a:lnTo>
                  <a:pt x="48" y="768"/>
                </a:lnTo>
                <a:lnTo>
                  <a:pt x="624" y="0"/>
                </a:lnTo>
                <a:lnTo>
                  <a:pt x="0" y="72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495360" y="266760"/>
            <a:ext cx="5219640" cy="3048120"/>
          </a:xfrm>
          <a:prstGeom prst="cloudCallout">
            <a:avLst>
              <a:gd name="adj1" fmla="val -41120"/>
              <a:gd name="adj2" fmla="val 71824"/>
            </a:avLst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4281480" y="1633680"/>
            <a:ext cx="803160" cy="62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738360" y="1709640"/>
            <a:ext cx="803160" cy="628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1684440" y="1090440"/>
            <a:ext cx="282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m’s L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easy to work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remember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4" name=""/>
          <p:cNvGrpSpPr/>
          <p:nvPr/>
        </p:nvGrpSpPr>
        <p:grpSpPr>
          <a:xfrm>
            <a:off x="4572000" y="2781360"/>
            <a:ext cx="2687760" cy="2743200"/>
            <a:chOff x="4572000" y="2781360"/>
            <a:chExt cx="2687760" cy="2743200"/>
          </a:xfrm>
        </p:grpSpPr>
        <p:sp>
          <p:nvSpPr>
            <p:cNvPr id="2105" name=""/>
            <p:cNvSpPr/>
            <p:nvPr/>
          </p:nvSpPr>
          <p:spPr>
            <a:xfrm>
              <a:off x="4572000" y="2781360"/>
              <a:ext cx="2687760" cy="2743200"/>
            </a:xfrm>
            <a:prstGeom prst="ellipse">
              <a:avLst/>
            </a:prstGeom>
            <a:solidFill>
              <a:srgbClr val="ff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4572000" y="4152960"/>
              <a:ext cx="268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flipV="1">
              <a:off x="5916600" y="4138560"/>
              <a:ext cx="0" cy="13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 txBox="1"/>
            <p:nvPr/>
          </p:nvSpPr>
          <p:spPr>
            <a:xfrm>
              <a:off x="5610240" y="3117960"/>
              <a:ext cx="569880" cy="8175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109" name=""/>
            <p:cNvSpPr txBox="1"/>
            <p:nvPr/>
          </p:nvSpPr>
          <p:spPr>
            <a:xfrm>
              <a:off x="5246640" y="4357800"/>
              <a:ext cx="193680" cy="671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110" name=""/>
            <p:cNvSpPr txBox="1"/>
            <p:nvPr/>
          </p:nvSpPr>
          <p:spPr>
            <a:xfrm>
              <a:off x="6188040" y="4348080"/>
              <a:ext cx="574560" cy="6732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2152"/>
                      </a:gs>
                      <a:gs pos="50000">
                        <a:srgbClr val="0066ff"/>
                      </a:gs>
                      <a:gs pos="100000">
                        <a:srgbClr val="002152"/>
                      </a:gs>
                    </a:gsLst>
                    <a:lin ang="5400000"/>
                  </a:gradFill>
                  <a:latin typeface="Arial Black"/>
                </a:rPr>
                <a:t>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2152"/>
                    </a:gs>
                    <a:gs pos="50000">
                      <a:srgbClr val="0066ff"/>
                    </a:gs>
                    <a:gs pos="100000">
                      <a:srgbClr val="002152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"/>
          <p:cNvSpPr/>
          <p:nvPr/>
        </p:nvSpPr>
        <p:spPr>
          <a:xfrm>
            <a:off x="4572000" y="2781360"/>
            <a:ext cx="2687760" cy="2743200"/>
          </a:xfrm>
          <a:prstGeom prst="ellipse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 rot="4200">
            <a:off x="375840" y="5091120"/>
            <a:ext cx="1473120" cy="1295280"/>
          </a:xfrm>
          <a:custGeom>
            <a:avLst/>
            <a:gdLst/>
            <a:ahLst/>
            <a:rect l="l" t="t" r="r" b="b"/>
            <a:pathLst>
              <a:path w="1688" h="1469">
                <a:moveTo>
                  <a:pt x="60" y="859"/>
                </a:moveTo>
                <a:cubicBezTo>
                  <a:pt x="54" y="930"/>
                  <a:pt x="43" y="984"/>
                  <a:pt x="28" y="1050"/>
                </a:cubicBezTo>
                <a:cubicBezTo>
                  <a:pt x="25" y="1099"/>
                  <a:pt x="20" y="1147"/>
                  <a:pt x="20" y="1196"/>
                </a:cubicBezTo>
                <a:cubicBezTo>
                  <a:pt x="20" y="1374"/>
                  <a:pt x="0" y="1417"/>
                  <a:pt x="132" y="1424"/>
                </a:cubicBezTo>
                <a:cubicBezTo>
                  <a:pt x="289" y="1469"/>
                  <a:pt x="327" y="1216"/>
                  <a:pt x="636" y="1224"/>
                </a:cubicBezTo>
                <a:cubicBezTo>
                  <a:pt x="1284" y="1176"/>
                  <a:pt x="1224" y="1416"/>
                  <a:pt x="1508" y="1408"/>
                </a:cubicBezTo>
                <a:cubicBezTo>
                  <a:pt x="1548" y="1399"/>
                  <a:pt x="1606" y="1339"/>
                  <a:pt x="1644" y="1324"/>
                </a:cubicBezTo>
                <a:cubicBezTo>
                  <a:pt x="1652" y="1321"/>
                  <a:pt x="1648" y="1304"/>
                  <a:pt x="1652" y="1297"/>
                </a:cubicBezTo>
                <a:cubicBezTo>
                  <a:pt x="1659" y="1282"/>
                  <a:pt x="1668" y="1272"/>
                  <a:pt x="1676" y="1259"/>
                </a:cubicBezTo>
                <a:cubicBezTo>
                  <a:pt x="1688" y="1202"/>
                  <a:pt x="1676" y="1159"/>
                  <a:pt x="1660" y="1105"/>
                </a:cubicBezTo>
                <a:cubicBezTo>
                  <a:pt x="1649" y="1066"/>
                  <a:pt x="1643" y="1023"/>
                  <a:pt x="1628" y="986"/>
                </a:cubicBezTo>
                <a:cubicBezTo>
                  <a:pt x="1622" y="973"/>
                  <a:pt x="1611" y="962"/>
                  <a:pt x="1604" y="950"/>
                </a:cubicBezTo>
                <a:cubicBezTo>
                  <a:pt x="1581" y="906"/>
                  <a:pt x="1547" y="872"/>
                  <a:pt x="1520" y="832"/>
                </a:cubicBezTo>
                <a:cubicBezTo>
                  <a:pt x="1513" y="799"/>
                  <a:pt x="1498" y="688"/>
                  <a:pt x="1476" y="667"/>
                </a:cubicBezTo>
                <a:cubicBezTo>
                  <a:pt x="1469" y="661"/>
                  <a:pt x="1460" y="661"/>
                  <a:pt x="1452" y="658"/>
                </a:cubicBezTo>
                <a:cubicBezTo>
                  <a:pt x="1423" y="557"/>
                  <a:pt x="1472" y="706"/>
                  <a:pt x="1420" y="612"/>
                </a:cubicBezTo>
                <a:cubicBezTo>
                  <a:pt x="1407" y="588"/>
                  <a:pt x="1401" y="558"/>
                  <a:pt x="1396" y="530"/>
                </a:cubicBezTo>
                <a:cubicBezTo>
                  <a:pt x="1382" y="452"/>
                  <a:pt x="1383" y="354"/>
                  <a:pt x="1348" y="284"/>
                </a:cubicBezTo>
                <a:cubicBezTo>
                  <a:pt x="1335" y="258"/>
                  <a:pt x="1316" y="235"/>
                  <a:pt x="1300" y="211"/>
                </a:cubicBezTo>
                <a:cubicBezTo>
                  <a:pt x="1279" y="140"/>
                  <a:pt x="1267" y="125"/>
                  <a:pt x="1212" y="83"/>
                </a:cubicBezTo>
                <a:cubicBezTo>
                  <a:pt x="1198" y="73"/>
                  <a:pt x="1164" y="65"/>
                  <a:pt x="1164" y="65"/>
                </a:cubicBezTo>
                <a:cubicBezTo>
                  <a:pt x="1096" y="91"/>
                  <a:pt x="1010" y="87"/>
                  <a:pt x="940" y="92"/>
                </a:cubicBezTo>
                <a:cubicBezTo>
                  <a:pt x="822" y="89"/>
                  <a:pt x="675" y="93"/>
                  <a:pt x="548" y="75"/>
                </a:cubicBezTo>
                <a:cubicBezTo>
                  <a:pt x="499" y="66"/>
                  <a:pt x="454" y="46"/>
                  <a:pt x="404" y="37"/>
                </a:cubicBezTo>
                <a:cubicBezTo>
                  <a:pt x="156" y="49"/>
                  <a:pt x="253" y="0"/>
                  <a:pt x="164" y="102"/>
                </a:cubicBezTo>
                <a:cubicBezTo>
                  <a:pt x="146" y="165"/>
                  <a:pt x="134" y="230"/>
                  <a:pt x="116" y="293"/>
                </a:cubicBezTo>
                <a:cubicBezTo>
                  <a:pt x="106" y="421"/>
                  <a:pt x="183" y="546"/>
                  <a:pt x="168" y="672"/>
                </a:cubicBezTo>
                <a:cubicBezTo>
                  <a:pt x="160" y="739"/>
                  <a:pt x="39" y="787"/>
                  <a:pt x="117" y="918"/>
                </a:cubicBezTo>
              </a:path>
            </a:pathLst>
          </a:custGeom>
          <a:gradFill rotWithShape="0">
            <a:gsLst>
              <a:gs pos="0">
                <a:srgbClr val="750075"/>
              </a:gs>
              <a:gs pos="50000">
                <a:srgbClr val="ff00ff"/>
              </a:gs>
              <a:gs pos="100000">
                <a:srgbClr val="750075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 flipH="1" rot="4800">
            <a:off x="448920" y="6291360"/>
            <a:ext cx="571320" cy="345960"/>
          </a:xfrm>
          <a:custGeom>
            <a:avLst/>
            <a:gdLst/>
            <a:ahLst/>
            <a:rect l="l" t="t" r="r" b="b"/>
            <a:pathLst>
              <a:path w="599" h="265">
                <a:moveTo>
                  <a:pt x="42" y="0"/>
                </a:moveTo>
                <a:cubicBezTo>
                  <a:pt x="23" y="59"/>
                  <a:pt x="0" y="96"/>
                  <a:pt x="30" y="163"/>
                </a:cubicBezTo>
                <a:cubicBezTo>
                  <a:pt x="35" y="175"/>
                  <a:pt x="113" y="211"/>
                  <a:pt x="117" y="213"/>
                </a:cubicBezTo>
                <a:cubicBezTo>
                  <a:pt x="203" y="249"/>
                  <a:pt x="301" y="247"/>
                  <a:pt x="392" y="263"/>
                </a:cubicBezTo>
                <a:cubicBezTo>
                  <a:pt x="455" y="259"/>
                  <a:pt x="519" y="265"/>
                  <a:pt x="580" y="250"/>
                </a:cubicBezTo>
                <a:cubicBezTo>
                  <a:pt x="594" y="247"/>
                  <a:pt x="599" y="175"/>
                  <a:pt x="580" y="150"/>
                </a:cubicBezTo>
                <a:cubicBezTo>
                  <a:pt x="537" y="94"/>
                  <a:pt x="490" y="98"/>
                  <a:pt x="430" y="88"/>
                </a:cubicBezTo>
                <a:cubicBezTo>
                  <a:pt x="395" y="65"/>
                  <a:pt x="372" y="50"/>
                  <a:pt x="330" y="5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 rot="4200">
            <a:off x="642600" y="5716080"/>
            <a:ext cx="1093680" cy="655920"/>
          </a:xfrm>
          <a:custGeom>
            <a:avLst/>
            <a:gdLst/>
            <a:ahLst/>
            <a:rect l="l" t="t" r="r" b="b"/>
            <a:pathLst>
              <a:path w="1175" h="705">
                <a:moveTo>
                  <a:pt x="88" y="67"/>
                </a:moveTo>
                <a:cubicBezTo>
                  <a:pt x="76" y="271"/>
                  <a:pt x="64" y="396"/>
                  <a:pt x="0" y="579"/>
                </a:cubicBezTo>
                <a:cubicBezTo>
                  <a:pt x="4" y="600"/>
                  <a:pt x="2" y="623"/>
                  <a:pt x="13" y="642"/>
                </a:cubicBezTo>
                <a:cubicBezTo>
                  <a:pt x="26" y="665"/>
                  <a:pt x="80" y="677"/>
                  <a:pt x="100" y="679"/>
                </a:cubicBezTo>
                <a:cubicBezTo>
                  <a:pt x="183" y="686"/>
                  <a:pt x="267" y="688"/>
                  <a:pt x="350" y="692"/>
                </a:cubicBezTo>
                <a:cubicBezTo>
                  <a:pt x="375" y="688"/>
                  <a:pt x="403" y="692"/>
                  <a:pt x="425" y="679"/>
                </a:cubicBezTo>
                <a:cubicBezTo>
                  <a:pt x="436" y="673"/>
                  <a:pt x="432" y="654"/>
                  <a:pt x="438" y="642"/>
                </a:cubicBezTo>
                <a:cubicBezTo>
                  <a:pt x="467" y="585"/>
                  <a:pt x="464" y="622"/>
                  <a:pt x="488" y="554"/>
                </a:cubicBezTo>
                <a:cubicBezTo>
                  <a:pt x="503" y="513"/>
                  <a:pt x="525" y="429"/>
                  <a:pt x="525" y="429"/>
                </a:cubicBezTo>
                <a:cubicBezTo>
                  <a:pt x="539" y="336"/>
                  <a:pt x="515" y="312"/>
                  <a:pt x="600" y="292"/>
                </a:cubicBezTo>
                <a:cubicBezTo>
                  <a:pt x="633" y="386"/>
                  <a:pt x="636" y="509"/>
                  <a:pt x="650" y="604"/>
                </a:cubicBezTo>
                <a:cubicBezTo>
                  <a:pt x="654" y="634"/>
                  <a:pt x="695" y="649"/>
                  <a:pt x="725" y="654"/>
                </a:cubicBezTo>
                <a:cubicBezTo>
                  <a:pt x="859" y="678"/>
                  <a:pt x="933" y="694"/>
                  <a:pt x="1075" y="704"/>
                </a:cubicBezTo>
                <a:cubicBezTo>
                  <a:pt x="1104" y="700"/>
                  <a:pt x="1137" y="705"/>
                  <a:pt x="1163" y="692"/>
                </a:cubicBezTo>
                <a:cubicBezTo>
                  <a:pt x="1175" y="686"/>
                  <a:pt x="1175" y="667"/>
                  <a:pt x="1175" y="654"/>
                </a:cubicBezTo>
                <a:cubicBezTo>
                  <a:pt x="1175" y="463"/>
                  <a:pt x="1163" y="472"/>
                  <a:pt x="1075" y="342"/>
                </a:cubicBezTo>
                <a:cubicBezTo>
                  <a:pt x="1071" y="326"/>
                  <a:pt x="1060" y="271"/>
                  <a:pt x="1050" y="254"/>
                </a:cubicBezTo>
                <a:cubicBezTo>
                  <a:pt x="1035" y="228"/>
                  <a:pt x="1000" y="179"/>
                  <a:pt x="1000" y="179"/>
                </a:cubicBezTo>
                <a:cubicBezTo>
                  <a:pt x="979" y="113"/>
                  <a:pt x="995" y="153"/>
                  <a:pt x="938" y="67"/>
                </a:cubicBezTo>
                <a:cubicBezTo>
                  <a:pt x="893" y="0"/>
                  <a:pt x="900" y="78"/>
                  <a:pt x="900" y="17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50000">
                <a:srgbClr val="ccecff"/>
              </a:gs>
              <a:gs pos="100000">
                <a:srgbClr val="00cc99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rot="4200">
            <a:off x="1310760" y="6342120"/>
            <a:ext cx="617760" cy="291960"/>
          </a:xfrm>
          <a:custGeom>
            <a:avLst/>
            <a:gdLst/>
            <a:ahLst/>
            <a:rect l="l" t="t" r="r" b="b"/>
            <a:pathLst>
              <a:path w="599" h="265">
                <a:moveTo>
                  <a:pt x="42" y="0"/>
                </a:moveTo>
                <a:cubicBezTo>
                  <a:pt x="23" y="59"/>
                  <a:pt x="0" y="96"/>
                  <a:pt x="30" y="163"/>
                </a:cubicBezTo>
                <a:cubicBezTo>
                  <a:pt x="35" y="175"/>
                  <a:pt x="113" y="211"/>
                  <a:pt x="117" y="213"/>
                </a:cubicBezTo>
                <a:cubicBezTo>
                  <a:pt x="203" y="249"/>
                  <a:pt x="301" y="247"/>
                  <a:pt x="392" y="263"/>
                </a:cubicBezTo>
                <a:cubicBezTo>
                  <a:pt x="455" y="259"/>
                  <a:pt x="519" y="265"/>
                  <a:pt x="580" y="250"/>
                </a:cubicBezTo>
                <a:cubicBezTo>
                  <a:pt x="594" y="247"/>
                  <a:pt x="599" y="175"/>
                  <a:pt x="580" y="150"/>
                </a:cubicBezTo>
                <a:cubicBezTo>
                  <a:pt x="537" y="94"/>
                  <a:pt x="490" y="98"/>
                  <a:pt x="430" y="88"/>
                </a:cubicBezTo>
                <a:cubicBezTo>
                  <a:pt x="395" y="65"/>
                  <a:pt x="372" y="50"/>
                  <a:pt x="330" y="50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152280" y="4979880"/>
            <a:ext cx="1495440" cy="1003320"/>
          </a:xfrm>
          <a:custGeom>
            <a:avLst/>
            <a:gdLst/>
            <a:ahLst/>
            <a:rect l="l" t="t" r="r" b="b"/>
            <a:pathLst>
              <a:path w="942" h="632">
                <a:moveTo>
                  <a:pt x="221" y="159"/>
                </a:moveTo>
                <a:cubicBezTo>
                  <a:pt x="211" y="166"/>
                  <a:pt x="202" y="175"/>
                  <a:pt x="190" y="181"/>
                </a:cubicBezTo>
                <a:cubicBezTo>
                  <a:pt x="160" y="196"/>
                  <a:pt x="97" y="224"/>
                  <a:pt x="97" y="224"/>
                </a:cubicBezTo>
                <a:cubicBezTo>
                  <a:pt x="45" y="279"/>
                  <a:pt x="0" y="295"/>
                  <a:pt x="50" y="367"/>
                </a:cubicBezTo>
                <a:cubicBezTo>
                  <a:pt x="58" y="377"/>
                  <a:pt x="81" y="375"/>
                  <a:pt x="97" y="378"/>
                </a:cubicBezTo>
                <a:cubicBezTo>
                  <a:pt x="117" y="382"/>
                  <a:pt x="137" y="385"/>
                  <a:pt x="158" y="389"/>
                </a:cubicBezTo>
                <a:cubicBezTo>
                  <a:pt x="183" y="385"/>
                  <a:pt x="213" y="388"/>
                  <a:pt x="236" y="378"/>
                </a:cubicBezTo>
                <a:cubicBezTo>
                  <a:pt x="250" y="371"/>
                  <a:pt x="243" y="355"/>
                  <a:pt x="252" y="345"/>
                </a:cubicBezTo>
                <a:cubicBezTo>
                  <a:pt x="259" y="336"/>
                  <a:pt x="273" y="330"/>
                  <a:pt x="283" y="323"/>
                </a:cubicBezTo>
                <a:cubicBezTo>
                  <a:pt x="293" y="334"/>
                  <a:pt x="310" y="343"/>
                  <a:pt x="314" y="356"/>
                </a:cubicBezTo>
                <a:cubicBezTo>
                  <a:pt x="381" y="632"/>
                  <a:pt x="158" y="513"/>
                  <a:pt x="855" y="499"/>
                </a:cubicBezTo>
                <a:cubicBezTo>
                  <a:pt x="850" y="478"/>
                  <a:pt x="854" y="453"/>
                  <a:pt x="840" y="434"/>
                </a:cubicBezTo>
                <a:cubicBezTo>
                  <a:pt x="821" y="407"/>
                  <a:pt x="848" y="339"/>
                  <a:pt x="814" y="323"/>
                </a:cubicBezTo>
                <a:cubicBezTo>
                  <a:pt x="804" y="261"/>
                  <a:pt x="806" y="273"/>
                  <a:pt x="802" y="261"/>
                </a:cubicBezTo>
                <a:cubicBezTo>
                  <a:pt x="831" y="248"/>
                  <a:pt x="815" y="243"/>
                  <a:pt x="831" y="220"/>
                </a:cubicBezTo>
                <a:cubicBezTo>
                  <a:pt x="847" y="197"/>
                  <a:pt x="894" y="155"/>
                  <a:pt x="900" y="121"/>
                </a:cubicBezTo>
                <a:cubicBezTo>
                  <a:pt x="890" y="67"/>
                  <a:pt x="942" y="45"/>
                  <a:pt x="870" y="16"/>
                </a:cubicBezTo>
                <a:cubicBezTo>
                  <a:pt x="828" y="0"/>
                  <a:pt x="805" y="87"/>
                  <a:pt x="759" y="76"/>
                </a:cubicBezTo>
                <a:cubicBezTo>
                  <a:pt x="744" y="72"/>
                  <a:pt x="670" y="127"/>
                  <a:pt x="670" y="127"/>
                </a:cubicBezTo>
              </a:path>
            </a:pathLst>
          </a:custGeom>
          <a:gradFill rotWithShape="0">
            <a:gsLst>
              <a:gs pos="0">
                <a:srgbClr val="6c0000"/>
              </a:gs>
              <a:gs pos="50000">
                <a:srgbClr val="ff0000"/>
              </a:gs>
              <a:gs pos="100000">
                <a:srgbClr val="6c0000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 rot="4200">
            <a:off x="75960" y="5589360"/>
            <a:ext cx="50472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 flipH="1" rot="16122000">
            <a:off x="1517400" y="4882320"/>
            <a:ext cx="44604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 rot="4200">
            <a:off x="777960" y="5268960"/>
            <a:ext cx="595080" cy="428400"/>
          </a:xfrm>
          <a:custGeom>
            <a:avLst/>
            <a:gdLst/>
            <a:ahLst/>
            <a:rect l="l" t="t" r="r" b="b"/>
            <a:pathLst>
              <a:path w="640" h="461">
                <a:moveTo>
                  <a:pt x="64" y="445"/>
                </a:moveTo>
                <a:cubicBezTo>
                  <a:pt x="125" y="442"/>
                  <a:pt x="187" y="442"/>
                  <a:pt x="248" y="437"/>
                </a:cubicBezTo>
                <a:cubicBezTo>
                  <a:pt x="259" y="436"/>
                  <a:pt x="276" y="439"/>
                  <a:pt x="280" y="429"/>
                </a:cubicBezTo>
                <a:cubicBezTo>
                  <a:pt x="298" y="382"/>
                  <a:pt x="274" y="374"/>
                  <a:pt x="248" y="357"/>
                </a:cubicBezTo>
                <a:cubicBezTo>
                  <a:pt x="228" y="297"/>
                  <a:pt x="257" y="369"/>
                  <a:pt x="216" y="317"/>
                </a:cubicBezTo>
                <a:cubicBezTo>
                  <a:pt x="210" y="310"/>
                  <a:pt x="188" y="256"/>
                  <a:pt x="184" y="245"/>
                </a:cubicBezTo>
                <a:cubicBezTo>
                  <a:pt x="192" y="112"/>
                  <a:pt x="164" y="95"/>
                  <a:pt x="280" y="109"/>
                </a:cubicBezTo>
                <a:cubicBezTo>
                  <a:pt x="317" y="121"/>
                  <a:pt x="347" y="145"/>
                  <a:pt x="384" y="157"/>
                </a:cubicBezTo>
                <a:cubicBezTo>
                  <a:pt x="457" y="267"/>
                  <a:pt x="415" y="186"/>
                  <a:pt x="424" y="429"/>
                </a:cubicBezTo>
                <a:cubicBezTo>
                  <a:pt x="533" y="424"/>
                  <a:pt x="607" y="457"/>
                  <a:pt x="640" y="357"/>
                </a:cubicBezTo>
                <a:cubicBezTo>
                  <a:pt x="625" y="269"/>
                  <a:pt x="611" y="293"/>
                  <a:pt x="512" y="285"/>
                </a:cubicBezTo>
                <a:cubicBezTo>
                  <a:pt x="485" y="205"/>
                  <a:pt x="475" y="141"/>
                  <a:pt x="408" y="85"/>
                </a:cubicBezTo>
                <a:cubicBezTo>
                  <a:pt x="393" y="73"/>
                  <a:pt x="371" y="43"/>
                  <a:pt x="352" y="37"/>
                </a:cubicBezTo>
                <a:cubicBezTo>
                  <a:pt x="311" y="24"/>
                  <a:pt x="214" y="11"/>
                  <a:pt x="168" y="5"/>
                </a:cubicBezTo>
                <a:cubicBezTo>
                  <a:pt x="141" y="8"/>
                  <a:pt x="88" y="0"/>
                  <a:pt x="64" y="29"/>
                </a:cubicBezTo>
                <a:cubicBezTo>
                  <a:pt x="56" y="38"/>
                  <a:pt x="52" y="50"/>
                  <a:pt x="48" y="61"/>
                </a:cubicBezTo>
                <a:cubicBezTo>
                  <a:pt x="42" y="77"/>
                  <a:pt x="32" y="109"/>
                  <a:pt x="32" y="109"/>
                </a:cubicBezTo>
                <a:cubicBezTo>
                  <a:pt x="37" y="180"/>
                  <a:pt x="22" y="196"/>
                  <a:pt x="56" y="237"/>
                </a:cubicBezTo>
                <a:cubicBezTo>
                  <a:pt x="69" y="253"/>
                  <a:pt x="80" y="271"/>
                  <a:pt x="96" y="285"/>
                </a:cubicBezTo>
                <a:cubicBezTo>
                  <a:pt x="110" y="298"/>
                  <a:pt x="144" y="317"/>
                  <a:pt x="144" y="317"/>
                </a:cubicBezTo>
                <a:cubicBezTo>
                  <a:pt x="177" y="366"/>
                  <a:pt x="162" y="371"/>
                  <a:pt x="104" y="357"/>
                </a:cubicBezTo>
                <a:cubicBezTo>
                  <a:pt x="66" y="347"/>
                  <a:pt x="44" y="329"/>
                  <a:pt x="8" y="317"/>
                </a:cubicBezTo>
                <a:cubicBezTo>
                  <a:pt x="13" y="374"/>
                  <a:pt x="0" y="429"/>
                  <a:pt x="48" y="461"/>
                </a:cubicBezTo>
                <a:cubicBezTo>
                  <a:pt x="86" y="452"/>
                  <a:pt x="90" y="458"/>
                  <a:pt x="64" y="445"/>
                </a:cubicBezTo>
                <a:close/>
              </a:path>
            </a:pathLst>
          </a:custGeom>
          <a:solidFill>
            <a:srgbClr val="3333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293760" y="4160880"/>
            <a:ext cx="1211040" cy="1044360"/>
          </a:xfrm>
          <a:custGeom>
            <a:avLst/>
            <a:gdLst/>
            <a:ahLst/>
            <a:rect l="l" t="t" r="r" b="b"/>
            <a:pathLst>
              <a:path w="1050" h="906">
                <a:moveTo>
                  <a:pt x="521" y="24"/>
                </a:moveTo>
                <a:cubicBezTo>
                  <a:pt x="598" y="0"/>
                  <a:pt x="573" y="2"/>
                  <a:pt x="709" y="24"/>
                </a:cubicBezTo>
                <a:cubicBezTo>
                  <a:pt x="734" y="28"/>
                  <a:pt x="784" y="48"/>
                  <a:pt x="784" y="48"/>
                </a:cubicBezTo>
                <a:cubicBezTo>
                  <a:pt x="864" y="105"/>
                  <a:pt x="820" y="70"/>
                  <a:pt x="910" y="157"/>
                </a:cubicBezTo>
                <a:cubicBezTo>
                  <a:pt x="939" y="185"/>
                  <a:pt x="985" y="254"/>
                  <a:pt x="985" y="254"/>
                </a:cubicBezTo>
                <a:cubicBezTo>
                  <a:pt x="1021" y="389"/>
                  <a:pt x="1050" y="536"/>
                  <a:pt x="973" y="664"/>
                </a:cubicBezTo>
                <a:cubicBezTo>
                  <a:pt x="954" y="697"/>
                  <a:pt x="927" y="767"/>
                  <a:pt x="897" y="785"/>
                </a:cubicBezTo>
                <a:cubicBezTo>
                  <a:pt x="847" y="817"/>
                  <a:pt x="805" y="862"/>
                  <a:pt x="747" y="882"/>
                </a:cubicBezTo>
                <a:cubicBezTo>
                  <a:pt x="715" y="894"/>
                  <a:pt x="646" y="906"/>
                  <a:pt x="646" y="906"/>
                </a:cubicBezTo>
                <a:cubicBezTo>
                  <a:pt x="489" y="898"/>
                  <a:pt x="376" y="886"/>
                  <a:pt x="232" y="846"/>
                </a:cubicBezTo>
                <a:cubicBezTo>
                  <a:pt x="153" y="795"/>
                  <a:pt x="100" y="741"/>
                  <a:pt x="69" y="652"/>
                </a:cubicBezTo>
                <a:cubicBezTo>
                  <a:pt x="73" y="521"/>
                  <a:pt x="0" y="178"/>
                  <a:pt x="203" y="114"/>
                </a:cubicBezTo>
                <a:cubicBezTo>
                  <a:pt x="274" y="46"/>
                  <a:pt x="360" y="62"/>
                  <a:pt x="458" y="48"/>
                </a:cubicBezTo>
                <a:cubicBezTo>
                  <a:pt x="537" y="22"/>
                  <a:pt x="560" y="24"/>
                  <a:pt x="521" y="24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 rot="20582400">
            <a:off x="536400" y="4363560"/>
            <a:ext cx="341640" cy="48096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 rot="20582400">
            <a:off x="903240" y="4264200"/>
            <a:ext cx="343080" cy="50796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 rot="8088000">
            <a:off x="601200" y="4390560"/>
            <a:ext cx="751680" cy="70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744" y="1256"/>
                </a:moveTo>
                <a:arcTo wR="10800" hR="10800" stAng="-7074784" swAng="7074784"/>
                <a:lnTo>
                  <a:pt x="10800" y="10800"/>
                </a:lnTo>
                <a:close/>
              </a:path>
              <a:path fill="none" w="21600" h="21600">
                <a:moveTo>
                  <a:pt x="5744" y="1256"/>
                </a:moveTo>
                <a:arcTo wR="10800" hR="10800" stAng="-7074784" swAng="707478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 rot="413400">
            <a:off x="907920" y="4773240"/>
            <a:ext cx="184320" cy="185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 rot="413400">
            <a:off x="677880" y="4422240"/>
            <a:ext cx="182520" cy="2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 rot="413400">
            <a:off x="1004760" y="4300200"/>
            <a:ext cx="182520" cy="257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rot="448800">
            <a:off x="328320" y="4195800"/>
            <a:ext cx="260280" cy="250920"/>
          </a:xfrm>
          <a:custGeom>
            <a:avLst/>
            <a:gdLst/>
            <a:ahLst/>
            <a:rect l="l" t="t" r="r" b="b"/>
            <a:pathLst>
              <a:path w="273" h="258">
                <a:moveTo>
                  <a:pt x="273" y="40"/>
                </a:moveTo>
                <a:cubicBezTo>
                  <a:pt x="203" y="17"/>
                  <a:pt x="179" y="0"/>
                  <a:pt x="91" y="40"/>
                </a:cubicBezTo>
                <a:cubicBezTo>
                  <a:pt x="59" y="54"/>
                  <a:pt x="19" y="201"/>
                  <a:pt x="18" y="204"/>
                </a:cubicBezTo>
                <a:cubicBezTo>
                  <a:pt x="12" y="222"/>
                  <a:pt x="0" y="258"/>
                  <a:pt x="0" y="25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 rot="448800">
            <a:off x="587160" y="4092480"/>
            <a:ext cx="274320" cy="211320"/>
          </a:xfrm>
          <a:custGeom>
            <a:avLst/>
            <a:gdLst/>
            <a:ahLst/>
            <a:rect l="l" t="t" r="r" b="b"/>
            <a:pathLst>
              <a:path w="290" h="218">
                <a:moveTo>
                  <a:pt x="0" y="218"/>
                </a:moveTo>
                <a:cubicBezTo>
                  <a:pt x="66" y="118"/>
                  <a:pt x="157" y="0"/>
                  <a:pt x="29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 rot="448800">
            <a:off x="632880" y="4065480"/>
            <a:ext cx="1800" cy="195480"/>
          </a:xfrm>
          <a:custGeom>
            <a:avLst/>
            <a:gdLst/>
            <a:ahLst/>
            <a:rect l="l" t="t" r="r" b="b"/>
            <a:pathLst>
              <a:path w="1" h="200">
                <a:moveTo>
                  <a:pt x="0" y="200"/>
                </a:moveTo>
                <a:cubicBezTo>
                  <a:pt x="0" y="133"/>
                  <a:pt x="0" y="67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 rot="21140400">
            <a:off x="418680" y="4266720"/>
            <a:ext cx="233280" cy="392400"/>
          </a:xfrm>
          <a:custGeom>
            <a:avLst/>
            <a:gdLst/>
            <a:ahLst/>
            <a:rect l="l" t="t" r="r" b="b"/>
            <a:pathLst>
              <a:path w="273" h="400">
                <a:moveTo>
                  <a:pt x="273" y="0"/>
                </a:moveTo>
                <a:cubicBezTo>
                  <a:pt x="198" y="37"/>
                  <a:pt x="150" y="69"/>
                  <a:pt x="91" y="127"/>
                </a:cubicBezTo>
                <a:cubicBezTo>
                  <a:pt x="61" y="218"/>
                  <a:pt x="0" y="301"/>
                  <a:pt x="0" y="4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 rot="1662000">
            <a:off x="651960" y="4183200"/>
            <a:ext cx="246240" cy="131760"/>
          </a:xfrm>
          <a:custGeom>
            <a:avLst/>
            <a:gdLst/>
            <a:ahLst/>
            <a:rect l="l" t="t" r="r" b="b"/>
            <a:pathLst>
              <a:path w="273" h="109">
                <a:moveTo>
                  <a:pt x="0" y="109"/>
                </a:moveTo>
                <a:cubicBezTo>
                  <a:pt x="12" y="91"/>
                  <a:pt x="17" y="66"/>
                  <a:pt x="36" y="54"/>
                </a:cubicBezTo>
                <a:cubicBezTo>
                  <a:pt x="105" y="11"/>
                  <a:pt x="195" y="0"/>
                  <a:pt x="273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 rot="2318400">
            <a:off x="1771200" y="4209840"/>
            <a:ext cx="990720" cy="1218960"/>
          </a:xfrm>
          <a:custGeom>
            <a:avLst/>
            <a:gdLst/>
            <a:ahLst/>
            <a:rect l="l" t="t" r="r" b="b"/>
            <a:pathLst>
              <a:path w="624" h="768">
                <a:moveTo>
                  <a:pt x="0" y="720"/>
                </a:moveTo>
                <a:lnTo>
                  <a:pt x="48" y="768"/>
                </a:lnTo>
                <a:lnTo>
                  <a:pt x="624" y="0"/>
                </a:lnTo>
                <a:lnTo>
                  <a:pt x="0" y="72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495360" y="266760"/>
            <a:ext cx="5219640" cy="3048120"/>
          </a:xfrm>
          <a:prstGeom prst="cloudCallout">
            <a:avLst>
              <a:gd name="adj1" fmla="val -41120"/>
              <a:gd name="adj2" fmla="val 71824"/>
            </a:avLst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4033800" y="1652760"/>
            <a:ext cx="803160" cy="62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738360" y="1709640"/>
            <a:ext cx="803160" cy="628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4572000" y="4152960"/>
            <a:ext cx="2687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 flipV="1">
            <a:off x="5916600" y="4138560"/>
            <a:ext cx="0" cy="13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8" name=""/>
          <p:cNvGrpSpPr/>
          <p:nvPr/>
        </p:nvGrpSpPr>
        <p:grpSpPr>
          <a:xfrm>
            <a:off x="3094200" y="1290600"/>
            <a:ext cx="2259000" cy="3809880"/>
            <a:chOff x="3094200" y="1290600"/>
            <a:chExt cx="2259000" cy="3809880"/>
          </a:xfrm>
        </p:grpSpPr>
        <p:sp>
          <p:nvSpPr>
            <p:cNvPr id="2139" name=""/>
            <p:cNvSpPr txBox="1"/>
            <p:nvPr/>
          </p:nvSpPr>
          <p:spPr>
            <a:xfrm>
              <a:off x="5159520" y="4429080"/>
              <a:ext cx="193680" cy="671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140" name=""/>
            <p:cNvSpPr txBox="1"/>
            <p:nvPr/>
          </p:nvSpPr>
          <p:spPr>
            <a:xfrm>
              <a:off x="3094200" y="1290600"/>
              <a:ext cx="193680" cy="671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2141" name=""/>
          <p:cNvGrpSpPr/>
          <p:nvPr/>
        </p:nvGrpSpPr>
        <p:grpSpPr>
          <a:xfrm>
            <a:off x="4359240" y="1319040"/>
            <a:ext cx="2490840" cy="3748320"/>
            <a:chOff x="4359240" y="1319040"/>
            <a:chExt cx="2490840" cy="3748320"/>
          </a:xfrm>
        </p:grpSpPr>
        <p:sp>
          <p:nvSpPr>
            <p:cNvPr id="2142" name=""/>
            <p:cNvSpPr txBox="1"/>
            <p:nvPr/>
          </p:nvSpPr>
          <p:spPr>
            <a:xfrm>
              <a:off x="6318360" y="4437000"/>
              <a:ext cx="531720" cy="6303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2152"/>
                      </a:gs>
                      <a:gs pos="50000">
                        <a:srgbClr val="0066ff"/>
                      </a:gs>
                      <a:gs pos="100000">
                        <a:srgbClr val="002152"/>
                      </a:gs>
                    </a:gsLst>
                    <a:lin ang="5400000"/>
                  </a:gradFill>
                  <a:latin typeface="Arial Black"/>
                </a:rPr>
                <a:t>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2152"/>
                    </a:gs>
                    <a:gs pos="50000">
                      <a:srgbClr val="0066ff"/>
                    </a:gs>
                    <a:gs pos="100000">
                      <a:srgbClr val="002152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143" name=""/>
            <p:cNvSpPr txBox="1"/>
            <p:nvPr/>
          </p:nvSpPr>
          <p:spPr>
            <a:xfrm>
              <a:off x="4359240" y="1319040"/>
              <a:ext cx="574560" cy="6732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2152"/>
                      </a:gs>
                      <a:gs pos="50000">
                        <a:srgbClr val="0066ff"/>
                      </a:gs>
                      <a:gs pos="100000">
                        <a:srgbClr val="002152"/>
                      </a:gs>
                    </a:gsLst>
                    <a:lin ang="5400000"/>
                  </a:gradFill>
                  <a:latin typeface="Arial Black"/>
                </a:rPr>
                <a:t>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2152"/>
                    </a:gs>
                    <a:gs pos="50000">
                      <a:srgbClr val="0066ff"/>
                    </a:gs>
                    <a:gs pos="100000">
                      <a:srgbClr val="002152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2144" name=""/>
          <p:cNvGrpSpPr/>
          <p:nvPr/>
        </p:nvGrpSpPr>
        <p:grpSpPr>
          <a:xfrm>
            <a:off x="3638520" y="1504440"/>
            <a:ext cx="2525760" cy="3602520"/>
            <a:chOff x="3638520" y="1504440"/>
            <a:chExt cx="2525760" cy="3602520"/>
          </a:xfrm>
        </p:grpSpPr>
        <p:grpSp>
          <p:nvGrpSpPr>
            <p:cNvPr id="2145" name=""/>
            <p:cNvGrpSpPr/>
            <p:nvPr/>
          </p:nvGrpSpPr>
          <p:grpSpPr>
            <a:xfrm>
              <a:off x="3638520" y="1504440"/>
              <a:ext cx="361800" cy="343440"/>
              <a:chOff x="3638520" y="1504440"/>
              <a:chExt cx="361800" cy="343440"/>
            </a:xfrm>
          </p:grpSpPr>
          <p:sp>
            <p:nvSpPr>
              <p:cNvPr id="2146" name=""/>
              <p:cNvSpPr/>
              <p:nvPr/>
            </p:nvSpPr>
            <p:spPr>
              <a:xfrm>
                <a:off x="3657600" y="1504800"/>
                <a:ext cx="342720" cy="343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flipV="1">
                <a:off x="3638520" y="1504440"/>
                <a:ext cx="342720" cy="343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8" name=""/>
            <p:cNvGrpSpPr/>
            <p:nvPr/>
          </p:nvGrpSpPr>
          <p:grpSpPr>
            <a:xfrm>
              <a:off x="5630760" y="4478400"/>
              <a:ext cx="533520" cy="628560"/>
              <a:chOff x="5630760" y="4478400"/>
              <a:chExt cx="533520" cy="628560"/>
            </a:xfrm>
          </p:grpSpPr>
          <p:sp>
            <p:nvSpPr>
              <p:cNvPr id="2149" name=""/>
              <p:cNvSpPr/>
              <p:nvPr/>
            </p:nvSpPr>
            <p:spPr>
              <a:xfrm>
                <a:off x="5630760" y="4478400"/>
                <a:ext cx="533520" cy="62856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0" name=""/>
              <p:cNvGrpSpPr/>
              <p:nvPr/>
            </p:nvGrpSpPr>
            <p:grpSpPr>
              <a:xfrm>
                <a:off x="5726160" y="4592880"/>
                <a:ext cx="361800" cy="342720"/>
                <a:chOff x="5726160" y="4592880"/>
                <a:chExt cx="361800" cy="342720"/>
              </a:xfrm>
            </p:grpSpPr>
            <p:sp>
              <p:nvSpPr>
                <p:cNvPr id="2151" name=""/>
                <p:cNvSpPr/>
                <p:nvPr/>
              </p:nvSpPr>
              <p:spPr>
                <a:xfrm>
                  <a:off x="5745240" y="4592880"/>
                  <a:ext cx="342720" cy="3427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 flipV="1">
                  <a:off x="5726160" y="4592880"/>
                  <a:ext cx="342720" cy="3427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53" name=""/>
          <p:cNvGrpSpPr/>
          <p:nvPr/>
        </p:nvGrpSpPr>
        <p:grpSpPr>
          <a:xfrm>
            <a:off x="2362320" y="1523880"/>
            <a:ext cx="4378320" cy="2300400"/>
            <a:chOff x="2362320" y="1523880"/>
            <a:chExt cx="4378320" cy="2300400"/>
          </a:xfrm>
        </p:grpSpPr>
        <p:grpSp>
          <p:nvGrpSpPr>
            <p:cNvPr id="2154" name=""/>
            <p:cNvGrpSpPr/>
            <p:nvPr/>
          </p:nvGrpSpPr>
          <p:grpSpPr>
            <a:xfrm>
              <a:off x="2362320" y="1523880"/>
              <a:ext cx="304560" cy="152280"/>
              <a:chOff x="2362320" y="1523880"/>
              <a:chExt cx="304560" cy="152280"/>
            </a:xfrm>
          </p:grpSpPr>
          <p:sp>
            <p:nvSpPr>
              <p:cNvPr id="2155" name=""/>
              <p:cNvSpPr/>
              <p:nvPr/>
            </p:nvSpPr>
            <p:spPr>
              <a:xfrm>
                <a:off x="2362320" y="1523880"/>
                <a:ext cx="304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2362320" y="1676160"/>
                <a:ext cx="304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7" name=""/>
            <p:cNvGrpSpPr/>
            <p:nvPr/>
          </p:nvGrpSpPr>
          <p:grpSpPr>
            <a:xfrm>
              <a:off x="6162840" y="3362400"/>
              <a:ext cx="577800" cy="461880"/>
              <a:chOff x="6162840" y="3362400"/>
              <a:chExt cx="577800" cy="461880"/>
            </a:xfrm>
          </p:grpSpPr>
          <p:sp>
            <p:nvSpPr>
              <p:cNvPr id="2158" name=""/>
              <p:cNvSpPr/>
              <p:nvPr/>
            </p:nvSpPr>
            <p:spPr>
              <a:xfrm>
                <a:off x="6162840" y="3362400"/>
                <a:ext cx="577800" cy="46188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9" name=""/>
              <p:cNvGrpSpPr/>
              <p:nvPr/>
            </p:nvGrpSpPr>
            <p:grpSpPr>
              <a:xfrm>
                <a:off x="6288120" y="3528720"/>
                <a:ext cx="304920" cy="152280"/>
                <a:chOff x="6288120" y="3528720"/>
                <a:chExt cx="304920" cy="152280"/>
              </a:xfrm>
            </p:grpSpPr>
            <p:sp>
              <p:nvSpPr>
                <p:cNvPr id="2160" name=""/>
                <p:cNvSpPr/>
                <p:nvPr/>
              </p:nvSpPr>
              <p:spPr>
                <a:xfrm>
                  <a:off x="6288120" y="3528720"/>
                  <a:ext cx="3049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6288120" y="3681000"/>
                  <a:ext cx="3049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62" name=""/>
          <p:cNvGrpSpPr/>
          <p:nvPr/>
        </p:nvGrpSpPr>
        <p:grpSpPr>
          <a:xfrm>
            <a:off x="1400040" y="1231920"/>
            <a:ext cx="4780080" cy="2703600"/>
            <a:chOff x="1400040" y="1231920"/>
            <a:chExt cx="4780080" cy="2703600"/>
          </a:xfrm>
        </p:grpSpPr>
        <p:sp>
          <p:nvSpPr>
            <p:cNvPr id="2163" name=""/>
            <p:cNvSpPr txBox="1"/>
            <p:nvPr/>
          </p:nvSpPr>
          <p:spPr>
            <a:xfrm>
              <a:off x="5610240" y="3117960"/>
              <a:ext cx="569880" cy="8175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164" name=""/>
            <p:cNvSpPr txBox="1"/>
            <p:nvPr/>
          </p:nvSpPr>
          <p:spPr>
            <a:xfrm>
              <a:off x="1400040" y="1231920"/>
              <a:ext cx="569880" cy="8175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"/>
          <p:cNvSpPr/>
          <p:nvPr/>
        </p:nvSpPr>
        <p:spPr>
          <a:xfrm>
            <a:off x="5048280" y="1409760"/>
            <a:ext cx="3753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</a:t>
            </a:r>
            <a:br>
              <a:rPr sz="24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chard Terwilli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rot="4200">
            <a:off x="375840" y="5091120"/>
            <a:ext cx="1473120" cy="1295280"/>
          </a:xfrm>
          <a:custGeom>
            <a:avLst/>
            <a:gdLst/>
            <a:ahLst/>
            <a:rect l="l" t="t" r="r" b="b"/>
            <a:pathLst>
              <a:path w="1688" h="1469">
                <a:moveTo>
                  <a:pt x="60" y="859"/>
                </a:moveTo>
                <a:cubicBezTo>
                  <a:pt x="54" y="930"/>
                  <a:pt x="43" y="984"/>
                  <a:pt x="28" y="1050"/>
                </a:cubicBezTo>
                <a:cubicBezTo>
                  <a:pt x="25" y="1099"/>
                  <a:pt x="20" y="1147"/>
                  <a:pt x="20" y="1196"/>
                </a:cubicBezTo>
                <a:cubicBezTo>
                  <a:pt x="20" y="1374"/>
                  <a:pt x="0" y="1417"/>
                  <a:pt x="132" y="1424"/>
                </a:cubicBezTo>
                <a:cubicBezTo>
                  <a:pt x="289" y="1469"/>
                  <a:pt x="327" y="1216"/>
                  <a:pt x="636" y="1224"/>
                </a:cubicBezTo>
                <a:cubicBezTo>
                  <a:pt x="1284" y="1176"/>
                  <a:pt x="1224" y="1416"/>
                  <a:pt x="1508" y="1408"/>
                </a:cubicBezTo>
                <a:cubicBezTo>
                  <a:pt x="1548" y="1399"/>
                  <a:pt x="1606" y="1339"/>
                  <a:pt x="1644" y="1324"/>
                </a:cubicBezTo>
                <a:cubicBezTo>
                  <a:pt x="1652" y="1321"/>
                  <a:pt x="1648" y="1304"/>
                  <a:pt x="1652" y="1297"/>
                </a:cubicBezTo>
                <a:cubicBezTo>
                  <a:pt x="1659" y="1282"/>
                  <a:pt x="1668" y="1272"/>
                  <a:pt x="1676" y="1259"/>
                </a:cubicBezTo>
                <a:cubicBezTo>
                  <a:pt x="1688" y="1202"/>
                  <a:pt x="1676" y="1159"/>
                  <a:pt x="1660" y="1105"/>
                </a:cubicBezTo>
                <a:cubicBezTo>
                  <a:pt x="1649" y="1066"/>
                  <a:pt x="1643" y="1023"/>
                  <a:pt x="1628" y="986"/>
                </a:cubicBezTo>
                <a:cubicBezTo>
                  <a:pt x="1622" y="973"/>
                  <a:pt x="1611" y="962"/>
                  <a:pt x="1604" y="950"/>
                </a:cubicBezTo>
                <a:cubicBezTo>
                  <a:pt x="1581" y="906"/>
                  <a:pt x="1547" y="872"/>
                  <a:pt x="1520" y="832"/>
                </a:cubicBezTo>
                <a:cubicBezTo>
                  <a:pt x="1513" y="799"/>
                  <a:pt x="1498" y="688"/>
                  <a:pt x="1476" y="667"/>
                </a:cubicBezTo>
                <a:cubicBezTo>
                  <a:pt x="1469" y="661"/>
                  <a:pt x="1460" y="661"/>
                  <a:pt x="1452" y="658"/>
                </a:cubicBezTo>
                <a:cubicBezTo>
                  <a:pt x="1423" y="557"/>
                  <a:pt x="1472" y="706"/>
                  <a:pt x="1420" y="612"/>
                </a:cubicBezTo>
                <a:cubicBezTo>
                  <a:pt x="1407" y="588"/>
                  <a:pt x="1401" y="558"/>
                  <a:pt x="1396" y="530"/>
                </a:cubicBezTo>
                <a:cubicBezTo>
                  <a:pt x="1382" y="452"/>
                  <a:pt x="1383" y="354"/>
                  <a:pt x="1348" y="284"/>
                </a:cubicBezTo>
                <a:cubicBezTo>
                  <a:pt x="1335" y="258"/>
                  <a:pt x="1316" y="235"/>
                  <a:pt x="1300" y="211"/>
                </a:cubicBezTo>
                <a:cubicBezTo>
                  <a:pt x="1279" y="140"/>
                  <a:pt x="1267" y="125"/>
                  <a:pt x="1212" y="83"/>
                </a:cubicBezTo>
                <a:cubicBezTo>
                  <a:pt x="1198" y="73"/>
                  <a:pt x="1164" y="65"/>
                  <a:pt x="1164" y="65"/>
                </a:cubicBezTo>
                <a:cubicBezTo>
                  <a:pt x="1096" y="91"/>
                  <a:pt x="1010" y="87"/>
                  <a:pt x="940" y="92"/>
                </a:cubicBezTo>
                <a:cubicBezTo>
                  <a:pt x="822" y="89"/>
                  <a:pt x="675" y="93"/>
                  <a:pt x="548" y="75"/>
                </a:cubicBezTo>
                <a:cubicBezTo>
                  <a:pt x="499" y="66"/>
                  <a:pt x="454" y="46"/>
                  <a:pt x="404" y="37"/>
                </a:cubicBezTo>
                <a:cubicBezTo>
                  <a:pt x="156" y="49"/>
                  <a:pt x="253" y="0"/>
                  <a:pt x="164" y="102"/>
                </a:cubicBezTo>
                <a:cubicBezTo>
                  <a:pt x="146" y="165"/>
                  <a:pt x="134" y="230"/>
                  <a:pt x="116" y="293"/>
                </a:cubicBezTo>
                <a:cubicBezTo>
                  <a:pt x="106" y="421"/>
                  <a:pt x="183" y="546"/>
                  <a:pt x="168" y="672"/>
                </a:cubicBezTo>
                <a:cubicBezTo>
                  <a:pt x="160" y="739"/>
                  <a:pt x="39" y="787"/>
                  <a:pt x="117" y="918"/>
                </a:cubicBezTo>
              </a:path>
            </a:pathLst>
          </a:custGeom>
          <a:gradFill rotWithShape="0">
            <a:gsLst>
              <a:gs pos="0">
                <a:srgbClr val="750075"/>
              </a:gs>
              <a:gs pos="50000">
                <a:srgbClr val="ff00ff"/>
              </a:gs>
              <a:gs pos="100000">
                <a:srgbClr val="750075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 rot="4800">
            <a:off x="448920" y="6291360"/>
            <a:ext cx="571320" cy="345960"/>
          </a:xfrm>
          <a:custGeom>
            <a:avLst/>
            <a:gdLst/>
            <a:ahLst/>
            <a:rect l="l" t="t" r="r" b="b"/>
            <a:pathLst>
              <a:path w="599" h="265">
                <a:moveTo>
                  <a:pt x="42" y="0"/>
                </a:moveTo>
                <a:cubicBezTo>
                  <a:pt x="23" y="59"/>
                  <a:pt x="0" y="96"/>
                  <a:pt x="30" y="163"/>
                </a:cubicBezTo>
                <a:cubicBezTo>
                  <a:pt x="35" y="175"/>
                  <a:pt x="113" y="211"/>
                  <a:pt x="117" y="213"/>
                </a:cubicBezTo>
                <a:cubicBezTo>
                  <a:pt x="203" y="249"/>
                  <a:pt x="301" y="247"/>
                  <a:pt x="392" y="263"/>
                </a:cubicBezTo>
                <a:cubicBezTo>
                  <a:pt x="455" y="259"/>
                  <a:pt x="519" y="265"/>
                  <a:pt x="580" y="250"/>
                </a:cubicBezTo>
                <a:cubicBezTo>
                  <a:pt x="594" y="247"/>
                  <a:pt x="599" y="175"/>
                  <a:pt x="580" y="150"/>
                </a:cubicBezTo>
                <a:cubicBezTo>
                  <a:pt x="537" y="94"/>
                  <a:pt x="490" y="98"/>
                  <a:pt x="430" y="88"/>
                </a:cubicBezTo>
                <a:cubicBezTo>
                  <a:pt x="395" y="65"/>
                  <a:pt x="372" y="50"/>
                  <a:pt x="330" y="5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 rot="4200">
            <a:off x="642600" y="5716080"/>
            <a:ext cx="1093680" cy="655920"/>
          </a:xfrm>
          <a:custGeom>
            <a:avLst/>
            <a:gdLst/>
            <a:ahLst/>
            <a:rect l="l" t="t" r="r" b="b"/>
            <a:pathLst>
              <a:path w="1175" h="705">
                <a:moveTo>
                  <a:pt x="88" y="67"/>
                </a:moveTo>
                <a:cubicBezTo>
                  <a:pt x="76" y="271"/>
                  <a:pt x="64" y="396"/>
                  <a:pt x="0" y="579"/>
                </a:cubicBezTo>
                <a:cubicBezTo>
                  <a:pt x="4" y="600"/>
                  <a:pt x="2" y="623"/>
                  <a:pt x="13" y="642"/>
                </a:cubicBezTo>
                <a:cubicBezTo>
                  <a:pt x="26" y="665"/>
                  <a:pt x="80" y="677"/>
                  <a:pt x="100" y="679"/>
                </a:cubicBezTo>
                <a:cubicBezTo>
                  <a:pt x="183" y="686"/>
                  <a:pt x="267" y="688"/>
                  <a:pt x="350" y="692"/>
                </a:cubicBezTo>
                <a:cubicBezTo>
                  <a:pt x="375" y="688"/>
                  <a:pt x="403" y="692"/>
                  <a:pt x="425" y="679"/>
                </a:cubicBezTo>
                <a:cubicBezTo>
                  <a:pt x="436" y="673"/>
                  <a:pt x="432" y="654"/>
                  <a:pt x="438" y="642"/>
                </a:cubicBezTo>
                <a:cubicBezTo>
                  <a:pt x="467" y="585"/>
                  <a:pt x="464" y="622"/>
                  <a:pt x="488" y="554"/>
                </a:cubicBezTo>
                <a:cubicBezTo>
                  <a:pt x="503" y="513"/>
                  <a:pt x="525" y="429"/>
                  <a:pt x="525" y="429"/>
                </a:cubicBezTo>
                <a:cubicBezTo>
                  <a:pt x="539" y="336"/>
                  <a:pt x="515" y="312"/>
                  <a:pt x="600" y="292"/>
                </a:cubicBezTo>
                <a:cubicBezTo>
                  <a:pt x="633" y="386"/>
                  <a:pt x="636" y="509"/>
                  <a:pt x="650" y="604"/>
                </a:cubicBezTo>
                <a:cubicBezTo>
                  <a:pt x="654" y="634"/>
                  <a:pt x="695" y="649"/>
                  <a:pt x="725" y="654"/>
                </a:cubicBezTo>
                <a:cubicBezTo>
                  <a:pt x="859" y="678"/>
                  <a:pt x="933" y="694"/>
                  <a:pt x="1075" y="704"/>
                </a:cubicBezTo>
                <a:cubicBezTo>
                  <a:pt x="1104" y="700"/>
                  <a:pt x="1137" y="705"/>
                  <a:pt x="1163" y="692"/>
                </a:cubicBezTo>
                <a:cubicBezTo>
                  <a:pt x="1175" y="686"/>
                  <a:pt x="1175" y="667"/>
                  <a:pt x="1175" y="654"/>
                </a:cubicBezTo>
                <a:cubicBezTo>
                  <a:pt x="1175" y="463"/>
                  <a:pt x="1163" y="472"/>
                  <a:pt x="1075" y="342"/>
                </a:cubicBezTo>
                <a:cubicBezTo>
                  <a:pt x="1071" y="326"/>
                  <a:pt x="1060" y="271"/>
                  <a:pt x="1050" y="254"/>
                </a:cubicBezTo>
                <a:cubicBezTo>
                  <a:pt x="1035" y="228"/>
                  <a:pt x="1000" y="179"/>
                  <a:pt x="1000" y="179"/>
                </a:cubicBezTo>
                <a:cubicBezTo>
                  <a:pt x="979" y="113"/>
                  <a:pt x="995" y="153"/>
                  <a:pt x="938" y="67"/>
                </a:cubicBezTo>
                <a:cubicBezTo>
                  <a:pt x="893" y="0"/>
                  <a:pt x="900" y="78"/>
                  <a:pt x="900" y="17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50000">
                <a:srgbClr val="ccecff"/>
              </a:gs>
              <a:gs pos="100000">
                <a:srgbClr val="00cc99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 rot="4200">
            <a:off x="1310760" y="6342120"/>
            <a:ext cx="617760" cy="291960"/>
          </a:xfrm>
          <a:custGeom>
            <a:avLst/>
            <a:gdLst/>
            <a:ahLst/>
            <a:rect l="l" t="t" r="r" b="b"/>
            <a:pathLst>
              <a:path w="599" h="265">
                <a:moveTo>
                  <a:pt x="42" y="0"/>
                </a:moveTo>
                <a:cubicBezTo>
                  <a:pt x="23" y="59"/>
                  <a:pt x="0" y="96"/>
                  <a:pt x="30" y="163"/>
                </a:cubicBezTo>
                <a:cubicBezTo>
                  <a:pt x="35" y="175"/>
                  <a:pt x="113" y="211"/>
                  <a:pt x="117" y="213"/>
                </a:cubicBezTo>
                <a:cubicBezTo>
                  <a:pt x="203" y="249"/>
                  <a:pt x="301" y="247"/>
                  <a:pt x="392" y="263"/>
                </a:cubicBezTo>
                <a:cubicBezTo>
                  <a:pt x="455" y="259"/>
                  <a:pt x="519" y="265"/>
                  <a:pt x="580" y="250"/>
                </a:cubicBezTo>
                <a:cubicBezTo>
                  <a:pt x="594" y="247"/>
                  <a:pt x="599" y="175"/>
                  <a:pt x="580" y="150"/>
                </a:cubicBezTo>
                <a:cubicBezTo>
                  <a:pt x="537" y="94"/>
                  <a:pt x="490" y="98"/>
                  <a:pt x="430" y="88"/>
                </a:cubicBezTo>
                <a:cubicBezTo>
                  <a:pt x="395" y="65"/>
                  <a:pt x="372" y="50"/>
                  <a:pt x="330" y="50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152280" y="4979880"/>
            <a:ext cx="1495440" cy="1003320"/>
          </a:xfrm>
          <a:custGeom>
            <a:avLst/>
            <a:gdLst/>
            <a:ahLst/>
            <a:rect l="l" t="t" r="r" b="b"/>
            <a:pathLst>
              <a:path w="942" h="632">
                <a:moveTo>
                  <a:pt x="221" y="159"/>
                </a:moveTo>
                <a:cubicBezTo>
                  <a:pt x="211" y="166"/>
                  <a:pt x="202" y="175"/>
                  <a:pt x="190" y="181"/>
                </a:cubicBezTo>
                <a:cubicBezTo>
                  <a:pt x="160" y="196"/>
                  <a:pt x="97" y="224"/>
                  <a:pt x="97" y="224"/>
                </a:cubicBezTo>
                <a:cubicBezTo>
                  <a:pt x="45" y="279"/>
                  <a:pt x="0" y="295"/>
                  <a:pt x="50" y="367"/>
                </a:cubicBezTo>
                <a:cubicBezTo>
                  <a:pt x="58" y="377"/>
                  <a:pt x="81" y="375"/>
                  <a:pt x="97" y="378"/>
                </a:cubicBezTo>
                <a:cubicBezTo>
                  <a:pt x="117" y="382"/>
                  <a:pt x="137" y="385"/>
                  <a:pt x="158" y="389"/>
                </a:cubicBezTo>
                <a:cubicBezTo>
                  <a:pt x="183" y="385"/>
                  <a:pt x="213" y="388"/>
                  <a:pt x="236" y="378"/>
                </a:cubicBezTo>
                <a:cubicBezTo>
                  <a:pt x="250" y="371"/>
                  <a:pt x="243" y="355"/>
                  <a:pt x="252" y="345"/>
                </a:cubicBezTo>
                <a:cubicBezTo>
                  <a:pt x="259" y="336"/>
                  <a:pt x="273" y="330"/>
                  <a:pt x="283" y="323"/>
                </a:cubicBezTo>
                <a:cubicBezTo>
                  <a:pt x="293" y="334"/>
                  <a:pt x="310" y="343"/>
                  <a:pt x="314" y="356"/>
                </a:cubicBezTo>
                <a:cubicBezTo>
                  <a:pt x="381" y="632"/>
                  <a:pt x="158" y="513"/>
                  <a:pt x="855" y="499"/>
                </a:cubicBezTo>
                <a:cubicBezTo>
                  <a:pt x="850" y="478"/>
                  <a:pt x="854" y="453"/>
                  <a:pt x="840" y="434"/>
                </a:cubicBezTo>
                <a:cubicBezTo>
                  <a:pt x="821" y="407"/>
                  <a:pt x="848" y="339"/>
                  <a:pt x="814" y="323"/>
                </a:cubicBezTo>
                <a:cubicBezTo>
                  <a:pt x="804" y="261"/>
                  <a:pt x="806" y="273"/>
                  <a:pt x="802" y="261"/>
                </a:cubicBezTo>
                <a:cubicBezTo>
                  <a:pt x="831" y="248"/>
                  <a:pt x="815" y="243"/>
                  <a:pt x="831" y="220"/>
                </a:cubicBezTo>
                <a:cubicBezTo>
                  <a:pt x="847" y="197"/>
                  <a:pt x="894" y="155"/>
                  <a:pt x="900" y="121"/>
                </a:cubicBezTo>
                <a:cubicBezTo>
                  <a:pt x="890" y="67"/>
                  <a:pt x="942" y="45"/>
                  <a:pt x="870" y="16"/>
                </a:cubicBezTo>
                <a:cubicBezTo>
                  <a:pt x="828" y="0"/>
                  <a:pt x="805" y="87"/>
                  <a:pt x="759" y="76"/>
                </a:cubicBezTo>
                <a:cubicBezTo>
                  <a:pt x="744" y="72"/>
                  <a:pt x="670" y="127"/>
                  <a:pt x="670" y="127"/>
                </a:cubicBezTo>
              </a:path>
            </a:pathLst>
          </a:custGeom>
          <a:gradFill rotWithShape="0">
            <a:gsLst>
              <a:gs pos="0">
                <a:srgbClr val="6c0000"/>
              </a:gs>
              <a:gs pos="50000">
                <a:srgbClr val="ff0000"/>
              </a:gs>
              <a:gs pos="100000">
                <a:srgbClr val="6c0000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rot="4200">
            <a:off x="75960" y="5589360"/>
            <a:ext cx="50472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 flipH="1" rot="16122000">
            <a:off x="1517400" y="4882320"/>
            <a:ext cx="44604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 rot="4200">
            <a:off x="777960" y="5268960"/>
            <a:ext cx="595080" cy="428400"/>
          </a:xfrm>
          <a:custGeom>
            <a:avLst/>
            <a:gdLst/>
            <a:ahLst/>
            <a:rect l="l" t="t" r="r" b="b"/>
            <a:pathLst>
              <a:path w="640" h="461">
                <a:moveTo>
                  <a:pt x="64" y="445"/>
                </a:moveTo>
                <a:cubicBezTo>
                  <a:pt x="125" y="442"/>
                  <a:pt x="187" y="442"/>
                  <a:pt x="248" y="437"/>
                </a:cubicBezTo>
                <a:cubicBezTo>
                  <a:pt x="259" y="436"/>
                  <a:pt x="276" y="439"/>
                  <a:pt x="280" y="429"/>
                </a:cubicBezTo>
                <a:cubicBezTo>
                  <a:pt x="298" y="382"/>
                  <a:pt x="274" y="374"/>
                  <a:pt x="248" y="357"/>
                </a:cubicBezTo>
                <a:cubicBezTo>
                  <a:pt x="228" y="297"/>
                  <a:pt x="257" y="369"/>
                  <a:pt x="216" y="317"/>
                </a:cubicBezTo>
                <a:cubicBezTo>
                  <a:pt x="210" y="310"/>
                  <a:pt x="188" y="256"/>
                  <a:pt x="184" y="245"/>
                </a:cubicBezTo>
                <a:cubicBezTo>
                  <a:pt x="192" y="112"/>
                  <a:pt x="164" y="95"/>
                  <a:pt x="280" y="109"/>
                </a:cubicBezTo>
                <a:cubicBezTo>
                  <a:pt x="317" y="121"/>
                  <a:pt x="347" y="145"/>
                  <a:pt x="384" y="157"/>
                </a:cubicBezTo>
                <a:cubicBezTo>
                  <a:pt x="457" y="267"/>
                  <a:pt x="415" y="186"/>
                  <a:pt x="424" y="429"/>
                </a:cubicBezTo>
                <a:cubicBezTo>
                  <a:pt x="533" y="424"/>
                  <a:pt x="607" y="457"/>
                  <a:pt x="640" y="357"/>
                </a:cubicBezTo>
                <a:cubicBezTo>
                  <a:pt x="625" y="269"/>
                  <a:pt x="611" y="293"/>
                  <a:pt x="512" y="285"/>
                </a:cubicBezTo>
                <a:cubicBezTo>
                  <a:pt x="485" y="205"/>
                  <a:pt x="475" y="141"/>
                  <a:pt x="408" y="85"/>
                </a:cubicBezTo>
                <a:cubicBezTo>
                  <a:pt x="393" y="73"/>
                  <a:pt x="371" y="43"/>
                  <a:pt x="352" y="37"/>
                </a:cubicBezTo>
                <a:cubicBezTo>
                  <a:pt x="311" y="24"/>
                  <a:pt x="214" y="11"/>
                  <a:pt x="168" y="5"/>
                </a:cubicBezTo>
                <a:cubicBezTo>
                  <a:pt x="141" y="8"/>
                  <a:pt x="88" y="0"/>
                  <a:pt x="64" y="29"/>
                </a:cubicBezTo>
                <a:cubicBezTo>
                  <a:pt x="56" y="38"/>
                  <a:pt x="52" y="50"/>
                  <a:pt x="48" y="61"/>
                </a:cubicBezTo>
                <a:cubicBezTo>
                  <a:pt x="42" y="77"/>
                  <a:pt x="32" y="109"/>
                  <a:pt x="32" y="109"/>
                </a:cubicBezTo>
                <a:cubicBezTo>
                  <a:pt x="37" y="180"/>
                  <a:pt x="22" y="196"/>
                  <a:pt x="56" y="237"/>
                </a:cubicBezTo>
                <a:cubicBezTo>
                  <a:pt x="69" y="253"/>
                  <a:pt x="80" y="271"/>
                  <a:pt x="96" y="285"/>
                </a:cubicBezTo>
                <a:cubicBezTo>
                  <a:pt x="110" y="298"/>
                  <a:pt x="144" y="317"/>
                  <a:pt x="144" y="317"/>
                </a:cubicBezTo>
                <a:cubicBezTo>
                  <a:pt x="177" y="366"/>
                  <a:pt x="162" y="371"/>
                  <a:pt x="104" y="357"/>
                </a:cubicBezTo>
                <a:cubicBezTo>
                  <a:pt x="66" y="347"/>
                  <a:pt x="44" y="329"/>
                  <a:pt x="8" y="317"/>
                </a:cubicBezTo>
                <a:cubicBezTo>
                  <a:pt x="13" y="374"/>
                  <a:pt x="0" y="429"/>
                  <a:pt x="48" y="461"/>
                </a:cubicBezTo>
                <a:cubicBezTo>
                  <a:pt x="86" y="452"/>
                  <a:pt x="90" y="458"/>
                  <a:pt x="64" y="445"/>
                </a:cubicBezTo>
                <a:close/>
              </a:path>
            </a:pathLst>
          </a:custGeom>
          <a:solidFill>
            <a:srgbClr val="3333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293760" y="4160880"/>
            <a:ext cx="1211040" cy="1044360"/>
          </a:xfrm>
          <a:custGeom>
            <a:avLst/>
            <a:gdLst/>
            <a:ahLst/>
            <a:rect l="l" t="t" r="r" b="b"/>
            <a:pathLst>
              <a:path w="1050" h="906">
                <a:moveTo>
                  <a:pt x="521" y="24"/>
                </a:moveTo>
                <a:cubicBezTo>
                  <a:pt x="598" y="0"/>
                  <a:pt x="573" y="2"/>
                  <a:pt x="709" y="24"/>
                </a:cubicBezTo>
                <a:cubicBezTo>
                  <a:pt x="734" y="28"/>
                  <a:pt x="784" y="48"/>
                  <a:pt x="784" y="48"/>
                </a:cubicBezTo>
                <a:cubicBezTo>
                  <a:pt x="864" y="105"/>
                  <a:pt x="820" y="70"/>
                  <a:pt x="910" y="157"/>
                </a:cubicBezTo>
                <a:cubicBezTo>
                  <a:pt x="939" y="185"/>
                  <a:pt x="985" y="254"/>
                  <a:pt x="985" y="254"/>
                </a:cubicBezTo>
                <a:cubicBezTo>
                  <a:pt x="1021" y="389"/>
                  <a:pt x="1050" y="536"/>
                  <a:pt x="973" y="664"/>
                </a:cubicBezTo>
                <a:cubicBezTo>
                  <a:pt x="954" y="697"/>
                  <a:pt x="927" y="767"/>
                  <a:pt x="897" y="785"/>
                </a:cubicBezTo>
                <a:cubicBezTo>
                  <a:pt x="847" y="817"/>
                  <a:pt x="805" y="862"/>
                  <a:pt x="747" y="882"/>
                </a:cubicBezTo>
                <a:cubicBezTo>
                  <a:pt x="715" y="894"/>
                  <a:pt x="646" y="906"/>
                  <a:pt x="646" y="906"/>
                </a:cubicBezTo>
                <a:cubicBezTo>
                  <a:pt x="489" y="898"/>
                  <a:pt x="376" y="886"/>
                  <a:pt x="232" y="846"/>
                </a:cubicBezTo>
                <a:cubicBezTo>
                  <a:pt x="153" y="795"/>
                  <a:pt x="100" y="741"/>
                  <a:pt x="69" y="652"/>
                </a:cubicBezTo>
                <a:cubicBezTo>
                  <a:pt x="73" y="521"/>
                  <a:pt x="0" y="178"/>
                  <a:pt x="203" y="114"/>
                </a:cubicBezTo>
                <a:cubicBezTo>
                  <a:pt x="274" y="46"/>
                  <a:pt x="360" y="62"/>
                  <a:pt x="458" y="48"/>
                </a:cubicBezTo>
                <a:cubicBezTo>
                  <a:pt x="537" y="22"/>
                  <a:pt x="560" y="24"/>
                  <a:pt x="521" y="24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 rot="20582400">
            <a:off x="536400" y="4363560"/>
            <a:ext cx="341640" cy="48096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 rot="20582400">
            <a:off x="903240" y="4264200"/>
            <a:ext cx="343080" cy="50796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 rot="8088000">
            <a:off x="601200" y="4390560"/>
            <a:ext cx="751680" cy="70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744" y="1256"/>
                </a:moveTo>
                <a:arcTo wR="10800" hR="10800" stAng="-7074784" swAng="7074784"/>
                <a:lnTo>
                  <a:pt x="10800" y="10800"/>
                </a:lnTo>
                <a:close/>
              </a:path>
              <a:path fill="none" w="21600" h="21600">
                <a:moveTo>
                  <a:pt x="5744" y="1256"/>
                </a:moveTo>
                <a:arcTo wR="10800" hR="10800" stAng="-7074784" swAng="707478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 rot="413400">
            <a:off x="907920" y="4773240"/>
            <a:ext cx="184320" cy="185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 rot="413400">
            <a:off x="677880" y="4422240"/>
            <a:ext cx="182520" cy="2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 rot="413400">
            <a:off x="1004760" y="4300200"/>
            <a:ext cx="182520" cy="257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 rot="448800">
            <a:off x="328320" y="4195800"/>
            <a:ext cx="260280" cy="250920"/>
          </a:xfrm>
          <a:custGeom>
            <a:avLst/>
            <a:gdLst/>
            <a:ahLst/>
            <a:rect l="l" t="t" r="r" b="b"/>
            <a:pathLst>
              <a:path w="273" h="258">
                <a:moveTo>
                  <a:pt x="273" y="40"/>
                </a:moveTo>
                <a:cubicBezTo>
                  <a:pt x="203" y="17"/>
                  <a:pt x="179" y="0"/>
                  <a:pt x="91" y="40"/>
                </a:cubicBezTo>
                <a:cubicBezTo>
                  <a:pt x="59" y="54"/>
                  <a:pt x="19" y="201"/>
                  <a:pt x="18" y="204"/>
                </a:cubicBezTo>
                <a:cubicBezTo>
                  <a:pt x="12" y="222"/>
                  <a:pt x="0" y="258"/>
                  <a:pt x="0" y="25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 rot="448800">
            <a:off x="587160" y="4092480"/>
            <a:ext cx="274320" cy="211320"/>
          </a:xfrm>
          <a:custGeom>
            <a:avLst/>
            <a:gdLst/>
            <a:ahLst/>
            <a:rect l="l" t="t" r="r" b="b"/>
            <a:pathLst>
              <a:path w="290" h="218">
                <a:moveTo>
                  <a:pt x="0" y="218"/>
                </a:moveTo>
                <a:cubicBezTo>
                  <a:pt x="66" y="118"/>
                  <a:pt x="157" y="0"/>
                  <a:pt x="29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 rot="448800">
            <a:off x="632880" y="4065480"/>
            <a:ext cx="1800" cy="195480"/>
          </a:xfrm>
          <a:custGeom>
            <a:avLst/>
            <a:gdLst/>
            <a:ahLst/>
            <a:rect l="l" t="t" r="r" b="b"/>
            <a:pathLst>
              <a:path w="1" h="200">
                <a:moveTo>
                  <a:pt x="0" y="200"/>
                </a:moveTo>
                <a:cubicBezTo>
                  <a:pt x="0" y="133"/>
                  <a:pt x="0" y="67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 rot="21140400">
            <a:off x="418680" y="4266720"/>
            <a:ext cx="233280" cy="392400"/>
          </a:xfrm>
          <a:custGeom>
            <a:avLst/>
            <a:gdLst/>
            <a:ahLst/>
            <a:rect l="l" t="t" r="r" b="b"/>
            <a:pathLst>
              <a:path w="273" h="400">
                <a:moveTo>
                  <a:pt x="273" y="0"/>
                </a:moveTo>
                <a:cubicBezTo>
                  <a:pt x="198" y="37"/>
                  <a:pt x="150" y="69"/>
                  <a:pt x="91" y="127"/>
                </a:cubicBezTo>
                <a:cubicBezTo>
                  <a:pt x="61" y="218"/>
                  <a:pt x="0" y="301"/>
                  <a:pt x="0" y="4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rot="1662000">
            <a:off x="651960" y="4183200"/>
            <a:ext cx="246240" cy="131760"/>
          </a:xfrm>
          <a:custGeom>
            <a:avLst/>
            <a:gdLst/>
            <a:ahLst/>
            <a:rect l="l" t="t" r="r" b="b"/>
            <a:pathLst>
              <a:path w="273" h="109">
                <a:moveTo>
                  <a:pt x="0" y="109"/>
                </a:moveTo>
                <a:cubicBezTo>
                  <a:pt x="12" y="91"/>
                  <a:pt x="17" y="66"/>
                  <a:pt x="36" y="54"/>
                </a:cubicBezTo>
                <a:cubicBezTo>
                  <a:pt x="105" y="11"/>
                  <a:pt x="195" y="0"/>
                  <a:pt x="273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 rot="2318400">
            <a:off x="1771200" y="4209840"/>
            <a:ext cx="990720" cy="1218960"/>
          </a:xfrm>
          <a:custGeom>
            <a:avLst/>
            <a:gdLst/>
            <a:ahLst/>
            <a:rect l="l" t="t" r="r" b="b"/>
            <a:pathLst>
              <a:path w="624" h="768">
                <a:moveTo>
                  <a:pt x="0" y="720"/>
                </a:moveTo>
                <a:lnTo>
                  <a:pt x="48" y="768"/>
                </a:lnTo>
                <a:lnTo>
                  <a:pt x="624" y="0"/>
                </a:lnTo>
                <a:lnTo>
                  <a:pt x="0" y="72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495360" y="266760"/>
            <a:ext cx="5219640" cy="3048120"/>
          </a:xfrm>
          <a:prstGeom prst="cloudCallout">
            <a:avLst>
              <a:gd name="adj1" fmla="val -41120"/>
              <a:gd name="adj2" fmla="val 71824"/>
            </a:avLst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4033800" y="1652760"/>
            <a:ext cx="803160" cy="62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738360" y="1709640"/>
            <a:ext cx="803160" cy="628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4572000" y="2781360"/>
            <a:ext cx="2687760" cy="2743200"/>
          </a:xfrm>
          <a:prstGeom prst="ellipse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4572000" y="4152960"/>
            <a:ext cx="2687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 flipV="1">
            <a:off x="5916600" y="4138560"/>
            <a:ext cx="0" cy="13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3" name=""/>
          <p:cNvGrpSpPr/>
          <p:nvPr/>
        </p:nvGrpSpPr>
        <p:grpSpPr>
          <a:xfrm>
            <a:off x="3205080" y="800280"/>
            <a:ext cx="2955960" cy="3096720"/>
            <a:chOff x="3205080" y="800280"/>
            <a:chExt cx="2955960" cy="3096720"/>
          </a:xfrm>
        </p:grpSpPr>
        <p:sp>
          <p:nvSpPr>
            <p:cNvPr id="2194" name=""/>
            <p:cNvSpPr txBox="1"/>
            <p:nvPr/>
          </p:nvSpPr>
          <p:spPr>
            <a:xfrm>
              <a:off x="5591160" y="3079800"/>
              <a:ext cx="569880" cy="8172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195" name=""/>
            <p:cNvSpPr txBox="1"/>
            <p:nvPr/>
          </p:nvSpPr>
          <p:spPr>
            <a:xfrm>
              <a:off x="3205080" y="800280"/>
              <a:ext cx="569880" cy="8172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2196" name=""/>
          <p:cNvGrpSpPr/>
          <p:nvPr/>
        </p:nvGrpSpPr>
        <p:grpSpPr>
          <a:xfrm>
            <a:off x="2079720" y="1380960"/>
            <a:ext cx="3168720" cy="3676680"/>
            <a:chOff x="2079720" y="1380960"/>
            <a:chExt cx="3168720" cy="3676680"/>
          </a:xfrm>
        </p:grpSpPr>
        <p:sp>
          <p:nvSpPr>
            <p:cNvPr id="2197" name=""/>
            <p:cNvSpPr txBox="1"/>
            <p:nvPr/>
          </p:nvSpPr>
          <p:spPr>
            <a:xfrm>
              <a:off x="5054760" y="4386240"/>
              <a:ext cx="193680" cy="671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198" name=""/>
            <p:cNvSpPr txBox="1"/>
            <p:nvPr/>
          </p:nvSpPr>
          <p:spPr>
            <a:xfrm>
              <a:off x="2079720" y="1380960"/>
              <a:ext cx="193680" cy="67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2199" name=""/>
          <p:cNvGrpSpPr/>
          <p:nvPr/>
        </p:nvGrpSpPr>
        <p:grpSpPr>
          <a:xfrm>
            <a:off x="3287880" y="1846440"/>
            <a:ext cx="3504600" cy="3220560"/>
            <a:chOff x="3287880" y="1846440"/>
            <a:chExt cx="3504600" cy="3220560"/>
          </a:xfrm>
        </p:grpSpPr>
        <p:sp>
          <p:nvSpPr>
            <p:cNvPr id="2200" name=""/>
            <p:cNvSpPr txBox="1"/>
            <p:nvPr/>
          </p:nvSpPr>
          <p:spPr>
            <a:xfrm>
              <a:off x="6261120" y="4437000"/>
              <a:ext cx="531360" cy="6300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2152"/>
                      </a:gs>
                      <a:gs pos="50000">
                        <a:srgbClr val="0066ff"/>
                      </a:gs>
                      <a:gs pos="100000">
                        <a:srgbClr val="002152"/>
                      </a:gs>
                    </a:gsLst>
                    <a:lin ang="5400000"/>
                  </a:gradFill>
                  <a:latin typeface="Arial Black"/>
                </a:rPr>
                <a:t>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2152"/>
                    </a:gs>
                    <a:gs pos="50000">
                      <a:srgbClr val="0066ff"/>
                    </a:gs>
                    <a:gs pos="100000">
                      <a:srgbClr val="002152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201" name=""/>
            <p:cNvSpPr txBox="1"/>
            <p:nvPr/>
          </p:nvSpPr>
          <p:spPr>
            <a:xfrm>
              <a:off x="3287880" y="1846440"/>
              <a:ext cx="574560" cy="6728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2152"/>
                      </a:gs>
                      <a:gs pos="50000">
                        <a:srgbClr val="0066ff"/>
                      </a:gs>
                      <a:gs pos="100000">
                        <a:srgbClr val="002152"/>
                      </a:gs>
                    </a:gsLst>
                    <a:lin ang="5400000"/>
                  </a:gradFill>
                  <a:latin typeface="Arial Black"/>
                </a:rPr>
                <a:t>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2152"/>
                    </a:gs>
                    <a:gs pos="50000">
                      <a:srgbClr val="0066ff"/>
                    </a:gs>
                    <a:gs pos="100000">
                      <a:srgbClr val="002152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2202" name=""/>
          <p:cNvGrpSpPr/>
          <p:nvPr/>
        </p:nvGrpSpPr>
        <p:grpSpPr>
          <a:xfrm>
            <a:off x="2552760" y="1619280"/>
            <a:ext cx="3349440" cy="3367080"/>
            <a:chOff x="2552760" y="1619280"/>
            <a:chExt cx="3349440" cy="3367080"/>
          </a:xfrm>
        </p:grpSpPr>
        <p:grpSp>
          <p:nvGrpSpPr>
            <p:cNvPr id="2203" name=""/>
            <p:cNvGrpSpPr/>
            <p:nvPr/>
          </p:nvGrpSpPr>
          <p:grpSpPr>
            <a:xfrm>
              <a:off x="2552760" y="1619280"/>
              <a:ext cx="304920" cy="152280"/>
              <a:chOff x="2552760" y="1619280"/>
              <a:chExt cx="304920" cy="152280"/>
            </a:xfrm>
          </p:grpSpPr>
          <p:sp>
            <p:nvSpPr>
              <p:cNvPr id="2204" name=""/>
              <p:cNvSpPr/>
              <p:nvPr/>
            </p:nvSpPr>
            <p:spPr>
              <a:xfrm>
                <a:off x="2552760" y="161928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2552760" y="177156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6" name=""/>
            <p:cNvGrpSpPr/>
            <p:nvPr/>
          </p:nvGrpSpPr>
          <p:grpSpPr>
            <a:xfrm>
              <a:off x="5324400" y="4524480"/>
              <a:ext cx="577800" cy="461880"/>
              <a:chOff x="5324400" y="4524480"/>
              <a:chExt cx="577800" cy="461880"/>
            </a:xfrm>
          </p:grpSpPr>
          <p:sp>
            <p:nvSpPr>
              <p:cNvPr id="2207" name=""/>
              <p:cNvSpPr/>
              <p:nvPr/>
            </p:nvSpPr>
            <p:spPr>
              <a:xfrm>
                <a:off x="5324400" y="4524480"/>
                <a:ext cx="577800" cy="46188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8" name=""/>
              <p:cNvGrpSpPr/>
              <p:nvPr/>
            </p:nvGrpSpPr>
            <p:grpSpPr>
              <a:xfrm>
                <a:off x="5449680" y="4690800"/>
                <a:ext cx="304920" cy="152280"/>
                <a:chOff x="5449680" y="4690800"/>
                <a:chExt cx="304920" cy="152280"/>
              </a:xfrm>
            </p:grpSpPr>
            <p:sp>
              <p:nvSpPr>
                <p:cNvPr id="2209" name=""/>
                <p:cNvSpPr/>
                <p:nvPr/>
              </p:nvSpPr>
              <p:spPr>
                <a:xfrm>
                  <a:off x="5449680" y="4690800"/>
                  <a:ext cx="3049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>
                  <a:off x="5449680" y="4843080"/>
                  <a:ext cx="3049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11" name=""/>
          <p:cNvGrpSpPr/>
          <p:nvPr/>
        </p:nvGrpSpPr>
        <p:grpSpPr>
          <a:xfrm>
            <a:off x="3046320" y="1735200"/>
            <a:ext cx="3903480" cy="2643120"/>
            <a:chOff x="3046320" y="1735200"/>
            <a:chExt cx="3903480" cy="2643120"/>
          </a:xfrm>
        </p:grpSpPr>
        <p:grpSp>
          <p:nvGrpSpPr>
            <p:cNvPr id="2212" name=""/>
            <p:cNvGrpSpPr/>
            <p:nvPr/>
          </p:nvGrpSpPr>
          <p:grpSpPr>
            <a:xfrm>
              <a:off x="6130800" y="3882960"/>
              <a:ext cx="819000" cy="495360"/>
              <a:chOff x="6130800" y="3882960"/>
              <a:chExt cx="819000" cy="495360"/>
            </a:xfrm>
          </p:grpSpPr>
          <p:sp>
            <p:nvSpPr>
              <p:cNvPr id="2213" name=""/>
              <p:cNvSpPr/>
              <p:nvPr/>
            </p:nvSpPr>
            <p:spPr>
              <a:xfrm>
                <a:off x="6130800" y="3882960"/>
                <a:ext cx="819000" cy="49536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6391080" y="4149720"/>
                <a:ext cx="323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507000" y="3979800"/>
                <a:ext cx="74520" cy="748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6503760" y="423396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7" name=""/>
            <p:cNvSpPr/>
            <p:nvPr/>
          </p:nvSpPr>
          <p:spPr>
            <a:xfrm>
              <a:off x="3046320" y="1735200"/>
              <a:ext cx="9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"/>
          <p:cNvSpPr/>
          <p:nvPr/>
        </p:nvSpPr>
        <p:spPr>
          <a:xfrm rot="4200">
            <a:off x="375840" y="5091120"/>
            <a:ext cx="1473120" cy="1295280"/>
          </a:xfrm>
          <a:custGeom>
            <a:avLst/>
            <a:gdLst/>
            <a:ahLst/>
            <a:rect l="l" t="t" r="r" b="b"/>
            <a:pathLst>
              <a:path w="1688" h="1469">
                <a:moveTo>
                  <a:pt x="60" y="859"/>
                </a:moveTo>
                <a:cubicBezTo>
                  <a:pt x="54" y="930"/>
                  <a:pt x="43" y="984"/>
                  <a:pt x="28" y="1050"/>
                </a:cubicBezTo>
                <a:cubicBezTo>
                  <a:pt x="25" y="1099"/>
                  <a:pt x="20" y="1147"/>
                  <a:pt x="20" y="1196"/>
                </a:cubicBezTo>
                <a:cubicBezTo>
                  <a:pt x="20" y="1374"/>
                  <a:pt x="0" y="1417"/>
                  <a:pt x="132" y="1424"/>
                </a:cubicBezTo>
                <a:cubicBezTo>
                  <a:pt x="289" y="1469"/>
                  <a:pt x="327" y="1216"/>
                  <a:pt x="636" y="1224"/>
                </a:cubicBezTo>
                <a:cubicBezTo>
                  <a:pt x="1284" y="1176"/>
                  <a:pt x="1224" y="1416"/>
                  <a:pt x="1508" y="1408"/>
                </a:cubicBezTo>
                <a:cubicBezTo>
                  <a:pt x="1548" y="1399"/>
                  <a:pt x="1606" y="1339"/>
                  <a:pt x="1644" y="1324"/>
                </a:cubicBezTo>
                <a:cubicBezTo>
                  <a:pt x="1652" y="1321"/>
                  <a:pt x="1648" y="1304"/>
                  <a:pt x="1652" y="1297"/>
                </a:cubicBezTo>
                <a:cubicBezTo>
                  <a:pt x="1659" y="1282"/>
                  <a:pt x="1668" y="1272"/>
                  <a:pt x="1676" y="1259"/>
                </a:cubicBezTo>
                <a:cubicBezTo>
                  <a:pt x="1688" y="1202"/>
                  <a:pt x="1676" y="1159"/>
                  <a:pt x="1660" y="1105"/>
                </a:cubicBezTo>
                <a:cubicBezTo>
                  <a:pt x="1649" y="1066"/>
                  <a:pt x="1643" y="1023"/>
                  <a:pt x="1628" y="986"/>
                </a:cubicBezTo>
                <a:cubicBezTo>
                  <a:pt x="1622" y="973"/>
                  <a:pt x="1611" y="962"/>
                  <a:pt x="1604" y="950"/>
                </a:cubicBezTo>
                <a:cubicBezTo>
                  <a:pt x="1581" y="906"/>
                  <a:pt x="1547" y="872"/>
                  <a:pt x="1520" y="832"/>
                </a:cubicBezTo>
                <a:cubicBezTo>
                  <a:pt x="1513" y="799"/>
                  <a:pt x="1498" y="688"/>
                  <a:pt x="1476" y="667"/>
                </a:cubicBezTo>
                <a:cubicBezTo>
                  <a:pt x="1469" y="661"/>
                  <a:pt x="1460" y="661"/>
                  <a:pt x="1452" y="658"/>
                </a:cubicBezTo>
                <a:cubicBezTo>
                  <a:pt x="1423" y="557"/>
                  <a:pt x="1472" y="706"/>
                  <a:pt x="1420" y="612"/>
                </a:cubicBezTo>
                <a:cubicBezTo>
                  <a:pt x="1407" y="588"/>
                  <a:pt x="1401" y="558"/>
                  <a:pt x="1396" y="530"/>
                </a:cubicBezTo>
                <a:cubicBezTo>
                  <a:pt x="1382" y="452"/>
                  <a:pt x="1383" y="354"/>
                  <a:pt x="1348" y="284"/>
                </a:cubicBezTo>
                <a:cubicBezTo>
                  <a:pt x="1335" y="258"/>
                  <a:pt x="1316" y="235"/>
                  <a:pt x="1300" y="211"/>
                </a:cubicBezTo>
                <a:cubicBezTo>
                  <a:pt x="1279" y="140"/>
                  <a:pt x="1267" y="125"/>
                  <a:pt x="1212" y="83"/>
                </a:cubicBezTo>
                <a:cubicBezTo>
                  <a:pt x="1198" y="73"/>
                  <a:pt x="1164" y="65"/>
                  <a:pt x="1164" y="65"/>
                </a:cubicBezTo>
                <a:cubicBezTo>
                  <a:pt x="1096" y="91"/>
                  <a:pt x="1010" y="87"/>
                  <a:pt x="940" y="92"/>
                </a:cubicBezTo>
                <a:cubicBezTo>
                  <a:pt x="822" y="89"/>
                  <a:pt x="675" y="93"/>
                  <a:pt x="548" y="75"/>
                </a:cubicBezTo>
                <a:cubicBezTo>
                  <a:pt x="499" y="66"/>
                  <a:pt x="454" y="46"/>
                  <a:pt x="404" y="37"/>
                </a:cubicBezTo>
                <a:cubicBezTo>
                  <a:pt x="156" y="49"/>
                  <a:pt x="253" y="0"/>
                  <a:pt x="164" y="102"/>
                </a:cubicBezTo>
                <a:cubicBezTo>
                  <a:pt x="146" y="165"/>
                  <a:pt x="134" y="230"/>
                  <a:pt x="116" y="293"/>
                </a:cubicBezTo>
                <a:cubicBezTo>
                  <a:pt x="106" y="421"/>
                  <a:pt x="183" y="546"/>
                  <a:pt x="168" y="672"/>
                </a:cubicBezTo>
                <a:cubicBezTo>
                  <a:pt x="160" y="739"/>
                  <a:pt x="39" y="787"/>
                  <a:pt x="117" y="918"/>
                </a:cubicBezTo>
              </a:path>
            </a:pathLst>
          </a:custGeom>
          <a:gradFill rotWithShape="0">
            <a:gsLst>
              <a:gs pos="0">
                <a:srgbClr val="750075"/>
              </a:gs>
              <a:gs pos="50000">
                <a:srgbClr val="ff00ff"/>
              </a:gs>
              <a:gs pos="100000">
                <a:srgbClr val="750075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 flipH="1" rot="4800">
            <a:off x="448920" y="6291360"/>
            <a:ext cx="571320" cy="345960"/>
          </a:xfrm>
          <a:custGeom>
            <a:avLst/>
            <a:gdLst/>
            <a:ahLst/>
            <a:rect l="l" t="t" r="r" b="b"/>
            <a:pathLst>
              <a:path w="599" h="265">
                <a:moveTo>
                  <a:pt x="42" y="0"/>
                </a:moveTo>
                <a:cubicBezTo>
                  <a:pt x="23" y="59"/>
                  <a:pt x="0" y="96"/>
                  <a:pt x="30" y="163"/>
                </a:cubicBezTo>
                <a:cubicBezTo>
                  <a:pt x="35" y="175"/>
                  <a:pt x="113" y="211"/>
                  <a:pt x="117" y="213"/>
                </a:cubicBezTo>
                <a:cubicBezTo>
                  <a:pt x="203" y="249"/>
                  <a:pt x="301" y="247"/>
                  <a:pt x="392" y="263"/>
                </a:cubicBezTo>
                <a:cubicBezTo>
                  <a:pt x="455" y="259"/>
                  <a:pt x="519" y="265"/>
                  <a:pt x="580" y="250"/>
                </a:cubicBezTo>
                <a:cubicBezTo>
                  <a:pt x="594" y="247"/>
                  <a:pt x="599" y="175"/>
                  <a:pt x="580" y="150"/>
                </a:cubicBezTo>
                <a:cubicBezTo>
                  <a:pt x="537" y="94"/>
                  <a:pt x="490" y="98"/>
                  <a:pt x="430" y="88"/>
                </a:cubicBezTo>
                <a:cubicBezTo>
                  <a:pt x="395" y="65"/>
                  <a:pt x="372" y="50"/>
                  <a:pt x="330" y="5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 rot="4200">
            <a:off x="642600" y="5716080"/>
            <a:ext cx="1093680" cy="655920"/>
          </a:xfrm>
          <a:custGeom>
            <a:avLst/>
            <a:gdLst/>
            <a:ahLst/>
            <a:rect l="l" t="t" r="r" b="b"/>
            <a:pathLst>
              <a:path w="1175" h="705">
                <a:moveTo>
                  <a:pt x="88" y="67"/>
                </a:moveTo>
                <a:cubicBezTo>
                  <a:pt x="76" y="271"/>
                  <a:pt x="64" y="396"/>
                  <a:pt x="0" y="579"/>
                </a:cubicBezTo>
                <a:cubicBezTo>
                  <a:pt x="4" y="600"/>
                  <a:pt x="2" y="623"/>
                  <a:pt x="13" y="642"/>
                </a:cubicBezTo>
                <a:cubicBezTo>
                  <a:pt x="26" y="665"/>
                  <a:pt x="80" y="677"/>
                  <a:pt x="100" y="679"/>
                </a:cubicBezTo>
                <a:cubicBezTo>
                  <a:pt x="183" y="686"/>
                  <a:pt x="267" y="688"/>
                  <a:pt x="350" y="692"/>
                </a:cubicBezTo>
                <a:cubicBezTo>
                  <a:pt x="375" y="688"/>
                  <a:pt x="403" y="692"/>
                  <a:pt x="425" y="679"/>
                </a:cubicBezTo>
                <a:cubicBezTo>
                  <a:pt x="436" y="673"/>
                  <a:pt x="432" y="654"/>
                  <a:pt x="438" y="642"/>
                </a:cubicBezTo>
                <a:cubicBezTo>
                  <a:pt x="467" y="585"/>
                  <a:pt x="464" y="622"/>
                  <a:pt x="488" y="554"/>
                </a:cubicBezTo>
                <a:cubicBezTo>
                  <a:pt x="503" y="513"/>
                  <a:pt x="525" y="429"/>
                  <a:pt x="525" y="429"/>
                </a:cubicBezTo>
                <a:cubicBezTo>
                  <a:pt x="539" y="336"/>
                  <a:pt x="515" y="312"/>
                  <a:pt x="600" y="292"/>
                </a:cubicBezTo>
                <a:cubicBezTo>
                  <a:pt x="633" y="386"/>
                  <a:pt x="636" y="509"/>
                  <a:pt x="650" y="604"/>
                </a:cubicBezTo>
                <a:cubicBezTo>
                  <a:pt x="654" y="634"/>
                  <a:pt x="695" y="649"/>
                  <a:pt x="725" y="654"/>
                </a:cubicBezTo>
                <a:cubicBezTo>
                  <a:pt x="859" y="678"/>
                  <a:pt x="933" y="694"/>
                  <a:pt x="1075" y="704"/>
                </a:cubicBezTo>
                <a:cubicBezTo>
                  <a:pt x="1104" y="700"/>
                  <a:pt x="1137" y="705"/>
                  <a:pt x="1163" y="692"/>
                </a:cubicBezTo>
                <a:cubicBezTo>
                  <a:pt x="1175" y="686"/>
                  <a:pt x="1175" y="667"/>
                  <a:pt x="1175" y="654"/>
                </a:cubicBezTo>
                <a:cubicBezTo>
                  <a:pt x="1175" y="463"/>
                  <a:pt x="1163" y="472"/>
                  <a:pt x="1075" y="342"/>
                </a:cubicBezTo>
                <a:cubicBezTo>
                  <a:pt x="1071" y="326"/>
                  <a:pt x="1060" y="271"/>
                  <a:pt x="1050" y="254"/>
                </a:cubicBezTo>
                <a:cubicBezTo>
                  <a:pt x="1035" y="228"/>
                  <a:pt x="1000" y="179"/>
                  <a:pt x="1000" y="179"/>
                </a:cubicBezTo>
                <a:cubicBezTo>
                  <a:pt x="979" y="113"/>
                  <a:pt x="995" y="153"/>
                  <a:pt x="938" y="67"/>
                </a:cubicBezTo>
                <a:cubicBezTo>
                  <a:pt x="893" y="0"/>
                  <a:pt x="900" y="78"/>
                  <a:pt x="900" y="17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50000">
                <a:srgbClr val="ccecff"/>
              </a:gs>
              <a:gs pos="100000">
                <a:srgbClr val="00cc99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rot="4200">
            <a:off x="1310760" y="6342120"/>
            <a:ext cx="617760" cy="291960"/>
          </a:xfrm>
          <a:custGeom>
            <a:avLst/>
            <a:gdLst/>
            <a:ahLst/>
            <a:rect l="l" t="t" r="r" b="b"/>
            <a:pathLst>
              <a:path w="599" h="265">
                <a:moveTo>
                  <a:pt x="42" y="0"/>
                </a:moveTo>
                <a:cubicBezTo>
                  <a:pt x="23" y="59"/>
                  <a:pt x="0" y="96"/>
                  <a:pt x="30" y="163"/>
                </a:cubicBezTo>
                <a:cubicBezTo>
                  <a:pt x="35" y="175"/>
                  <a:pt x="113" y="211"/>
                  <a:pt x="117" y="213"/>
                </a:cubicBezTo>
                <a:cubicBezTo>
                  <a:pt x="203" y="249"/>
                  <a:pt x="301" y="247"/>
                  <a:pt x="392" y="263"/>
                </a:cubicBezTo>
                <a:cubicBezTo>
                  <a:pt x="455" y="259"/>
                  <a:pt x="519" y="265"/>
                  <a:pt x="580" y="250"/>
                </a:cubicBezTo>
                <a:cubicBezTo>
                  <a:pt x="594" y="247"/>
                  <a:pt x="599" y="175"/>
                  <a:pt x="580" y="150"/>
                </a:cubicBezTo>
                <a:cubicBezTo>
                  <a:pt x="537" y="94"/>
                  <a:pt x="490" y="98"/>
                  <a:pt x="430" y="88"/>
                </a:cubicBezTo>
                <a:cubicBezTo>
                  <a:pt x="395" y="65"/>
                  <a:pt x="372" y="50"/>
                  <a:pt x="330" y="50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152280" y="4979880"/>
            <a:ext cx="1495440" cy="1003320"/>
          </a:xfrm>
          <a:custGeom>
            <a:avLst/>
            <a:gdLst/>
            <a:ahLst/>
            <a:rect l="l" t="t" r="r" b="b"/>
            <a:pathLst>
              <a:path w="942" h="632">
                <a:moveTo>
                  <a:pt x="221" y="159"/>
                </a:moveTo>
                <a:cubicBezTo>
                  <a:pt x="211" y="166"/>
                  <a:pt x="202" y="175"/>
                  <a:pt x="190" y="181"/>
                </a:cubicBezTo>
                <a:cubicBezTo>
                  <a:pt x="160" y="196"/>
                  <a:pt x="97" y="224"/>
                  <a:pt x="97" y="224"/>
                </a:cubicBezTo>
                <a:cubicBezTo>
                  <a:pt x="45" y="279"/>
                  <a:pt x="0" y="295"/>
                  <a:pt x="50" y="367"/>
                </a:cubicBezTo>
                <a:cubicBezTo>
                  <a:pt x="58" y="377"/>
                  <a:pt x="81" y="375"/>
                  <a:pt x="97" y="378"/>
                </a:cubicBezTo>
                <a:cubicBezTo>
                  <a:pt x="117" y="382"/>
                  <a:pt x="137" y="385"/>
                  <a:pt x="158" y="389"/>
                </a:cubicBezTo>
                <a:cubicBezTo>
                  <a:pt x="183" y="385"/>
                  <a:pt x="213" y="388"/>
                  <a:pt x="236" y="378"/>
                </a:cubicBezTo>
                <a:cubicBezTo>
                  <a:pt x="250" y="371"/>
                  <a:pt x="243" y="355"/>
                  <a:pt x="252" y="345"/>
                </a:cubicBezTo>
                <a:cubicBezTo>
                  <a:pt x="259" y="336"/>
                  <a:pt x="273" y="330"/>
                  <a:pt x="283" y="323"/>
                </a:cubicBezTo>
                <a:cubicBezTo>
                  <a:pt x="293" y="334"/>
                  <a:pt x="310" y="343"/>
                  <a:pt x="314" y="356"/>
                </a:cubicBezTo>
                <a:cubicBezTo>
                  <a:pt x="381" y="632"/>
                  <a:pt x="158" y="513"/>
                  <a:pt x="855" y="499"/>
                </a:cubicBezTo>
                <a:cubicBezTo>
                  <a:pt x="850" y="478"/>
                  <a:pt x="854" y="453"/>
                  <a:pt x="840" y="434"/>
                </a:cubicBezTo>
                <a:cubicBezTo>
                  <a:pt x="821" y="407"/>
                  <a:pt x="848" y="339"/>
                  <a:pt x="814" y="323"/>
                </a:cubicBezTo>
                <a:cubicBezTo>
                  <a:pt x="804" y="261"/>
                  <a:pt x="806" y="273"/>
                  <a:pt x="802" y="261"/>
                </a:cubicBezTo>
                <a:cubicBezTo>
                  <a:pt x="831" y="248"/>
                  <a:pt x="815" y="243"/>
                  <a:pt x="831" y="220"/>
                </a:cubicBezTo>
                <a:cubicBezTo>
                  <a:pt x="847" y="197"/>
                  <a:pt x="894" y="155"/>
                  <a:pt x="900" y="121"/>
                </a:cubicBezTo>
                <a:cubicBezTo>
                  <a:pt x="890" y="67"/>
                  <a:pt x="942" y="45"/>
                  <a:pt x="870" y="16"/>
                </a:cubicBezTo>
                <a:cubicBezTo>
                  <a:pt x="828" y="0"/>
                  <a:pt x="805" y="87"/>
                  <a:pt x="759" y="76"/>
                </a:cubicBezTo>
                <a:cubicBezTo>
                  <a:pt x="744" y="72"/>
                  <a:pt x="670" y="127"/>
                  <a:pt x="670" y="127"/>
                </a:cubicBezTo>
              </a:path>
            </a:pathLst>
          </a:custGeom>
          <a:gradFill rotWithShape="0">
            <a:gsLst>
              <a:gs pos="0">
                <a:srgbClr val="6c0000"/>
              </a:gs>
              <a:gs pos="50000">
                <a:srgbClr val="ff0000"/>
              </a:gs>
              <a:gs pos="100000">
                <a:srgbClr val="6c0000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 rot="4200">
            <a:off x="75960" y="5589360"/>
            <a:ext cx="50472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 flipH="1" rot="16122000">
            <a:off x="1517400" y="4882320"/>
            <a:ext cx="44604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 rot="4200">
            <a:off x="777960" y="5268960"/>
            <a:ext cx="595080" cy="428400"/>
          </a:xfrm>
          <a:custGeom>
            <a:avLst/>
            <a:gdLst/>
            <a:ahLst/>
            <a:rect l="l" t="t" r="r" b="b"/>
            <a:pathLst>
              <a:path w="640" h="461">
                <a:moveTo>
                  <a:pt x="64" y="445"/>
                </a:moveTo>
                <a:cubicBezTo>
                  <a:pt x="125" y="442"/>
                  <a:pt x="187" y="442"/>
                  <a:pt x="248" y="437"/>
                </a:cubicBezTo>
                <a:cubicBezTo>
                  <a:pt x="259" y="436"/>
                  <a:pt x="276" y="439"/>
                  <a:pt x="280" y="429"/>
                </a:cubicBezTo>
                <a:cubicBezTo>
                  <a:pt x="298" y="382"/>
                  <a:pt x="274" y="374"/>
                  <a:pt x="248" y="357"/>
                </a:cubicBezTo>
                <a:cubicBezTo>
                  <a:pt x="228" y="297"/>
                  <a:pt x="257" y="369"/>
                  <a:pt x="216" y="317"/>
                </a:cubicBezTo>
                <a:cubicBezTo>
                  <a:pt x="210" y="310"/>
                  <a:pt x="188" y="256"/>
                  <a:pt x="184" y="245"/>
                </a:cubicBezTo>
                <a:cubicBezTo>
                  <a:pt x="192" y="112"/>
                  <a:pt x="164" y="95"/>
                  <a:pt x="280" y="109"/>
                </a:cubicBezTo>
                <a:cubicBezTo>
                  <a:pt x="317" y="121"/>
                  <a:pt x="347" y="145"/>
                  <a:pt x="384" y="157"/>
                </a:cubicBezTo>
                <a:cubicBezTo>
                  <a:pt x="457" y="267"/>
                  <a:pt x="415" y="186"/>
                  <a:pt x="424" y="429"/>
                </a:cubicBezTo>
                <a:cubicBezTo>
                  <a:pt x="533" y="424"/>
                  <a:pt x="607" y="457"/>
                  <a:pt x="640" y="357"/>
                </a:cubicBezTo>
                <a:cubicBezTo>
                  <a:pt x="625" y="269"/>
                  <a:pt x="611" y="293"/>
                  <a:pt x="512" y="285"/>
                </a:cubicBezTo>
                <a:cubicBezTo>
                  <a:pt x="485" y="205"/>
                  <a:pt x="475" y="141"/>
                  <a:pt x="408" y="85"/>
                </a:cubicBezTo>
                <a:cubicBezTo>
                  <a:pt x="393" y="73"/>
                  <a:pt x="371" y="43"/>
                  <a:pt x="352" y="37"/>
                </a:cubicBezTo>
                <a:cubicBezTo>
                  <a:pt x="311" y="24"/>
                  <a:pt x="214" y="11"/>
                  <a:pt x="168" y="5"/>
                </a:cubicBezTo>
                <a:cubicBezTo>
                  <a:pt x="141" y="8"/>
                  <a:pt x="88" y="0"/>
                  <a:pt x="64" y="29"/>
                </a:cubicBezTo>
                <a:cubicBezTo>
                  <a:pt x="56" y="38"/>
                  <a:pt x="52" y="50"/>
                  <a:pt x="48" y="61"/>
                </a:cubicBezTo>
                <a:cubicBezTo>
                  <a:pt x="42" y="77"/>
                  <a:pt x="32" y="109"/>
                  <a:pt x="32" y="109"/>
                </a:cubicBezTo>
                <a:cubicBezTo>
                  <a:pt x="37" y="180"/>
                  <a:pt x="22" y="196"/>
                  <a:pt x="56" y="237"/>
                </a:cubicBezTo>
                <a:cubicBezTo>
                  <a:pt x="69" y="253"/>
                  <a:pt x="80" y="271"/>
                  <a:pt x="96" y="285"/>
                </a:cubicBezTo>
                <a:cubicBezTo>
                  <a:pt x="110" y="298"/>
                  <a:pt x="144" y="317"/>
                  <a:pt x="144" y="317"/>
                </a:cubicBezTo>
                <a:cubicBezTo>
                  <a:pt x="177" y="366"/>
                  <a:pt x="162" y="371"/>
                  <a:pt x="104" y="357"/>
                </a:cubicBezTo>
                <a:cubicBezTo>
                  <a:pt x="66" y="347"/>
                  <a:pt x="44" y="329"/>
                  <a:pt x="8" y="317"/>
                </a:cubicBezTo>
                <a:cubicBezTo>
                  <a:pt x="13" y="374"/>
                  <a:pt x="0" y="429"/>
                  <a:pt x="48" y="461"/>
                </a:cubicBezTo>
                <a:cubicBezTo>
                  <a:pt x="86" y="452"/>
                  <a:pt x="90" y="458"/>
                  <a:pt x="64" y="445"/>
                </a:cubicBezTo>
                <a:close/>
              </a:path>
            </a:pathLst>
          </a:custGeom>
          <a:solidFill>
            <a:srgbClr val="3333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293760" y="4160880"/>
            <a:ext cx="1211040" cy="1044360"/>
          </a:xfrm>
          <a:custGeom>
            <a:avLst/>
            <a:gdLst/>
            <a:ahLst/>
            <a:rect l="l" t="t" r="r" b="b"/>
            <a:pathLst>
              <a:path w="1050" h="906">
                <a:moveTo>
                  <a:pt x="521" y="24"/>
                </a:moveTo>
                <a:cubicBezTo>
                  <a:pt x="598" y="0"/>
                  <a:pt x="573" y="2"/>
                  <a:pt x="709" y="24"/>
                </a:cubicBezTo>
                <a:cubicBezTo>
                  <a:pt x="734" y="28"/>
                  <a:pt x="784" y="48"/>
                  <a:pt x="784" y="48"/>
                </a:cubicBezTo>
                <a:cubicBezTo>
                  <a:pt x="864" y="105"/>
                  <a:pt x="820" y="70"/>
                  <a:pt x="910" y="157"/>
                </a:cubicBezTo>
                <a:cubicBezTo>
                  <a:pt x="939" y="185"/>
                  <a:pt x="985" y="254"/>
                  <a:pt x="985" y="254"/>
                </a:cubicBezTo>
                <a:cubicBezTo>
                  <a:pt x="1021" y="389"/>
                  <a:pt x="1050" y="536"/>
                  <a:pt x="973" y="664"/>
                </a:cubicBezTo>
                <a:cubicBezTo>
                  <a:pt x="954" y="697"/>
                  <a:pt x="927" y="767"/>
                  <a:pt x="897" y="785"/>
                </a:cubicBezTo>
                <a:cubicBezTo>
                  <a:pt x="847" y="817"/>
                  <a:pt x="805" y="862"/>
                  <a:pt x="747" y="882"/>
                </a:cubicBezTo>
                <a:cubicBezTo>
                  <a:pt x="715" y="894"/>
                  <a:pt x="646" y="906"/>
                  <a:pt x="646" y="906"/>
                </a:cubicBezTo>
                <a:cubicBezTo>
                  <a:pt x="489" y="898"/>
                  <a:pt x="376" y="886"/>
                  <a:pt x="232" y="846"/>
                </a:cubicBezTo>
                <a:cubicBezTo>
                  <a:pt x="153" y="795"/>
                  <a:pt x="100" y="741"/>
                  <a:pt x="69" y="652"/>
                </a:cubicBezTo>
                <a:cubicBezTo>
                  <a:pt x="73" y="521"/>
                  <a:pt x="0" y="178"/>
                  <a:pt x="203" y="114"/>
                </a:cubicBezTo>
                <a:cubicBezTo>
                  <a:pt x="274" y="46"/>
                  <a:pt x="360" y="62"/>
                  <a:pt x="458" y="48"/>
                </a:cubicBezTo>
                <a:cubicBezTo>
                  <a:pt x="537" y="22"/>
                  <a:pt x="560" y="24"/>
                  <a:pt x="521" y="24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 rot="20582400">
            <a:off x="536400" y="4363560"/>
            <a:ext cx="341640" cy="48096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 rot="20582400">
            <a:off x="903240" y="4264200"/>
            <a:ext cx="343080" cy="50796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 rot="8088000">
            <a:off x="601200" y="4390560"/>
            <a:ext cx="751680" cy="70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744" y="1256"/>
                </a:moveTo>
                <a:arcTo wR="10800" hR="10800" stAng="-7074784" swAng="7074784"/>
                <a:lnTo>
                  <a:pt x="10800" y="10800"/>
                </a:lnTo>
                <a:close/>
              </a:path>
              <a:path fill="none" w="21600" h="21600">
                <a:moveTo>
                  <a:pt x="5744" y="1256"/>
                </a:moveTo>
                <a:arcTo wR="10800" hR="10800" stAng="-7074784" swAng="707478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 rot="413400">
            <a:off x="907920" y="4773240"/>
            <a:ext cx="184320" cy="185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 rot="413400">
            <a:off x="677880" y="4422240"/>
            <a:ext cx="182520" cy="2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 rot="413400">
            <a:off x="1004760" y="4300200"/>
            <a:ext cx="182520" cy="257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rot="448800">
            <a:off x="328320" y="4195800"/>
            <a:ext cx="260280" cy="250920"/>
          </a:xfrm>
          <a:custGeom>
            <a:avLst/>
            <a:gdLst/>
            <a:ahLst/>
            <a:rect l="l" t="t" r="r" b="b"/>
            <a:pathLst>
              <a:path w="273" h="258">
                <a:moveTo>
                  <a:pt x="273" y="40"/>
                </a:moveTo>
                <a:cubicBezTo>
                  <a:pt x="203" y="17"/>
                  <a:pt x="179" y="0"/>
                  <a:pt x="91" y="40"/>
                </a:cubicBezTo>
                <a:cubicBezTo>
                  <a:pt x="59" y="54"/>
                  <a:pt x="19" y="201"/>
                  <a:pt x="18" y="204"/>
                </a:cubicBezTo>
                <a:cubicBezTo>
                  <a:pt x="12" y="222"/>
                  <a:pt x="0" y="258"/>
                  <a:pt x="0" y="25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 rot="448800">
            <a:off x="587160" y="4092480"/>
            <a:ext cx="274320" cy="211320"/>
          </a:xfrm>
          <a:custGeom>
            <a:avLst/>
            <a:gdLst/>
            <a:ahLst/>
            <a:rect l="l" t="t" r="r" b="b"/>
            <a:pathLst>
              <a:path w="290" h="218">
                <a:moveTo>
                  <a:pt x="0" y="218"/>
                </a:moveTo>
                <a:cubicBezTo>
                  <a:pt x="66" y="118"/>
                  <a:pt x="157" y="0"/>
                  <a:pt x="29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 rot="448800">
            <a:off x="632880" y="4065480"/>
            <a:ext cx="1800" cy="195480"/>
          </a:xfrm>
          <a:custGeom>
            <a:avLst/>
            <a:gdLst/>
            <a:ahLst/>
            <a:rect l="l" t="t" r="r" b="b"/>
            <a:pathLst>
              <a:path w="1" h="200">
                <a:moveTo>
                  <a:pt x="0" y="200"/>
                </a:moveTo>
                <a:cubicBezTo>
                  <a:pt x="0" y="133"/>
                  <a:pt x="0" y="67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 rot="21140400">
            <a:off x="418680" y="4266720"/>
            <a:ext cx="233280" cy="392400"/>
          </a:xfrm>
          <a:custGeom>
            <a:avLst/>
            <a:gdLst/>
            <a:ahLst/>
            <a:rect l="l" t="t" r="r" b="b"/>
            <a:pathLst>
              <a:path w="273" h="400">
                <a:moveTo>
                  <a:pt x="273" y="0"/>
                </a:moveTo>
                <a:cubicBezTo>
                  <a:pt x="198" y="37"/>
                  <a:pt x="150" y="69"/>
                  <a:pt x="91" y="127"/>
                </a:cubicBezTo>
                <a:cubicBezTo>
                  <a:pt x="61" y="218"/>
                  <a:pt x="0" y="301"/>
                  <a:pt x="0" y="4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 rot="1662000">
            <a:off x="651960" y="4183200"/>
            <a:ext cx="246240" cy="131760"/>
          </a:xfrm>
          <a:custGeom>
            <a:avLst/>
            <a:gdLst/>
            <a:ahLst/>
            <a:rect l="l" t="t" r="r" b="b"/>
            <a:pathLst>
              <a:path w="273" h="109">
                <a:moveTo>
                  <a:pt x="0" y="109"/>
                </a:moveTo>
                <a:cubicBezTo>
                  <a:pt x="12" y="91"/>
                  <a:pt x="17" y="66"/>
                  <a:pt x="36" y="54"/>
                </a:cubicBezTo>
                <a:cubicBezTo>
                  <a:pt x="105" y="11"/>
                  <a:pt x="195" y="0"/>
                  <a:pt x="273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 rot="2318400">
            <a:off x="1771200" y="4209840"/>
            <a:ext cx="990720" cy="1218960"/>
          </a:xfrm>
          <a:custGeom>
            <a:avLst/>
            <a:gdLst/>
            <a:ahLst/>
            <a:rect l="l" t="t" r="r" b="b"/>
            <a:pathLst>
              <a:path w="624" h="768">
                <a:moveTo>
                  <a:pt x="0" y="720"/>
                </a:moveTo>
                <a:lnTo>
                  <a:pt x="48" y="768"/>
                </a:lnTo>
                <a:lnTo>
                  <a:pt x="624" y="0"/>
                </a:lnTo>
                <a:lnTo>
                  <a:pt x="0" y="72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495360" y="266760"/>
            <a:ext cx="5219640" cy="3048120"/>
          </a:xfrm>
          <a:prstGeom prst="cloudCallout">
            <a:avLst>
              <a:gd name="adj1" fmla="val -41120"/>
              <a:gd name="adj2" fmla="val 71824"/>
            </a:avLst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4033800" y="1652760"/>
            <a:ext cx="803160" cy="62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738360" y="1709640"/>
            <a:ext cx="803160" cy="628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4591080" y="2781360"/>
            <a:ext cx="2687760" cy="2743200"/>
          </a:xfrm>
          <a:prstGeom prst="ellipse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4572000" y="4152960"/>
            <a:ext cx="2687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 flipV="1">
            <a:off x="5916600" y="4138560"/>
            <a:ext cx="0" cy="13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5" name=""/>
          <p:cNvGrpSpPr/>
          <p:nvPr/>
        </p:nvGrpSpPr>
        <p:grpSpPr>
          <a:xfrm>
            <a:off x="3262320" y="819000"/>
            <a:ext cx="2841480" cy="3021120"/>
            <a:chOff x="3262320" y="819000"/>
            <a:chExt cx="2841480" cy="3021120"/>
          </a:xfrm>
        </p:grpSpPr>
        <p:sp>
          <p:nvSpPr>
            <p:cNvPr id="2246" name=""/>
            <p:cNvSpPr txBox="1"/>
            <p:nvPr/>
          </p:nvSpPr>
          <p:spPr>
            <a:xfrm>
              <a:off x="5533920" y="3022560"/>
              <a:ext cx="569880" cy="8175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247" name=""/>
            <p:cNvSpPr txBox="1"/>
            <p:nvPr/>
          </p:nvSpPr>
          <p:spPr>
            <a:xfrm>
              <a:off x="3262320" y="819000"/>
              <a:ext cx="569880" cy="8175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3508200" y="1914480"/>
            <a:ext cx="1911600" cy="3162240"/>
            <a:chOff x="3508200" y="1914480"/>
            <a:chExt cx="1911600" cy="3162240"/>
          </a:xfrm>
        </p:grpSpPr>
        <p:sp>
          <p:nvSpPr>
            <p:cNvPr id="2249" name=""/>
            <p:cNvSpPr txBox="1"/>
            <p:nvPr/>
          </p:nvSpPr>
          <p:spPr>
            <a:xfrm>
              <a:off x="5226120" y="4405320"/>
              <a:ext cx="193680" cy="671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250" name=""/>
            <p:cNvSpPr txBox="1"/>
            <p:nvPr/>
          </p:nvSpPr>
          <p:spPr>
            <a:xfrm>
              <a:off x="3508200" y="1914480"/>
              <a:ext cx="193680" cy="671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2251" name=""/>
          <p:cNvGrpSpPr/>
          <p:nvPr/>
        </p:nvGrpSpPr>
        <p:grpSpPr>
          <a:xfrm>
            <a:off x="1706400" y="1407960"/>
            <a:ext cx="4896000" cy="3640320"/>
            <a:chOff x="1706400" y="1407960"/>
            <a:chExt cx="4896000" cy="3640320"/>
          </a:xfrm>
        </p:grpSpPr>
        <p:sp>
          <p:nvSpPr>
            <p:cNvPr id="2252" name=""/>
            <p:cNvSpPr txBox="1"/>
            <p:nvPr/>
          </p:nvSpPr>
          <p:spPr>
            <a:xfrm>
              <a:off x="6070680" y="4417920"/>
              <a:ext cx="531720" cy="6303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2152"/>
                      </a:gs>
                      <a:gs pos="50000">
                        <a:srgbClr val="0066ff"/>
                      </a:gs>
                      <a:gs pos="100000">
                        <a:srgbClr val="002152"/>
                      </a:gs>
                    </a:gsLst>
                    <a:lin ang="5400000"/>
                  </a:gradFill>
                  <a:latin typeface="Arial Black"/>
                </a:rPr>
                <a:t>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2152"/>
                    </a:gs>
                    <a:gs pos="50000">
                      <a:srgbClr val="0066ff"/>
                    </a:gs>
                    <a:gs pos="100000">
                      <a:srgbClr val="002152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253" name=""/>
            <p:cNvSpPr txBox="1"/>
            <p:nvPr/>
          </p:nvSpPr>
          <p:spPr>
            <a:xfrm>
              <a:off x="1706400" y="1407960"/>
              <a:ext cx="574920" cy="6732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2152"/>
                      </a:gs>
                      <a:gs pos="50000">
                        <a:srgbClr val="0066ff"/>
                      </a:gs>
                      <a:gs pos="100000">
                        <a:srgbClr val="002152"/>
                      </a:gs>
                    </a:gsLst>
                    <a:lin ang="5400000"/>
                  </a:gradFill>
                  <a:latin typeface="Arial Black"/>
                </a:rPr>
                <a:t>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2152"/>
                    </a:gs>
                    <a:gs pos="50000">
                      <a:srgbClr val="0066ff"/>
                    </a:gs>
                    <a:gs pos="100000">
                      <a:srgbClr val="002152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2254" name=""/>
          <p:cNvGrpSpPr/>
          <p:nvPr/>
        </p:nvGrpSpPr>
        <p:grpSpPr>
          <a:xfrm>
            <a:off x="2552760" y="1619280"/>
            <a:ext cx="4511520" cy="3290760"/>
            <a:chOff x="2552760" y="1619280"/>
            <a:chExt cx="4511520" cy="3290760"/>
          </a:xfrm>
        </p:grpSpPr>
        <p:grpSp>
          <p:nvGrpSpPr>
            <p:cNvPr id="2255" name=""/>
            <p:cNvGrpSpPr/>
            <p:nvPr/>
          </p:nvGrpSpPr>
          <p:grpSpPr>
            <a:xfrm>
              <a:off x="2552760" y="1619280"/>
              <a:ext cx="304920" cy="152280"/>
              <a:chOff x="2552760" y="1619280"/>
              <a:chExt cx="304920" cy="152280"/>
            </a:xfrm>
          </p:grpSpPr>
          <p:sp>
            <p:nvSpPr>
              <p:cNvPr id="2256" name=""/>
              <p:cNvSpPr/>
              <p:nvPr/>
            </p:nvSpPr>
            <p:spPr>
              <a:xfrm>
                <a:off x="2552760" y="161928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2552760" y="177156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8" name=""/>
            <p:cNvGrpSpPr/>
            <p:nvPr/>
          </p:nvGrpSpPr>
          <p:grpSpPr>
            <a:xfrm>
              <a:off x="6562800" y="4467240"/>
              <a:ext cx="501480" cy="442800"/>
              <a:chOff x="6562800" y="4467240"/>
              <a:chExt cx="501480" cy="442800"/>
            </a:xfrm>
          </p:grpSpPr>
          <p:sp>
            <p:nvSpPr>
              <p:cNvPr id="2259" name=""/>
              <p:cNvSpPr/>
              <p:nvPr/>
            </p:nvSpPr>
            <p:spPr>
              <a:xfrm>
                <a:off x="6562800" y="4467240"/>
                <a:ext cx="501480" cy="44280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60" name=""/>
              <p:cNvGrpSpPr/>
              <p:nvPr/>
            </p:nvGrpSpPr>
            <p:grpSpPr>
              <a:xfrm>
                <a:off x="6671520" y="4626720"/>
                <a:ext cx="264600" cy="146160"/>
                <a:chOff x="6671520" y="4626720"/>
                <a:chExt cx="264600" cy="146160"/>
              </a:xfrm>
            </p:grpSpPr>
            <p:sp>
              <p:nvSpPr>
                <p:cNvPr id="2261" name=""/>
                <p:cNvSpPr/>
                <p:nvPr/>
              </p:nvSpPr>
              <p:spPr>
                <a:xfrm>
                  <a:off x="6671520" y="4626720"/>
                  <a:ext cx="2646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6671520" y="4772880"/>
                  <a:ext cx="2646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63" name=""/>
          <p:cNvGrpSpPr/>
          <p:nvPr/>
        </p:nvGrpSpPr>
        <p:grpSpPr>
          <a:xfrm>
            <a:off x="3103560" y="1754280"/>
            <a:ext cx="2531880" cy="2604960"/>
            <a:chOff x="3103560" y="1754280"/>
            <a:chExt cx="2531880" cy="2604960"/>
          </a:xfrm>
        </p:grpSpPr>
        <p:grpSp>
          <p:nvGrpSpPr>
            <p:cNvPr id="2264" name=""/>
            <p:cNvGrpSpPr/>
            <p:nvPr/>
          </p:nvGrpSpPr>
          <p:grpSpPr>
            <a:xfrm>
              <a:off x="4816440" y="3863880"/>
              <a:ext cx="819000" cy="495360"/>
              <a:chOff x="4816440" y="3863880"/>
              <a:chExt cx="819000" cy="495360"/>
            </a:xfrm>
          </p:grpSpPr>
          <p:sp>
            <p:nvSpPr>
              <p:cNvPr id="2265" name=""/>
              <p:cNvSpPr/>
              <p:nvPr/>
            </p:nvSpPr>
            <p:spPr>
              <a:xfrm>
                <a:off x="4816440" y="3863880"/>
                <a:ext cx="819000" cy="49536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5076720" y="4130640"/>
                <a:ext cx="323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5192640" y="3960720"/>
                <a:ext cx="74520" cy="748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5189400" y="421488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9" name=""/>
            <p:cNvSpPr/>
            <p:nvPr/>
          </p:nvSpPr>
          <p:spPr>
            <a:xfrm>
              <a:off x="3103560" y="1754280"/>
              <a:ext cx="9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"/>
          <p:cNvSpPr/>
          <p:nvPr/>
        </p:nvSpPr>
        <p:spPr>
          <a:xfrm rot="4200">
            <a:off x="375840" y="5091120"/>
            <a:ext cx="1473120" cy="1295280"/>
          </a:xfrm>
          <a:custGeom>
            <a:avLst/>
            <a:gdLst/>
            <a:ahLst/>
            <a:rect l="l" t="t" r="r" b="b"/>
            <a:pathLst>
              <a:path w="1688" h="1469">
                <a:moveTo>
                  <a:pt x="60" y="859"/>
                </a:moveTo>
                <a:cubicBezTo>
                  <a:pt x="54" y="930"/>
                  <a:pt x="43" y="984"/>
                  <a:pt x="28" y="1050"/>
                </a:cubicBezTo>
                <a:cubicBezTo>
                  <a:pt x="25" y="1099"/>
                  <a:pt x="20" y="1147"/>
                  <a:pt x="20" y="1196"/>
                </a:cubicBezTo>
                <a:cubicBezTo>
                  <a:pt x="20" y="1374"/>
                  <a:pt x="0" y="1417"/>
                  <a:pt x="132" y="1424"/>
                </a:cubicBezTo>
                <a:cubicBezTo>
                  <a:pt x="289" y="1469"/>
                  <a:pt x="327" y="1216"/>
                  <a:pt x="636" y="1224"/>
                </a:cubicBezTo>
                <a:cubicBezTo>
                  <a:pt x="1284" y="1176"/>
                  <a:pt x="1224" y="1416"/>
                  <a:pt x="1508" y="1408"/>
                </a:cubicBezTo>
                <a:cubicBezTo>
                  <a:pt x="1548" y="1399"/>
                  <a:pt x="1606" y="1339"/>
                  <a:pt x="1644" y="1324"/>
                </a:cubicBezTo>
                <a:cubicBezTo>
                  <a:pt x="1652" y="1321"/>
                  <a:pt x="1648" y="1304"/>
                  <a:pt x="1652" y="1297"/>
                </a:cubicBezTo>
                <a:cubicBezTo>
                  <a:pt x="1659" y="1282"/>
                  <a:pt x="1668" y="1272"/>
                  <a:pt x="1676" y="1259"/>
                </a:cubicBezTo>
                <a:cubicBezTo>
                  <a:pt x="1688" y="1202"/>
                  <a:pt x="1676" y="1159"/>
                  <a:pt x="1660" y="1105"/>
                </a:cubicBezTo>
                <a:cubicBezTo>
                  <a:pt x="1649" y="1066"/>
                  <a:pt x="1643" y="1023"/>
                  <a:pt x="1628" y="986"/>
                </a:cubicBezTo>
                <a:cubicBezTo>
                  <a:pt x="1622" y="973"/>
                  <a:pt x="1611" y="962"/>
                  <a:pt x="1604" y="950"/>
                </a:cubicBezTo>
                <a:cubicBezTo>
                  <a:pt x="1581" y="906"/>
                  <a:pt x="1547" y="872"/>
                  <a:pt x="1520" y="832"/>
                </a:cubicBezTo>
                <a:cubicBezTo>
                  <a:pt x="1513" y="799"/>
                  <a:pt x="1498" y="688"/>
                  <a:pt x="1476" y="667"/>
                </a:cubicBezTo>
                <a:cubicBezTo>
                  <a:pt x="1469" y="661"/>
                  <a:pt x="1460" y="661"/>
                  <a:pt x="1452" y="658"/>
                </a:cubicBezTo>
                <a:cubicBezTo>
                  <a:pt x="1423" y="557"/>
                  <a:pt x="1472" y="706"/>
                  <a:pt x="1420" y="612"/>
                </a:cubicBezTo>
                <a:cubicBezTo>
                  <a:pt x="1407" y="588"/>
                  <a:pt x="1401" y="558"/>
                  <a:pt x="1396" y="530"/>
                </a:cubicBezTo>
                <a:cubicBezTo>
                  <a:pt x="1382" y="452"/>
                  <a:pt x="1383" y="354"/>
                  <a:pt x="1348" y="284"/>
                </a:cubicBezTo>
                <a:cubicBezTo>
                  <a:pt x="1335" y="258"/>
                  <a:pt x="1316" y="235"/>
                  <a:pt x="1300" y="211"/>
                </a:cubicBezTo>
                <a:cubicBezTo>
                  <a:pt x="1279" y="140"/>
                  <a:pt x="1267" y="125"/>
                  <a:pt x="1212" y="83"/>
                </a:cubicBezTo>
                <a:cubicBezTo>
                  <a:pt x="1198" y="73"/>
                  <a:pt x="1164" y="65"/>
                  <a:pt x="1164" y="65"/>
                </a:cubicBezTo>
                <a:cubicBezTo>
                  <a:pt x="1096" y="91"/>
                  <a:pt x="1010" y="87"/>
                  <a:pt x="940" y="92"/>
                </a:cubicBezTo>
                <a:cubicBezTo>
                  <a:pt x="822" y="89"/>
                  <a:pt x="675" y="93"/>
                  <a:pt x="548" y="75"/>
                </a:cubicBezTo>
                <a:cubicBezTo>
                  <a:pt x="499" y="66"/>
                  <a:pt x="454" y="46"/>
                  <a:pt x="404" y="37"/>
                </a:cubicBezTo>
                <a:cubicBezTo>
                  <a:pt x="156" y="49"/>
                  <a:pt x="253" y="0"/>
                  <a:pt x="164" y="102"/>
                </a:cubicBezTo>
                <a:cubicBezTo>
                  <a:pt x="146" y="165"/>
                  <a:pt x="134" y="230"/>
                  <a:pt x="116" y="293"/>
                </a:cubicBezTo>
                <a:cubicBezTo>
                  <a:pt x="106" y="421"/>
                  <a:pt x="183" y="546"/>
                  <a:pt x="168" y="672"/>
                </a:cubicBezTo>
                <a:cubicBezTo>
                  <a:pt x="160" y="739"/>
                  <a:pt x="39" y="787"/>
                  <a:pt x="117" y="918"/>
                </a:cubicBezTo>
              </a:path>
            </a:pathLst>
          </a:custGeom>
          <a:gradFill rotWithShape="0">
            <a:gsLst>
              <a:gs pos="0">
                <a:srgbClr val="750075"/>
              </a:gs>
              <a:gs pos="50000">
                <a:srgbClr val="ff00ff"/>
              </a:gs>
              <a:gs pos="100000">
                <a:srgbClr val="750075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 flipH="1" rot="4800">
            <a:off x="448920" y="6291360"/>
            <a:ext cx="571320" cy="345960"/>
          </a:xfrm>
          <a:custGeom>
            <a:avLst/>
            <a:gdLst/>
            <a:ahLst/>
            <a:rect l="l" t="t" r="r" b="b"/>
            <a:pathLst>
              <a:path w="599" h="265">
                <a:moveTo>
                  <a:pt x="42" y="0"/>
                </a:moveTo>
                <a:cubicBezTo>
                  <a:pt x="23" y="59"/>
                  <a:pt x="0" y="96"/>
                  <a:pt x="30" y="163"/>
                </a:cubicBezTo>
                <a:cubicBezTo>
                  <a:pt x="35" y="175"/>
                  <a:pt x="113" y="211"/>
                  <a:pt x="117" y="213"/>
                </a:cubicBezTo>
                <a:cubicBezTo>
                  <a:pt x="203" y="249"/>
                  <a:pt x="301" y="247"/>
                  <a:pt x="392" y="263"/>
                </a:cubicBezTo>
                <a:cubicBezTo>
                  <a:pt x="455" y="259"/>
                  <a:pt x="519" y="265"/>
                  <a:pt x="580" y="250"/>
                </a:cubicBezTo>
                <a:cubicBezTo>
                  <a:pt x="594" y="247"/>
                  <a:pt x="599" y="175"/>
                  <a:pt x="580" y="150"/>
                </a:cubicBezTo>
                <a:cubicBezTo>
                  <a:pt x="537" y="94"/>
                  <a:pt x="490" y="98"/>
                  <a:pt x="430" y="88"/>
                </a:cubicBezTo>
                <a:cubicBezTo>
                  <a:pt x="395" y="65"/>
                  <a:pt x="372" y="50"/>
                  <a:pt x="330" y="5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 rot="4200">
            <a:off x="642600" y="5716080"/>
            <a:ext cx="1093680" cy="655920"/>
          </a:xfrm>
          <a:custGeom>
            <a:avLst/>
            <a:gdLst/>
            <a:ahLst/>
            <a:rect l="l" t="t" r="r" b="b"/>
            <a:pathLst>
              <a:path w="1175" h="705">
                <a:moveTo>
                  <a:pt x="88" y="67"/>
                </a:moveTo>
                <a:cubicBezTo>
                  <a:pt x="76" y="271"/>
                  <a:pt x="64" y="396"/>
                  <a:pt x="0" y="579"/>
                </a:cubicBezTo>
                <a:cubicBezTo>
                  <a:pt x="4" y="600"/>
                  <a:pt x="2" y="623"/>
                  <a:pt x="13" y="642"/>
                </a:cubicBezTo>
                <a:cubicBezTo>
                  <a:pt x="26" y="665"/>
                  <a:pt x="80" y="677"/>
                  <a:pt x="100" y="679"/>
                </a:cubicBezTo>
                <a:cubicBezTo>
                  <a:pt x="183" y="686"/>
                  <a:pt x="267" y="688"/>
                  <a:pt x="350" y="692"/>
                </a:cubicBezTo>
                <a:cubicBezTo>
                  <a:pt x="375" y="688"/>
                  <a:pt x="403" y="692"/>
                  <a:pt x="425" y="679"/>
                </a:cubicBezTo>
                <a:cubicBezTo>
                  <a:pt x="436" y="673"/>
                  <a:pt x="432" y="654"/>
                  <a:pt x="438" y="642"/>
                </a:cubicBezTo>
                <a:cubicBezTo>
                  <a:pt x="467" y="585"/>
                  <a:pt x="464" y="622"/>
                  <a:pt x="488" y="554"/>
                </a:cubicBezTo>
                <a:cubicBezTo>
                  <a:pt x="503" y="513"/>
                  <a:pt x="525" y="429"/>
                  <a:pt x="525" y="429"/>
                </a:cubicBezTo>
                <a:cubicBezTo>
                  <a:pt x="539" y="336"/>
                  <a:pt x="515" y="312"/>
                  <a:pt x="600" y="292"/>
                </a:cubicBezTo>
                <a:cubicBezTo>
                  <a:pt x="633" y="386"/>
                  <a:pt x="636" y="509"/>
                  <a:pt x="650" y="604"/>
                </a:cubicBezTo>
                <a:cubicBezTo>
                  <a:pt x="654" y="634"/>
                  <a:pt x="695" y="649"/>
                  <a:pt x="725" y="654"/>
                </a:cubicBezTo>
                <a:cubicBezTo>
                  <a:pt x="859" y="678"/>
                  <a:pt x="933" y="694"/>
                  <a:pt x="1075" y="704"/>
                </a:cubicBezTo>
                <a:cubicBezTo>
                  <a:pt x="1104" y="700"/>
                  <a:pt x="1137" y="705"/>
                  <a:pt x="1163" y="692"/>
                </a:cubicBezTo>
                <a:cubicBezTo>
                  <a:pt x="1175" y="686"/>
                  <a:pt x="1175" y="667"/>
                  <a:pt x="1175" y="654"/>
                </a:cubicBezTo>
                <a:cubicBezTo>
                  <a:pt x="1175" y="463"/>
                  <a:pt x="1163" y="472"/>
                  <a:pt x="1075" y="342"/>
                </a:cubicBezTo>
                <a:cubicBezTo>
                  <a:pt x="1071" y="326"/>
                  <a:pt x="1060" y="271"/>
                  <a:pt x="1050" y="254"/>
                </a:cubicBezTo>
                <a:cubicBezTo>
                  <a:pt x="1035" y="228"/>
                  <a:pt x="1000" y="179"/>
                  <a:pt x="1000" y="179"/>
                </a:cubicBezTo>
                <a:cubicBezTo>
                  <a:pt x="979" y="113"/>
                  <a:pt x="995" y="153"/>
                  <a:pt x="938" y="67"/>
                </a:cubicBezTo>
                <a:cubicBezTo>
                  <a:pt x="893" y="0"/>
                  <a:pt x="900" y="78"/>
                  <a:pt x="900" y="17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50000">
                <a:srgbClr val="ccecff"/>
              </a:gs>
              <a:gs pos="100000">
                <a:srgbClr val="00cc99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 rot="4200">
            <a:off x="1310760" y="6342120"/>
            <a:ext cx="617760" cy="291960"/>
          </a:xfrm>
          <a:custGeom>
            <a:avLst/>
            <a:gdLst/>
            <a:ahLst/>
            <a:rect l="l" t="t" r="r" b="b"/>
            <a:pathLst>
              <a:path w="599" h="265">
                <a:moveTo>
                  <a:pt x="42" y="0"/>
                </a:moveTo>
                <a:cubicBezTo>
                  <a:pt x="23" y="59"/>
                  <a:pt x="0" y="96"/>
                  <a:pt x="30" y="163"/>
                </a:cubicBezTo>
                <a:cubicBezTo>
                  <a:pt x="35" y="175"/>
                  <a:pt x="113" y="211"/>
                  <a:pt x="117" y="213"/>
                </a:cubicBezTo>
                <a:cubicBezTo>
                  <a:pt x="203" y="249"/>
                  <a:pt x="301" y="247"/>
                  <a:pt x="392" y="263"/>
                </a:cubicBezTo>
                <a:cubicBezTo>
                  <a:pt x="455" y="259"/>
                  <a:pt x="519" y="265"/>
                  <a:pt x="580" y="250"/>
                </a:cubicBezTo>
                <a:cubicBezTo>
                  <a:pt x="594" y="247"/>
                  <a:pt x="599" y="175"/>
                  <a:pt x="580" y="150"/>
                </a:cubicBezTo>
                <a:cubicBezTo>
                  <a:pt x="537" y="94"/>
                  <a:pt x="490" y="98"/>
                  <a:pt x="430" y="88"/>
                </a:cubicBezTo>
                <a:cubicBezTo>
                  <a:pt x="395" y="65"/>
                  <a:pt x="372" y="50"/>
                  <a:pt x="330" y="50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152280" y="4979880"/>
            <a:ext cx="1495440" cy="1003320"/>
          </a:xfrm>
          <a:custGeom>
            <a:avLst/>
            <a:gdLst/>
            <a:ahLst/>
            <a:rect l="l" t="t" r="r" b="b"/>
            <a:pathLst>
              <a:path w="942" h="632">
                <a:moveTo>
                  <a:pt x="221" y="159"/>
                </a:moveTo>
                <a:cubicBezTo>
                  <a:pt x="211" y="166"/>
                  <a:pt x="202" y="175"/>
                  <a:pt x="190" y="181"/>
                </a:cubicBezTo>
                <a:cubicBezTo>
                  <a:pt x="160" y="196"/>
                  <a:pt x="97" y="224"/>
                  <a:pt x="97" y="224"/>
                </a:cubicBezTo>
                <a:cubicBezTo>
                  <a:pt x="45" y="279"/>
                  <a:pt x="0" y="295"/>
                  <a:pt x="50" y="367"/>
                </a:cubicBezTo>
                <a:cubicBezTo>
                  <a:pt x="58" y="377"/>
                  <a:pt x="81" y="375"/>
                  <a:pt x="97" y="378"/>
                </a:cubicBezTo>
                <a:cubicBezTo>
                  <a:pt x="117" y="382"/>
                  <a:pt x="137" y="385"/>
                  <a:pt x="158" y="389"/>
                </a:cubicBezTo>
                <a:cubicBezTo>
                  <a:pt x="183" y="385"/>
                  <a:pt x="213" y="388"/>
                  <a:pt x="236" y="378"/>
                </a:cubicBezTo>
                <a:cubicBezTo>
                  <a:pt x="250" y="371"/>
                  <a:pt x="243" y="355"/>
                  <a:pt x="252" y="345"/>
                </a:cubicBezTo>
                <a:cubicBezTo>
                  <a:pt x="259" y="336"/>
                  <a:pt x="273" y="330"/>
                  <a:pt x="283" y="323"/>
                </a:cubicBezTo>
                <a:cubicBezTo>
                  <a:pt x="293" y="334"/>
                  <a:pt x="310" y="343"/>
                  <a:pt x="314" y="356"/>
                </a:cubicBezTo>
                <a:cubicBezTo>
                  <a:pt x="381" y="632"/>
                  <a:pt x="158" y="513"/>
                  <a:pt x="855" y="499"/>
                </a:cubicBezTo>
                <a:cubicBezTo>
                  <a:pt x="850" y="478"/>
                  <a:pt x="854" y="453"/>
                  <a:pt x="840" y="434"/>
                </a:cubicBezTo>
                <a:cubicBezTo>
                  <a:pt x="821" y="407"/>
                  <a:pt x="848" y="339"/>
                  <a:pt x="814" y="323"/>
                </a:cubicBezTo>
                <a:cubicBezTo>
                  <a:pt x="804" y="261"/>
                  <a:pt x="806" y="273"/>
                  <a:pt x="802" y="261"/>
                </a:cubicBezTo>
                <a:cubicBezTo>
                  <a:pt x="831" y="248"/>
                  <a:pt x="815" y="243"/>
                  <a:pt x="831" y="220"/>
                </a:cubicBezTo>
                <a:cubicBezTo>
                  <a:pt x="847" y="197"/>
                  <a:pt x="894" y="155"/>
                  <a:pt x="900" y="121"/>
                </a:cubicBezTo>
                <a:cubicBezTo>
                  <a:pt x="890" y="67"/>
                  <a:pt x="942" y="45"/>
                  <a:pt x="870" y="16"/>
                </a:cubicBezTo>
                <a:cubicBezTo>
                  <a:pt x="828" y="0"/>
                  <a:pt x="805" y="87"/>
                  <a:pt x="759" y="76"/>
                </a:cubicBezTo>
                <a:cubicBezTo>
                  <a:pt x="744" y="72"/>
                  <a:pt x="670" y="127"/>
                  <a:pt x="670" y="127"/>
                </a:cubicBezTo>
              </a:path>
            </a:pathLst>
          </a:custGeom>
          <a:gradFill rotWithShape="0">
            <a:gsLst>
              <a:gs pos="0">
                <a:srgbClr val="6c0000"/>
              </a:gs>
              <a:gs pos="50000">
                <a:srgbClr val="ff0000"/>
              </a:gs>
              <a:gs pos="100000">
                <a:srgbClr val="6c0000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 rot="4200">
            <a:off x="75960" y="5589360"/>
            <a:ext cx="50472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 flipH="1" rot="16122000">
            <a:off x="1517400" y="4882320"/>
            <a:ext cx="44604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 rot="4200">
            <a:off x="777960" y="5268960"/>
            <a:ext cx="595080" cy="428400"/>
          </a:xfrm>
          <a:custGeom>
            <a:avLst/>
            <a:gdLst/>
            <a:ahLst/>
            <a:rect l="l" t="t" r="r" b="b"/>
            <a:pathLst>
              <a:path w="640" h="461">
                <a:moveTo>
                  <a:pt x="64" y="445"/>
                </a:moveTo>
                <a:cubicBezTo>
                  <a:pt x="125" y="442"/>
                  <a:pt x="187" y="442"/>
                  <a:pt x="248" y="437"/>
                </a:cubicBezTo>
                <a:cubicBezTo>
                  <a:pt x="259" y="436"/>
                  <a:pt x="276" y="439"/>
                  <a:pt x="280" y="429"/>
                </a:cubicBezTo>
                <a:cubicBezTo>
                  <a:pt x="298" y="382"/>
                  <a:pt x="274" y="374"/>
                  <a:pt x="248" y="357"/>
                </a:cubicBezTo>
                <a:cubicBezTo>
                  <a:pt x="228" y="297"/>
                  <a:pt x="257" y="369"/>
                  <a:pt x="216" y="317"/>
                </a:cubicBezTo>
                <a:cubicBezTo>
                  <a:pt x="210" y="310"/>
                  <a:pt x="188" y="256"/>
                  <a:pt x="184" y="245"/>
                </a:cubicBezTo>
                <a:cubicBezTo>
                  <a:pt x="192" y="112"/>
                  <a:pt x="164" y="95"/>
                  <a:pt x="280" y="109"/>
                </a:cubicBezTo>
                <a:cubicBezTo>
                  <a:pt x="317" y="121"/>
                  <a:pt x="347" y="145"/>
                  <a:pt x="384" y="157"/>
                </a:cubicBezTo>
                <a:cubicBezTo>
                  <a:pt x="457" y="267"/>
                  <a:pt x="415" y="186"/>
                  <a:pt x="424" y="429"/>
                </a:cubicBezTo>
                <a:cubicBezTo>
                  <a:pt x="533" y="424"/>
                  <a:pt x="607" y="457"/>
                  <a:pt x="640" y="357"/>
                </a:cubicBezTo>
                <a:cubicBezTo>
                  <a:pt x="625" y="269"/>
                  <a:pt x="611" y="293"/>
                  <a:pt x="512" y="285"/>
                </a:cubicBezTo>
                <a:cubicBezTo>
                  <a:pt x="485" y="205"/>
                  <a:pt x="475" y="141"/>
                  <a:pt x="408" y="85"/>
                </a:cubicBezTo>
                <a:cubicBezTo>
                  <a:pt x="393" y="73"/>
                  <a:pt x="371" y="43"/>
                  <a:pt x="352" y="37"/>
                </a:cubicBezTo>
                <a:cubicBezTo>
                  <a:pt x="311" y="24"/>
                  <a:pt x="214" y="11"/>
                  <a:pt x="168" y="5"/>
                </a:cubicBezTo>
                <a:cubicBezTo>
                  <a:pt x="141" y="8"/>
                  <a:pt x="88" y="0"/>
                  <a:pt x="64" y="29"/>
                </a:cubicBezTo>
                <a:cubicBezTo>
                  <a:pt x="56" y="38"/>
                  <a:pt x="52" y="50"/>
                  <a:pt x="48" y="61"/>
                </a:cubicBezTo>
                <a:cubicBezTo>
                  <a:pt x="42" y="77"/>
                  <a:pt x="32" y="109"/>
                  <a:pt x="32" y="109"/>
                </a:cubicBezTo>
                <a:cubicBezTo>
                  <a:pt x="37" y="180"/>
                  <a:pt x="22" y="196"/>
                  <a:pt x="56" y="237"/>
                </a:cubicBezTo>
                <a:cubicBezTo>
                  <a:pt x="69" y="253"/>
                  <a:pt x="80" y="271"/>
                  <a:pt x="96" y="285"/>
                </a:cubicBezTo>
                <a:cubicBezTo>
                  <a:pt x="110" y="298"/>
                  <a:pt x="144" y="317"/>
                  <a:pt x="144" y="317"/>
                </a:cubicBezTo>
                <a:cubicBezTo>
                  <a:pt x="177" y="366"/>
                  <a:pt x="162" y="371"/>
                  <a:pt x="104" y="357"/>
                </a:cubicBezTo>
                <a:cubicBezTo>
                  <a:pt x="66" y="347"/>
                  <a:pt x="44" y="329"/>
                  <a:pt x="8" y="317"/>
                </a:cubicBezTo>
                <a:cubicBezTo>
                  <a:pt x="13" y="374"/>
                  <a:pt x="0" y="429"/>
                  <a:pt x="48" y="461"/>
                </a:cubicBezTo>
                <a:cubicBezTo>
                  <a:pt x="86" y="452"/>
                  <a:pt x="90" y="458"/>
                  <a:pt x="64" y="445"/>
                </a:cubicBezTo>
                <a:close/>
              </a:path>
            </a:pathLst>
          </a:custGeom>
          <a:solidFill>
            <a:srgbClr val="3333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293760" y="4160880"/>
            <a:ext cx="1211040" cy="1044360"/>
          </a:xfrm>
          <a:custGeom>
            <a:avLst/>
            <a:gdLst/>
            <a:ahLst/>
            <a:rect l="l" t="t" r="r" b="b"/>
            <a:pathLst>
              <a:path w="1050" h="906">
                <a:moveTo>
                  <a:pt x="521" y="24"/>
                </a:moveTo>
                <a:cubicBezTo>
                  <a:pt x="598" y="0"/>
                  <a:pt x="573" y="2"/>
                  <a:pt x="709" y="24"/>
                </a:cubicBezTo>
                <a:cubicBezTo>
                  <a:pt x="734" y="28"/>
                  <a:pt x="784" y="48"/>
                  <a:pt x="784" y="48"/>
                </a:cubicBezTo>
                <a:cubicBezTo>
                  <a:pt x="864" y="105"/>
                  <a:pt x="820" y="70"/>
                  <a:pt x="910" y="157"/>
                </a:cubicBezTo>
                <a:cubicBezTo>
                  <a:pt x="939" y="185"/>
                  <a:pt x="985" y="254"/>
                  <a:pt x="985" y="254"/>
                </a:cubicBezTo>
                <a:cubicBezTo>
                  <a:pt x="1021" y="389"/>
                  <a:pt x="1050" y="536"/>
                  <a:pt x="973" y="664"/>
                </a:cubicBezTo>
                <a:cubicBezTo>
                  <a:pt x="954" y="697"/>
                  <a:pt x="927" y="767"/>
                  <a:pt x="897" y="785"/>
                </a:cubicBezTo>
                <a:cubicBezTo>
                  <a:pt x="847" y="817"/>
                  <a:pt x="805" y="862"/>
                  <a:pt x="747" y="882"/>
                </a:cubicBezTo>
                <a:cubicBezTo>
                  <a:pt x="715" y="894"/>
                  <a:pt x="646" y="906"/>
                  <a:pt x="646" y="906"/>
                </a:cubicBezTo>
                <a:cubicBezTo>
                  <a:pt x="489" y="898"/>
                  <a:pt x="376" y="886"/>
                  <a:pt x="232" y="846"/>
                </a:cubicBezTo>
                <a:cubicBezTo>
                  <a:pt x="153" y="795"/>
                  <a:pt x="100" y="741"/>
                  <a:pt x="69" y="652"/>
                </a:cubicBezTo>
                <a:cubicBezTo>
                  <a:pt x="73" y="521"/>
                  <a:pt x="0" y="178"/>
                  <a:pt x="203" y="114"/>
                </a:cubicBezTo>
                <a:cubicBezTo>
                  <a:pt x="274" y="46"/>
                  <a:pt x="360" y="62"/>
                  <a:pt x="458" y="48"/>
                </a:cubicBezTo>
                <a:cubicBezTo>
                  <a:pt x="537" y="22"/>
                  <a:pt x="560" y="24"/>
                  <a:pt x="521" y="24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 rot="20582400">
            <a:off x="536400" y="4363560"/>
            <a:ext cx="341640" cy="48096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rot="20582400">
            <a:off x="903240" y="4264200"/>
            <a:ext cx="343080" cy="50796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rot="8088000">
            <a:off x="601200" y="4390560"/>
            <a:ext cx="751680" cy="70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744" y="1256"/>
                </a:moveTo>
                <a:arcTo wR="10800" hR="10800" stAng="-7074784" swAng="7074784"/>
                <a:lnTo>
                  <a:pt x="10800" y="10800"/>
                </a:lnTo>
                <a:close/>
              </a:path>
              <a:path fill="none" w="21600" h="21600">
                <a:moveTo>
                  <a:pt x="5744" y="1256"/>
                </a:moveTo>
                <a:arcTo wR="10800" hR="10800" stAng="-7074784" swAng="707478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 rot="413400">
            <a:off x="907920" y="4773240"/>
            <a:ext cx="184320" cy="185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 rot="413400">
            <a:off x="677880" y="4422240"/>
            <a:ext cx="182520" cy="2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 rot="413400">
            <a:off x="1004760" y="4300200"/>
            <a:ext cx="182520" cy="257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 rot="448800">
            <a:off x="328320" y="4195800"/>
            <a:ext cx="260280" cy="250920"/>
          </a:xfrm>
          <a:custGeom>
            <a:avLst/>
            <a:gdLst/>
            <a:ahLst/>
            <a:rect l="l" t="t" r="r" b="b"/>
            <a:pathLst>
              <a:path w="273" h="258">
                <a:moveTo>
                  <a:pt x="273" y="40"/>
                </a:moveTo>
                <a:cubicBezTo>
                  <a:pt x="203" y="17"/>
                  <a:pt x="179" y="0"/>
                  <a:pt x="91" y="40"/>
                </a:cubicBezTo>
                <a:cubicBezTo>
                  <a:pt x="59" y="54"/>
                  <a:pt x="19" y="201"/>
                  <a:pt x="18" y="204"/>
                </a:cubicBezTo>
                <a:cubicBezTo>
                  <a:pt x="12" y="222"/>
                  <a:pt x="0" y="258"/>
                  <a:pt x="0" y="25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 rot="448800">
            <a:off x="587160" y="4092480"/>
            <a:ext cx="274320" cy="211320"/>
          </a:xfrm>
          <a:custGeom>
            <a:avLst/>
            <a:gdLst/>
            <a:ahLst/>
            <a:rect l="l" t="t" r="r" b="b"/>
            <a:pathLst>
              <a:path w="290" h="218">
                <a:moveTo>
                  <a:pt x="0" y="218"/>
                </a:moveTo>
                <a:cubicBezTo>
                  <a:pt x="66" y="118"/>
                  <a:pt x="157" y="0"/>
                  <a:pt x="29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 rot="448800">
            <a:off x="632880" y="4065480"/>
            <a:ext cx="1800" cy="195480"/>
          </a:xfrm>
          <a:custGeom>
            <a:avLst/>
            <a:gdLst/>
            <a:ahLst/>
            <a:rect l="l" t="t" r="r" b="b"/>
            <a:pathLst>
              <a:path w="1" h="200">
                <a:moveTo>
                  <a:pt x="0" y="200"/>
                </a:moveTo>
                <a:cubicBezTo>
                  <a:pt x="0" y="133"/>
                  <a:pt x="0" y="67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 rot="21140400">
            <a:off x="418680" y="4266720"/>
            <a:ext cx="233280" cy="392400"/>
          </a:xfrm>
          <a:custGeom>
            <a:avLst/>
            <a:gdLst/>
            <a:ahLst/>
            <a:rect l="l" t="t" r="r" b="b"/>
            <a:pathLst>
              <a:path w="273" h="400">
                <a:moveTo>
                  <a:pt x="273" y="0"/>
                </a:moveTo>
                <a:cubicBezTo>
                  <a:pt x="198" y="37"/>
                  <a:pt x="150" y="69"/>
                  <a:pt x="91" y="127"/>
                </a:cubicBezTo>
                <a:cubicBezTo>
                  <a:pt x="61" y="218"/>
                  <a:pt x="0" y="301"/>
                  <a:pt x="0" y="4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 rot="1662000">
            <a:off x="651960" y="4183200"/>
            <a:ext cx="246240" cy="131760"/>
          </a:xfrm>
          <a:custGeom>
            <a:avLst/>
            <a:gdLst/>
            <a:ahLst/>
            <a:rect l="l" t="t" r="r" b="b"/>
            <a:pathLst>
              <a:path w="273" h="109">
                <a:moveTo>
                  <a:pt x="0" y="109"/>
                </a:moveTo>
                <a:cubicBezTo>
                  <a:pt x="12" y="91"/>
                  <a:pt x="17" y="66"/>
                  <a:pt x="36" y="54"/>
                </a:cubicBezTo>
                <a:cubicBezTo>
                  <a:pt x="105" y="11"/>
                  <a:pt x="195" y="0"/>
                  <a:pt x="273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 rot="1299600">
            <a:off x="1714680" y="4075200"/>
            <a:ext cx="988920" cy="1220760"/>
          </a:xfrm>
          <a:custGeom>
            <a:avLst/>
            <a:gdLst/>
            <a:ahLst/>
            <a:rect l="l" t="t" r="r" b="b"/>
            <a:pathLst>
              <a:path w="624" h="768">
                <a:moveTo>
                  <a:pt x="0" y="720"/>
                </a:moveTo>
                <a:lnTo>
                  <a:pt x="48" y="768"/>
                </a:lnTo>
                <a:lnTo>
                  <a:pt x="624" y="0"/>
                </a:lnTo>
                <a:lnTo>
                  <a:pt x="0" y="72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1" name=""/>
          <p:cNvGrpSpPr/>
          <p:nvPr/>
        </p:nvGrpSpPr>
        <p:grpSpPr>
          <a:xfrm>
            <a:off x="3753000" y="1866960"/>
            <a:ext cx="2667960" cy="2711520"/>
            <a:chOff x="3753000" y="1866960"/>
            <a:chExt cx="2667960" cy="2711520"/>
          </a:xfrm>
        </p:grpSpPr>
        <p:sp>
          <p:nvSpPr>
            <p:cNvPr id="2292" name=""/>
            <p:cNvSpPr/>
            <p:nvPr/>
          </p:nvSpPr>
          <p:spPr>
            <a:xfrm>
              <a:off x="3771720" y="1866960"/>
              <a:ext cx="2649240" cy="2711520"/>
            </a:xfrm>
            <a:prstGeom prst="ellipse">
              <a:avLst/>
            </a:prstGeom>
            <a:solidFill>
              <a:srgbClr val="ff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3753000" y="3222720"/>
              <a:ext cx="264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 flipV="1">
              <a:off x="5078160" y="3207960"/>
              <a:ext cx="0" cy="136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 txBox="1"/>
            <p:nvPr/>
          </p:nvSpPr>
          <p:spPr>
            <a:xfrm>
              <a:off x="4700880" y="2105280"/>
              <a:ext cx="561600" cy="8078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296" name=""/>
            <p:cNvSpPr txBox="1"/>
            <p:nvPr/>
          </p:nvSpPr>
          <p:spPr>
            <a:xfrm>
              <a:off x="4397760" y="3358800"/>
              <a:ext cx="190800" cy="6638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297" name=""/>
            <p:cNvSpPr txBox="1"/>
            <p:nvPr/>
          </p:nvSpPr>
          <p:spPr>
            <a:xfrm>
              <a:off x="5380200" y="3428280"/>
              <a:ext cx="523800" cy="6224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2152"/>
                      </a:gs>
                      <a:gs pos="50000">
                        <a:srgbClr val="0066ff"/>
                      </a:gs>
                      <a:gs pos="100000">
                        <a:srgbClr val="002152"/>
                      </a:gs>
                    </a:gsLst>
                    <a:lin ang="5400000"/>
                  </a:gradFill>
                  <a:latin typeface="Arial Black"/>
                </a:rPr>
                <a:t>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2152"/>
                    </a:gs>
                    <a:gs pos="50000">
                      <a:srgbClr val="0066ff"/>
                    </a:gs>
                    <a:gs pos="100000">
                      <a:srgbClr val="002152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298" name=""/>
          <p:cNvSpPr txBox="1"/>
          <p:nvPr/>
        </p:nvSpPr>
        <p:spPr>
          <a:xfrm rot="20343600">
            <a:off x="2309760" y="380880"/>
            <a:ext cx="5572080" cy="565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irclePour">
              <a:avLst>
                <a:gd name="adj1" fmla="val 1086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Ohm'sLaw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9" name=""/>
          <p:cNvGrpSpPr/>
          <p:nvPr/>
        </p:nvGrpSpPr>
        <p:grpSpPr>
          <a:xfrm>
            <a:off x="533160" y="3505320"/>
            <a:ext cx="2438640" cy="2675160"/>
            <a:chOff x="533160" y="3505320"/>
            <a:chExt cx="2438640" cy="2675160"/>
          </a:xfrm>
        </p:grpSpPr>
        <p:sp>
          <p:nvSpPr>
            <p:cNvPr id="2300" name=""/>
            <p:cNvSpPr/>
            <p:nvPr/>
          </p:nvSpPr>
          <p:spPr>
            <a:xfrm rot="4200">
              <a:off x="833040" y="4633920"/>
              <a:ext cx="1473120" cy="1295280"/>
            </a:xfrm>
            <a:custGeom>
              <a:avLst/>
              <a:gdLst/>
              <a:ahLst/>
              <a:rect l="l" t="t" r="r" b="b"/>
              <a:pathLst>
                <a:path w="1688" h="1469">
                  <a:moveTo>
                    <a:pt x="60" y="859"/>
                  </a:moveTo>
                  <a:cubicBezTo>
                    <a:pt x="54" y="930"/>
                    <a:pt x="43" y="984"/>
                    <a:pt x="28" y="1050"/>
                  </a:cubicBezTo>
                  <a:cubicBezTo>
                    <a:pt x="25" y="1099"/>
                    <a:pt x="20" y="1147"/>
                    <a:pt x="20" y="1196"/>
                  </a:cubicBezTo>
                  <a:cubicBezTo>
                    <a:pt x="20" y="1374"/>
                    <a:pt x="0" y="1417"/>
                    <a:pt x="132" y="1424"/>
                  </a:cubicBezTo>
                  <a:cubicBezTo>
                    <a:pt x="289" y="1469"/>
                    <a:pt x="327" y="1216"/>
                    <a:pt x="636" y="1224"/>
                  </a:cubicBezTo>
                  <a:cubicBezTo>
                    <a:pt x="1284" y="1176"/>
                    <a:pt x="1224" y="1416"/>
                    <a:pt x="1508" y="1408"/>
                  </a:cubicBezTo>
                  <a:cubicBezTo>
                    <a:pt x="1548" y="1399"/>
                    <a:pt x="1606" y="1339"/>
                    <a:pt x="1644" y="1324"/>
                  </a:cubicBezTo>
                  <a:cubicBezTo>
                    <a:pt x="1652" y="1321"/>
                    <a:pt x="1648" y="1304"/>
                    <a:pt x="1652" y="1297"/>
                  </a:cubicBezTo>
                  <a:cubicBezTo>
                    <a:pt x="1659" y="1282"/>
                    <a:pt x="1668" y="1272"/>
                    <a:pt x="1676" y="1259"/>
                  </a:cubicBezTo>
                  <a:cubicBezTo>
                    <a:pt x="1688" y="1202"/>
                    <a:pt x="1676" y="1159"/>
                    <a:pt x="1660" y="1105"/>
                  </a:cubicBezTo>
                  <a:cubicBezTo>
                    <a:pt x="1649" y="1066"/>
                    <a:pt x="1643" y="1023"/>
                    <a:pt x="1628" y="986"/>
                  </a:cubicBezTo>
                  <a:cubicBezTo>
                    <a:pt x="1622" y="973"/>
                    <a:pt x="1611" y="962"/>
                    <a:pt x="1604" y="950"/>
                  </a:cubicBezTo>
                  <a:cubicBezTo>
                    <a:pt x="1581" y="906"/>
                    <a:pt x="1547" y="872"/>
                    <a:pt x="1520" y="832"/>
                  </a:cubicBezTo>
                  <a:cubicBezTo>
                    <a:pt x="1513" y="799"/>
                    <a:pt x="1498" y="688"/>
                    <a:pt x="1476" y="667"/>
                  </a:cubicBezTo>
                  <a:cubicBezTo>
                    <a:pt x="1469" y="661"/>
                    <a:pt x="1460" y="661"/>
                    <a:pt x="1452" y="658"/>
                  </a:cubicBezTo>
                  <a:cubicBezTo>
                    <a:pt x="1423" y="557"/>
                    <a:pt x="1472" y="706"/>
                    <a:pt x="1420" y="612"/>
                  </a:cubicBezTo>
                  <a:cubicBezTo>
                    <a:pt x="1407" y="588"/>
                    <a:pt x="1401" y="558"/>
                    <a:pt x="1396" y="530"/>
                  </a:cubicBezTo>
                  <a:cubicBezTo>
                    <a:pt x="1382" y="452"/>
                    <a:pt x="1383" y="354"/>
                    <a:pt x="1348" y="284"/>
                  </a:cubicBezTo>
                  <a:cubicBezTo>
                    <a:pt x="1335" y="258"/>
                    <a:pt x="1316" y="235"/>
                    <a:pt x="1300" y="211"/>
                  </a:cubicBezTo>
                  <a:cubicBezTo>
                    <a:pt x="1279" y="140"/>
                    <a:pt x="1267" y="125"/>
                    <a:pt x="1212" y="83"/>
                  </a:cubicBezTo>
                  <a:cubicBezTo>
                    <a:pt x="1198" y="73"/>
                    <a:pt x="1164" y="65"/>
                    <a:pt x="1164" y="65"/>
                  </a:cubicBezTo>
                  <a:cubicBezTo>
                    <a:pt x="1096" y="91"/>
                    <a:pt x="1010" y="87"/>
                    <a:pt x="940" y="92"/>
                  </a:cubicBezTo>
                  <a:cubicBezTo>
                    <a:pt x="822" y="89"/>
                    <a:pt x="675" y="93"/>
                    <a:pt x="548" y="75"/>
                  </a:cubicBezTo>
                  <a:cubicBezTo>
                    <a:pt x="499" y="66"/>
                    <a:pt x="454" y="46"/>
                    <a:pt x="404" y="37"/>
                  </a:cubicBezTo>
                  <a:cubicBezTo>
                    <a:pt x="156" y="49"/>
                    <a:pt x="253" y="0"/>
                    <a:pt x="164" y="102"/>
                  </a:cubicBezTo>
                  <a:cubicBezTo>
                    <a:pt x="146" y="165"/>
                    <a:pt x="134" y="230"/>
                    <a:pt x="116" y="293"/>
                  </a:cubicBezTo>
                  <a:cubicBezTo>
                    <a:pt x="106" y="421"/>
                    <a:pt x="183" y="546"/>
                    <a:pt x="168" y="672"/>
                  </a:cubicBezTo>
                  <a:cubicBezTo>
                    <a:pt x="160" y="739"/>
                    <a:pt x="39" y="787"/>
                    <a:pt x="117" y="918"/>
                  </a:cubicBezTo>
                </a:path>
              </a:pathLst>
            </a:custGeom>
            <a:gradFill rotWithShape="0">
              <a:gsLst>
                <a:gs pos="0">
                  <a:srgbClr val="750075"/>
                </a:gs>
                <a:gs pos="50000">
                  <a:srgbClr val="ff00ff"/>
                </a:gs>
                <a:gs pos="100000">
                  <a:srgbClr val="750075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 flipH="1" rot="4800">
              <a:off x="906120" y="5834160"/>
              <a:ext cx="571320" cy="345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 rot="4200">
              <a:off x="1099800" y="5258880"/>
              <a:ext cx="1093680" cy="655920"/>
            </a:xfrm>
            <a:custGeom>
              <a:avLst/>
              <a:gdLst/>
              <a:ahLst/>
              <a:rect l="l" t="t" r="r" b="b"/>
              <a:pathLst>
                <a:path w="1175" h="705">
                  <a:moveTo>
                    <a:pt x="88" y="67"/>
                  </a:moveTo>
                  <a:cubicBezTo>
                    <a:pt x="76" y="271"/>
                    <a:pt x="64" y="396"/>
                    <a:pt x="0" y="579"/>
                  </a:cubicBezTo>
                  <a:cubicBezTo>
                    <a:pt x="4" y="600"/>
                    <a:pt x="2" y="623"/>
                    <a:pt x="13" y="642"/>
                  </a:cubicBezTo>
                  <a:cubicBezTo>
                    <a:pt x="26" y="665"/>
                    <a:pt x="80" y="677"/>
                    <a:pt x="100" y="679"/>
                  </a:cubicBezTo>
                  <a:cubicBezTo>
                    <a:pt x="183" y="686"/>
                    <a:pt x="267" y="688"/>
                    <a:pt x="350" y="692"/>
                  </a:cubicBezTo>
                  <a:cubicBezTo>
                    <a:pt x="375" y="688"/>
                    <a:pt x="403" y="692"/>
                    <a:pt x="425" y="679"/>
                  </a:cubicBezTo>
                  <a:cubicBezTo>
                    <a:pt x="436" y="673"/>
                    <a:pt x="432" y="654"/>
                    <a:pt x="438" y="642"/>
                  </a:cubicBezTo>
                  <a:cubicBezTo>
                    <a:pt x="467" y="585"/>
                    <a:pt x="464" y="622"/>
                    <a:pt x="488" y="554"/>
                  </a:cubicBezTo>
                  <a:cubicBezTo>
                    <a:pt x="503" y="513"/>
                    <a:pt x="525" y="429"/>
                    <a:pt x="525" y="429"/>
                  </a:cubicBezTo>
                  <a:cubicBezTo>
                    <a:pt x="539" y="336"/>
                    <a:pt x="515" y="312"/>
                    <a:pt x="600" y="292"/>
                  </a:cubicBezTo>
                  <a:cubicBezTo>
                    <a:pt x="633" y="386"/>
                    <a:pt x="636" y="509"/>
                    <a:pt x="650" y="604"/>
                  </a:cubicBezTo>
                  <a:cubicBezTo>
                    <a:pt x="654" y="634"/>
                    <a:pt x="695" y="649"/>
                    <a:pt x="725" y="654"/>
                  </a:cubicBezTo>
                  <a:cubicBezTo>
                    <a:pt x="859" y="678"/>
                    <a:pt x="933" y="694"/>
                    <a:pt x="1075" y="704"/>
                  </a:cubicBezTo>
                  <a:cubicBezTo>
                    <a:pt x="1104" y="700"/>
                    <a:pt x="1137" y="705"/>
                    <a:pt x="1163" y="692"/>
                  </a:cubicBezTo>
                  <a:cubicBezTo>
                    <a:pt x="1175" y="686"/>
                    <a:pt x="1175" y="667"/>
                    <a:pt x="1175" y="654"/>
                  </a:cubicBezTo>
                  <a:cubicBezTo>
                    <a:pt x="1175" y="463"/>
                    <a:pt x="1163" y="472"/>
                    <a:pt x="1075" y="342"/>
                  </a:cubicBezTo>
                  <a:cubicBezTo>
                    <a:pt x="1071" y="326"/>
                    <a:pt x="1060" y="271"/>
                    <a:pt x="1050" y="254"/>
                  </a:cubicBezTo>
                  <a:cubicBezTo>
                    <a:pt x="1035" y="228"/>
                    <a:pt x="1000" y="179"/>
                    <a:pt x="1000" y="179"/>
                  </a:cubicBezTo>
                  <a:cubicBezTo>
                    <a:pt x="979" y="113"/>
                    <a:pt x="995" y="153"/>
                    <a:pt x="938" y="67"/>
                  </a:cubicBezTo>
                  <a:cubicBezTo>
                    <a:pt x="893" y="0"/>
                    <a:pt x="900" y="78"/>
                    <a:pt x="900" y="17"/>
                  </a:cubicBezTo>
                </a:path>
              </a:pathLst>
            </a:custGeom>
            <a:gradFill rotWithShape="0">
              <a:gsLst>
                <a:gs pos="0">
                  <a:srgbClr val="00cc99"/>
                </a:gs>
                <a:gs pos="50000">
                  <a:srgbClr val="ccecff"/>
                </a:gs>
                <a:gs pos="100000">
                  <a:srgbClr val="00cc99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 rot="4200">
              <a:off x="1767960" y="5884920"/>
              <a:ext cx="617760" cy="291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09480" y="4522680"/>
              <a:ext cx="1495440" cy="1003320"/>
            </a:xfrm>
            <a:custGeom>
              <a:avLst/>
              <a:gdLst/>
              <a:ahLst/>
              <a:rect l="l" t="t" r="r" b="b"/>
              <a:pathLst>
                <a:path w="942" h="632">
                  <a:moveTo>
                    <a:pt x="221" y="159"/>
                  </a:moveTo>
                  <a:cubicBezTo>
                    <a:pt x="211" y="166"/>
                    <a:pt x="202" y="175"/>
                    <a:pt x="190" y="181"/>
                  </a:cubicBezTo>
                  <a:cubicBezTo>
                    <a:pt x="160" y="196"/>
                    <a:pt x="97" y="224"/>
                    <a:pt x="97" y="224"/>
                  </a:cubicBezTo>
                  <a:cubicBezTo>
                    <a:pt x="45" y="279"/>
                    <a:pt x="0" y="295"/>
                    <a:pt x="50" y="367"/>
                  </a:cubicBezTo>
                  <a:cubicBezTo>
                    <a:pt x="58" y="377"/>
                    <a:pt x="81" y="375"/>
                    <a:pt x="97" y="378"/>
                  </a:cubicBezTo>
                  <a:cubicBezTo>
                    <a:pt x="117" y="382"/>
                    <a:pt x="137" y="385"/>
                    <a:pt x="158" y="389"/>
                  </a:cubicBezTo>
                  <a:cubicBezTo>
                    <a:pt x="183" y="385"/>
                    <a:pt x="213" y="388"/>
                    <a:pt x="236" y="378"/>
                  </a:cubicBezTo>
                  <a:cubicBezTo>
                    <a:pt x="250" y="371"/>
                    <a:pt x="243" y="355"/>
                    <a:pt x="252" y="345"/>
                  </a:cubicBezTo>
                  <a:cubicBezTo>
                    <a:pt x="259" y="336"/>
                    <a:pt x="273" y="330"/>
                    <a:pt x="283" y="323"/>
                  </a:cubicBezTo>
                  <a:cubicBezTo>
                    <a:pt x="293" y="334"/>
                    <a:pt x="310" y="343"/>
                    <a:pt x="314" y="356"/>
                  </a:cubicBezTo>
                  <a:cubicBezTo>
                    <a:pt x="381" y="632"/>
                    <a:pt x="158" y="513"/>
                    <a:pt x="855" y="499"/>
                  </a:cubicBezTo>
                  <a:cubicBezTo>
                    <a:pt x="850" y="478"/>
                    <a:pt x="854" y="453"/>
                    <a:pt x="840" y="434"/>
                  </a:cubicBezTo>
                  <a:cubicBezTo>
                    <a:pt x="821" y="407"/>
                    <a:pt x="848" y="339"/>
                    <a:pt x="814" y="323"/>
                  </a:cubicBezTo>
                  <a:cubicBezTo>
                    <a:pt x="804" y="261"/>
                    <a:pt x="806" y="273"/>
                    <a:pt x="802" y="261"/>
                  </a:cubicBezTo>
                  <a:cubicBezTo>
                    <a:pt x="831" y="248"/>
                    <a:pt x="815" y="243"/>
                    <a:pt x="831" y="220"/>
                  </a:cubicBezTo>
                  <a:cubicBezTo>
                    <a:pt x="847" y="197"/>
                    <a:pt x="894" y="155"/>
                    <a:pt x="900" y="121"/>
                  </a:cubicBezTo>
                  <a:cubicBezTo>
                    <a:pt x="890" y="67"/>
                    <a:pt x="942" y="45"/>
                    <a:pt x="870" y="16"/>
                  </a:cubicBezTo>
                  <a:cubicBezTo>
                    <a:pt x="828" y="0"/>
                    <a:pt x="805" y="87"/>
                    <a:pt x="759" y="76"/>
                  </a:cubicBezTo>
                  <a:cubicBezTo>
                    <a:pt x="744" y="72"/>
                    <a:pt x="670" y="127"/>
                    <a:pt x="670" y="127"/>
                  </a:cubicBezTo>
                </a:path>
              </a:pathLst>
            </a:custGeom>
            <a:gradFill rotWithShape="0">
              <a:gsLst>
                <a:gs pos="0">
                  <a:srgbClr val="6c0000"/>
                </a:gs>
                <a:gs pos="50000">
                  <a:srgbClr val="ff0000"/>
                </a:gs>
                <a:gs pos="100000">
                  <a:srgbClr val="6c0000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 rot="4200">
              <a:off x="533160" y="5132160"/>
              <a:ext cx="50472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H="1" rot="16122000">
              <a:off x="1974600" y="4425120"/>
              <a:ext cx="44604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rot="4200">
              <a:off x="1235160" y="4811760"/>
              <a:ext cx="595080" cy="428400"/>
            </a:xfrm>
            <a:custGeom>
              <a:avLst/>
              <a:gdLst/>
              <a:ahLst/>
              <a:rect l="l" t="t" r="r" b="b"/>
              <a:pathLst>
                <a:path w="640" h="461">
                  <a:moveTo>
                    <a:pt x="64" y="445"/>
                  </a:moveTo>
                  <a:cubicBezTo>
                    <a:pt x="125" y="442"/>
                    <a:pt x="187" y="442"/>
                    <a:pt x="248" y="437"/>
                  </a:cubicBezTo>
                  <a:cubicBezTo>
                    <a:pt x="259" y="436"/>
                    <a:pt x="276" y="439"/>
                    <a:pt x="280" y="429"/>
                  </a:cubicBezTo>
                  <a:cubicBezTo>
                    <a:pt x="298" y="382"/>
                    <a:pt x="274" y="374"/>
                    <a:pt x="248" y="357"/>
                  </a:cubicBezTo>
                  <a:cubicBezTo>
                    <a:pt x="228" y="297"/>
                    <a:pt x="257" y="369"/>
                    <a:pt x="216" y="317"/>
                  </a:cubicBezTo>
                  <a:cubicBezTo>
                    <a:pt x="210" y="310"/>
                    <a:pt x="188" y="256"/>
                    <a:pt x="184" y="245"/>
                  </a:cubicBezTo>
                  <a:cubicBezTo>
                    <a:pt x="192" y="112"/>
                    <a:pt x="164" y="95"/>
                    <a:pt x="280" y="109"/>
                  </a:cubicBezTo>
                  <a:cubicBezTo>
                    <a:pt x="317" y="121"/>
                    <a:pt x="347" y="145"/>
                    <a:pt x="384" y="157"/>
                  </a:cubicBezTo>
                  <a:cubicBezTo>
                    <a:pt x="457" y="267"/>
                    <a:pt x="415" y="186"/>
                    <a:pt x="424" y="429"/>
                  </a:cubicBezTo>
                  <a:cubicBezTo>
                    <a:pt x="533" y="424"/>
                    <a:pt x="607" y="457"/>
                    <a:pt x="640" y="357"/>
                  </a:cubicBezTo>
                  <a:cubicBezTo>
                    <a:pt x="625" y="269"/>
                    <a:pt x="611" y="293"/>
                    <a:pt x="512" y="285"/>
                  </a:cubicBezTo>
                  <a:cubicBezTo>
                    <a:pt x="485" y="205"/>
                    <a:pt x="475" y="141"/>
                    <a:pt x="408" y="85"/>
                  </a:cubicBezTo>
                  <a:cubicBezTo>
                    <a:pt x="393" y="73"/>
                    <a:pt x="371" y="43"/>
                    <a:pt x="352" y="37"/>
                  </a:cubicBezTo>
                  <a:cubicBezTo>
                    <a:pt x="311" y="24"/>
                    <a:pt x="214" y="11"/>
                    <a:pt x="168" y="5"/>
                  </a:cubicBezTo>
                  <a:cubicBezTo>
                    <a:pt x="141" y="8"/>
                    <a:pt x="88" y="0"/>
                    <a:pt x="64" y="29"/>
                  </a:cubicBezTo>
                  <a:cubicBezTo>
                    <a:pt x="56" y="38"/>
                    <a:pt x="52" y="50"/>
                    <a:pt x="48" y="61"/>
                  </a:cubicBezTo>
                  <a:cubicBezTo>
                    <a:pt x="42" y="77"/>
                    <a:pt x="32" y="109"/>
                    <a:pt x="32" y="109"/>
                  </a:cubicBezTo>
                  <a:cubicBezTo>
                    <a:pt x="37" y="180"/>
                    <a:pt x="22" y="196"/>
                    <a:pt x="56" y="237"/>
                  </a:cubicBezTo>
                  <a:cubicBezTo>
                    <a:pt x="69" y="253"/>
                    <a:pt x="80" y="271"/>
                    <a:pt x="96" y="285"/>
                  </a:cubicBezTo>
                  <a:cubicBezTo>
                    <a:pt x="110" y="298"/>
                    <a:pt x="144" y="317"/>
                    <a:pt x="144" y="317"/>
                  </a:cubicBezTo>
                  <a:cubicBezTo>
                    <a:pt x="177" y="366"/>
                    <a:pt x="162" y="371"/>
                    <a:pt x="104" y="357"/>
                  </a:cubicBezTo>
                  <a:cubicBezTo>
                    <a:pt x="66" y="347"/>
                    <a:pt x="44" y="329"/>
                    <a:pt x="8" y="317"/>
                  </a:cubicBezTo>
                  <a:cubicBezTo>
                    <a:pt x="13" y="374"/>
                    <a:pt x="0" y="429"/>
                    <a:pt x="48" y="461"/>
                  </a:cubicBezTo>
                  <a:cubicBezTo>
                    <a:pt x="86" y="452"/>
                    <a:pt x="90" y="458"/>
                    <a:pt x="64" y="445"/>
                  </a:cubicBezTo>
                  <a:close/>
                </a:path>
              </a:pathLst>
            </a:custGeom>
            <a:solidFill>
              <a:srgbClr val="3333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750960" y="3703680"/>
              <a:ext cx="1211040" cy="1044360"/>
            </a:xfrm>
            <a:custGeom>
              <a:avLst/>
              <a:gdLst/>
              <a:ahLst/>
              <a:rect l="l" t="t" r="r" b="b"/>
              <a:pathLst>
                <a:path w="1050" h="906">
                  <a:moveTo>
                    <a:pt x="521" y="24"/>
                  </a:moveTo>
                  <a:cubicBezTo>
                    <a:pt x="598" y="0"/>
                    <a:pt x="573" y="2"/>
                    <a:pt x="709" y="24"/>
                  </a:cubicBezTo>
                  <a:cubicBezTo>
                    <a:pt x="734" y="28"/>
                    <a:pt x="784" y="48"/>
                    <a:pt x="784" y="48"/>
                  </a:cubicBezTo>
                  <a:cubicBezTo>
                    <a:pt x="864" y="105"/>
                    <a:pt x="820" y="70"/>
                    <a:pt x="910" y="157"/>
                  </a:cubicBezTo>
                  <a:cubicBezTo>
                    <a:pt x="939" y="185"/>
                    <a:pt x="985" y="254"/>
                    <a:pt x="985" y="254"/>
                  </a:cubicBezTo>
                  <a:cubicBezTo>
                    <a:pt x="1021" y="389"/>
                    <a:pt x="1050" y="536"/>
                    <a:pt x="973" y="664"/>
                  </a:cubicBezTo>
                  <a:cubicBezTo>
                    <a:pt x="954" y="697"/>
                    <a:pt x="927" y="767"/>
                    <a:pt x="897" y="785"/>
                  </a:cubicBezTo>
                  <a:cubicBezTo>
                    <a:pt x="847" y="817"/>
                    <a:pt x="805" y="862"/>
                    <a:pt x="747" y="882"/>
                  </a:cubicBezTo>
                  <a:cubicBezTo>
                    <a:pt x="715" y="894"/>
                    <a:pt x="646" y="906"/>
                    <a:pt x="646" y="906"/>
                  </a:cubicBezTo>
                  <a:cubicBezTo>
                    <a:pt x="489" y="898"/>
                    <a:pt x="376" y="886"/>
                    <a:pt x="232" y="846"/>
                  </a:cubicBezTo>
                  <a:cubicBezTo>
                    <a:pt x="153" y="795"/>
                    <a:pt x="100" y="741"/>
                    <a:pt x="69" y="652"/>
                  </a:cubicBezTo>
                  <a:cubicBezTo>
                    <a:pt x="73" y="521"/>
                    <a:pt x="0" y="178"/>
                    <a:pt x="203" y="114"/>
                  </a:cubicBezTo>
                  <a:cubicBezTo>
                    <a:pt x="274" y="46"/>
                    <a:pt x="360" y="62"/>
                    <a:pt x="458" y="48"/>
                  </a:cubicBezTo>
                  <a:cubicBezTo>
                    <a:pt x="537" y="22"/>
                    <a:pt x="560" y="24"/>
                    <a:pt x="521" y="24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 rot="20582400">
              <a:off x="993600" y="3906360"/>
              <a:ext cx="341640" cy="4809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 rot="20582400">
              <a:off x="1360440" y="3807000"/>
              <a:ext cx="343080" cy="50796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 rot="8088000">
              <a:off x="1058400" y="3933360"/>
              <a:ext cx="751680" cy="70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44" y="1256"/>
                  </a:moveTo>
                  <a:arcTo wR="10800" hR="10800" stAng="-7074784" swAng="7074784"/>
                  <a:lnTo>
                    <a:pt x="10800" y="10800"/>
                  </a:lnTo>
                  <a:close/>
                </a:path>
                <a:path fill="none" w="21600" h="21600">
                  <a:moveTo>
                    <a:pt x="5744" y="1256"/>
                  </a:moveTo>
                  <a:arcTo wR="10800" hR="10800" stAng="-7074784" swAng="707478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 rot="413400">
              <a:off x="1365120" y="4316040"/>
              <a:ext cx="184320" cy="1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rot="413400">
              <a:off x="1135080" y="3965040"/>
              <a:ext cx="182520" cy="257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rot="413400">
              <a:off x="1461960" y="3843000"/>
              <a:ext cx="182520" cy="257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 rot="448800">
              <a:off x="785520" y="3738600"/>
              <a:ext cx="260280" cy="250920"/>
            </a:xfrm>
            <a:custGeom>
              <a:avLst/>
              <a:gdLst/>
              <a:ahLst/>
              <a:rect l="l" t="t" r="r" b="b"/>
              <a:pathLst>
                <a:path w="273" h="258">
                  <a:moveTo>
                    <a:pt x="273" y="40"/>
                  </a:moveTo>
                  <a:cubicBezTo>
                    <a:pt x="203" y="17"/>
                    <a:pt x="179" y="0"/>
                    <a:pt x="91" y="40"/>
                  </a:cubicBezTo>
                  <a:cubicBezTo>
                    <a:pt x="59" y="54"/>
                    <a:pt x="19" y="201"/>
                    <a:pt x="18" y="204"/>
                  </a:cubicBezTo>
                  <a:cubicBezTo>
                    <a:pt x="12" y="222"/>
                    <a:pt x="0" y="258"/>
                    <a:pt x="0" y="25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 rot="448800">
              <a:off x="1044360" y="3635280"/>
              <a:ext cx="274320" cy="211320"/>
            </a:xfrm>
            <a:custGeom>
              <a:avLst/>
              <a:gdLst/>
              <a:ahLst/>
              <a:rect l="l" t="t" r="r" b="b"/>
              <a:pathLst>
                <a:path w="290" h="218">
                  <a:moveTo>
                    <a:pt x="0" y="218"/>
                  </a:moveTo>
                  <a:cubicBezTo>
                    <a:pt x="66" y="118"/>
                    <a:pt x="157" y="0"/>
                    <a:pt x="29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 rot="448800">
              <a:off x="1090080" y="3608280"/>
              <a:ext cx="1800" cy="195480"/>
            </a:xfrm>
            <a:custGeom>
              <a:avLst/>
              <a:gdLst/>
              <a:ahLst/>
              <a:rect l="l" t="t" r="r" b="b"/>
              <a:pathLst>
                <a:path w="1" h="200">
                  <a:moveTo>
                    <a:pt x="0" y="200"/>
                  </a:moveTo>
                  <a:cubicBezTo>
                    <a:pt x="0" y="133"/>
                    <a:pt x="0" y="67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rot="21140400">
              <a:off x="875880" y="3809520"/>
              <a:ext cx="233280" cy="392400"/>
            </a:xfrm>
            <a:custGeom>
              <a:avLst/>
              <a:gdLst/>
              <a:ahLst/>
              <a:rect l="l" t="t" r="r" b="b"/>
              <a:pathLst>
                <a:path w="273" h="400">
                  <a:moveTo>
                    <a:pt x="273" y="0"/>
                  </a:moveTo>
                  <a:cubicBezTo>
                    <a:pt x="198" y="37"/>
                    <a:pt x="150" y="69"/>
                    <a:pt x="91" y="127"/>
                  </a:cubicBezTo>
                  <a:cubicBezTo>
                    <a:pt x="61" y="218"/>
                    <a:pt x="0" y="301"/>
                    <a:pt x="0" y="4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 rot="1662000">
              <a:off x="1109160" y="3726000"/>
              <a:ext cx="246240" cy="131760"/>
            </a:xfrm>
            <a:custGeom>
              <a:avLst/>
              <a:gdLst/>
              <a:ahLst/>
              <a:rect l="l" t="t" r="r" b="b"/>
              <a:pathLst>
                <a:path w="273" h="109">
                  <a:moveTo>
                    <a:pt x="0" y="109"/>
                  </a:moveTo>
                  <a:cubicBezTo>
                    <a:pt x="12" y="91"/>
                    <a:pt x="17" y="66"/>
                    <a:pt x="36" y="54"/>
                  </a:cubicBezTo>
                  <a:cubicBezTo>
                    <a:pt x="105" y="11"/>
                    <a:pt x="195" y="0"/>
                    <a:pt x="27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1981080" y="3505320"/>
              <a:ext cx="990720" cy="1218960"/>
            </a:xfrm>
            <a:custGeom>
              <a:avLst/>
              <a:gdLst/>
              <a:ahLst/>
              <a:rect l="l" t="t" r="r" b="b"/>
              <a:pathLst>
                <a:path w="624" h="768">
                  <a:moveTo>
                    <a:pt x="0" y="720"/>
                  </a:moveTo>
                  <a:lnTo>
                    <a:pt x="48" y="768"/>
                  </a:lnTo>
                  <a:lnTo>
                    <a:pt x="624" y="0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1" name=""/>
          <p:cNvGrpSpPr/>
          <p:nvPr/>
        </p:nvGrpSpPr>
        <p:grpSpPr>
          <a:xfrm>
            <a:off x="6915240" y="3409920"/>
            <a:ext cx="1828800" cy="1866960"/>
            <a:chOff x="6915240" y="3409920"/>
            <a:chExt cx="1828800" cy="1866960"/>
          </a:xfrm>
        </p:grpSpPr>
        <p:grpSp>
          <p:nvGrpSpPr>
            <p:cNvPr id="2322" name=""/>
            <p:cNvGrpSpPr/>
            <p:nvPr/>
          </p:nvGrpSpPr>
          <p:grpSpPr>
            <a:xfrm>
              <a:off x="6915240" y="3409920"/>
              <a:ext cx="1828800" cy="1866960"/>
              <a:chOff x="6915240" y="3409920"/>
              <a:chExt cx="1828800" cy="1866960"/>
            </a:xfrm>
          </p:grpSpPr>
          <p:sp>
            <p:nvSpPr>
              <p:cNvPr id="2323" name=""/>
              <p:cNvSpPr/>
              <p:nvPr/>
            </p:nvSpPr>
            <p:spPr>
              <a:xfrm>
                <a:off x="6915240" y="3409920"/>
                <a:ext cx="1828800" cy="1866960"/>
              </a:xfrm>
              <a:prstGeom prst="ellipse">
                <a:avLst/>
              </a:prstGeom>
              <a:solidFill>
                <a:srgbClr val="ff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6915240" y="4343400"/>
                <a:ext cx="1828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flipV="1">
                <a:off x="7829280" y="4332960"/>
                <a:ext cx="0" cy="943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6" name=""/>
            <p:cNvSpPr txBox="1"/>
            <p:nvPr/>
          </p:nvSpPr>
          <p:spPr>
            <a:xfrm>
              <a:off x="7621560" y="3638520"/>
              <a:ext cx="387360" cy="5569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5400000"/>
                  </a:gradFill>
                  <a:latin typeface="Arial Black"/>
                </a:rPr>
                <a:t>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327" name=""/>
            <p:cNvSpPr txBox="1"/>
            <p:nvPr/>
          </p:nvSpPr>
          <p:spPr>
            <a:xfrm>
              <a:off x="7373880" y="4483080"/>
              <a:ext cx="131760" cy="4572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 Black"/>
                </a:rPr>
                <a:t>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328" name=""/>
            <p:cNvSpPr txBox="1"/>
            <p:nvPr/>
          </p:nvSpPr>
          <p:spPr>
            <a:xfrm>
              <a:off x="8015400" y="4476600"/>
              <a:ext cx="390240" cy="4572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6c6c00"/>
                      </a:gs>
                      <a:gs pos="50000">
                        <a:srgbClr val="ffff00"/>
                      </a:gs>
                      <a:gs pos="100000">
                        <a:srgbClr val="6c6c00"/>
                      </a:gs>
                    </a:gsLst>
                    <a:lin ang="5400000"/>
                  </a:gradFill>
                  <a:latin typeface="Arial Black"/>
                </a:rPr>
                <a:t>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c6c00"/>
                    </a:gs>
                    <a:gs pos="50000">
                      <a:srgbClr val="ffff00"/>
                    </a:gs>
                    <a:gs pos="100000">
                      <a:srgbClr val="6c6c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329" name=""/>
          <p:cNvSpPr txBox="1"/>
          <p:nvPr/>
        </p:nvSpPr>
        <p:spPr>
          <a:xfrm>
            <a:off x="6383160" y="5695920"/>
            <a:ext cx="387360" cy="557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30" name=""/>
          <p:cNvSpPr txBox="1"/>
          <p:nvPr/>
        </p:nvSpPr>
        <p:spPr>
          <a:xfrm>
            <a:off x="7792920" y="5797440"/>
            <a:ext cx="13176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31" name=""/>
          <p:cNvSpPr txBox="1"/>
          <p:nvPr/>
        </p:nvSpPr>
        <p:spPr>
          <a:xfrm>
            <a:off x="8091360" y="5791320"/>
            <a:ext cx="39060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c6c00"/>
                    </a:gs>
                    <a:gs pos="50000">
                      <a:srgbClr val="ffff00"/>
                    </a:gs>
                    <a:gs pos="100000">
                      <a:srgbClr val="6c6c00"/>
                    </a:gs>
                  </a:gsLst>
                  <a:lin ang="5400000"/>
                </a:gradFill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c6c00"/>
                  </a:gs>
                  <a:gs pos="50000">
                    <a:srgbClr val="ffff00"/>
                  </a:gs>
                  <a:gs pos="100000">
                    <a:srgbClr val="6c6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32" name=""/>
          <p:cNvSpPr/>
          <p:nvPr/>
        </p:nvSpPr>
        <p:spPr>
          <a:xfrm>
            <a:off x="6458040" y="93348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6458040" y="104760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7372440" y="914400"/>
            <a:ext cx="209520" cy="20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 flipH="1">
            <a:off x="7372440" y="914400"/>
            <a:ext cx="209520" cy="20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 txBox="1"/>
          <p:nvPr/>
        </p:nvSpPr>
        <p:spPr>
          <a:xfrm>
            <a:off x="5634000" y="696960"/>
            <a:ext cx="62856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37" name=""/>
          <p:cNvSpPr txBox="1"/>
          <p:nvPr/>
        </p:nvSpPr>
        <p:spPr>
          <a:xfrm>
            <a:off x="7002360" y="563400"/>
            <a:ext cx="171720" cy="704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38" name=""/>
          <p:cNvSpPr txBox="1"/>
          <p:nvPr/>
        </p:nvSpPr>
        <p:spPr>
          <a:xfrm>
            <a:off x="7745400" y="706320"/>
            <a:ext cx="668520" cy="561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a8a8"/>
            </a:gs>
            <a:gs pos="50000">
              <a:srgbClr val="ffffff"/>
            </a:gs>
            <a:gs pos="100000">
              <a:srgbClr val="a8a8a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838760" y="285840"/>
            <a:ext cx="4305240" cy="2286000"/>
          </a:xfrm>
          <a:prstGeom prst="cloudCallout">
            <a:avLst>
              <a:gd name="adj1" fmla="val -42148"/>
              <a:gd name="adj2" fmla="val 61319"/>
            </a:avLst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83520" y="619920"/>
            <a:ext cx="8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75600" y="1346760"/>
            <a:ext cx="25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Ohm-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4200">
            <a:off x="3919320" y="3665520"/>
            <a:ext cx="1473120" cy="1295280"/>
          </a:xfrm>
          <a:custGeom>
            <a:avLst/>
            <a:gdLst/>
            <a:ahLst/>
            <a:rect l="l" t="t" r="r" b="b"/>
            <a:pathLst>
              <a:path w="1688" h="1469">
                <a:moveTo>
                  <a:pt x="60" y="859"/>
                </a:moveTo>
                <a:cubicBezTo>
                  <a:pt x="54" y="930"/>
                  <a:pt x="43" y="984"/>
                  <a:pt x="28" y="1050"/>
                </a:cubicBezTo>
                <a:cubicBezTo>
                  <a:pt x="25" y="1099"/>
                  <a:pt x="20" y="1147"/>
                  <a:pt x="20" y="1196"/>
                </a:cubicBezTo>
                <a:cubicBezTo>
                  <a:pt x="20" y="1374"/>
                  <a:pt x="0" y="1417"/>
                  <a:pt x="132" y="1424"/>
                </a:cubicBezTo>
                <a:cubicBezTo>
                  <a:pt x="289" y="1469"/>
                  <a:pt x="327" y="1216"/>
                  <a:pt x="636" y="1224"/>
                </a:cubicBezTo>
                <a:cubicBezTo>
                  <a:pt x="1284" y="1176"/>
                  <a:pt x="1224" y="1416"/>
                  <a:pt x="1508" y="1408"/>
                </a:cubicBezTo>
                <a:cubicBezTo>
                  <a:pt x="1548" y="1399"/>
                  <a:pt x="1606" y="1339"/>
                  <a:pt x="1644" y="1324"/>
                </a:cubicBezTo>
                <a:cubicBezTo>
                  <a:pt x="1652" y="1321"/>
                  <a:pt x="1648" y="1304"/>
                  <a:pt x="1652" y="1297"/>
                </a:cubicBezTo>
                <a:cubicBezTo>
                  <a:pt x="1659" y="1282"/>
                  <a:pt x="1668" y="1272"/>
                  <a:pt x="1676" y="1259"/>
                </a:cubicBezTo>
                <a:cubicBezTo>
                  <a:pt x="1688" y="1202"/>
                  <a:pt x="1676" y="1159"/>
                  <a:pt x="1660" y="1105"/>
                </a:cubicBezTo>
                <a:cubicBezTo>
                  <a:pt x="1649" y="1066"/>
                  <a:pt x="1643" y="1023"/>
                  <a:pt x="1628" y="986"/>
                </a:cubicBezTo>
                <a:cubicBezTo>
                  <a:pt x="1622" y="973"/>
                  <a:pt x="1611" y="962"/>
                  <a:pt x="1604" y="950"/>
                </a:cubicBezTo>
                <a:cubicBezTo>
                  <a:pt x="1581" y="906"/>
                  <a:pt x="1547" y="872"/>
                  <a:pt x="1520" y="832"/>
                </a:cubicBezTo>
                <a:cubicBezTo>
                  <a:pt x="1513" y="799"/>
                  <a:pt x="1498" y="688"/>
                  <a:pt x="1476" y="667"/>
                </a:cubicBezTo>
                <a:cubicBezTo>
                  <a:pt x="1469" y="661"/>
                  <a:pt x="1460" y="661"/>
                  <a:pt x="1452" y="658"/>
                </a:cubicBezTo>
                <a:cubicBezTo>
                  <a:pt x="1423" y="557"/>
                  <a:pt x="1472" y="706"/>
                  <a:pt x="1420" y="612"/>
                </a:cubicBezTo>
                <a:cubicBezTo>
                  <a:pt x="1407" y="588"/>
                  <a:pt x="1401" y="558"/>
                  <a:pt x="1396" y="530"/>
                </a:cubicBezTo>
                <a:cubicBezTo>
                  <a:pt x="1382" y="452"/>
                  <a:pt x="1383" y="354"/>
                  <a:pt x="1348" y="284"/>
                </a:cubicBezTo>
                <a:cubicBezTo>
                  <a:pt x="1335" y="258"/>
                  <a:pt x="1316" y="235"/>
                  <a:pt x="1300" y="211"/>
                </a:cubicBezTo>
                <a:cubicBezTo>
                  <a:pt x="1279" y="140"/>
                  <a:pt x="1267" y="125"/>
                  <a:pt x="1212" y="83"/>
                </a:cubicBezTo>
                <a:cubicBezTo>
                  <a:pt x="1198" y="73"/>
                  <a:pt x="1164" y="65"/>
                  <a:pt x="1164" y="65"/>
                </a:cubicBezTo>
                <a:cubicBezTo>
                  <a:pt x="1096" y="91"/>
                  <a:pt x="1010" y="87"/>
                  <a:pt x="940" y="92"/>
                </a:cubicBezTo>
                <a:cubicBezTo>
                  <a:pt x="822" y="89"/>
                  <a:pt x="675" y="93"/>
                  <a:pt x="548" y="75"/>
                </a:cubicBezTo>
                <a:cubicBezTo>
                  <a:pt x="499" y="66"/>
                  <a:pt x="454" y="46"/>
                  <a:pt x="404" y="37"/>
                </a:cubicBezTo>
                <a:cubicBezTo>
                  <a:pt x="156" y="49"/>
                  <a:pt x="253" y="0"/>
                  <a:pt x="164" y="102"/>
                </a:cubicBezTo>
                <a:cubicBezTo>
                  <a:pt x="146" y="165"/>
                  <a:pt x="134" y="230"/>
                  <a:pt x="116" y="293"/>
                </a:cubicBezTo>
                <a:cubicBezTo>
                  <a:pt x="106" y="421"/>
                  <a:pt x="183" y="546"/>
                  <a:pt x="168" y="672"/>
                </a:cubicBezTo>
                <a:cubicBezTo>
                  <a:pt x="160" y="739"/>
                  <a:pt x="39" y="787"/>
                  <a:pt x="117" y="918"/>
                </a:cubicBezTo>
              </a:path>
            </a:pathLst>
          </a:custGeom>
          <a:gradFill rotWithShape="0">
            <a:gsLst>
              <a:gs pos="0">
                <a:srgbClr val="750075"/>
              </a:gs>
              <a:gs pos="50000">
                <a:srgbClr val="ff00ff"/>
              </a:gs>
              <a:gs pos="100000">
                <a:srgbClr val="750075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4200">
            <a:off x="4185720" y="4290480"/>
            <a:ext cx="1094040" cy="655920"/>
          </a:xfrm>
          <a:custGeom>
            <a:avLst/>
            <a:gdLst/>
            <a:ahLst/>
            <a:rect l="l" t="t" r="r" b="b"/>
            <a:pathLst>
              <a:path w="1175" h="705">
                <a:moveTo>
                  <a:pt x="88" y="67"/>
                </a:moveTo>
                <a:cubicBezTo>
                  <a:pt x="76" y="271"/>
                  <a:pt x="64" y="396"/>
                  <a:pt x="0" y="579"/>
                </a:cubicBezTo>
                <a:cubicBezTo>
                  <a:pt x="4" y="600"/>
                  <a:pt x="2" y="623"/>
                  <a:pt x="13" y="642"/>
                </a:cubicBezTo>
                <a:cubicBezTo>
                  <a:pt x="26" y="665"/>
                  <a:pt x="80" y="677"/>
                  <a:pt x="100" y="679"/>
                </a:cubicBezTo>
                <a:cubicBezTo>
                  <a:pt x="183" y="686"/>
                  <a:pt x="267" y="688"/>
                  <a:pt x="350" y="692"/>
                </a:cubicBezTo>
                <a:cubicBezTo>
                  <a:pt x="375" y="688"/>
                  <a:pt x="403" y="692"/>
                  <a:pt x="425" y="679"/>
                </a:cubicBezTo>
                <a:cubicBezTo>
                  <a:pt x="436" y="673"/>
                  <a:pt x="432" y="654"/>
                  <a:pt x="438" y="642"/>
                </a:cubicBezTo>
                <a:cubicBezTo>
                  <a:pt x="467" y="585"/>
                  <a:pt x="464" y="622"/>
                  <a:pt x="488" y="554"/>
                </a:cubicBezTo>
                <a:cubicBezTo>
                  <a:pt x="503" y="513"/>
                  <a:pt x="525" y="429"/>
                  <a:pt x="525" y="429"/>
                </a:cubicBezTo>
                <a:cubicBezTo>
                  <a:pt x="539" y="336"/>
                  <a:pt x="515" y="312"/>
                  <a:pt x="600" y="292"/>
                </a:cubicBezTo>
                <a:cubicBezTo>
                  <a:pt x="633" y="386"/>
                  <a:pt x="636" y="509"/>
                  <a:pt x="650" y="604"/>
                </a:cubicBezTo>
                <a:cubicBezTo>
                  <a:pt x="654" y="634"/>
                  <a:pt x="695" y="649"/>
                  <a:pt x="725" y="654"/>
                </a:cubicBezTo>
                <a:cubicBezTo>
                  <a:pt x="859" y="678"/>
                  <a:pt x="933" y="694"/>
                  <a:pt x="1075" y="704"/>
                </a:cubicBezTo>
                <a:cubicBezTo>
                  <a:pt x="1104" y="700"/>
                  <a:pt x="1137" y="705"/>
                  <a:pt x="1163" y="692"/>
                </a:cubicBezTo>
                <a:cubicBezTo>
                  <a:pt x="1175" y="686"/>
                  <a:pt x="1175" y="667"/>
                  <a:pt x="1175" y="654"/>
                </a:cubicBezTo>
                <a:cubicBezTo>
                  <a:pt x="1175" y="463"/>
                  <a:pt x="1163" y="472"/>
                  <a:pt x="1075" y="342"/>
                </a:cubicBezTo>
                <a:cubicBezTo>
                  <a:pt x="1071" y="326"/>
                  <a:pt x="1060" y="271"/>
                  <a:pt x="1050" y="254"/>
                </a:cubicBezTo>
                <a:cubicBezTo>
                  <a:pt x="1035" y="228"/>
                  <a:pt x="1000" y="179"/>
                  <a:pt x="1000" y="179"/>
                </a:cubicBezTo>
                <a:cubicBezTo>
                  <a:pt x="979" y="113"/>
                  <a:pt x="995" y="153"/>
                  <a:pt x="938" y="67"/>
                </a:cubicBezTo>
                <a:cubicBezTo>
                  <a:pt x="893" y="0"/>
                  <a:pt x="900" y="78"/>
                  <a:pt x="900" y="17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50000">
                <a:srgbClr val="ccecff"/>
              </a:gs>
              <a:gs pos="100000">
                <a:srgbClr val="00cc99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40040" y="3498840"/>
            <a:ext cx="1570320" cy="1011240"/>
          </a:xfrm>
          <a:custGeom>
            <a:avLst/>
            <a:gdLst/>
            <a:ahLst/>
            <a:rect l="l" t="t" r="r" b="b"/>
            <a:pathLst>
              <a:path w="989" h="637">
                <a:moveTo>
                  <a:pt x="221" y="164"/>
                </a:moveTo>
                <a:cubicBezTo>
                  <a:pt x="211" y="171"/>
                  <a:pt x="202" y="180"/>
                  <a:pt x="190" y="186"/>
                </a:cubicBezTo>
                <a:cubicBezTo>
                  <a:pt x="160" y="201"/>
                  <a:pt x="97" y="229"/>
                  <a:pt x="97" y="229"/>
                </a:cubicBezTo>
                <a:cubicBezTo>
                  <a:pt x="45" y="284"/>
                  <a:pt x="0" y="300"/>
                  <a:pt x="50" y="372"/>
                </a:cubicBezTo>
                <a:cubicBezTo>
                  <a:pt x="58" y="382"/>
                  <a:pt x="81" y="380"/>
                  <a:pt x="97" y="383"/>
                </a:cubicBezTo>
                <a:cubicBezTo>
                  <a:pt x="117" y="387"/>
                  <a:pt x="137" y="390"/>
                  <a:pt x="158" y="394"/>
                </a:cubicBezTo>
                <a:cubicBezTo>
                  <a:pt x="183" y="390"/>
                  <a:pt x="213" y="393"/>
                  <a:pt x="236" y="383"/>
                </a:cubicBezTo>
                <a:cubicBezTo>
                  <a:pt x="250" y="376"/>
                  <a:pt x="243" y="360"/>
                  <a:pt x="252" y="350"/>
                </a:cubicBezTo>
                <a:cubicBezTo>
                  <a:pt x="259" y="341"/>
                  <a:pt x="273" y="335"/>
                  <a:pt x="283" y="328"/>
                </a:cubicBezTo>
                <a:cubicBezTo>
                  <a:pt x="293" y="339"/>
                  <a:pt x="310" y="348"/>
                  <a:pt x="314" y="361"/>
                </a:cubicBezTo>
                <a:cubicBezTo>
                  <a:pt x="381" y="637"/>
                  <a:pt x="158" y="518"/>
                  <a:pt x="855" y="504"/>
                </a:cubicBezTo>
                <a:cubicBezTo>
                  <a:pt x="850" y="483"/>
                  <a:pt x="854" y="458"/>
                  <a:pt x="840" y="439"/>
                </a:cubicBezTo>
                <a:cubicBezTo>
                  <a:pt x="821" y="412"/>
                  <a:pt x="839" y="400"/>
                  <a:pt x="839" y="361"/>
                </a:cubicBezTo>
                <a:cubicBezTo>
                  <a:pt x="839" y="292"/>
                  <a:pt x="854" y="286"/>
                  <a:pt x="857" y="280"/>
                </a:cubicBezTo>
                <a:cubicBezTo>
                  <a:pt x="863" y="292"/>
                  <a:pt x="863" y="113"/>
                  <a:pt x="989" y="97"/>
                </a:cubicBezTo>
                <a:cubicBezTo>
                  <a:pt x="979" y="43"/>
                  <a:pt x="941" y="45"/>
                  <a:pt x="869" y="16"/>
                </a:cubicBezTo>
                <a:cubicBezTo>
                  <a:pt x="827" y="0"/>
                  <a:pt x="763" y="154"/>
                  <a:pt x="717" y="143"/>
                </a:cubicBezTo>
                <a:cubicBezTo>
                  <a:pt x="702" y="139"/>
                  <a:pt x="670" y="132"/>
                  <a:pt x="670" y="132"/>
                </a:cubicBezTo>
              </a:path>
            </a:pathLst>
          </a:custGeom>
          <a:gradFill rotWithShape="0">
            <a:gsLst>
              <a:gs pos="0">
                <a:srgbClr val="6c0000"/>
              </a:gs>
              <a:gs pos="50000">
                <a:srgbClr val="ff0000"/>
              </a:gs>
              <a:gs pos="100000">
                <a:srgbClr val="6c0000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4200">
            <a:off x="3695400" y="4111200"/>
            <a:ext cx="50472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2687000">
            <a:off x="5057280" y="3288960"/>
            <a:ext cx="44640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4200">
            <a:off x="4321080" y="3843360"/>
            <a:ext cx="595440" cy="428760"/>
          </a:xfrm>
          <a:custGeom>
            <a:avLst/>
            <a:gdLst/>
            <a:ahLst/>
            <a:rect l="l" t="t" r="r" b="b"/>
            <a:pathLst>
              <a:path w="640" h="461">
                <a:moveTo>
                  <a:pt x="64" y="445"/>
                </a:moveTo>
                <a:cubicBezTo>
                  <a:pt x="125" y="442"/>
                  <a:pt x="187" y="442"/>
                  <a:pt x="248" y="437"/>
                </a:cubicBezTo>
                <a:cubicBezTo>
                  <a:pt x="259" y="436"/>
                  <a:pt x="276" y="439"/>
                  <a:pt x="280" y="429"/>
                </a:cubicBezTo>
                <a:cubicBezTo>
                  <a:pt x="298" y="382"/>
                  <a:pt x="274" y="374"/>
                  <a:pt x="248" y="357"/>
                </a:cubicBezTo>
                <a:cubicBezTo>
                  <a:pt x="228" y="297"/>
                  <a:pt x="257" y="369"/>
                  <a:pt x="216" y="317"/>
                </a:cubicBezTo>
                <a:cubicBezTo>
                  <a:pt x="210" y="310"/>
                  <a:pt x="188" y="256"/>
                  <a:pt x="184" y="245"/>
                </a:cubicBezTo>
                <a:cubicBezTo>
                  <a:pt x="192" y="112"/>
                  <a:pt x="164" y="95"/>
                  <a:pt x="280" y="109"/>
                </a:cubicBezTo>
                <a:cubicBezTo>
                  <a:pt x="317" y="121"/>
                  <a:pt x="347" y="145"/>
                  <a:pt x="384" y="157"/>
                </a:cubicBezTo>
                <a:cubicBezTo>
                  <a:pt x="457" y="267"/>
                  <a:pt x="415" y="186"/>
                  <a:pt x="424" y="429"/>
                </a:cubicBezTo>
                <a:cubicBezTo>
                  <a:pt x="533" y="424"/>
                  <a:pt x="607" y="457"/>
                  <a:pt x="640" y="357"/>
                </a:cubicBezTo>
                <a:cubicBezTo>
                  <a:pt x="625" y="269"/>
                  <a:pt x="611" y="293"/>
                  <a:pt x="512" y="285"/>
                </a:cubicBezTo>
                <a:cubicBezTo>
                  <a:pt x="485" y="205"/>
                  <a:pt x="475" y="141"/>
                  <a:pt x="408" y="85"/>
                </a:cubicBezTo>
                <a:cubicBezTo>
                  <a:pt x="393" y="73"/>
                  <a:pt x="371" y="43"/>
                  <a:pt x="352" y="37"/>
                </a:cubicBezTo>
                <a:cubicBezTo>
                  <a:pt x="311" y="24"/>
                  <a:pt x="214" y="11"/>
                  <a:pt x="168" y="5"/>
                </a:cubicBezTo>
                <a:cubicBezTo>
                  <a:pt x="141" y="8"/>
                  <a:pt x="88" y="0"/>
                  <a:pt x="64" y="29"/>
                </a:cubicBezTo>
                <a:cubicBezTo>
                  <a:pt x="56" y="38"/>
                  <a:pt x="52" y="50"/>
                  <a:pt x="48" y="61"/>
                </a:cubicBezTo>
                <a:cubicBezTo>
                  <a:pt x="42" y="77"/>
                  <a:pt x="32" y="109"/>
                  <a:pt x="32" y="109"/>
                </a:cubicBezTo>
                <a:cubicBezTo>
                  <a:pt x="37" y="180"/>
                  <a:pt x="22" y="196"/>
                  <a:pt x="56" y="237"/>
                </a:cubicBezTo>
                <a:cubicBezTo>
                  <a:pt x="69" y="253"/>
                  <a:pt x="80" y="271"/>
                  <a:pt x="96" y="285"/>
                </a:cubicBezTo>
                <a:cubicBezTo>
                  <a:pt x="110" y="298"/>
                  <a:pt x="144" y="317"/>
                  <a:pt x="144" y="317"/>
                </a:cubicBezTo>
                <a:cubicBezTo>
                  <a:pt x="177" y="366"/>
                  <a:pt x="162" y="371"/>
                  <a:pt x="104" y="357"/>
                </a:cubicBezTo>
                <a:cubicBezTo>
                  <a:pt x="66" y="347"/>
                  <a:pt x="44" y="329"/>
                  <a:pt x="8" y="317"/>
                </a:cubicBezTo>
                <a:cubicBezTo>
                  <a:pt x="13" y="374"/>
                  <a:pt x="0" y="429"/>
                  <a:pt x="48" y="461"/>
                </a:cubicBezTo>
                <a:cubicBezTo>
                  <a:pt x="86" y="452"/>
                  <a:pt x="90" y="458"/>
                  <a:pt x="64" y="445"/>
                </a:cubicBezTo>
                <a:close/>
              </a:path>
            </a:pathLst>
          </a:custGeom>
          <a:solidFill>
            <a:srgbClr val="3333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448800">
            <a:off x="3885840" y="2784600"/>
            <a:ext cx="260280" cy="250560"/>
          </a:xfrm>
          <a:custGeom>
            <a:avLst/>
            <a:gdLst/>
            <a:ahLst/>
            <a:rect l="l" t="t" r="r" b="b"/>
            <a:pathLst>
              <a:path w="273" h="258">
                <a:moveTo>
                  <a:pt x="273" y="40"/>
                </a:moveTo>
                <a:cubicBezTo>
                  <a:pt x="203" y="17"/>
                  <a:pt x="179" y="0"/>
                  <a:pt x="91" y="40"/>
                </a:cubicBezTo>
                <a:cubicBezTo>
                  <a:pt x="59" y="54"/>
                  <a:pt x="19" y="201"/>
                  <a:pt x="18" y="204"/>
                </a:cubicBezTo>
                <a:cubicBezTo>
                  <a:pt x="12" y="222"/>
                  <a:pt x="0" y="258"/>
                  <a:pt x="0" y="25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448800">
            <a:off x="4134960" y="2643120"/>
            <a:ext cx="274680" cy="211320"/>
          </a:xfrm>
          <a:custGeom>
            <a:avLst/>
            <a:gdLst/>
            <a:ahLst/>
            <a:rect l="l" t="t" r="r" b="b"/>
            <a:pathLst>
              <a:path w="290" h="218">
                <a:moveTo>
                  <a:pt x="0" y="218"/>
                </a:moveTo>
                <a:cubicBezTo>
                  <a:pt x="66" y="118"/>
                  <a:pt x="157" y="0"/>
                  <a:pt x="29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448800">
            <a:off x="4167000" y="2663640"/>
            <a:ext cx="360" cy="195120"/>
          </a:xfrm>
          <a:custGeom>
            <a:avLst/>
            <a:gdLst/>
            <a:ahLst/>
            <a:rect l="l" t="t" r="r" b="b"/>
            <a:pathLst>
              <a:path w="1" h="200">
                <a:moveTo>
                  <a:pt x="0" y="200"/>
                </a:moveTo>
                <a:cubicBezTo>
                  <a:pt x="0" y="133"/>
                  <a:pt x="0" y="67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36880" y="2735280"/>
            <a:ext cx="1211400" cy="1044720"/>
          </a:xfrm>
          <a:custGeom>
            <a:avLst/>
            <a:gdLst/>
            <a:ahLst/>
            <a:rect l="l" t="t" r="r" b="b"/>
            <a:pathLst>
              <a:path w="1050" h="906">
                <a:moveTo>
                  <a:pt x="521" y="24"/>
                </a:moveTo>
                <a:cubicBezTo>
                  <a:pt x="598" y="0"/>
                  <a:pt x="573" y="2"/>
                  <a:pt x="709" y="24"/>
                </a:cubicBezTo>
                <a:cubicBezTo>
                  <a:pt x="734" y="28"/>
                  <a:pt x="784" y="48"/>
                  <a:pt x="784" y="48"/>
                </a:cubicBezTo>
                <a:cubicBezTo>
                  <a:pt x="864" y="105"/>
                  <a:pt x="820" y="70"/>
                  <a:pt x="910" y="157"/>
                </a:cubicBezTo>
                <a:cubicBezTo>
                  <a:pt x="939" y="185"/>
                  <a:pt x="985" y="254"/>
                  <a:pt x="985" y="254"/>
                </a:cubicBezTo>
                <a:cubicBezTo>
                  <a:pt x="1021" y="389"/>
                  <a:pt x="1050" y="536"/>
                  <a:pt x="973" y="664"/>
                </a:cubicBezTo>
                <a:cubicBezTo>
                  <a:pt x="954" y="697"/>
                  <a:pt x="927" y="767"/>
                  <a:pt x="897" y="785"/>
                </a:cubicBezTo>
                <a:cubicBezTo>
                  <a:pt x="847" y="817"/>
                  <a:pt x="805" y="862"/>
                  <a:pt x="747" y="882"/>
                </a:cubicBezTo>
                <a:cubicBezTo>
                  <a:pt x="715" y="894"/>
                  <a:pt x="646" y="906"/>
                  <a:pt x="646" y="906"/>
                </a:cubicBezTo>
                <a:cubicBezTo>
                  <a:pt x="489" y="898"/>
                  <a:pt x="376" y="886"/>
                  <a:pt x="232" y="846"/>
                </a:cubicBezTo>
                <a:cubicBezTo>
                  <a:pt x="153" y="795"/>
                  <a:pt x="100" y="741"/>
                  <a:pt x="69" y="652"/>
                </a:cubicBezTo>
                <a:cubicBezTo>
                  <a:pt x="73" y="521"/>
                  <a:pt x="0" y="178"/>
                  <a:pt x="203" y="114"/>
                </a:cubicBezTo>
                <a:cubicBezTo>
                  <a:pt x="274" y="46"/>
                  <a:pt x="360" y="62"/>
                  <a:pt x="458" y="48"/>
                </a:cubicBezTo>
                <a:cubicBezTo>
                  <a:pt x="537" y="22"/>
                  <a:pt x="560" y="24"/>
                  <a:pt x="521" y="24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20582400">
            <a:off x="4079880" y="2937960"/>
            <a:ext cx="341280" cy="4813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20582400">
            <a:off x="4446720" y="2838600"/>
            <a:ext cx="342720" cy="5079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8088000">
            <a:off x="4143960" y="2964600"/>
            <a:ext cx="751680" cy="70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744" y="1256"/>
                </a:moveTo>
                <a:arcTo wR="10800" hR="10800" stAng="-7074784" swAng="7074784"/>
                <a:lnTo>
                  <a:pt x="10800" y="10800"/>
                </a:lnTo>
                <a:close/>
              </a:path>
              <a:path fill="none" w="21600" h="21600">
                <a:moveTo>
                  <a:pt x="5744" y="1256"/>
                </a:moveTo>
                <a:arcTo wR="10800" hR="10800" stAng="-7074784" swAng="707478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413400">
            <a:off x="4451400" y="3347640"/>
            <a:ext cx="183960" cy="185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413400">
            <a:off x="4183200" y="2997000"/>
            <a:ext cx="182520" cy="257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413400">
            <a:off x="4529160" y="2855520"/>
            <a:ext cx="182520" cy="257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1140400">
            <a:off x="3952440" y="2803320"/>
            <a:ext cx="233280" cy="392040"/>
          </a:xfrm>
          <a:custGeom>
            <a:avLst/>
            <a:gdLst/>
            <a:ahLst/>
            <a:rect l="l" t="t" r="r" b="b"/>
            <a:pathLst>
              <a:path w="273" h="400">
                <a:moveTo>
                  <a:pt x="273" y="0"/>
                </a:moveTo>
                <a:cubicBezTo>
                  <a:pt x="198" y="37"/>
                  <a:pt x="150" y="69"/>
                  <a:pt x="91" y="127"/>
                </a:cubicBezTo>
                <a:cubicBezTo>
                  <a:pt x="61" y="218"/>
                  <a:pt x="0" y="301"/>
                  <a:pt x="0" y="4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62000">
            <a:off x="4185720" y="2719440"/>
            <a:ext cx="246240" cy="131760"/>
          </a:xfrm>
          <a:custGeom>
            <a:avLst/>
            <a:gdLst/>
            <a:ahLst/>
            <a:rect l="l" t="t" r="r" b="b"/>
            <a:pathLst>
              <a:path w="273" h="109">
                <a:moveTo>
                  <a:pt x="0" y="109"/>
                </a:moveTo>
                <a:cubicBezTo>
                  <a:pt x="12" y="91"/>
                  <a:pt x="17" y="66"/>
                  <a:pt x="36" y="54"/>
                </a:cubicBezTo>
                <a:cubicBezTo>
                  <a:pt x="105" y="11"/>
                  <a:pt x="195" y="0"/>
                  <a:pt x="273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67200" y="4917960"/>
            <a:ext cx="590760" cy="285840"/>
          </a:xfrm>
          <a:custGeom>
            <a:avLst/>
            <a:gdLst/>
            <a:ahLst/>
            <a:rect l="l" t="t" r="r" b="b"/>
            <a:pathLst>
              <a:path w="372" h="180">
                <a:moveTo>
                  <a:pt x="30" y="0"/>
                </a:moveTo>
                <a:lnTo>
                  <a:pt x="0" y="136"/>
                </a:lnTo>
                <a:lnTo>
                  <a:pt x="86" y="162"/>
                </a:lnTo>
                <a:lnTo>
                  <a:pt x="92" y="140"/>
                </a:lnTo>
                <a:lnTo>
                  <a:pt x="226" y="178"/>
                </a:lnTo>
                <a:lnTo>
                  <a:pt x="370" y="180"/>
                </a:lnTo>
                <a:lnTo>
                  <a:pt x="372" y="150"/>
                </a:lnTo>
                <a:lnTo>
                  <a:pt x="366" y="124"/>
                </a:lnTo>
                <a:lnTo>
                  <a:pt x="348" y="102"/>
                </a:lnTo>
                <a:lnTo>
                  <a:pt x="328" y="92"/>
                </a:lnTo>
                <a:lnTo>
                  <a:pt x="290" y="82"/>
                </a:lnTo>
                <a:lnTo>
                  <a:pt x="240" y="64"/>
                </a:lnTo>
                <a:lnTo>
                  <a:pt x="208" y="50"/>
                </a:lnTo>
                <a:lnTo>
                  <a:pt x="208" y="22"/>
                </a:lnTo>
                <a:lnTo>
                  <a:pt x="30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06800" y="4921200"/>
            <a:ext cx="536760" cy="260280"/>
          </a:xfrm>
          <a:custGeom>
            <a:avLst/>
            <a:gdLst/>
            <a:ahLst/>
            <a:rect l="l" t="t" r="r" b="b"/>
            <a:pathLst>
              <a:path w="338" h="164">
                <a:moveTo>
                  <a:pt x="158" y="2"/>
                </a:moveTo>
                <a:lnTo>
                  <a:pt x="156" y="18"/>
                </a:lnTo>
                <a:lnTo>
                  <a:pt x="134" y="22"/>
                </a:lnTo>
                <a:lnTo>
                  <a:pt x="108" y="38"/>
                </a:lnTo>
                <a:lnTo>
                  <a:pt x="88" y="44"/>
                </a:lnTo>
                <a:lnTo>
                  <a:pt x="48" y="56"/>
                </a:lnTo>
                <a:lnTo>
                  <a:pt x="22" y="68"/>
                </a:lnTo>
                <a:lnTo>
                  <a:pt x="8" y="86"/>
                </a:lnTo>
                <a:lnTo>
                  <a:pt x="0" y="108"/>
                </a:lnTo>
                <a:lnTo>
                  <a:pt x="0" y="140"/>
                </a:lnTo>
                <a:lnTo>
                  <a:pt x="0" y="162"/>
                </a:lnTo>
                <a:lnTo>
                  <a:pt x="86" y="164"/>
                </a:lnTo>
                <a:lnTo>
                  <a:pt x="180" y="144"/>
                </a:lnTo>
                <a:lnTo>
                  <a:pt x="280" y="100"/>
                </a:lnTo>
                <a:lnTo>
                  <a:pt x="280" y="126"/>
                </a:lnTo>
                <a:lnTo>
                  <a:pt x="336" y="84"/>
                </a:lnTo>
                <a:lnTo>
                  <a:pt x="338" y="0"/>
                </a:lnTo>
                <a:lnTo>
                  <a:pt x="158" y="2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838080" y="1085760"/>
            <a:ext cx="7505640" cy="2629080"/>
            <a:chOff x="838080" y="1085760"/>
            <a:chExt cx="7505640" cy="2629080"/>
          </a:xfrm>
        </p:grpSpPr>
        <p:sp>
          <p:nvSpPr>
            <p:cNvPr id="131" name=""/>
            <p:cNvSpPr/>
            <p:nvPr/>
          </p:nvSpPr>
          <p:spPr>
            <a:xfrm>
              <a:off x="838080" y="1085760"/>
              <a:ext cx="7505640" cy="2629080"/>
            </a:xfrm>
            <a:prstGeom prst="cloudCallout">
              <a:avLst>
                <a:gd name="adj1" fmla="val -39125"/>
                <a:gd name="adj2" fmla="val 53504"/>
              </a:avLst>
            </a:prstGeom>
            <a:solidFill>
              <a:srgbClr val="00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69360" y="2324160"/>
              <a:ext cx="654120" cy="495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80520" y="2419200"/>
              <a:ext cx="654480" cy="495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 txBox="1"/>
          <p:nvPr/>
        </p:nvSpPr>
        <p:spPr>
          <a:xfrm>
            <a:off x="3376440" y="1447920"/>
            <a:ext cx="21625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Ohm's Law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35" name=""/>
          <p:cNvSpPr/>
          <p:nvPr/>
        </p:nvSpPr>
        <p:spPr>
          <a:xfrm>
            <a:off x="1393920" y="2014200"/>
            <a:ext cx="637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ur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lowing through a conductor is proportional to the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tential dif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ross the condu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5960" y="3962520"/>
            <a:ext cx="2438640" cy="2675160"/>
            <a:chOff x="75960" y="3962520"/>
            <a:chExt cx="2438640" cy="2675160"/>
          </a:xfrm>
        </p:grpSpPr>
        <p:sp>
          <p:nvSpPr>
            <p:cNvPr id="137" name=""/>
            <p:cNvSpPr/>
            <p:nvPr/>
          </p:nvSpPr>
          <p:spPr>
            <a:xfrm rot="4200">
              <a:off x="375840" y="5091120"/>
              <a:ext cx="1473120" cy="1295280"/>
            </a:xfrm>
            <a:custGeom>
              <a:avLst/>
              <a:gdLst/>
              <a:ahLst/>
              <a:rect l="l" t="t" r="r" b="b"/>
              <a:pathLst>
                <a:path w="1688" h="1469">
                  <a:moveTo>
                    <a:pt x="60" y="859"/>
                  </a:moveTo>
                  <a:cubicBezTo>
                    <a:pt x="54" y="930"/>
                    <a:pt x="43" y="984"/>
                    <a:pt x="28" y="1050"/>
                  </a:cubicBezTo>
                  <a:cubicBezTo>
                    <a:pt x="25" y="1099"/>
                    <a:pt x="20" y="1147"/>
                    <a:pt x="20" y="1196"/>
                  </a:cubicBezTo>
                  <a:cubicBezTo>
                    <a:pt x="20" y="1374"/>
                    <a:pt x="0" y="1417"/>
                    <a:pt x="132" y="1424"/>
                  </a:cubicBezTo>
                  <a:cubicBezTo>
                    <a:pt x="289" y="1469"/>
                    <a:pt x="327" y="1216"/>
                    <a:pt x="636" y="1224"/>
                  </a:cubicBezTo>
                  <a:cubicBezTo>
                    <a:pt x="1284" y="1176"/>
                    <a:pt x="1224" y="1416"/>
                    <a:pt x="1508" y="1408"/>
                  </a:cubicBezTo>
                  <a:cubicBezTo>
                    <a:pt x="1548" y="1399"/>
                    <a:pt x="1606" y="1339"/>
                    <a:pt x="1644" y="1324"/>
                  </a:cubicBezTo>
                  <a:cubicBezTo>
                    <a:pt x="1652" y="1321"/>
                    <a:pt x="1648" y="1304"/>
                    <a:pt x="1652" y="1297"/>
                  </a:cubicBezTo>
                  <a:cubicBezTo>
                    <a:pt x="1659" y="1282"/>
                    <a:pt x="1668" y="1272"/>
                    <a:pt x="1676" y="1259"/>
                  </a:cubicBezTo>
                  <a:cubicBezTo>
                    <a:pt x="1688" y="1202"/>
                    <a:pt x="1676" y="1159"/>
                    <a:pt x="1660" y="1105"/>
                  </a:cubicBezTo>
                  <a:cubicBezTo>
                    <a:pt x="1649" y="1066"/>
                    <a:pt x="1643" y="1023"/>
                    <a:pt x="1628" y="986"/>
                  </a:cubicBezTo>
                  <a:cubicBezTo>
                    <a:pt x="1622" y="973"/>
                    <a:pt x="1611" y="962"/>
                    <a:pt x="1604" y="950"/>
                  </a:cubicBezTo>
                  <a:cubicBezTo>
                    <a:pt x="1581" y="906"/>
                    <a:pt x="1547" y="872"/>
                    <a:pt x="1520" y="832"/>
                  </a:cubicBezTo>
                  <a:cubicBezTo>
                    <a:pt x="1513" y="799"/>
                    <a:pt x="1498" y="688"/>
                    <a:pt x="1476" y="667"/>
                  </a:cubicBezTo>
                  <a:cubicBezTo>
                    <a:pt x="1469" y="661"/>
                    <a:pt x="1460" y="661"/>
                    <a:pt x="1452" y="658"/>
                  </a:cubicBezTo>
                  <a:cubicBezTo>
                    <a:pt x="1423" y="557"/>
                    <a:pt x="1472" y="706"/>
                    <a:pt x="1420" y="612"/>
                  </a:cubicBezTo>
                  <a:cubicBezTo>
                    <a:pt x="1407" y="588"/>
                    <a:pt x="1401" y="558"/>
                    <a:pt x="1396" y="530"/>
                  </a:cubicBezTo>
                  <a:cubicBezTo>
                    <a:pt x="1382" y="452"/>
                    <a:pt x="1383" y="354"/>
                    <a:pt x="1348" y="284"/>
                  </a:cubicBezTo>
                  <a:cubicBezTo>
                    <a:pt x="1335" y="258"/>
                    <a:pt x="1316" y="235"/>
                    <a:pt x="1300" y="211"/>
                  </a:cubicBezTo>
                  <a:cubicBezTo>
                    <a:pt x="1279" y="140"/>
                    <a:pt x="1267" y="125"/>
                    <a:pt x="1212" y="83"/>
                  </a:cubicBezTo>
                  <a:cubicBezTo>
                    <a:pt x="1198" y="73"/>
                    <a:pt x="1164" y="65"/>
                    <a:pt x="1164" y="65"/>
                  </a:cubicBezTo>
                  <a:cubicBezTo>
                    <a:pt x="1096" y="91"/>
                    <a:pt x="1010" y="87"/>
                    <a:pt x="940" y="92"/>
                  </a:cubicBezTo>
                  <a:cubicBezTo>
                    <a:pt x="822" y="89"/>
                    <a:pt x="675" y="93"/>
                    <a:pt x="548" y="75"/>
                  </a:cubicBezTo>
                  <a:cubicBezTo>
                    <a:pt x="499" y="66"/>
                    <a:pt x="454" y="46"/>
                    <a:pt x="404" y="37"/>
                  </a:cubicBezTo>
                  <a:cubicBezTo>
                    <a:pt x="156" y="49"/>
                    <a:pt x="253" y="0"/>
                    <a:pt x="164" y="102"/>
                  </a:cubicBezTo>
                  <a:cubicBezTo>
                    <a:pt x="146" y="165"/>
                    <a:pt x="134" y="230"/>
                    <a:pt x="116" y="293"/>
                  </a:cubicBezTo>
                  <a:cubicBezTo>
                    <a:pt x="106" y="421"/>
                    <a:pt x="183" y="546"/>
                    <a:pt x="168" y="672"/>
                  </a:cubicBezTo>
                  <a:cubicBezTo>
                    <a:pt x="160" y="739"/>
                    <a:pt x="39" y="787"/>
                    <a:pt x="117" y="918"/>
                  </a:cubicBezTo>
                </a:path>
              </a:pathLst>
            </a:custGeom>
            <a:gradFill rotWithShape="0">
              <a:gsLst>
                <a:gs pos="0">
                  <a:srgbClr val="750075"/>
                </a:gs>
                <a:gs pos="50000">
                  <a:srgbClr val="ff00ff"/>
                </a:gs>
                <a:gs pos="100000">
                  <a:srgbClr val="750075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rot="4800">
              <a:off x="448920" y="6291360"/>
              <a:ext cx="571320" cy="345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4200">
              <a:off x="642600" y="5716080"/>
              <a:ext cx="1093680" cy="655920"/>
            </a:xfrm>
            <a:custGeom>
              <a:avLst/>
              <a:gdLst/>
              <a:ahLst/>
              <a:rect l="l" t="t" r="r" b="b"/>
              <a:pathLst>
                <a:path w="1175" h="705">
                  <a:moveTo>
                    <a:pt x="88" y="67"/>
                  </a:moveTo>
                  <a:cubicBezTo>
                    <a:pt x="76" y="271"/>
                    <a:pt x="64" y="396"/>
                    <a:pt x="0" y="579"/>
                  </a:cubicBezTo>
                  <a:cubicBezTo>
                    <a:pt x="4" y="600"/>
                    <a:pt x="2" y="623"/>
                    <a:pt x="13" y="642"/>
                  </a:cubicBezTo>
                  <a:cubicBezTo>
                    <a:pt x="26" y="665"/>
                    <a:pt x="80" y="677"/>
                    <a:pt x="100" y="679"/>
                  </a:cubicBezTo>
                  <a:cubicBezTo>
                    <a:pt x="183" y="686"/>
                    <a:pt x="267" y="688"/>
                    <a:pt x="350" y="692"/>
                  </a:cubicBezTo>
                  <a:cubicBezTo>
                    <a:pt x="375" y="688"/>
                    <a:pt x="403" y="692"/>
                    <a:pt x="425" y="679"/>
                  </a:cubicBezTo>
                  <a:cubicBezTo>
                    <a:pt x="436" y="673"/>
                    <a:pt x="432" y="654"/>
                    <a:pt x="438" y="642"/>
                  </a:cubicBezTo>
                  <a:cubicBezTo>
                    <a:pt x="467" y="585"/>
                    <a:pt x="464" y="622"/>
                    <a:pt x="488" y="554"/>
                  </a:cubicBezTo>
                  <a:cubicBezTo>
                    <a:pt x="503" y="513"/>
                    <a:pt x="525" y="429"/>
                    <a:pt x="525" y="429"/>
                  </a:cubicBezTo>
                  <a:cubicBezTo>
                    <a:pt x="539" y="336"/>
                    <a:pt x="515" y="312"/>
                    <a:pt x="600" y="292"/>
                  </a:cubicBezTo>
                  <a:cubicBezTo>
                    <a:pt x="633" y="386"/>
                    <a:pt x="636" y="509"/>
                    <a:pt x="650" y="604"/>
                  </a:cubicBezTo>
                  <a:cubicBezTo>
                    <a:pt x="654" y="634"/>
                    <a:pt x="695" y="649"/>
                    <a:pt x="725" y="654"/>
                  </a:cubicBezTo>
                  <a:cubicBezTo>
                    <a:pt x="859" y="678"/>
                    <a:pt x="933" y="694"/>
                    <a:pt x="1075" y="704"/>
                  </a:cubicBezTo>
                  <a:cubicBezTo>
                    <a:pt x="1104" y="700"/>
                    <a:pt x="1137" y="705"/>
                    <a:pt x="1163" y="692"/>
                  </a:cubicBezTo>
                  <a:cubicBezTo>
                    <a:pt x="1175" y="686"/>
                    <a:pt x="1175" y="667"/>
                    <a:pt x="1175" y="654"/>
                  </a:cubicBezTo>
                  <a:cubicBezTo>
                    <a:pt x="1175" y="463"/>
                    <a:pt x="1163" y="472"/>
                    <a:pt x="1075" y="342"/>
                  </a:cubicBezTo>
                  <a:cubicBezTo>
                    <a:pt x="1071" y="326"/>
                    <a:pt x="1060" y="271"/>
                    <a:pt x="1050" y="254"/>
                  </a:cubicBezTo>
                  <a:cubicBezTo>
                    <a:pt x="1035" y="228"/>
                    <a:pt x="1000" y="179"/>
                    <a:pt x="1000" y="179"/>
                  </a:cubicBezTo>
                  <a:cubicBezTo>
                    <a:pt x="979" y="113"/>
                    <a:pt x="995" y="153"/>
                    <a:pt x="938" y="67"/>
                  </a:cubicBezTo>
                  <a:cubicBezTo>
                    <a:pt x="893" y="0"/>
                    <a:pt x="900" y="78"/>
                    <a:pt x="900" y="17"/>
                  </a:cubicBezTo>
                </a:path>
              </a:pathLst>
            </a:custGeom>
            <a:gradFill rotWithShape="0">
              <a:gsLst>
                <a:gs pos="0">
                  <a:srgbClr val="00cc99"/>
                </a:gs>
                <a:gs pos="50000">
                  <a:srgbClr val="ccecff"/>
                </a:gs>
                <a:gs pos="100000">
                  <a:srgbClr val="00cc99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4200">
              <a:off x="1310760" y="6342120"/>
              <a:ext cx="617760" cy="291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2280" y="4979880"/>
              <a:ext cx="1495440" cy="1003320"/>
            </a:xfrm>
            <a:custGeom>
              <a:avLst/>
              <a:gdLst/>
              <a:ahLst/>
              <a:rect l="l" t="t" r="r" b="b"/>
              <a:pathLst>
                <a:path w="942" h="632">
                  <a:moveTo>
                    <a:pt x="221" y="159"/>
                  </a:moveTo>
                  <a:cubicBezTo>
                    <a:pt x="211" y="166"/>
                    <a:pt x="202" y="175"/>
                    <a:pt x="190" y="181"/>
                  </a:cubicBezTo>
                  <a:cubicBezTo>
                    <a:pt x="160" y="196"/>
                    <a:pt x="97" y="224"/>
                    <a:pt x="97" y="224"/>
                  </a:cubicBezTo>
                  <a:cubicBezTo>
                    <a:pt x="45" y="279"/>
                    <a:pt x="0" y="295"/>
                    <a:pt x="50" y="367"/>
                  </a:cubicBezTo>
                  <a:cubicBezTo>
                    <a:pt x="58" y="377"/>
                    <a:pt x="81" y="375"/>
                    <a:pt x="97" y="378"/>
                  </a:cubicBezTo>
                  <a:cubicBezTo>
                    <a:pt x="117" y="382"/>
                    <a:pt x="137" y="385"/>
                    <a:pt x="158" y="389"/>
                  </a:cubicBezTo>
                  <a:cubicBezTo>
                    <a:pt x="183" y="385"/>
                    <a:pt x="213" y="388"/>
                    <a:pt x="236" y="378"/>
                  </a:cubicBezTo>
                  <a:cubicBezTo>
                    <a:pt x="250" y="371"/>
                    <a:pt x="243" y="355"/>
                    <a:pt x="252" y="345"/>
                  </a:cubicBezTo>
                  <a:cubicBezTo>
                    <a:pt x="259" y="336"/>
                    <a:pt x="273" y="330"/>
                    <a:pt x="283" y="323"/>
                  </a:cubicBezTo>
                  <a:cubicBezTo>
                    <a:pt x="293" y="334"/>
                    <a:pt x="310" y="343"/>
                    <a:pt x="314" y="356"/>
                  </a:cubicBezTo>
                  <a:cubicBezTo>
                    <a:pt x="381" y="632"/>
                    <a:pt x="158" y="513"/>
                    <a:pt x="855" y="499"/>
                  </a:cubicBezTo>
                  <a:cubicBezTo>
                    <a:pt x="850" y="478"/>
                    <a:pt x="854" y="453"/>
                    <a:pt x="840" y="434"/>
                  </a:cubicBezTo>
                  <a:cubicBezTo>
                    <a:pt x="821" y="407"/>
                    <a:pt x="848" y="339"/>
                    <a:pt x="814" y="323"/>
                  </a:cubicBezTo>
                  <a:cubicBezTo>
                    <a:pt x="804" y="261"/>
                    <a:pt x="806" y="273"/>
                    <a:pt x="802" y="261"/>
                  </a:cubicBezTo>
                  <a:cubicBezTo>
                    <a:pt x="831" y="248"/>
                    <a:pt x="815" y="243"/>
                    <a:pt x="831" y="220"/>
                  </a:cubicBezTo>
                  <a:cubicBezTo>
                    <a:pt x="847" y="197"/>
                    <a:pt x="894" y="155"/>
                    <a:pt x="900" y="121"/>
                  </a:cubicBezTo>
                  <a:cubicBezTo>
                    <a:pt x="890" y="67"/>
                    <a:pt x="942" y="45"/>
                    <a:pt x="870" y="16"/>
                  </a:cubicBezTo>
                  <a:cubicBezTo>
                    <a:pt x="828" y="0"/>
                    <a:pt x="805" y="87"/>
                    <a:pt x="759" y="76"/>
                  </a:cubicBezTo>
                  <a:cubicBezTo>
                    <a:pt x="744" y="72"/>
                    <a:pt x="670" y="127"/>
                    <a:pt x="670" y="127"/>
                  </a:cubicBezTo>
                </a:path>
              </a:pathLst>
            </a:custGeom>
            <a:gradFill rotWithShape="0">
              <a:gsLst>
                <a:gs pos="0">
                  <a:srgbClr val="6c0000"/>
                </a:gs>
                <a:gs pos="50000">
                  <a:srgbClr val="ff0000"/>
                </a:gs>
                <a:gs pos="100000">
                  <a:srgbClr val="6c0000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4200">
              <a:off x="75960" y="5589360"/>
              <a:ext cx="50472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rot="16122000">
              <a:off x="1517400" y="4882320"/>
              <a:ext cx="44604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4200">
              <a:off x="777960" y="5268960"/>
              <a:ext cx="595080" cy="428400"/>
            </a:xfrm>
            <a:custGeom>
              <a:avLst/>
              <a:gdLst/>
              <a:ahLst/>
              <a:rect l="l" t="t" r="r" b="b"/>
              <a:pathLst>
                <a:path w="640" h="461">
                  <a:moveTo>
                    <a:pt x="64" y="445"/>
                  </a:moveTo>
                  <a:cubicBezTo>
                    <a:pt x="125" y="442"/>
                    <a:pt x="187" y="442"/>
                    <a:pt x="248" y="437"/>
                  </a:cubicBezTo>
                  <a:cubicBezTo>
                    <a:pt x="259" y="436"/>
                    <a:pt x="276" y="439"/>
                    <a:pt x="280" y="429"/>
                  </a:cubicBezTo>
                  <a:cubicBezTo>
                    <a:pt x="298" y="382"/>
                    <a:pt x="274" y="374"/>
                    <a:pt x="248" y="357"/>
                  </a:cubicBezTo>
                  <a:cubicBezTo>
                    <a:pt x="228" y="297"/>
                    <a:pt x="257" y="369"/>
                    <a:pt x="216" y="317"/>
                  </a:cubicBezTo>
                  <a:cubicBezTo>
                    <a:pt x="210" y="310"/>
                    <a:pt x="188" y="256"/>
                    <a:pt x="184" y="245"/>
                  </a:cubicBezTo>
                  <a:cubicBezTo>
                    <a:pt x="192" y="112"/>
                    <a:pt x="164" y="95"/>
                    <a:pt x="280" y="109"/>
                  </a:cubicBezTo>
                  <a:cubicBezTo>
                    <a:pt x="317" y="121"/>
                    <a:pt x="347" y="145"/>
                    <a:pt x="384" y="157"/>
                  </a:cubicBezTo>
                  <a:cubicBezTo>
                    <a:pt x="457" y="267"/>
                    <a:pt x="415" y="186"/>
                    <a:pt x="424" y="429"/>
                  </a:cubicBezTo>
                  <a:cubicBezTo>
                    <a:pt x="533" y="424"/>
                    <a:pt x="607" y="457"/>
                    <a:pt x="640" y="357"/>
                  </a:cubicBezTo>
                  <a:cubicBezTo>
                    <a:pt x="625" y="269"/>
                    <a:pt x="611" y="293"/>
                    <a:pt x="512" y="285"/>
                  </a:cubicBezTo>
                  <a:cubicBezTo>
                    <a:pt x="485" y="205"/>
                    <a:pt x="475" y="141"/>
                    <a:pt x="408" y="85"/>
                  </a:cubicBezTo>
                  <a:cubicBezTo>
                    <a:pt x="393" y="73"/>
                    <a:pt x="371" y="43"/>
                    <a:pt x="352" y="37"/>
                  </a:cubicBezTo>
                  <a:cubicBezTo>
                    <a:pt x="311" y="24"/>
                    <a:pt x="214" y="11"/>
                    <a:pt x="168" y="5"/>
                  </a:cubicBezTo>
                  <a:cubicBezTo>
                    <a:pt x="141" y="8"/>
                    <a:pt x="88" y="0"/>
                    <a:pt x="64" y="29"/>
                  </a:cubicBezTo>
                  <a:cubicBezTo>
                    <a:pt x="56" y="38"/>
                    <a:pt x="52" y="50"/>
                    <a:pt x="48" y="61"/>
                  </a:cubicBezTo>
                  <a:cubicBezTo>
                    <a:pt x="42" y="77"/>
                    <a:pt x="32" y="109"/>
                    <a:pt x="32" y="109"/>
                  </a:cubicBezTo>
                  <a:cubicBezTo>
                    <a:pt x="37" y="180"/>
                    <a:pt x="22" y="196"/>
                    <a:pt x="56" y="237"/>
                  </a:cubicBezTo>
                  <a:cubicBezTo>
                    <a:pt x="69" y="253"/>
                    <a:pt x="80" y="271"/>
                    <a:pt x="96" y="285"/>
                  </a:cubicBezTo>
                  <a:cubicBezTo>
                    <a:pt x="110" y="298"/>
                    <a:pt x="144" y="317"/>
                    <a:pt x="144" y="317"/>
                  </a:cubicBezTo>
                  <a:cubicBezTo>
                    <a:pt x="177" y="366"/>
                    <a:pt x="162" y="371"/>
                    <a:pt x="104" y="357"/>
                  </a:cubicBezTo>
                  <a:cubicBezTo>
                    <a:pt x="66" y="347"/>
                    <a:pt x="44" y="329"/>
                    <a:pt x="8" y="317"/>
                  </a:cubicBezTo>
                  <a:cubicBezTo>
                    <a:pt x="13" y="374"/>
                    <a:pt x="0" y="429"/>
                    <a:pt x="48" y="461"/>
                  </a:cubicBezTo>
                  <a:cubicBezTo>
                    <a:pt x="86" y="452"/>
                    <a:pt x="90" y="458"/>
                    <a:pt x="64" y="445"/>
                  </a:cubicBezTo>
                  <a:close/>
                </a:path>
              </a:pathLst>
            </a:custGeom>
            <a:solidFill>
              <a:srgbClr val="3333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3760" y="4160880"/>
              <a:ext cx="1211040" cy="1044360"/>
            </a:xfrm>
            <a:custGeom>
              <a:avLst/>
              <a:gdLst/>
              <a:ahLst/>
              <a:rect l="l" t="t" r="r" b="b"/>
              <a:pathLst>
                <a:path w="1050" h="906">
                  <a:moveTo>
                    <a:pt x="521" y="24"/>
                  </a:moveTo>
                  <a:cubicBezTo>
                    <a:pt x="598" y="0"/>
                    <a:pt x="573" y="2"/>
                    <a:pt x="709" y="24"/>
                  </a:cubicBezTo>
                  <a:cubicBezTo>
                    <a:pt x="734" y="28"/>
                    <a:pt x="784" y="48"/>
                    <a:pt x="784" y="48"/>
                  </a:cubicBezTo>
                  <a:cubicBezTo>
                    <a:pt x="864" y="105"/>
                    <a:pt x="820" y="70"/>
                    <a:pt x="910" y="157"/>
                  </a:cubicBezTo>
                  <a:cubicBezTo>
                    <a:pt x="939" y="185"/>
                    <a:pt x="985" y="254"/>
                    <a:pt x="985" y="254"/>
                  </a:cubicBezTo>
                  <a:cubicBezTo>
                    <a:pt x="1021" y="389"/>
                    <a:pt x="1050" y="536"/>
                    <a:pt x="973" y="664"/>
                  </a:cubicBezTo>
                  <a:cubicBezTo>
                    <a:pt x="954" y="697"/>
                    <a:pt x="927" y="767"/>
                    <a:pt x="897" y="785"/>
                  </a:cubicBezTo>
                  <a:cubicBezTo>
                    <a:pt x="847" y="817"/>
                    <a:pt x="805" y="862"/>
                    <a:pt x="747" y="882"/>
                  </a:cubicBezTo>
                  <a:cubicBezTo>
                    <a:pt x="715" y="894"/>
                    <a:pt x="646" y="906"/>
                    <a:pt x="646" y="906"/>
                  </a:cubicBezTo>
                  <a:cubicBezTo>
                    <a:pt x="489" y="898"/>
                    <a:pt x="376" y="886"/>
                    <a:pt x="232" y="846"/>
                  </a:cubicBezTo>
                  <a:cubicBezTo>
                    <a:pt x="153" y="795"/>
                    <a:pt x="100" y="741"/>
                    <a:pt x="69" y="652"/>
                  </a:cubicBezTo>
                  <a:cubicBezTo>
                    <a:pt x="73" y="521"/>
                    <a:pt x="0" y="178"/>
                    <a:pt x="203" y="114"/>
                  </a:cubicBezTo>
                  <a:cubicBezTo>
                    <a:pt x="274" y="46"/>
                    <a:pt x="360" y="62"/>
                    <a:pt x="458" y="48"/>
                  </a:cubicBezTo>
                  <a:cubicBezTo>
                    <a:pt x="537" y="22"/>
                    <a:pt x="560" y="24"/>
                    <a:pt x="521" y="24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0582400">
              <a:off x="536400" y="4363560"/>
              <a:ext cx="341640" cy="4809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20582400">
              <a:off x="903240" y="4264200"/>
              <a:ext cx="343080" cy="50796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8088000">
              <a:off x="601200" y="4390560"/>
              <a:ext cx="751680" cy="70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44" y="1256"/>
                  </a:moveTo>
                  <a:arcTo wR="10800" hR="10800" stAng="-7074784" swAng="7074784"/>
                  <a:lnTo>
                    <a:pt x="10800" y="10800"/>
                  </a:lnTo>
                  <a:close/>
                </a:path>
                <a:path fill="none" w="21600" h="21600">
                  <a:moveTo>
                    <a:pt x="5744" y="1256"/>
                  </a:moveTo>
                  <a:arcTo wR="10800" hR="10800" stAng="-7074784" swAng="707478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413400">
              <a:off x="907920" y="4773240"/>
              <a:ext cx="184320" cy="1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413400">
              <a:off x="677880" y="4422240"/>
              <a:ext cx="182520" cy="257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413400">
              <a:off x="1004760" y="4300200"/>
              <a:ext cx="182520" cy="257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448800">
              <a:off x="328320" y="4195800"/>
              <a:ext cx="260280" cy="250920"/>
            </a:xfrm>
            <a:custGeom>
              <a:avLst/>
              <a:gdLst/>
              <a:ahLst/>
              <a:rect l="l" t="t" r="r" b="b"/>
              <a:pathLst>
                <a:path w="273" h="258">
                  <a:moveTo>
                    <a:pt x="273" y="40"/>
                  </a:moveTo>
                  <a:cubicBezTo>
                    <a:pt x="203" y="17"/>
                    <a:pt x="179" y="0"/>
                    <a:pt x="91" y="40"/>
                  </a:cubicBezTo>
                  <a:cubicBezTo>
                    <a:pt x="59" y="54"/>
                    <a:pt x="19" y="201"/>
                    <a:pt x="18" y="204"/>
                  </a:cubicBezTo>
                  <a:cubicBezTo>
                    <a:pt x="12" y="222"/>
                    <a:pt x="0" y="258"/>
                    <a:pt x="0" y="25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448800">
              <a:off x="587160" y="4092480"/>
              <a:ext cx="274320" cy="211320"/>
            </a:xfrm>
            <a:custGeom>
              <a:avLst/>
              <a:gdLst/>
              <a:ahLst/>
              <a:rect l="l" t="t" r="r" b="b"/>
              <a:pathLst>
                <a:path w="290" h="218">
                  <a:moveTo>
                    <a:pt x="0" y="218"/>
                  </a:moveTo>
                  <a:cubicBezTo>
                    <a:pt x="66" y="118"/>
                    <a:pt x="157" y="0"/>
                    <a:pt x="29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448800">
              <a:off x="632880" y="4065480"/>
              <a:ext cx="1800" cy="195480"/>
            </a:xfrm>
            <a:custGeom>
              <a:avLst/>
              <a:gdLst/>
              <a:ahLst/>
              <a:rect l="l" t="t" r="r" b="b"/>
              <a:pathLst>
                <a:path w="1" h="200">
                  <a:moveTo>
                    <a:pt x="0" y="200"/>
                  </a:moveTo>
                  <a:cubicBezTo>
                    <a:pt x="0" y="133"/>
                    <a:pt x="0" y="67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1140400">
              <a:off x="418680" y="4266720"/>
              <a:ext cx="233280" cy="392400"/>
            </a:xfrm>
            <a:custGeom>
              <a:avLst/>
              <a:gdLst/>
              <a:ahLst/>
              <a:rect l="l" t="t" r="r" b="b"/>
              <a:pathLst>
                <a:path w="273" h="400">
                  <a:moveTo>
                    <a:pt x="273" y="0"/>
                  </a:moveTo>
                  <a:cubicBezTo>
                    <a:pt x="198" y="37"/>
                    <a:pt x="150" y="69"/>
                    <a:pt x="91" y="127"/>
                  </a:cubicBezTo>
                  <a:cubicBezTo>
                    <a:pt x="61" y="218"/>
                    <a:pt x="0" y="301"/>
                    <a:pt x="0" y="4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662000">
              <a:off x="651960" y="4183200"/>
              <a:ext cx="246240" cy="131760"/>
            </a:xfrm>
            <a:custGeom>
              <a:avLst/>
              <a:gdLst/>
              <a:ahLst/>
              <a:rect l="l" t="t" r="r" b="b"/>
              <a:pathLst>
                <a:path w="273" h="109">
                  <a:moveTo>
                    <a:pt x="0" y="109"/>
                  </a:moveTo>
                  <a:cubicBezTo>
                    <a:pt x="12" y="91"/>
                    <a:pt x="17" y="66"/>
                    <a:pt x="36" y="54"/>
                  </a:cubicBezTo>
                  <a:cubicBezTo>
                    <a:pt x="105" y="11"/>
                    <a:pt x="195" y="0"/>
                    <a:pt x="27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23880" y="3962520"/>
              <a:ext cx="990720" cy="1218960"/>
            </a:xfrm>
            <a:custGeom>
              <a:avLst/>
              <a:gdLst/>
              <a:ahLst/>
              <a:rect l="l" t="t" r="r" b="b"/>
              <a:pathLst>
                <a:path w="624" h="768">
                  <a:moveTo>
                    <a:pt x="0" y="720"/>
                  </a:moveTo>
                  <a:lnTo>
                    <a:pt x="48" y="768"/>
                  </a:lnTo>
                  <a:lnTo>
                    <a:pt x="624" y="0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838080" y="990720"/>
            <a:ext cx="7505640" cy="2628720"/>
            <a:chOff x="838080" y="990720"/>
            <a:chExt cx="7505640" cy="2628720"/>
          </a:xfrm>
        </p:grpSpPr>
        <p:sp>
          <p:nvSpPr>
            <p:cNvPr id="159" name=""/>
            <p:cNvSpPr/>
            <p:nvPr/>
          </p:nvSpPr>
          <p:spPr>
            <a:xfrm>
              <a:off x="838080" y="990720"/>
              <a:ext cx="7505640" cy="2628720"/>
            </a:xfrm>
            <a:prstGeom prst="cloudCallout">
              <a:avLst>
                <a:gd name="adj1" fmla="val -39125"/>
                <a:gd name="adj2" fmla="val 53504"/>
              </a:avLst>
            </a:prstGeom>
            <a:solidFill>
              <a:srgbClr val="00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69360" y="2228760"/>
              <a:ext cx="654120" cy="495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80520" y="2323800"/>
              <a:ext cx="654480" cy="495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527120" y="1614240"/>
            <a:ext cx="637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next series of slides we will measure the current flowing through a resistor and the potential difference across the resis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5960" y="3962520"/>
            <a:ext cx="2438640" cy="2675160"/>
            <a:chOff x="75960" y="3962520"/>
            <a:chExt cx="2438640" cy="2675160"/>
          </a:xfrm>
        </p:grpSpPr>
        <p:sp>
          <p:nvSpPr>
            <p:cNvPr id="164" name=""/>
            <p:cNvSpPr/>
            <p:nvPr/>
          </p:nvSpPr>
          <p:spPr>
            <a:xfrm rot="4200">
              <a:off x="375840" y="5091120"/>
              <a:ext cx="1473120" cy="1295280"/>
            </a:xfrm>
            <a:custGeom>
              <a:avLst/>
              <a:gdLst/>
              <a:ahLst/>
              <a:rect l="l" t="t" r="r" b="b"/>
              <a:pathLst>
                <a:path w="1688" h="1469">
                  <a:moveTo>
                    <a:pt x="60" y="859"/>
                  </a:moveTo>
                  <a:cubicBezTo>
                    <a:pt x="54" y="930"/>
                    <a:pt x="43" y="984"/>
                    <a:pt x="28" y="1050"/>
                  </a:cubicBezTo>
                  <a:cubicBezTo>
                    <a:pt x="25" y="1099"/>
                    <a:pt x="20" y="1147"/>
                    <a:pt x="20" y="1196"/>
                  </a:cubicBezTo>
                  <a:cubicBezTo>
                    <a:pt x="20" y="1374"/>
                    <a:pt x="0" y="1417"/>
                    <a:pt x="132" y="1424"/>
                  </a:cubicBezTo>
                  <a:cubicBezTo>
                    <a:pt x="289" y="1469"/>
                    <a:pt x="327" y="1216"/>
                    <a:pt x="636" y="1224"/>
                  </a:cubicBezTo>
                  <a:cubicBezTo>
                    <a:pt x="1284" y="1176"/>
                    <a:pt x="1224" y="1416"/>
                    <a:pt x="1508" y="1408"/>
                  </a:cubicBezTo>
                  <a:cubicBezTo>
                    <a:pt x="1548" y="1399"/>
                    <a:pt x="1606" y="1339"/>
                    <a:pt x="1644" y="1324"/>
                  </a:cubicBezTo>
                  <a:cubicBezTo>
                    <a:pt x="1652" y="1321"/>
                    <a:pt x="1648" y="1304"/>
                    <a:pt x="1652" y="1297"/>
                  </a:cubicBezTo>
                  <a:cubicBezTo>
                    <a:pt x="1659" y="1282"/>
                    <a:pt x="1668" y="1272"/>
                    <a:pt x="1676" y="1259"/>
                  </a:cubicBezTo>
                  <a:cubicBezTo>
                    <a:pt x="1688" y="1202"/>
                    <a:pt x="1676" y="1159"/>
                    <a:pt x="1660" y="1105"/>
                  </a:cubicBezTo>
                  <a:cubicBezTo>
                    <a:pt x="1649" y="1066"/>
                    <a:pt x="1643" y="1023"/>
                    <a:pt x="1628" y="986"/>
                  </a:cubicBezTo>
                  <a:cubicBezTo>
                    <a:pt x="1622" y="973"/>
                    <a:pt x="1611" y="962"/>
                    <a:pt x="1604" y="950"/>
                  </a:cubicBezTo>
                  <a:cubicBezTo>
                    <a:pt x="1581" y="906"/>
                    <a:pt x="1547" y="872"/>
                    <a:pt x="1520" y="832"/>
                  </a:cubicBezTo>
                  <a:cubicBezTo>
                    <a:pt x="1513" y="799"/>
                    <a:pt x="1498" y="688"/>
                    <a:pt x="1476" y="667"/>
                  </a:cubicBezTo>
                  <a:cubicBezTo>
                    <a:pt x="1469" y="661"/>
                    <a:pt x="1460" y="661"/>
                    <a:pt x="1452" y="658"/>
                  </a:cubicBezTo>
                  <a:cubicBezTo>
                    <a:pt x="1423" y="557"/>
                    <a:pt x="1472" y="706"/>
                    <a:pt x="1420" y="612"/>
                  </a:cubicBezTo>
                  <a:cubicBezTo>
                    <a:pt x="1407" y="588"/>
                    <a:pt x="1401" y="558"/>
                    <a:pt x="1396" y="530"/>
                  </a:cubicBezTo>
                  <a:cubicBezTo>
                    <a:pt x="1382" y="452"/>
                    <a:pt x="1383" y="354"/>
                    <a:pt x="1348" y="284"/>
                  </a:cubicBezTo>
                  <a:cubicBezTo>
                    <a:pt x="1335" y="258"/>
                    <a:pt x="1316" y="235"/>
                    <a:pt x="1300" y="211"/>
                  </a:cubicBezTo>
                  <a:cubicBezTo>
                    <a:pt x="1279" y="140"/>
                    <a:pt x="1267" y="125"/>
                    <a:pt x="1212" y="83"/>
                  </a:cubicBezTo>
                  <a:cubicBezTo>
                    <a:pt x="1198" y="73"/>
                    <a:pt x="1164" y="65"/>
                    <a:pt x="1164" y="65"/>
                  </a:cubicBezTo>
                  <a:cubicBezTo>
                    <a:pt x="1096" y="91"/>
                    <a:pt x="1010" y="87"/>
                    <a:pt x="940" y="92"/>
                  </a:cubicBezTo>
                  <a:cubicBezTo>
                    <a:pt x="822" y="89"/>
                    <a:pt x="675" y="93"/>
                    <a:pt x="548" y="75"/>
                  </a:cubicBezTo>
                  <a:cubicBezTo>
                    <a:pt x="499" y="66"/>
                    <a:pt x="454" y="46"/>
                    <a:pt x="404" y="37"/>
                  </a:cubicBezTo>
                  <a:cubicBezTo>
                    <a:pt x="156" y="49"/>
                    <a:pt x="253" y="0"/>
                    <a:pt x="164" y="102"/>
                  </a:cubicBezTo>
                  <a:cubicBezTo>
                    <a:pt x="146" y="165"/>
                    <a:pt x="134" y="230"/>
                    <a:pt x="116" y="293"/>
                  </a:cubicBezTo>
                  <a:cubicBezTo>
                    <a:pt x="106" y="421"/>
                    <a:pt x="183" y="546"/>
                    <a:pt x="168" y="672"/>
                  </a:cubicBezTo>
                  <a:cubicBezTo>
                    <a:pt x="160" y="739"/>
                    <a:pt x="39" y="787"/>
                    <a:pt x="117" y="918"/>
                  </a:cubicBezTo>
                </a:path>
              </a:pathLst>
            </a:custGeom>
            <a:gradFill rotWithShape="0">
              <a:gsLst>
                <a:gs pos="0">
                  <a:srgbClr val="750075"/>
                </a:gs>
                <a:gs pos="50000">
                  <a:srgbClr val="ff00ff"/>
                </a:gs>
                <a:gs pos="100000">
                  <a:srgbClr val="750075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rot="4800">
              <a:off x="448920" y="6291360"/>
              <a:ext cx="571320" cy="345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4200">
              <a:off x="642600" y="5716080"/>
              <a:ext cx="1093680" cy="655920"/>
            </a:xfrm>
            <a:custGeom>
              <a:avLst/>
              <a:gdLst/>
              <a:ahLst/>
              <a:rect l="l" t="t" r="r" b="b"/>
              <a:pathLst>
                <a:path w="1175" h="705">
                  <a:moveTo>
                    <a:pt x="88" y="67"/>
                  </a:moveTo>
                  <a:cubicBezTo>
                    <a:pt x="76" y="271"/>
                    <a:pt x="64" y="396"/>
                    <a:pt x="0" y="579"/>
                  </a:cubicBezTo>
                  <a:cubicBezTo>
                    <a:pt x="4" y="600"/>
                    <a:pt x="2" y="623"/>
                    <a:pt x="13" y="642"/>
                  </a:cubicBezTo>
                  <a:cubicBezTo>
                    <a:pt x="26" y="665"/>
                    <a:pt x="80" y="677"/>
                    <a:pt x="100" y="679"/>
                  </a:cubicBezTo>
                  <a:cubicBezTo>
                    <a:pt x="183" y="686"/>
                    <a:pt x="267" y="688"/>
                    <a:pt x="350" y="692"/>
                  </a:cubicBezTo>
                  <a:cubicBezTo>
                    <a:pt x="375" y="688"/>
                    <a:pt x="403" y="692"/>
                    <a:pt x="425" y="679"/>
                  </a:cubicBezTo>
                  <a:cubicBezTo>
                    <a:pt x="436" y="673"/>
                    <a:pt x="432" y="654"/>
                    <a:pt x="438" y="642"/>
                  </a:cubicBezTo>
                  <a:cubicBezTo>
                    <a:pt x="467" y="585"/>
                    <a:pt x="464" y="622"/>
                    <a:pt x="488" y="554"/>
                  </a:cubicBezTo>
                  <a:cubicBezTo>
                    <a:pt x="503" y="513"/>
                    <a:pt x="525" y="429"/>
                    <a:pt x="525" y="429"/>
                  </a:cubicBezTo>
                  <a:cubicBezTo>
                    <a:pt x="539" y="336"/>
                    <a:pt x="515" y="312"/>
                    <a:pt x="600" y="292"/>
                  </a:cubicBezTo>
                  <a:cubicBezTo>
                    <a:pt x="633" y="386"/>
                    <a:pt x="636" y="509"/>
                    <a:pt x="650" y="604"/>
                  </a:cubicBezTo>
                  <a:cubicBezTo>
                    <a:pt x="654" y="634"/>
                    <a:pt x="695" y="649"/>
                    <a:pt x="725" y="654"/>
                  </a:cubicBezTo>
                  <a:cubicBezTo>
                    <a:pt x="859" y="678"/>
                    <a:pt x="933" y="694"/>
                    <a:pt x="1075" y="704"/>
                  </a:cubicBezTo>
                  <a:cubicBezTo>
                    <a:pt x="1104" y="700"/>
                    <a:pt x="1137" y="705"/>
                    <a:pt x="1163" y="692"/>
                  </a:cubicBezTo>
                  <a:cubicBezTo>
                    <a:pt x="1175" y="686"/>
                    <a:pt x="1175" y="667"/>
                    <a:pt x="1175" y="654"/>
                  </a:cubicBezTo>
                  <a:cubicBezTo>
                    <a:pt x="1175" y="463"/>
                    <a:pt x="1163" y="472"/>
                    <a:pt x="1075" y="342"/>
                  </a:cubicBezTo>
                  <a:cubicBezTo>
                    <a:pt x="1071" y="326"/>
                    <a:pt x="1060" y="271"/>
                    <a:pt x="1050" y="254"/>
                  </a:cubicBezTo>
                  <a:cubicBezTo>
                    <a:pt x="1035" y="228"/>
                    <a:pt x="1000" y="179"/>
                    <a:pt x="1000" y="179"/>
                  </a:cubicBezTo>
                  <a:cubicBezTo>
                    <a:pt x="979" y="113"/>
                    <a:pt x="995" y="153"/>
                    <a:pt x="938" y="67"/>
                  </a:cubicBezTo>
                  <a:cubicBezTo>
                    <a:pt x="893" y="0"/>
                    <a:pt x="900" y="78"/>
                    <a:pt x="900" y="17"/>
                  </a:cubicBezTo>
                </a:path>
              </a:pathLst>
            </a:custGeom>
            <a:gradFill rotWithShape="0">
              <a:gsLst>
                <a:gs pos="0">
                  <a:srgbClr val="00cc99"/>
                </a:gs>
                <a:gs pos="50000">
                  <a:srgbClr val="ccecff"/>
                </a:gs>
                <a:gs pos="100000">
                  <a:srgbClr val="00cc99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4200">
              <a:off x="1310760" y="6342120"/>
              <a:ext cx="617760" cy="291960"/>
            </a:xfrm>
            <a:custGeom>
              <a:avLst/>
              <a:gdLst/>
              <a:ahLst/>
              <a:rect l="l" t="t" r="r" b="b"/>
              <a:pathLst>
                <a:path w="599" h="265">
                  <a:moveTo>
                    <a:pt x="42" y="0"/>
                  </a:moveTo>
                  <a:cubicBezTo>
                    <a:pt x="23" y="59"/>
                    <a:pt x="0" y="96"/>
                    <a:pt x="30" y="163"/>
                  </a:cubicBezTo>
                  <a:cubicBezTo>
                    <a:pt x="35" y="175"/>
                    <a:pt x="113" y="211"/>
                    <a:pt x="117" y="213"/>
                  </a:cubicBezTo>
                  <a:cubicBezTo>
                    <a:pt x="203" y="249"/>
                    <a:pt x="301" y="247"/>
                    <a:pt x="392" y="263"/>
                  </a:cubicBezTo>
                  <a:cubicBezTo>
                    <a:pt x="455" y="259"/>
                    <a:pt x="519" y="265"/>
                    <a:pt x="580" y="250"/>
                  </a:cubicBezTo>
                  <a:cubicBezTo>
                    <a:pt x="594" y="247"/>
                    <a:pt x="599" y="175"/>
                    <a:pt x="580" y="150"/>
                  </a:cubicBezTo>
                  <a:cubicBezTo>
                    <a:pt x="537" y="94"/>
                    <a:pt x="490" y="98"/>
                    <a:pt x="430" y="88"/>
                  </a:cubicBezTo>
                  <a:cubicBezTo>
                    <a:pt x="395" y="65"/>
                    <a:pt x="372" y="50"/>
                    <a:pt x="330" y="50"/>
                  </a:cubicBez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2280" y="4979880"/>
              <a:ext cx="1495440" cy="1003320"/>
            </a:xfrm>
            <a:custGeom>
              <a:avLst/>
              <a:gdLst/>
              <a:ahLst/>
              <a:rect l="l" t="t" r="r" b="b"/>
              <a:pathLst>
                <a:path w="942" h="632">
                  <a:moveTo>
                    <a:pt x="221" y="159"/>
                  </a:moveTo>
                  <a:cubicBezTo>
                    <a:pt x="211" y="166"/>
                    <a:pt x="202" y="175"/>
                    <a:pt x="190" y="181"/>
                  </a:cubicBezTo>
                  <a:cubicBezTo>
                    <a:pt x="160" y="196"/>
                    <a:pt x="97" y="224"/>
                    <a:pt x="97" y="224"/>
                  </a:cubicBezTo>
                  <a:cubicBezTo>
                    <a:pt x="45" y="279"/>
                    <a:pt x="0" y="295"/>
                    <a:pt x="50" y="367"/>
                  </a:cubicBezTo>
                  <a:cubicBezTo>
                    <a:pt x="58" y="377"/>
                    <a:pt x="81" y="375"/>
                    <a:pt x="97" y="378"/>
                  </a:cubicBezTo>
                  <a:cubicBezTo>
                    <a:pt x="117" y="382"/>
                    <a:pt x="137" y="385"/>
                    <a:pt x="158" y="389"/>
                  </a:cubicBezTo>
                  <a:cubicBezTo>
                    <a:pt x="183" y="385"/>
                    <a:pt x="213" y="388"/>
                    <a:pt x="236" y="378"/>
                  </a:cubicBezTo>
                  <a:cubicBezTo>
                    <a:pt x="250" y="371"/>
                    <a:pt x="243" y="355"/>
                    <a:pt x="252" y="345"/>
                  </a:cubicBezTo>
                  <a:cubicBezTo>
                    <a:pt x="259" y="336"/>
                    <a:pt x="273" y="330"/>
                    <a:pt x="283" y="323"/>
                  </a:cubicBezTo>
                  <a:cubicBezTo>
                    <a:pt x="293" y="334"/>
                    <a:pt x="310" y="343"/>
                    <a:pt x="314" y="356"/>
                  </a:cubicBezTo>
                  <a:cubicBezTo>
                    <a:pt x="381" y="632"/>
                    <a:pt x="158" y="513"/>
                    <a:pt x="855" y="499"/>
                  </a:cubicBezTo>
                  <a:cubicBezTo>
                    <a:pt x="850" y="478"/>
                    <a:pt x="854" y="453"/>
                    <a:pt x="840" y="434"/>
                  </a:cubicBezTo>
                  <a:cubicBezTo>
                    <a:pt x="821" y="407"/>
                    <a:pt x="848" y="339"/>
                    <a:pt x="814" y="323"/>
                  </a:cubicBezTo>
                  <a:cubicBezTo>
                    <a:pt x="804" y="261"/>
                    <a:pt x="806" y="273"/>
                    <a:pt x="802" y="261"/>
                  </a:cubicBezTo>
                  <a:cubicBezTo>
                    <a:pt x="831" y="248"/>
                    <a:pt x="815" y="243"/>
                    <a:pt x="831" y="220"/>
                  </a:cubicBezTo>
                  <a:cubicBezTo>
                    <a:pt x="847" y="197"/>
                    <a:pt x="894" y="155"/>
                    <a:pt x="900" y="121"/>
                  </a:cubicBezTo>
                  <a:cubicBezTo>
                    <a:pt x="890" y="67"/>
                    <a:pt x="942" y="45"/>
                    <a:pt x="870" y="16"/>
                  </a:cubicBezTo>
                  <a:cubicBezTo>
                    <a:pt x="828" y="0"/>
                    <a:pt x="805" y="87"/>
                    <a:pt x="759" y="76"/>
                  </a:cubicBezTo>
                  <a:cubicBezTo>
                    <a:pt x="744" y="72"/>
                    <a:pt x="670" y="127"/>
                    <a:pt x="670" y="127"/>
                  </a:cubicBezTo>
                </a:path>
              </a:pathLst>
            </a:custGeom>
            <a:gradFill rotWithShape="0">
              <a:gsLst>
                <a:gs pos="0">
                  <a:srgbClr val="6c0000"/>
                </a:gs>
                <a:gs pos="50000">
                  <a:srgbClr val="ff0000"/>
                </a:gs>
                <a:gs pos="100000">
                  <a:srgbClr val="6c0000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4200">
              <a:off x="75960" y="5589360"/>
              <a:ext cx="50472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rot="16122000">
              <a:off x="1517400" y="4882320"/>
              <a:ext cx="446040" cy="282600"/>
            </a:xfrm>
            <a:custGeom>
              <a:avLst/>
              <a:gdLst/>
              <a:ahLst/>
              <a:rect l="l" t="t" r="r" b="b"/>
              <a:pathLst>
                <a:path w="543" h="304">
                  <a:moveTo>
                    <a:pt x="439" y="32"/>
                  </a:moveTo>
                  <a:cubicBezTo>
                    <a:pt x="463" y="56"/>
                    <a:pt x="479" y="69"/>
                    <a:pt x="511" y="80"/>
                  </a:cubicBezTo>
                  <a:cubicBezTo>
                    <a:pt x="516" y="88"/>
                    <a:pt x="523" y="95"/>
                    <a:pt x="527" y="104"/>
                  </a:cubicBezTo>
                  <a:cubicBezTo>
                    <a:pt x="534" y="119"/>
                    <a:pt x="543" y="152"/>
                    <a:pt x="543" y="152"/>
                  </a:cubicBezTo>
                  <a:cubicBezTo>
                    <a:pt x="513" y="182"/>
                    <a:pt x="518" y="189"/>
                    <a:pt x="463" y="168"/>
                  </a:cubicBezTo>
                  <a:cubicBezTo>
                    <a:pt x="445" y="161"/>
                    <a:pt x="415" y="136"/>
                    <a:pt x="415" y="136"/>
                  </a:cubicBezTo>
                  <a:cubicBezTo>
                    <a:pt x="410" y="152"/>
                    <a:pt x="404" y="168"/>
                    <a:pt x="399" y="184"/>
                  </a:cubicBezTo>
                  <a:cubicBezTo>
                    <a:pt x="391" y="207"/>
                    <a:pt x="399" y="233"/>
                    <a:pt x="391" y="256"/>
                  </a:cubicBezTo>
                  <a:cubicBezTo>
                    <a:pt x="388" y="265"/>
                    <a:pt x="375" y="267"/>
                    <a:pt x="367" y="272"/>
                  </a:cubicBezTo>
                  <a:cubicBezTo>
                    <a:pt x="310" y="261"/>
                    <a:pt x="331" y="277"/>
                    <a:pt x="311" y="216"/>
                  </a:cubicBezTo>
                  <a:cubicBezTo>
                    <a:pt x="306" y="200"/>
                    <a:pt x="295" y="168"/>
                    <a:pt x="295" y="168"/>
                  </a:cubicBezTo>
                  <a:cubicBezTo>
                    <a:pt x="287" y="171"/>
                    <a:pt x="275" y="169"/>
                    <a:pt x="271" y="176"/>
                  </a:cubicBezTo>
                  <a:cubicBezTo>
                    <a:pt x="244" y="223"/>
                    <a:pt x="279" y="267"/>
                    <a:pt x="223" y="304"/>
                  </a:cubicBezTo>
                  <a:cubicBezTo>
                    <a:pt x="143" y="291"/>
                    <a:pt x="167" y="276"/>
                    <a:pt x="159" y="184"/>
                  </a:cubicBezTo>
                  <a:cubicBezTo>
                    <a:pt x="143" y="187"/>
                    <a:pt x="127" y="188"/>
                    <a:pt x="111" y="192"/>
                  </a:cubicBezTo>
                  <a:cubicBezTo>
                    <a:pt x="95" y="196"/>
                    <a:pt x="63" y="208"/>
                    <a:pt x="63" y="208"/>
                  </a:cubicBezTo>
                  <a:cubicBezTo>
                    <a:pt x="47" y="205"/>
                    <a:pt x="29" y="208"/>
                    <a:pt x="15" y="200"/>
                  </a:cubicBezTo>
                  <a:cubicBezTo>
                    <a:pt x="0" y="191"/>
                    <a:pt x="10" y="97"/>
                    <a:pt x="23" y="88"/>
                  </a:cubicBezTo>
                  <a:lnTo>
                    <a:pt x="95" y="64"/>
                  </a:lnTo>
                  <a:cubicBezTo>
                    <a:pt x="95" y="64"/>
                    <a:pt x="95" y="64"/>
                    <a:pt x="95" y="64"/>
                  </a:cubicBezTo>
                  <a:cubicBezTo>
                    <a:pt x="128" y="42"/>
                    <a:pt x="112" y="55"/>
                    <a:pt x="143" y="24"/>
                  </a:cubicBezTo>
                  <a:cubicBezTo>
                    <a:pt x="146" y="16"/>
                    <a:pt x="151" y="0"/>
                    <a:pt x="151" y="0"/>
                  </a:cubicBez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4200">
              <a:off x="777960" y="5268960"/>
              <a:ext cx="595080" cy="428400"/>
            </a:xfrm>
            <a:custGeom>
              <a:avLst/>
              <a:gdLst/>
              <a:ahLst/>
              <a:rect l="l" t="t" r="r" b="b"/>
              <a:pathLst>
                <a:path w="640" h="461">
                  <a:moveTo>
                    <a:pt x="64" y="445"/>
                  </a:moveTo>
                  <a:cubicBezTo>
                    <a:pt x="125" y="442"/>
                    <a:pt x="187" y="442"/>
                    <a:pt x="248" y="437"/>
                  </a:cubicBezTo>
                  <a:cubicBezTo>
                    <a:pt x="259" y="436"/>
                    <a:pt x="276" y="439"/>
                    <a:pt x="280" y="429"/>
                  </a:cubicBezTo>
                  <a:cubicBezTo>
                    <a:pt x="298" y="382"/>
                    <a:pt x="274" y="374"/>
                    <a:pt x="248" y="357"/>
                  </a:cubicBezTo>
                  <a:cubicBezTo>
                    <a:pt x="228" y="297"/>
                    <a:pt x="257" y="369"/>
                    <a:pt x="216" y="317"/>
                  </a:cubicBezTo>
                  <a:cubicBezTo>
                    <a:pt x="210" y="310"/>
                    <a:pt x="188" y="256"/>
                    <a:pt x="184" y="245"/>
                  </a:cubicBezTo>
                  <a:cubicBezTo>
                    <a:pt x="192" y="112"/>
                    <a:pt x="164" y="95"/>
                    <a:pt x="280" y="109"/>
                  </a:cubicBezTo>
                  <a:cubicBezTo>
                    <a:pt x="317" y="121"/>
                    <a:pt x="347" y="145"/>
                    <a:pt x="384" y="157"/>
                  </a:cubicBezTo>
                  <a:cubicBezTo>
                    <a:pt x="457" y="267"/>
                    <a:pt x="415" y="186"/>
                    <a:pt x="424" y="429"/>
                  </a:cubicBezTo>
                  <a:cubicBezTo>
                    <a:pt x="533" y="424"/>
                    <a:pt x="607" y="457"/>
                    <a:pt x="640" y="357"/>
                  </a:cubicBezTo>
                  <a:cubicBezTo>
                    <a:pt x="625" y="269"/>
                    <a:pt x="611" y="293"/>
                    <a:pt x="512" y="285"/>
                  </a:cubicBezTo>
                  <a:cubicBezTo>
                    <a:pt x="485" y="205"/>
                    <a:pt x="475" y="141"/>
                    <a:pt x="408" y="85"/>
                  </a:cubicBezTo>
                  <a:cubicBezTo>
                    <a:pt x="393" y="73"/>
                    <a:pt x="371" y="43"/>
                    <a:pt x="352" y="37"/>
                  </a:cubicBezTo>
                  <a:cubicBezTo>
                    <a:pt x="311" y="24"/>
                    <a:pt x="214" y="11"/>
                    <a:pt x="168" y="5"/>
                  </a:cubicBezTo>
                  <a:cubicBezTo>
                    <a:pt x="141" y="8"/>
                    <a:pt x="88" y="0"/>
                    <a:pt x="64" y="29"/>
                  </a:cubicBezTo>
                  <a:cubicBezTo>
                    <a:pt x="56" y="38"/>
                    <a:pt x="52" y="50"/>
                    <a:pt x="48" y="61"/>
                  </a:cubicBezTo>
                  <a:cubicBezTo>
                    <a:pt x="42" y="77"/>
                    <a:pt x="32" y="109"/>
                    <a:pt x="32" y="109"/>
                  </a:cubicBezTo>
                  <a:cubicBezTo>
                    <a:pt x="37" y="180"/>
                    <a:pt x="22" y="196"/>
                    <a:pt x="56" y="237"/>
                  </a:cubicBezTo>
                  <a:cubicBezTo>
                    <a:pt x="69" y="253"/>
                    <a:pt x="80" y="271"/>
                    <a:pt x="96" y="285"/>
                  </a:cubicBezTo>
                  <a:cubicBezTo>
                    <a:pt x="110" y="298"/>
                    <a:pt x="144" y="317"/>
                    <a:pt x="144" y="317"/>
                  </a:cubicBezTo>
                  <a:cubicBezTo>
                    <a:pt x="177" y="366"/>
                    <a:pt x="162" y="371"/>
                    <a:pt x="104" y="357"/>
                  </a:cubicBezTo>
                  <a:cubicBezTo>
                    <a:pt x="66" y="347"/>
                    <a:pt x="44" y="329"/>
                    <a:pt x="8" y="317"/>
                  </a:cubicBezTo>
                  <a:cubicBezTo>
                    <a:pt x="13" y="374"/>
                    <a:pt x="0" y="429"/>
                    <a:pt x="48" y="461"/>
                  </a:cubicBezTo>
                  <a:cubicBezTo>
                    <a:pt x="86" y="452"/>
                    <a:pt x="90" y="458"/>
                    <a:pt x="64" y="445"/>
                  </a:cubicBezTo>
                  <a:close/>
                </a:path>
              </a:pathLst>
            </a:custGeom>
            <a:solidFill>
              <a:srgbClr val="3333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3760" y="4160880"/>
              <a:ext cx="1211040" cy="1044360"/>
            </a:xfrm>
            <a:custGeom>
              <a:avLst/>
              <a:gdLst/>
              <a:ahLst/>
              <a:rect l="l" t="t" r="r" b="b"/>
              <a:pathLst>
                <a:path w="1050" h="906">
                  <a:moveTo>
                    <a:pt x="521" y="24"/>
                  </a:moveTo>
                  <a:cubicBezTo>
                    <a:pt x="598" y="0"/>
                    <a:pt x="573" y="2"/>
                    <a:pt x="709" y="24"/>
                  </a:cubicBezTo>
                  <a:cubicBezTo>
                    <a:pt x="734" y="28"/>
                    <a:pt x="784" y="48"/>
                    <a:pt x="784" y="48"/>
                  </a:cubicBezTo>
                  <a:cubicBezTo>
                    <a:pt x="864" y="105"/>
                    <a:pt x="820" y="70"/>
                    <a:pt x="910" y="157"/>
                  </a:cubicBezTo>
                  <a:cubicBezTo>
                    <a:pt x="939" y="185"/>
                    <a:pt x="985" y="254"/>
                    <a:pt x="985" y="254"/>
                  </a:cubicBezTo>
                  <a:cubicBezTo>
                    <a:pt x="1021" y="389"/>
                    <a:pt x="1050" y="536"/>
                    <a:pt x="973" y="664"/>
                  </a:cubicBezTo>
                  <a:cubicBezTo>
                    <a:pt x="954" y="697"/>
                    <a:pt x="927" y="767"/>
                    <a:pt x="897" y="785"/>
                  </a:cubicBezTo>
                  <a:cubicBezTo>
                    <a:pt x="847" y="817"/>
                    <a:pt x="805" y="862"/>
                    <a:pt x="747" y="882"/>
                  </a:cubicBezTo>
                  <a:cubicBezTo>
                    <a:pt x="715" y="894"/>
                    <a:pt x="646" y="906"/>
                    <a:pt x="646" y="906"/>
                  </a:cubicBezTo>
                  <a:cubicBezTo>
                    <a:pt x="489" y="898"/>
                    <a:pt x="376" y="886"/>
                    <a:pt x="232" y="846"/>
                  </a:cubicBezTo>
                  <a:cubicBezTo>
                    <a:pt x="153" y="795"/>
                    <a:pt x="100" y="741"/>
                    <a:pt x="69" y="652"/>
                  </a:cubicBezTo>
                  <a:cubicBezTo>
                    <a:pt x="73" y="521"/>
                    <a:pt x="0" y="178"/>
                    <a:pt x="203" y="114"/>
                  </a:cubicBezTo>
                  <a:cubicBezTo>
                    <a:pt x="274" y="46"/>
                    <a:pt x="360" y="62"/>
                    <a:pt x="458" y="48"/>
                  </a:cubicBezTo>
                  <a:cubicBezTo>
                    <a:pt x="537" y="22"/>
                    <a:pt x="560" y="24"/>
                    <a:pt x="521" y="24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20582400">
              <a:off x="536400" y="4363560"/>
              <a:ext cx="341640" cy="4809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20582400">
              <a:off x="903240" y="4264200"/>
              <a:ext cx="343080" cy="50796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8088000">
              <a:off x="601200" y="4390560"/>
              <a:ext cx="751680" cy="70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44" y="1256"/>
                  </a:moveTo>
                  <a:arcTo wR="10800" hR="10800" stAng="-7074784" swAng="7074784"/>
                  <a:lnTo>
                    <a:pt x="10800" y="10800"/>
                  </a:lnTo>
                  <a:close/>
                </a:path>
                <a:path fill="none" w="21600" h="21600">
                  <a:moveTo>
                    <a:pt x="5744" y="1256"/>
                  </a:moveTo>
                  <a:arcTo wR="10800" hR="10800" stAng="-7074784" swAng="707478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413400">
              <a:off x="907920" y="4773240"/>
              <a:ext cx="184320" cy="1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413400">
              <a:off x="677880" y="4422240"/>
              <a:ext cx="182520" cy="257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413400">
              <a:off x="1004760" y="4300200"/>
              <a:ext cx="182520" cy="257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1a1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448800">
              <a:off x="328320" y="4195800"/>
              <a:ext cx="260280" cy="250920"/>
            </a:xfrm>
            <a:custGeom>
              <a:avLst/>
              <a:gdLst/>
              <a:ahLst/>
              <a:rect l="l" t="t" r="r" b="b"/>
              <a:pathLst>
                <a:path w="273" h="258">
                  <a:moveTo>
                    <a:pt x="273" y="40"/>
                  </a:moveTo>
                  <a:cubicBezTo>
                    <a:pt x="203" y="17"/>
                    <a:pt x="179" y="0"/>
                    <a:pt x="91" y="40"/>
                  </a:cubicBezTo>
                  <a:cubicBezTo>
                    <a:pt x="59" y="54"/>
                    <a:pt x="19" y="201"/>
                    <a:pt x="18" y="204"/>
                  </a:cubicBezTo>
                  <a:cubicBezTo>
                    <a:pt x="12" y="222"/>
                    <a:pt x="0" y="258"/>
                    <a:pt x="0" y="25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448800">
              <a:off x="587160" y="4092480"/>
              <a:ext cx="274320" cy="211320"/>
            </a:xfrm>
            <a:custGeom>
              <a:avLst/>
              <a:gdLst/>
              <a:ahLst/>
              <a:rect l="l" t="t" r="r" b="b"/>
              <a:pathLst>
                <a:path w="290" h="218">
                  <a:moveTo>
                    <a:pt x="0" y="218"/>
                  </a:moveTo>
                  <a:cubicBezTo>
                    <a:pt x="66" y="118"/>
                    <a:pt x="157" y="0"/>
                    <a:pt x="29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448800">
              <a:off x="632880" y="4065480"/>
              <a:ext cx="1800" cy="195480"/>
            </a:xfrm>
            <a:custGeom>
              <a:avLst/>
              <a:gdLst/>
              <a:ahLst/>
              <a:rect l="l" t="t" r="r" b="b"/>
              <a:pathLst>
                <a:path w="1" h="200">
                  <a:moveTo>
                    <a:pt x="0" y="200"/>
                  </a:moveTo>
                  <a:cubicBezTo>
                    <a:pt x="0" y="133"/>
                    <a:pt x="0" y="67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21140400">
              <a:off x="418680" y="4266720"/>
              <a:ext cx="233280" cy="392400"/>
            </a:xfrm>
            <a:custGeom>
              <a:avLst/>
              <a:gdLst/>
              <a:ahLst/>
              <a:rect l="l" t="t" r="r" b="b"/>
              <a:pathLst>
                <a:path w="273" h="400">
                  <a:moveTo>
                    <a:pt x="273" y="0"/>
                  </a:moveTo>
                  <a:cubicBezTo>
                    <a:pt x="198" y="37"/>
                    <a:pt x="150" y="69"/>
                    <a:pt x="91" y="127"/>
                  </a:cubicBezTo>
                  <a:cubicBezTo>
                    <a:pt x="61" y="218"/>
                    <a:pt x="0" y="301"/>
                    <a:pt x="0" y="4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662000">
              <a:off x="651960" y="4183200"/>
              <a:ext cx="246240" cy="131760"/>
            </a:xfrm>
            <a:custGeom>
              <a:avLst/>
              <a:gdLst/>
              <a:ahLst/>
              <a:rect l="l" t="t" r="r" b="b"/>
              <a:pathLst>
                <a:path w="273" h="109">
                  <a:moveTo>
                    <a:pt x="0" y="109"/>
                  </a:moveTo>
                  <a:cubicBezTo>
                    <a:pt x="12" y="91"/>
                    <a:pt x="17" y="66"/>
                    <a:pt x="36" y="54"/>
                  </a:cubicBezTo>
                  <a:cubicBezTo>
                    <a:pt x="105" y="11"/>
                    <a:pt x="195" y="0"/>
                    <a:pt x="27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23880" y="3962520"/>
              <a:ext cx="990720" cy="1218960"/>
            </a:xfrm>
            <a:custGeom>
              <a:avLst/>
              <a:gdLst/>
              <a:ahLst/>
              <a:rect l="l" t="t" r="r" b="b"/>
              <a:pathLst>
                <a:path w="624" h="768">
                  <a:moveTo>
                    <a:pt x="0" y="720"/>
                  </a:moveTo>
                  <a:lnTo>
                    <a:pt x="48" y="768"/>
                  </a:lnTo>
                  <a:lnTo>
                    <a:pt x="624" y="0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162400" y="72396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38720" y="800280"/>
            <a:ext cx="990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5238000" y="19360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5563440" y="19360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6042960" y="19360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240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935680" y="1647720"/>
            <a:ext cx="324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564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6299280" y="3036960"/>
            <a:ext cx="284472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102280" y="2738520"/>
            <a:ext cx="1328760" cy="725040"/>
            <a:chOff x="5102280" y="2738520"/>
            <a:chExt cx="1328760" cy="725040"/>
          </a:xfrm>
        </p:grpSpPr>
        <p:sp>
          <p:nvSpPr>
            <p:cNvPr id="195" name=""/>
            <p:cNvSpPr/>
            <p:nvPr/>
          </p:nvSpPr>
          <p:spPr>
            <a:xfrm>
              <a:off x="626436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70320" y="2738520"/>
              <a:ext cx="1177920" cy="723600"/>
            </a:xfrm>
            <a:prstGeom prst="rect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0228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739"/>
                </a:gs>
                <a:gs pos="50000">
                  <a:srgbClr val="ffbe7d"/>
                </a:gs>
                <a:gs pos="100000">
                  <a:srgbClr val="75573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95880" y="3462120"/>
              <a:ext cx="11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89400" y="2738520"/>
              <a:ext cx="11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64280" y="2741400"/>
              <a:ext cx="217440" cy="71892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60840" y="2743200"/>
              <a:ext cx="223920" cy="72036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68920" y="2744640"/>
              <a:ext cx="208080" cy="71568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59360" y="2741400"/>
              <a:ext cx="216000" cy="718920"/>
            </a:xfrm>
            <a:custGeom>
              <a:avLst/>
              <a:gdLst/>
              <a:ahLst/>
              <a:rect l="l" t="t" r="r" b="b"/>
              <a:pathLst>
                <a:path w="136" h="453">
                  <a:moveTo>
                    <a:pt x="0" y="3"/>
                  </a:moveTo>
                  <a:lnTo>
                    <a:pt x="13" y="8"/>
                  </a:lnTo>
                  <a:lnTo>
                    <a:pt x="26" y="20"/>
                  </a:lnTo>
                  <a:lnTo>
                    <a:pt x="32" y="30"/>
                  </a:lnTo>
                  <a:lnTo>
                    <a:pt x="43" y="46"/>
                  </a:lnTo>
                  <a:lnTo>
                    <a:pt x="50" y="66"/>
                  </a:lnTo>
                  <a:lnTo>
                    <a:pt x="57" y="97"/>
                  </a:lnTo>
                  <a:lnTo>
                    <a:pt x="65" y="124"/>
                  </a:lnTo>
                  <a:lnTo>
                    <a:pt x="71" y="182"/>
                  </a:lnTo>
                  <a:lnTo>
                    <a:pt x="74" y="217"/>
                  </a:lnTo>
                  <a:lnTo>
                    <a:pt x="74" y="266"/>
                  </a:lnTo>
                  <a:lnTo>
                    <a:pt x="68" y="321"/>
                  </a:lnTo>
                  <a:lnTo>
                    <a:pt x="62" y="363"/>
                  </a:lnTo>
                  <a:lnTo>
                    <a:pt x="54" y="397"/>
                  </a:lnTo>
                  <a:lnTo>
                    <a:pt x="35" y="429"/>
                  </a:lnTo>
                  <a:lnTo>
                    <a:pt x="16" y="452"/>
                  </a:lnTo>
                  <a:lnTo>
                    <a:pt x="81" y="453"/>
                  </a:lnTo>
                  <a:lnTo>
                    <a:pt x="96" y="430"/>
                  </a:lnTo>
                  <a:lnTo>
                    <a:pt x="106" y="407"/>
                  </a:lnTo>
                  <a:lnTo>
                    <a:pt x="118" y="368"/>
                  </a:lnTo>
                  <a:lnTo>
                    <a:pt x="127" y="329"/>
                  </a:lnTo>
                  <a:lnTo>
                    <a:pt x="136" y="263"/>
                  </a:lnTo>
                  <a:lnTo>
                    <a:pt x="136" y="194"/>
                  </a:lnTo>
                  <a:lnTo>
                    <a:pt x="130" y="133"/>
                  </a:lnTo>
                  <a:lnTo>
                    <a:pt x="117" y="81"/>
                  </a:lnTo>
                  <a:lnTo>
                    <a:pt x="105" y="43"/>
                  </a:lnTo>
                  <a:lnTo>
                    <a:pt x="93" y="23"/>
                  </a:lnTo>
                  <a:lnTo>
                    <a:pt x="80" y="8"/>
                  </a:lnTo>
                  <a:lnTo>
                    <a:pt x="6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479760" y="3051000"/>
            <a:ext cx="1708200" cy="136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075120"/>
            <a:ext cx="76824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76360" y="149544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52680" y="1571760"/>
            <a:ext cx="9903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1551960" y="27075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1877400" y="27075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2357280" y="270756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554120" y="241920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249640" y="2419200"/>
            <a:ext cx="323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878120" y="2419200"/>
            <a:ext cx="161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848160" y="3067200"/>
            <a:ext cx="969480" cy="145800"/>
            <a:chOff x="848160" y="3067200"/>
            <a:chExt cx="969480" cy="145800"/>
          </a:xfrm>
        </p:grpSpPr>
        <p:sp>
          <p:nvSpPr>
            <p:cNvPr id="215" name=""/>
            <p:cNvSpPr/>
            <p:nvPr/>
          </p:nvSpPr>
          <p:spPr>
            <a:xfrm flipH="1">
              <a:off x="932040" y="313380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848160" y="3085920"/>
              <a:ext cx="280800" cy="10296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1113480" y="30672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1146240" y="3103560"/>
              <a:ext cx="215640" cy="74160"/>
            </a:xfrm>
            <a:prstGeom prst="rect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576520" y="3051000"/>
            <a:ext cx="1031400" cy="145800"/>
            <a:chOff x="2576520" y="3051000"/>
            <a:chExt cx="1031400" cy="145800"/>
          </a:xfrm>
        </p:grpSpPr>
        <p:sp>
          <p:nvSpPr>
            <p:cNvPr id="220" name=""/>
            <p:cNvSpPr/>
            <p:nvPr/>
          </p:nvSpPr>
          <p:spPr>
            <a:xfrm>
              <a:off x="2576520" y="312696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27120" y="3069720"/>
              <a:ext cx="280800" cy="10332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68440" y="30510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79440" y="3087360"/>
              <a:ext cx="2156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 flipH="1">
            <a:off x="1790640" y="2809800"/>
            <a:ext cx="16200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28920" y="2809800"/>
            <a:ext cx="15228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945680" y="2036880"/>
            <a:ext cx="360" cy="98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rot="16246200">
            <a:off x="4804200" y="2916000"/>
            <a:ext cx="280800" cy="10296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rot="16246200">
            <a:off x="4912200" y="2732760"/>
            <a:ext cx="74520" cy="145800"/>
          </a:xfrm>
          <a:prstGeom prst="ellipse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76840" y="1994040"/>
            <a:ext cx="0" cy="958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5400000">
            <a:off x="6444000" y="2905920"/>
            <a:ext cx="273240" cy="10332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6543360" y="2727000"/>
            <a:ext cx="73080" cy="14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6472440" y="2647080"/>
            <a:ext cx="209520" cy="74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10040" y="2590920"/>
            <a:ext cx="74880" cy="2188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27680" y="201600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0760" y="201132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287360" y="1023840"/>
            <a:ext cx="1552680" cy="381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mme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716360" y="304920"/>
            <a:ext cx="1971720" cy="304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oltme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8" name=""/>
          <p:cNvSpPr/>
          <p:nvPr/>
        </p:nvSpPr>
        <p:spPr>
          <a:xfrm rot="4200">
            <a:off x="375840" y="5091120"/>
            <a:ext cx="1473120" cy="1295280"/>
          </a:xfrm>
          <a:custGeom>
            <a:avLst/>
            <a:gdLst/>
            <a:ahLst/>
            <a:rect l="l" t="t" r="r" b="b"/>
            <a:pathLst>
              <a:path w="1688" h="1469">
                <a:moveTo>
                  <a:pt x="60" y="859"/>
                </a:moveTo>
                <a:cubicBezTo>
                  <a:pt x="54" y="930"/>
                  <a:pt x="43" y="984"/>
                  <a:pt x="28" y="1050"/>
                </a:cubicBezTo>
                <a:cubicBezTo>
                  <a:pt x="25" y="1099"/>
                  <a:pt x="20" y="1147"/>
                  <a:pt x="20" y="1196"/>
                </a:cubicBezTo>
                <a:cubicBezTo>
                  <a:pt x="20" y="1374"/>
                  <a:pt x="0" y="1417"/>
                  <a:pt x="132" y="1424"/>
                </a:cubicBezTo>
                <a:cubicBezTo>
                  <a:pt x="289" y="1469"/>
                  <a:pt x="327" y="1216"/>
                  <a:pt x="636" y="1224"/>
                </a:cubicBezTo>
                <a:cubicBezTo>
                  <a:pt x="1284" y="1176"/>
                  <a:pt x="1224" y="1416"/>
                  <a:pt x="1508" y="1408"/>
                </a:cubicBezTo>
                <a:cubicBezTo>
                  <a:pt x="1548" y="1399"/>
                  <a:pt x="1606" y="1339"/>
                  <a:pt x="1644" y="1324"/>
                </a:cubicBezTo>
                <a:cubicBezTo>
                  <a:pt x="1652" y="1321"/>
                  <a:pt x="1648" y="1304"/>
                  <a:pt x="1652" y="1297"/>
                </a:cubicBezTo>
                <a:cubicBezTo>
                  <a:pt x="1659" y="1282"/>
                  <a:pt x="1668" y="1272"/>
                  <a:pt x="1676" y="1259"/>
                </a:cubicBezTo>
                <a:cubicBezTo>
                  <a:pt x="1688" y="1202"/>
                  <a:pt x="1676" y="1159"/>
                  <a:pt x="1660" y="1105"/>
                </a:cubicBezTo>
                <a:cubicBezTo>
                  <a:pt x="1649" y="1066"/>
                  <a:pt x="1643" y="1023"/>
                  <a:pt x="1628" y="986"/>
                </a:cubicBezTo>
                <a:cubicBezTo>
                  <a:pt x="1622" y="973"/>
                  <a:pt x="1611" y="962"/>
                  <a:pt x="1604" y="950"/>
                </a:cubicBezTo>
                <a:cubicBezTo>
                  <a:pt x="1581" y="906"/>
                  <a:pt x="1547" y="872"/>
                  <a:pt x="1520" y="832"/>
                </a:cubicBezTo>
                <a:cubicBezTo>
                  <a:pt x="1513" y="799"/>
                  <a:pt x="1498" y="688"/>
                  <a:pt x="1476" y="667"/>
                </a:cubicBezTo>
                <a:cubicBezTo>
                  <a:pt x="1469" y="661"/>
                  <a:pt x="1460" y="661"/>
                  <a:pt x="1452" y="658"/>
                </a:cubicBezTo>
                <a:cubicBezTo>
                  <a:pt x="1423" y="557"/>
                  <a:pt x="1472" y="706"/>
                  <a:pt x="1420" y="612"/>
                </a:cubicBezTo>
                <a:cubicBezTo>
                  <a:pt x="1407" y="588"/>
                  <a:pt x="1401" y="558"/>
                  <a:pt x="1396" y="530"/>
                </a:cubicBezTo>
                <a:cubicBezTo>
                  <a:pt x="1382" y="452"/>
                  <a:pt x="1383" y="354"/>
                  <a:pt x="1348" y="284"/>
                </a:cubicBezTo>
                <a:cubicBezTo>
                  <a:pt x="1335" y="258"/>
                  <a:pt x="1316" y="235"/>
                  <a:pt x="1300" y="211"/>
                </a:cubicBezTo>
                <a:cubicBezTo>
                  <a:pt x="1279" y="140"/>
                  <a:pt x="1267" y="125"/>
                  <a:pt x="1212" y="83"/>
                </a:cubicBezTo>
                <a:cubicBezTo>
                  <a:pt x="1198" y="73"/>
                  <a:pt x="1164" y="65"/>
                  <a:pt x="1164" y="65"/>
                </a:cubicBezTo>
                <a:cubicBezTo>
                  <a:pt x="1096" y="91"/>
                  <a:pt x="1010" y="87"/>
                  <a:pt x="940" y="92"/>
                </a:cubicBezTo>
                <a:cubicBezTo>
                  <a:pt x="822" y="89"/>
                  <a:pt x="675" y="93"/>
                  <a:pt x="548" y="75"/>
                </a:cubicBezTo>
                <a:cubicBezTo>
                  <a:pt x="499" y="66"/>
                  <a:pt x="454" y="46"/>
                  <a:pt x="404" y="37"/>
                </a:cubicBezTo>
                <a:cubicBezTo>
                  <a:pt x="156" y="49"/>
                  <a:pt x="253" y="0"/>
                  <a:pt x="164" y="102"/>
                </a:cubicBezTo>
                <a:cubicBezTo>
                  <a:pt x="146" y="165"/>
                  <a:pt x="134" y="230"/>
                  <a:pt x="116" y="293"/>
                </a:cubicBezTo>
                <a:cubicBezTo>
                  <a:pt x="106" y="421"/>
                  <a:pt x="183" y="546"/>
                  <a:pt x="168" y="672"/>
                </a:cubicBezTo>
                <a:cubicBezTo>
                  <a:pt x="160" y="739"/>
                  <a:pt x="39" y="787"/>
                  <a:pt x="117" y="918"/>
                </a:cubicBezTo>
              </a:path>
            </a:pathLst>
          </a:custGeom>
          <a:gradFill rotWithShape="0">
            <a:gsLst>
              <a:gs pos="0">
                <a:srgbClr val="750075"/>
              </a:gs>
              <a:gs pos="50000">
                <a:srgbClr val="ff00ff"/>
              </a:gs>
              <a:gs pos="100000">
                <a:srgbClr val="750075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 rot="4800">
            <a:off x="448920" y="6291360"/>
            <a:ext cx="571320" cy="345960"/>
          </a:xfrm>
          <a:custGeom>
            <a:avLst/>
            <a:gdLst/>
            <a:ahLst/>
            <a:rect l="l" t="t" r="r" b="b"/>
            <a:pathLst>
              <a:path w="599" h="265">
                <a:moveTo>
                  <a:pt x="42" y="0"/>
                </a:moveTo>
                <a:cubicBezTo>
                  <a:pt x="23" y="59"/>
                  <a:pt x="0" y="96"/>
                  <a:pt x="30" y="163"/>
                </a:cubicBezTo>
                <a:cubicBezTo>
                  <a:pt x="35" y="175"/>
                  <a:pt x="113" y="211"/>
                  <a:pt x="117" y="213"/>
                </a:cubicBezTo>
                <a:cubicBezTo>
                  <a:pt x="203" y="249"/>
                  <a:pt x="301" y="247"/>
                  <a:pt x="392" y="263"/>
                </a:cubicBezTo>
                <a:cubicBezTo>
                  <a:pt x="455" y="259"/>
                  <a:pt x="519" y="265"/>
                  <a:pt x="580" y="250"/>
                </a:cubicBezTo>
                <a:cubicBezTo>
                  <a:pt x="594" y="247"/>
                  <a:pt x="599" y="175"/>
                  <a:pt x="580" y="150"/>
                </a:cubicBezTo>
                <a:cubicBezTo>
                  <a:pt x="537" y="94"/>
                  <a:pt x="490" y="98"/>
                  <a:pt x="430" y="88"/>
                </a:cubicBezTo>
                <a:cubicBezTo>
                  <a:pt x="395" y="65"/>
                  <a:pt x="372" y="50"/>
                  <a:pt x="330" y="5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4200">
            <a:off x="642600" y="5716080"/>
            <a:ext cx="1093680" cy="655920"/>
          </a:xfrm>
          <a:custGeom>
            <a:avLst/>
            <a:gdLst/>
            <a:ahLst/>
            <a:rect l="l" t="t" r="r" b="b"/>
            <a:pathLst>
              <a:path w="1175" h="705">
                <a:moveTo>
                  <a:pt x="88" y="67"/>
                </a:moveTo>
                <a:cubicBezTo>
                  <a:pt x="76" y="271"/>
                  <a:pt x="64" y="396"/>
                  <a:pt x="0" y="579"/>
                </a:cubicBezTo>
                <a:cubicBezTo>
                  <a:pt x="4" y="600"/>
                  <a:pt x="2" y="623"/>
                  <a:pt x="13" y="642"/>
                </a:cubicBezTo>
                <a:cubicBezTo>
                  <a:pt x="26" y="665"/>
                  <a:pt x="80" y="677"/>
                  <a:pt x="100" y="679"/>
                </a:cubicBezTo>
                <a:cubicBezTo>
                  <a:pt x="183" y="686"/>
                  <a:pt x="267" y="688"/>
                  <a:pt x="350" y="692"/>
                </a:cubicBezTo>
                <a:cubicBezTo>
                  <a:pt x="375" y="688"/>
                  <a:pt x="403" y="692"/>
                  <a:pt x="425" y="679"/>
                </a:cubicBezTo>
                <a:cubicBezTo>
                  <a:pt x="436" y="673"/>
                  <a:pt x="432" y="654"/>
                  <a:pt x="438" y="642"/>
                </a:cubicBezTo>
                <a:cubicBezTo>
                  <a:pt x="467" y="585"/>
                  <a:pt x="464" y="622"/>
                  <a:pt x="488" y="554"/>
                </a:cubicBezTo>
                <a:cubicBezTo>
                  <a:pt x="503" y="513"/>
                  <a:pt x="525" y="429"/>
                  <a:pt x="525" y="429"/>
                </a:cubicBezTo>
                <a:cubicBezTo>
                  <a:pt x="539" y="336"/>
                  <a:pt x="515" y="312"/>
                  <a:pt x="600" y="292"/>
                </a:cubicBezTo>
                <a:cubicBezTo>
                  <a:pt x="633" y="386"/>
                  <a:pt x="636" y="509"/>
                  <a:pt x="650" y="604"/>
                </a:cubicBezTo>
                <a:cubicBezTo>
                  <a:pt x="654" y="634"/>
                  <a:pt x="695" y="649"/>
                  <a:pt x="725" y="654"/>
                </a:cubicBezTo>
                <a:cubicBezTo>
                  <a:pt x="859" y="678"/>
                  <a:pt x="933" y="694"/>
                  <a:pt x="1075" y="704"/>
                </a:cubicBezTo>
                <a:cubicBezTo>
                  <a:pt x="1104" y="700"/>
                  <a:pt x="1137" y="705"/>
                  <a:pt x="1163" y="692"/>
                </a:cubicBezTo>
                <a:cubicBezTo>
                  <a:pt x="1175" y="686"/>
                  <a:pt x="1175" y="667"/>
                  <a:pt x="1175" y="654"/>
                </a:cubicBezTo>
                <a:cubicBezTo>
                  <a:pt x="1175" y="463"/>
                  <a:pt x="1163" y="472"/>
                  <a:pt x="1075" y="342"/>
                </a:cubicBezTo>
                <a:cubicBezTo>
                  <a:pt x="1071" y="326"/>
                  <a:pt x="1060" y="271"/>
                  <a:pt x="1050" y="254"/>
                </a:cubicBezTo>
                <a:cubicBezTo>
                  <a:pt x="1035" y="228"/>
                  <a:pt x="1000" y="179"/>
                  <a:pt x="1000" y="179"/>
                </a:cubicBezTo>
                <a:cubicBezTo>
                  <a:pt x="979" y="113"/>
                  <a:pt x="995" y="153"/>
                  <a:pt x="938" y="67"/>
                </a:cubicBezTo>
                <a:cubicBezTo>
                  <a:pt x="893" y="0"/>
                  <a:pt x="900" y="78"/>
                  <a:pt x="900" y="17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50000">
                <a:srgbClr val="ccecff"/>
              </a:gs>
              <a:gs pos="100000">
                <a:srgbClr val="00cc99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4200">
            <a:off x="1310760" y="6342120"/>
            <a:ext cx="617760" cy="291960"/>
          </a:xfrm>
          <a:custGeom>
            <a:avLst/>
            <a:gdLst/>
            <a:ahLst/>
            <a:rect l="l" t="t" r="r" b="b"/>
            <a:pathLst>
              <a:path w="599" h="265">
                <a:moveTo>
                  <a:pt x="42" y="0"/>
                </a:moveTo>
                <a:cubicBezTo>
                  <a:pt x="23" y="59"/>
                  <a:pt x="0" y="96"/>
                  <a:pt x="30" y="163"/>
                </a:cubicBezTo>
                <a:cubicBezTo>
                  <a:pt x="35" y="175"/>
                  <a:pt x="113" y="211"/>
                  <a:pt x="117" y="213"/>
                </a:cubicBezTo>
                <a:cubicBezTo>
                  <a:pt x="203" y="249"/>
                  <a:pt x="301" y="247"/>
                  <a:pt x="392" y="263"/>
                </a:cubicBezTo>
                <a:cubicBezTo>
                  <a:pt x="455" y="259"/>
                  <a:pt x="519" y="265"/>
                  <a:pt x="580" y="250"/>
                </a:cubicBezTo>
                <a:cubicBezTo>
                  <a:pt x="594" y="247"/>
                  <a:pt x="599" y="175"/>
                  <a:pt x="580" y="150"/>
                </a:cubicBezTo>
                <a:cubicBezTo>
                  <a:pt x="537" y="94"/>
                  <a:pt x="490" y="98"/>
                  <a:pt x="430" y="88"/>
                </a:cubicBezTo>
                <a:cubicBezTo>
                  <a:pt x="395" y="65"/>
                  <a:pt x="372" y="50"/>
                  <a:pt x="330" y="50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280" y="4979880"/>
            <a:ext cx="1495440" cy="1003320"/>
          </a:xfrm>
          <a:custGeom>
            <a:avLst/>
            <a:gdLst/>
            <a:ahLst/>
            <a:rect l="l" t="t" r="r" b="b"/>
            <a:pathLst>
              <a:path w="942" h="632">
                <a:moveTo>
                  <a:pt x="221" y="159"/>
                </a:moveTo>
                <a:cubicBezTo>
                  <a:pt x="211" y="166"/>
                  <a:pt x="202" y="175"/>
                  <a:pt x="190" y="181"/>
                </a:cubicBezTo>
                <a:cubicBezTo>
                  <a:pt x="160" y="196"/>
                  <a:pt x="97" y="224"/>
                  <a:pt x="97" y="224"/>
                </a:cubicBezTo>
                <a:cubicBezTo>
                  <a:pt x="45" y="279"/>
                  <a:pt x="0" y="295"/>
                  <a:pt x="50" y="367"/>
                </a:cubicBezTo>
                <a:cubicBezTo>
                  <a:pt x="58" y="377"/>
                  <a:pt x="81" y="375"/>
                  <a:pt x="97" y="378"/>
                </a:cubicBezTo>
                <a:cubicBezTo>
                  <a:pt x="117" y="382"/>
                  <a:pt x="137" y="385"/>
                  <a:pt x="158" y="389"/>
                </a:cubicBezTo>
                <a:cubicBezTo>
                  <a:pt x="183" y="385"/>
                  <a:pt x="213" y="388"/>
                  <a:pt x="236" y="378"/>
                </a:cubicBezTo>
                <a:cubicBezTo>
                  <a:pt x="250" y="371"/>
                  <a:pt x="243" y="355"/>
                  <a:pt x="252" y="345"/>
                </a:cubicBezTo>
                <a:cubicBezTo>
                  <a:pt x="259" y="336"/>
                  <a:pt x="273" y="330"/>
                  <a:pt x="283" y="323"/>
                </a:cubicBezTo>
                <a:cubicBezTo>
                  <a:pt x="293" y="334"/>
                  <a:pt x="310" y="343"/>
                  <a:pt x="314" y="356"/>
                </a:cubicBezTo>
                <a:cubicBezTo>
                  <a:pt x="381" y="632"/>
                  <a:pt x="158" y="513"/>
                  <a:pt x="855" y="499"/>
                </a:cubicBezTo>
                <a:cubicBezTo>
                  <a:pt x="850" y="478"/>
                  <a:pt x="854" y="453"/>
                  <a:pt x="840" y="434"/>
                </a:cubicBezTo>
                <a:cubicBezTo>
                  <a:pt x="821" y="407"/>
                  <a:pt x="848" y="339"/>
                  <a:pt x="814" y="323"/>
                </a:cubicBezTo>
                <a:cubicBezTo>
                  <a:pt x="804" y="261"/>
                  <a:pt x="806" y="273"/>
                  <a:pt x="802" y="261"/>
                </a:cubicBezTo>
                <a:cubicBezTo>
                  <a:pt x="831" y="248"/>
                  <a:pt x="815" y="243"/>
                  <a:pt x="831" y="220"/>
                </a:cubicBezTo>
                <a:cubicBezTo>
                  <a:pt x="847" y="197"/>
                  <a:pt x="894" y="155"/>
                  <a:pt x="900" y="121"/>
                </a:cubicBezTo>
                <a:cubicBezTo>
                  <a:pt x="890" y="67"/>
                  <a:pt x="942" y="45"/>
                  <a:pt x="870" y="16"/>
                </a:cubicBezTo>
                <a:cubicBezTo>
                  <a:pt x="828" y="0"/>
                  <a:pt x="805" y="87"/>
                  <a:pt x="759" y="76"/>
                </a:cubicBezTo>
                <a:cubicBezTo>
                  <a:pt x="744" y="72"/>
                  <a:pt x="670" y="127"/>
                  <a:pt x="670" y="127"/>
                </a:cubicBezTo>
              </a:path>
            </a:pathLst>
          </a:custGeom>
          <a:gradFill rotWithShape="0">
            <a:gsLst>
              <a:gs pos="0">
                <a:srgbClr val="6c0000"/>
              </a:gs>
              <a:gs pos="50000">
                <a:srgbClr val="ff0000"/>
              </a:gs>
              <a:gs pos="100000">
                <a:srgbClr val="6c0000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4200">
            <a:off x="75960" y="5589360"/>
            <a:ext cx="50472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16122000">
            <a:off x="1517400" y="4882320"/>
            <a:ext cx="44604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4200">
            <a:off x="777960" y="5268960"/>
            <a:ext cx="595080" cy="428400"/>
          </a:xfrm>
          <a:custGeom>
            <a:avLst/>
            <a:gdLst/>
            <a:ahLst/>
            <a:rect l="l" t="t" r="r" b="b"/>
            <a:pathLst>
              <a:path w="640" h="461">
                <a:moveTo>
                  <a:pt x="64" y="445"/>
                </a:moveTo>
                <a:cubicBezTo>
                  <a:pt x="125" y="442"/>
                  <a:pt x="187" y="442"/>
                  <a:pt x="248" y="437"/>
                </a:cubicBezTo>
                <a:cubicBezTo>
                  <a:pt x="259" y="436"/>
                  <a:pt x="276" y="439"/>
                  <a:pt x="280" y="429"/>
                </a:cubicBezTo>
                <a:cubicBezTo>
                  <a:pt x="298" y="382"/>
                  <a:pt x="274" y="374"/>
                  <a:pt x="248" y="357"/>
                </a:cubicBezTo>
                <a:cubicBezTo>
                  <a:pt x="228" y="297"/>
                  <a:pt x="257" y="369"/>
                  <a:pt x="216" y="317"/>
                </a:cubicBezTo>
                <a:cubicBezTo>
                  <a:pt x="210" y="310"/>
                  <a:pt x="188" y="256"/>
                  <a:pt x="184" y="245"/>
                </a:cubicBezTo>
                <a:cubicBezTo>
                  <a:pt x="192" y="112"/>
                  <a:pt x="164" y="95"/>
                  <a:pt x="280" y="109"/>
                </a:cubicBezTo>
                <a:cubicBezTo>
                  <a:pt x="317" y="121"/>
                  <a:pt x="347" y="145"/>
                  <a:pt x="384" y="157"/>
                </a:cubicBezTo>
                <a:cubicBezTo>
                  <a:pt x="457" y="267"/>
                  <a:pt x="415" y="186"/>
                  <a:pt x="424" y="429"/>
                </a:cubicBezTo>
                <a:cubicBezTo>
                  <a:pt x="533" y="424"/>
                  <a:pt x="607" y="457"/>
                  <a:pt x="640" y="357"/>
                </a:cubicBezTo>
                <a:cubicBezTo>
                  <a:pt x="625" y="269"/>
                  <a:pt x="611" y="293"/>
                  <a:pt x="512" y="285"/>
                </a:cubicBezTo>
                <a:cubicBezTo>
                  <a:pt x="485" y="205"/>
                  <a:pt x="475" y="141"/>
                  <a:pt x="408" y="85"/>
                </a:cubicBezTo>
                <a:cubicBezTo>
                  <a:pt x="393" y="73"/>
                  <a:pt x="371" y="43"/>
                  <a:pt x="352" y="37"/>
                </a:cubicBezTo>
                <a:cubicBezTo>
                  <a:pt x="311" y="24"/>
                  <a:pt x="214" y="11"/>
                  <a:pt x="168" y="5"/>
                </a:cubicBezTo>
                <a:cubicBezTo>
                  <a:pt x="141" y="8"/>
                  <a:pt x="88" y="0"/>
                  <a:pt x="64" y="29"/>
                </a:cubicBezTo>
                <a:cubicBezTo>
                  <a:pt x="56" y="38"/>
                  <a:pt x="52" y="50"/>
                  <a:pt x="48" y="61"/>
                </a:cubicBezTo>
                <a:cubicBezTo>
                  <a:pt x="42" y="77"/>
                  <a:pt x="32" y="109"/>
                  <a:pt x="32" y="109"/>
                </a:cubicBezTo>
                <a:cubicBezTo>
                  <a:pt x="37" y="180"/>
                  <a:pt x="22" y="196"/>
                  <a:pt x="56" y="237"/>
                </a:cubicBezTo>
                <a:cubicBezTo>
                  <a:pt x="69" y="253"/>
                  <a:pt x="80" y="271"/>
                  <a:pt x="96" y="285"/>
                </a:cubicBezTo>
                <a:cubicBezTo>
                  <a:pt x="110" y="298"/>
                  <a:pt x="144" y="317"/>
                  <a:pt x="144" y="317"/>
                </a:cubicBezTo>
                <a:cubicBezTo>
                  <a:pt x="177" y="366"/>
                  <a:pt x="162" y="371"/>
                  <a:pt x="104" y="357"/>
                </a:cubicBezTo>
                <a:cubicBezTo>
                  <a:pt x="66" y="347"/>
                  <a:pt x="44" y="329"/>
                  <a:pt x="8" y="317"/>
                </a:cubicBezTo>
                <a:cubicBezTo>
                  <a:pt x="13" y="374"/>
                  <a:pt x="0" y="429"/>
                  <a:pt x="48" y="461"/>
                </a:cubicBezTo>
                <a:cubicBezTo>
                  <a:pt x="86" y="452"/>
                  <a:pt x="90" y="458"/>
                  <a:pt x="64" y="445"/>
                </a:cubicBezTo>
                <a:close/>
              </a:path>
            </a:pathLst>
          </a:custGeom>
          <a:solidFill>
            <a:srgbClr val="3333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3760" y="4160880"/>
            <a:ext cx="1211040" cy="1044360"/>
          </a:xfrm>
          <a:custGeom>
            <a:avLst/>
            <a:gdLst/>
            <a:ahLst/>
            <a:rect l="l" t="t" r="r" b="b"/>
            <a:pathLst>
              <a:path w="1050" h="906">
                <a:moveTo>
                  <a:pt x="521" y="24"/>
                </a:moveTo>
                <a:cubicBezTo>
                  <a:pt x="598" y="0"/>
                  <a:pt x="573" y="2"/>
                  <a:pt x="709" y="24"/>
                </a:cubicBezTo>
                <a:cubicBezTo>
                  <a:pt x="734" y="28"/>
                  <a:pt x="784" y="48"/>
                  <a:pt x="784" y="48"/>
                </a:cubicBezTo>
                <a:cubicBezTo>
                  <a:pt x="864" y="105"/>
                  <a:pt x="820" y="70"/>
                  <a:pt x="910" y="157"/>
                </a:cubicBezTo>
                <a:cubicBezTo>
                  <a:pt x="939" y="185"/>
                  <a:pt x="985" y="254"/>
                  <a:pt x="985" y="254"/>
                </a:cubicBezTo>
                <a:cubicBezTo>
                  <a:pt x="1021" y="389"/>
                  <a:pt x="1050" y="536"/>
                  <a:pt x="973" y="664"/>
                </a:cubicBezTo>
                <a:cubicBezTo>
                  <a:pt x="954" y="697"/>
                  <a:pt x="927" y="767"/>
                  <a:pt x="897" y="785"/>
                </a:cubicBezTo>
                <a:cubicBezTo>
                  <a:pt x="847" y="817"/>
                  <a:pt x="805" y="862"/>
                  <a:pt x="747" y="882"/>
                </a:cubicBezTo>
                <a:cubicBezTo>
                  <a:pt x="715" y="894"/>
                  <a:pt x="646" y="906"/>
                  <a:pt x="646" y="906"/>
                </a:cubicBezTo>
                <a:cubicBezTo>
                  <a:pt x="489" y="898"/>
                  <a:pt x="376" y="886"/>
                  <a:pt x="232" y="846"/>
                </a:cubicBezTo>
                <a:cubicBezTo>
                  <a:pt x="153" y="795"/>
                  <a:pt x="100" y="741"/>
                  <a:pt x="69" y="652"/>
                </a:cubicBezTo>
                <a:cubicBezTo>
                  <a:pt x="73" y="521"/>
                  <a:pt x="0" y="178"/>
                  <a:pt x="203" y="114"/>
                </a:cubicBezTo>
                <a:cubicBezTo>
                  <a:pt x="274" y="46"/>
                  <a:pt x="360" y="62"/>
                  <a:pt x="458" y="48"/>
                </a:cubicBezTo>
                <a:cubicBezTo>
                  <a:pt x="537" y="22"/>
                  <a:pt x="560" y="24"/>
                  <a:pt x="521" y="24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0582400">
            <a:off x="536400" y="4363560"/>
            <a:ext cx="341640" cy="48096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20582400">
            <a:off x="903240" y="4264200"/>
            <a:ext cx="343080" cy="50796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8088000">
            <a:off x="601200" y="4390560"/>
            <a:ext cx="751680" cy="70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744" y="1256"/>
                </a:moveTo>
                <a:arcTo wR="10800" hR="10800" stAng="-7074784" swAng="7074784"/>
                <a:lnTo>
                  <a:pt x="10800" y="10800"/>
                </a:lnTo>
                <a:close/>
              </a:path>
              <a:path fill="none" w="21600" h="21600">
                <a:moveTo>
                  <a:pt x="5744" y="1256"/>
                </a:moveTo>
                <a:arcTo wR="10800" hR="10800" stAng="-7074784" swAng="707478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413400">
            <a:off x="907920" y="4773240"/>
            <a:ext cx="184320" cy="185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413400">
            <a:off x="677880" y="4422240"/>
            <a:ext cx="182520" cy="2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413400">
            <a:off x="1004760" y="4300200"/>
            <a:ext cx="182520" cy="257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448800">
            <a:off x="328320" y="4195800"/>
            <a:ext cx="260280" cy="250920"/>
          </a:xfrm>
          <a:custGeom>
            <a:avLst/>
            <a:gdLst/>
            <a:ahLst/>
            <a:rect l="l" t="t" r="r" b="b"/>
            <a:pathLst>
              <a:path w="273" h="258">
                <a:moveTo>
                  <a:pt x="273" y="40"/>
                </a:moveTo>
                <a:cubicBezTo>
                  <a:pt x="203" y="17"/>
                  <a:pt x="179" y="0"/>
                  <a:pt x="91" y="40"/>
                </a:cubicBezTo>
                <a:cubicBezTo>
                  <a:pt x="59" y="54"/>
                  <a:pt x="19" y="201"/>
                  <a:pt x="18" y="204"/>
                </a:cubicBezTo>
                <a:cubicBezTo>
                  <a:pt x="12" y="222"/>
                  <a:pt x="0" y="258"/>
                  <a:pt x="0" y="25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448800">
            <a:off x="587160" y="4092480"/>
            <a:ext cx="274320" cy="211320"/>
          </a:xfrm>
          <a:custGeom>
            <a:avLst/>
            <a:gdLst/>
            <a:ahLst/>
            <a:rect l="l" t="t" r="r" b="b"/>
            <a:pathLst>
              <a:path w="290" h="218">
                <a:moveTo>
                  <a:pt x="0" y="218"/>
                </a:moveTo>
                <a:cubicBezTo>
                  <a:pt x="66" y="118"/>
                  <a:pt x="157" y="0"/>
                  <a:pt x="29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448800">
            <a:off x="632880" y="4065480"/>
            <a:ext cx="1800" cy="195480"/>
          </a:xfrm>
          <a:custGeom>
            <a:avLst/>
            <a:gdLst/>
            <a:ahLst/>
            <a:rect l="l" t="t" r="r" b="b"/>
            <a:pathLst>
              <a:path w="1" h="200">
                <a:moveTo>
                  <a:pt x="0" y="200"/>
                </a:moveTo>
                <a:cubicBezTo>
                  <a:pt x="0" y="133"/>
                  <a:pt x="0" y="67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21140400">
            <a:off x="418680" y="4266720"/>
            <a:ext cx="233280" cy="392400"/>
          </a:xfrm>
          <a:custGeom>
            <a:avLst/>
            <a:gdLst/>
            <a:ahLst/>
            <a:rect l="l" t="t" r="r" b="b"/>
            <a:pathLst>
              <a:path w="273" h="400">
                <a:moveTo>
                  <a:pt x="273" y="0"/>
                </a:moveTo>
                <a:cubicBezTo>
                  <a:pt x="198" y="37"/>
                  <a:pt x="150" y="69"/>
                  <a:pt x="91" y="127"/>
                </a:cubicBezTo>
                <a:cubicBezTo>
                  <a:pt x="61" y="218"/>
                  <a:pt x="0" y="301"/>
                  <a:pt x="0" y="4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1662000">
            <a:off x="651960" y="4183200"/>
            <a:ext cx="246240" cy="131760"/>
          </a:xfrm>
          <a:custGeom>
            <a:avLst/>
            <a:gdLst/>
            <a:ahLst/>
            <a:rect l="l" t="t" r="r" b="b"/>
            <a:pathLst>
              <a:path w="273" h="109">
                <a:moveTo>
                  <a:pt x="0" y="109"/>
                </a:moveTo>
                <a:cubicBezTo>
                  <a:pt x="12" y="91"/>
                  <a:pt x="17" y="66"/>
                  <a:pt x="36" y="54"/>
                </a:cubicBezTo>
                <a:cubicBezTo>
                  <a:pt x="105" y="11"/>
                  <a:pt x="195" y="0"/>
                  <a:pt x="273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362320" y="4686480"/>
            <a:ext cx="4572000" cy="1657080"/>
            <a:chOff x="2362320" y="4686480"/>
            <a:chExt cx="4572000" cy="1657080"/>
          </a:xfrm>
        </p:grpSpPr>
        <p:sp>
          <p:nvSpPr>
            <p:cNvPr id="259" name=""/>
            <p:cNvSpPr/>
            <p:nvPr/>
          </p:nvSpPr>
          <p:spPr>
            <a:xfrm>
              <a:off x="2362320" y="4686480"/>
              <a:ext cx="4572000" cy="1657080"/>
            </a:xfrm>
            <a:prstGeom prst="cloudCallout">
              <a:avLst>
                <a:gd name="adj1" fmla="val -57638"/>
                <a:gd name="adj2" fmla="val -72032"/>
              </a:avLst>
            </a:prstGeom>
            <a:solidFill>
              <a:srgbClr val="00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41480" y="4727160"/>
              <a:ext cx="3519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tice that the ammeter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s connected in </a:t>
              </a:r>
              <a:br>
                <a:rPr sz="2400"/>
              </a:b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eri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>
            <a:hlinkClick r:id="rId8" action="ppaction://hlinksldjump"/>
          </p:cNvPr>
          <p:cNvSpPr/>
          <p:nvPr/>
        </p:nvSpPr>
        <p:spPr>
          <a:xfrm>
            <a:off x="3873600" y="5664240"/>
            <a:ext cx="1422360" cy="469800"/>
          </a:xfrm>
          <a:custGeom>
            <a:avLst/>
            <a:gdLst>
              <a:gd name="textAreaLeft" fmla="*/ 30240 w 1422360"/>
              <a:gd name="textAreaRight" fmla="*/ 1392120 w 1422360"/>
              <a:gd name="textAreaTop" fmla="*/ 30240 h 469800"/>
              <a:gd name="textAreaBottom" fmla="*/ 439560 h 469800"/>
            </a:gdLst>
            <a:ahLst/>
            <a:rect l="textAreaLeft" t="textAreaTop" r="textAreaRight" b="textAreaBottom"/>
            <a:pathLst>
              <a:path w="65362" h="21600">
                <a:moveTo>
                  <a:pt x="0" y="0"/>
                </a:moveTo>
                <a:lnTo>
                  <a:pt x="65362" y="0"/>
                </a:lnTo>
                <a:lnTo>
                  <a:pt x="65362" y="21600"/>
                </a:lnTo>
                <a:lnTo>
                  <a:pt x="0" y="21600"/>
                </a:lnTo>
                <a:close/>
              </a:path>
              <a:path fill="lightenLess" w="65362" h="21600">
                <a:moveTo>
                  <a:pt x="0" y="0"/>
                </a:moveTo>
                <a:lnTo>
                  <a:pt x="65362" y="0"/>
                </a:lnTo>
                <a:lnTo>
                  <a:pt x="63962" y="1400"/>
                </a:lnTo>
                <a:lnTo>
                  <a:pt x="1400" y="1400"/>
                </a:lnTo>
                <a:close/>
              </a:path>
              <a:path fill="darken" w="65362" h="21600">
                <a:moveTo>
                  <a:pt x="65362" y="0"/>
                </a:moveTo>
                <a:lnTo>
                  <a:pt x="65362" y="21600"/>
                </a:lnTo>
                <a:lnTo>
                  <a:pt x="63962" y="20200"/>
                </a:lnTo>
                <a:lnTo>
                  <a:pt x="63962" y="1400"/>
                </a:lnTo>
                <a:close/>
              </a:path>
              <a:path fill="darkenLess" w="65362" h="21600">
                <a:moveTo>
                  <a:pt x="65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962" y="20200"/>
                </a:lnTo>
                <a:close/>
              </a:path>
              <a:path fill="lighten" w="65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90680" y="285840"/>
            <a:ext cx="334296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eries Circuit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71280" y="3157560"/>
            <a:ext cx="9072720" cy="725040"/>
            <a:chOff x="71280" y="3157560"/>
            <a:chExt cx="9072720" cy="725040"/>
          </a:xfrm>
        </p:grpSpPr>
        <p:sp>
          <p:nvSpPr>
            <p:cNvPr id="264" name=""/>
            <p:cNvSpPr/>
            <p:nvPr/>
          </p:nvSpPr>
          <p:spPr>
            <a:xfrm>
              <a:off x="7467480" y="3474720"/>
              <a:ext cx="1676520" cy="10908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6183000" y="3157560"/>
              <a:ext cx="1328760" cy="725040"/>
              <a:chOff x="6183000" y="3157560"/>
              <a:chExt cx="1328760" cy="725040"/>
            </a:xfrm>
          </p:grpSpPr>
          <p:sp>
            <p:nvSpPr>
              <p:cNvPr id="266" name=""/>
              <p:cNvSpPr/>
              <p:nvPr/>
            </p:nvSpPr>
            <p:spPr>
              <a:xfrm>
                <a:off x="7345080" y="3157560"/>
                <a:ext cx="166680" cy="723600"/>
              </a:xfrm>
              <a:prstGeom prst="ellipse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51040" y="3157560"/>
                <a:ext cx="1177920" cy="72360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183000" y="3157560"/>
                <a:ext cx="166680" cy="723600"/>
              </a:xfrm>
              <a:prstGeom prst="ellipse">
                <a:avLst/>
              </a:prstGeom>
              <a:gradFill rotWithShape="0">
                <a:gsLst>
                  <a:gs pos="0">
                    <a:srgbClr val="755739"/>
                  </a:gs>
                  <a:gs pos="50000">
                    <a:srgbClr val="ffbe7d"/>
                  </a:gs>
                  <a:gs pos="100000">
                    <a:srgbClr val="75573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76600" y="3881160"/>
                <a:ext cx="116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70120" y="3157560"/>
                <a:ext cx="1165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345000" y="3160440"/>
                <a:ext cx="217440" cy="718920"/>
              </a:xfrm>
              <a:custGeom>
                <a:avLst/>
                <a:gdLst/>
                <a:ahLst/>
                <a:rect l="l" t="t" r="r" b="b"/>
                <a:pathLst>
                  <a:path w="132" h="420">
                    <a:moveTo>
                      <a:pt x="0" y="3"/>
                    </a:moveTo>
                    <a:lnTo>
                      <a:pt x="13" y="7"/>
                    </a:lnTo>
                    <a:lnTo>
                      <a:pt x="25" y="19"/>
                    </a:lnTo>
                    <a:lnTo>
                      <a:pt x="31" y="28"/>
                    </a:lnTo>
                    <a:lnTo>
                      <a:pt x="42" y="43"/>
                    </a:lnTo>
                    <a:lnTo>
                      <a:pt x="49" y="61"/>
                    </a:lnTo>
                    <a:lnTo>
                      <a:pt x="55" y="90"/>
                    </a:lnTo>
                    <a:lnTo>
                      <a:pt x="63" y="115"/>
                    </a:lnTo>
                    <a:lnTo>
                      <a:pt x="69" y="169"/>
                    </a:lnTo>
                    <a:lnTo>
                      <a:pt x="72" y="202"/>
                    </a:lnTo>
                    <a:lnTo>
                      <a:pt x="72" y="247"/>
                    </a:lnTo>
                    <a:lnTo>
                      <a:pt x="66" y="298"/>
                    </a:lnTo>
                    <a:lnTo>
                      <a:pt x="60" y="337"/>
                    </a:lnTo>
                    <a:lnTo>
                      <a:pt x="52" y="369"/>
                    </a:lnTo>
                    <a:lnTo>
                      <a:pt x="34" y="399"/>
                    </a:lnTo>
                    <a:lnTo>
                      <a:pt x="16" y="420"/>
                    </a:lnTo>
                    <a:lnTo>
                      <a:pt x="69" y="420"/>
                    </a:lnTo>
                    <a:lnTo>
                      <a:pt x="93" y="400"/>
                    </a:lnTo>
                    <a:lnTo>
                      <a:pt x="103" y="378"/>
                    </a:lnTo>
                    <a:lnTo>
                      <a:pt x="115" y="342"/>
                    </a:lnTo>
                    <a:lnTo>
                      <a:pt x="123" y="306"/>
                    </a:lnTo>
                    <a:lnTo>
                      <a:pt x="132" y="244"/>
                    </a:lnTo>
                    <a:lnTo>
                      <a:pt x="132" y="180"/>
                    </a:lnTo>
                    <a:lnTo>
                      <a:pt x="126" y="124"/>
                    </a:lnTo>
                    <a:lnTo>
                      <a:pt x="114" y="75"/>
                    </a:lnTo>
                    <a:lnTo>
                      <a:pt x="102" y="40"/>
                    </a:lnTo>
                    <a:lnTo>
                      <a:pt x="90" y="21"/>
                    </a:lnTo>
                    <a:lnTo>
                      <a:pt x="78" y="7"/>
                    </a:lnTo>
                    <a:lnTo>
                      <a:pt x="5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541560" y="3162240"/>
                <a:ext cx="223920" cy="720360"/>
              </a:xfrm>
              <a:custGeom>
                <a:avLst/>
                <a:gdLst/>
                <a:ahLst/>
                <a:rect l="l" t="t" r="r" b="b"/>
                <a:pathLst>
                  <a:path w="132" h="420">
                    <a:moveTo>
                      <a:pt x="0" y="3"/>
                    </a:moveTo>
                    <a:lnTo>
                      <a:pt x="13" y="7"/>
                    </a:lnTo>
                    <a:lnTo>
                      <a:pt x="25" y="19"/>
                    </a:lnTo>
                    <a:lnTo>
                      <a:pt x="31" y="28"/>
                    </a:lnTo>
                    <a:lnTo>
                      <a:pt x="42" y="43"/>
                    </a:lnTo>
                    <a:lnTo>
                      <a:pt x="49" y="61"/>
                    </a:lnTo>
                    <a:lnTo>
                      <a:pt x="55" y="90"/>
                    </a:lnTo>
                    <a:lnTo>
                      <a:pt x="63" y="115"/>
                    </a:lnTo>
                    <a:lnTo>
                      <a:pt x="69" y="169"/>
                    </a:lnTo>
                    <a:lnTo>
                      <a:pt x="72" y="202"/>
                    </a:lnTo>
                    <a:lnTo>
                      <a:pt x="72" y="247"/>
                    </a:lnTo>
                    <a:lnTo>
                      <a:pt x="66" y="298"/>
                    </a:lnTo>
                    <a:lnTo>
                      <a:pt x="60" y="337"/>
                    </a:lnTo>
                    <a:lnTo>
                      <a:pt x="52" y="369"/>
                    </a:lnTo>
                    <a:lnTo>
                      <a:pt x="34" y="399"/>
                    </a:lnTo>
                    <a:lnTo>
                      <a:pt x="16" y="420"/>
                    </a:lnTo>
                    <a:lnTo>
                      <a:pt x="69" y="420"/>
                    </a:lnTo>
                    <a:lnTo>
                      <a:pt x="93" y="400"/>
                    </a:lnTo>
                    <a:lnTo>
                      <a:pt x="103" y="378"/>
                    </a:lnTo>
                    <a:lnTo>
                      <a:pt x="115" y="342"/>
                    </a:lnTo>
                    <a:lnTo>
                      <a:pt x="123" y="306"/>
                    </a:lnTo>
                    <a:lnTo>
                      <a:pt x="132" y="244"/>
                    </a:lnTo>
                    <a:lnTo>
                      <a:pt x="132" y="180"/>
                    </a:lnTo>
                    <a:lnTo>
                      <a:pt x="126" y="124"/>
                    </a:lnTo>
                    <a:lnTo>
                      <a:pt x="114" y="75"/>
                    </a:lnTo>
                    <a:lnTo>
                      <a:pt x="102" y="40"/>
                    </a:lnTo>
                    <a:lnTo>
                      <a:pt x="90" y="21"/>
                    </a:lnTo>
                    <a:lnTo>
                      <a:pt x="78" y="7"/>
                    </a:lnTo>
                    <a:lnTo>
                      <a:pt x="5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749640" y="3163680"/>
                <a:ext cx="208080" cy="715680"/>
              </a:xfrm>
              <a:custGeom>
                <a:avLst/>
                <a:gdLst/>
                <a:ahLst/>
                <a:rect l="l" t="t" r="r" b="b"/>
                <a:pathLst>
                  <a:path w="132" h="420">
                    <a:moveTo>
                      <a:pt x="0" y="3"/>
                    </a:moveTo>
                    <a:lnTo>
                      <a:pt x="13" y="7"/>
                    </a:lnTo>
                    <a:lnTo>
                      <a:pt x="25" y="19"/>
                    </a:lnTo>
                    <a:lnTo>
                      <a:pt x="31" y="28"/>
                    </a:lnTo>
                    <a:lnTo>
                      <a:pt x="42" y="43"/>
                    </a:lnTo>
                    <a:lnTo>
                      <a:pt x="49" y="61"/>
                    </a:lnTo>
                    <a:lnTo>
                      <a:pt x="55" y="90"/>
                    </a:lnTo>
                    <a:lnTo>
                      <a:pt x="63" y="115"/>
                    </a:lnTo>
                    <a:lnTo>
                      <a:pt x="69" y="169"/>
                    </a:lnTo>
                    <a:lnTo>
                      <a:pt x="72" y="202"/>
                    </a:lnTo>
                    <a:lnTo>
                      <a:pt x="72" y="247"/>
                    </a:lnTo>
                    <a:lnTo>
                      <a:pt x="66" y="298"/>
                    </a:lnTo>
                    <a:lnTo>
                      <a:pt x="60" y="337"/>
                    </a:lnTo>
                    <a:lnTo>
                      <a:pt x="52" y="369"/>
                    </a:lnTo>
                    <a:lnTo>
                      <a:pt x="34" y="399"/>
                    </a:lnTo>
                    <a:lnTo>
                      <a:pt x="16" y="420"/>
                    </a:lnTo>
                    <a:lnTo>
                      <a:pt x="69" y="420"/>
                    </a:lnTo>
                    <a:lnTo>
                      <a:pt x="93" y="400"/>
                    </a:lnTo>
                    <a:lnTo>
                      <a:pt x="103" y="378"/>
                    </a:lnTo>
                    <a:lnTo>
                      <a:pt x="115" y="342"/>
                    </a:lnTo>
                    <a:lnTo>
                      <a:pt x="123" y="306"/>
                    </a:lnTo>
                    <a:lnTo>
                      <a:pt x="132" y="244"/>
                    </a:lnTo>
                    <a:lnTo>
                      <a:pt x="132" y="180"/>
                    </a:lnTo>
                    <a:lnTo>
                      <a:pt x="126" y="124"/>
                    </a:lnTo>
                    <a:lnTo>
                      <a:pt x="114" y="75"/>
                    </a:lnTo>
                    <a:lnTo>
                      <a:pt x="102" y="40"/>
                    </a:lnTo>
                    <a:lnTo>
                      <a:pt x="90" y="21"/>
                    </a:lnTo>
                    <a:lnTo>
                      <a:pt x="78" y="7"/>
                    </a:lnTo>
                    <a:lnTo>
                      <a:pt x="5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940080" y="3160440"/>
                <a:ext cx="216000" cy="718920"/>
              </a:xfrm>
              <a:custGeom>
                <a:avLst/>
                <a:gdLst/>
                <a:ahLst/>
                <a:rect l="l" t="t" r="r" b="b"/>
                <a:pathLst>
                  <a:path w="136" h="453">
                    <a:moveTo>
                      <a:pt x="0" y="3"/>
                    </a:moveTo>
                    <a:lnTo>
                      <a:pt x="13" y="8"/>
                    </a:lnTo>
                    <a:lnTo>
                      <a:pt x="26" y="20"/>
                    </a:lnTo>
                    <a:lnTo>
                      <a:pt x="32" y="30"/>
                    </a:lnTo>
                    <a:lnTo>
                      <a:pt x="43" y="46"/>
                    </a:lnTo>
                    <a:lnTo>
                      <a:pt x="50" y="66"/>
                    </a:lnTo>
                    <a:lnTo>
                      <a:pt x="57" y="97"/>
                    </a:lnTo>
                    <a:lnTo>
                      <a:pt x="65" y="124"/>
                    </a:lnTo>
                    <a:lnTo>
                      <a:pt x="71" y="182"/>
                    </a:lnTo>
                    <a:lnTo>
                      <a:pt x="74" y="217"/>
                    </a:lnTo>
                    <a:lnTo>
                      <a:pt x="74" y="266"/>
                    </a:lnTo>
                    <a:lnTo>
                      <a:pt x="68" y="321"/>
                    </a:lnTo>
                    <a:lnTo>
                      <a:pt x="62" y="363"/>
                    </a:lnTo>
                    <a:lnTo>
                      <a:pt x="54" y="397"/>
                    </a:lnTo>
                    <a:lnTo>
                      <a:pt x="35" y="429"/>
                    </a:lnTo>
                    <a:lnTo>
                      <a:pt x="16" y="452"/>
                    </a:lnTo>
                    <a:lnTo>
                      <a:pt x="81" y="453"/>
                    </a:lnTo>
                    <a:lnTo>
                      <a:pt x="96" y="430"/>
                    </a:lnTo>
                    <a:lnTo>
                      <a:pt x="106" y="407"/>
                    </a:lnTo>
                    <a:lnTo>
                      <a:pt x="118" y="368"/>
                    </a:lnTo>
                    <a:lnTo>
                      <a:pt x="127" y="329"/>
                    </a:lnTo>
                    <a:lnTo>
                      <a:pt x="136" y="263"/>
                    </a:lnTo>
                    <a:lnTo>
                      <a:pt x="136" y="194"/>
                    </a:lnTo>
                    <a:lnTo>
                      <a:pt x="130" y="133"/>
                    </a:lnTo>
                    <a:lnTo>
                      <a:pt x="117" y="81"/>
                    </a:lnTo>
                    <a:lnTo>
                      <a:pt x="105" y="43"/>
                    </a:lnTo>
                    <a:lnTo>
                      <a:pt x="93" y="23"/>
                    </a:lnTo>
                    <a:lnTo>
                      <a:pt x="80" y="8"/>
                    </a:lnTo>
                    <a:lnTo>
                      <a:pt x="60" y="0"/>
                    </a:lnTo>
                    <a:lnTo>
                      <a:pt x="0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3878280" y="3157560"/>
              <a:ext cx="1328040" cy="725040"/>
              <a:chOff x="3878280" y="3157560"/>
              <a:chExt cx="1328040" cy="725040"/>
            </a:xfrm>
          </p:grpSpPr>
          <p:sp>
            <p:nvSpPr>
              <p:cNvPr id="276" name=""/>
              <p:cNvSpPr/>
              <p:nvPr/>
            </p:nvSpPr>
            <p:spPr>
              <a:xfrm>
                <a:off x="5040000" y="3157560"/>
                <a:ext cx="166320" cy="723600"/>
              </a:xfrm>
              <a:prstGeom prst="ellipse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945960" y="3157560"/>
                <a:ext cx="1177560" cy="72360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878280" y="3157560"/>
                <a:ext cx="166320" cy="723600"/>
              </a:xfrm>
              <a:prstGeom prst="ellipse">
                <a:avLst/>
              </a:prstGeom>
              <a:gradFill rotWithShape="0">
                <a:gsLst>
                  <a:gs pos="0">
                    <a:srgbClr val="755739"/>
                  </a:gs>
                  <a:gs pos="50000">
                    <a:srgbClr val="ffbe7d"/>
                  </a:gs>
                  <a:gs pos="100000">
                    <a:srgbClr val="75573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971520" y="3881160"/>
                <a:ext cx="116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965040" y="3157560"/>
                <a:ext cx="116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39920" y="3160440"/>
                <a:ext cx="217080" cy="718920"/>
              </a:xfrm>
              <a:custGeom>
                <a:avLst/>
                <a:gdLst/>
                <a:ahLst/>
                <a:rect l="l" t="t" r="r" b="b"/>
                <a:pathLst>
                  <a:path w="132" h="420">
                    <a:moveTo>
                      <a:pt x="0" y="3"/>
                    </a:moveTo>
                    <a:lnTo>
                      <a:pt x="13" y="7"/>
                    </a:lnTo>
                    <a:lnTo>
                      <a:pt x="25" y="19"/>
                    </a:lnTo>
                    <a:lnTo>
                      <a:pt x="31" y="28"/>
                    </a:lnTo>
                    <a:lnTo>
                      <a:pt x="42" y="43"/>
                    </a:lnTo>
                    <a:lnTo>
                      <a:pt x="49" y="61"/>
                    </a:lnTo>
                    <a:lnTo>
                      <a:pt x="55" y="90"/>
                    </a:lnTo>
                    <a:lnTo>
                      <a:pt x="63" y="115"/>
                    </a:lnTo>
                    <a:lnTo>
                      <a:pt x="69" y="169"/>
                    </a:lnTo>
                    <a:lnTo>
                      <a:pt x="72" y="202"/>
                    </a:lnTo>
                    <a:lnTo>
                      <a:pt x="72" y="247"/>
                    </a:lnTo>
                    <a:lnTo>
                      <a:pt x="66" y="298"/>
                    </a:lnTo>
                    <a:lnTo>
                      <a:pt x="60" y="337"/>
                    </a:lnTo>
                    <a:lnTo>
                      <a:pt x="52" y="369"/>
                    </a:lnTo>
                    <a:lnTo>
                      <a:pt x="34" y="399"/>
                    </a:lnTo>
                    <a:lnTo>
                      <a:pt x="16" y="420"/>
                    </a:lnTo>
                    <a:lnTo>
                      <a:pt x="69" y="420"/>
                    </a:lnTo>
                    <a:lnTo>
                      <a:pt x="93" y="400"/>
                    </a:lnTo>
                    <a:lnTo>
                      <a:pt x="103" y="378"/>
                    </a:lnTo>
                    <a:lnTo>
                      <a:pt x="115" y="342"/>
                    </a:lnTo>
                    <a:lnTo>
                      <a:pt x="123" y="306"/>
                    </a:lnTo>
                    <a:lnTo>
                      <a:pt x="132" y="244"/>
                    </a:lnTo>
                    <a:lnTo>
                      <a:pt x="132" y="180"/>
                    </a:lnTo>
                    <a:lnTo>
                      <a:pt x="126" y="124"/>
                    </a:lnTo>
                    <a:lnTo>
                      <a:pt x="114" y="75"/>
                    </a:lnTo>
                    <a:lnTo>
                      <a:pt x="102" y="40"/>
                    </a:lnTo>
                    <a:lnTo>
                      <a:pt x="90" y="21"/>
                    </a:lnTo>
                    <a:lnTo>
                      <a:pt x="78" y="7"/>
                    </a:lnTo>
                    <a:lnTo>
                      <a:pt x="5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236480" y="3162240"/>
                <a:ext cx="223560" cy="720360"/>
              </a:xfrm>
              <a:custGeom>
                <a:avLst/>
                <a:gdLst/>
                <a:ahLst/>
                <a:rect l="l" t="t" r="r" b="b"/>
                <a:pathLst>
                  <a:path w="132" h="420">
                    <a:moveTo>
                      <a:pt x="0" y="3"/>
                    </a:moveTo>
                    <a:lnTo>
                      <a:pt x="13" y="7"/>
                    </a:lnTo>
                    <a:lnTo>
                      <a:pt x="25" y="19"/>
                    </a:lnTo>
                    <a:lnTo>
                      <a:pt x="31" y="28"/>
                    </a:lnTo>
                    <a:lnTo>
                      <a:pt x="42" y="43"/>
                    </a:lnTo>
                    <a:lnTo>
                      <a:pt x="49" y="61"/>
                    </a:lnTo>
                    <a:lnTo>
                      <a:pt x="55" y="90"/>
                    </a:lnTo>
                    <a:lnTo>
                      <a:pt x="63" y="115"/>
                    </a:lnTo>
                    <a:lnTo>
                      <a:pt x="69" y="169"/>
                    </a:lnTo>
                    <a:lnTo>
                      <a:pt x="72" y="202"/>
                    </a:lnTo>
                    <a:lnTo>
                      <a:pt x="72" y="247"/>
                    </a:lnTo>
                    <a:lnTo>
                      <a:pt x="66" y="298"/>
                    </a:lnTo>
                    <a:lnTo>
                      <a:pt x="60" y="337"/>
                    </a:lnTo>
                    <a:lnTo>
                      <a:pt x="52" y="369"/>
                    </a:lnTo>
                    <a:lnTo>
                      <a:pt x="34" y="399"/>
                    </a:lnTo>
                    <a:lnTo>
                      <a:pt x="16" y="420"/>
                    </a:lnTo>
                    <a:lnTo>
                      <a:pt x="69" y="420"/>
                    </a:lnTo>
                    <a:lnTo>
                      <a:pt x="93" y="400"/>
                    </a:lnTo>
                    <a:lnTo>
                      <a:pt x="103" y="378"/>
                    </a:lnTo>
                    <a:lnTo>
                      <a:pt x="115" y="342"/>
                    </a:lnTo>
                    <a:lnTo>
                      <a:pt x="123" y="306"/>
                    </a:lnTo>
                    <a:lnTo>
                      <a:pt x="132" y="244"/>
                    </a:lnTo>
                    <a:lnTo>
                      <a:pt x="132" y="180"/>
                    </a:lnTo>
                    <a:lnTo>
                      <a:pt x="126" y="124"/>
                    </a:lnTo>
                    <a:lnTo>
                      <a:pt x="114" y="75"/>
                    </a:lnTo>
                    <a:lnTo>
                      <a:pt x="102" y="40"/>
                    </a:lnTo>
                    <a:lnTo>
                      <a:pt x="90" y="21"/>
                    </a:lnTo>
                    <a:lnTo>
                      <a:pt x="78" y="7"/>
                    </a:lnTo>
                    <a:lnTo>
                      <a:pt x="5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444560" y="3163680"/>
                <a:ext cx="207720" cy="715680"/>
              </a:xfrm>
              <a:custGeom>
                <a:avLst/>
                <a:gdLst/>
                <a:ahLst/>
                <a:rect l="l" t="t" r="r" b="b"/>
                <a:pathLst>
                  <a:path w="132" h="420">
                    <a:moveTo>
                      <a:pt x="0" y="3"/>
                    </a:moveTo>
                    <a:lnTo>
                      <a:pt x="13" y="7"/>
                    </a:lnTo>
                    <a:lnTo>
                      <a:pt x="25" y="19"/>
                    </a:lnTo>
                    <a:lnTo>
                      <a:pt x="31" y="28"/>
                    </a:lnTo>
                    <a:lnTo>
                      <a:pt x="42" y="43"/>
                    </a:lnTo>
                    <a:lnTo>
                      <a:pt x="49" y="61"/>
                    </a:lnTo>
                    <a:lnTo>
                      <a:pt x="55" y="90"/>
                    </a:lnTo>
                    <a:lnTo>
                      <a:pt x="63" y="115"/>
                    </a:lnTo>
                    <a:lnTo>
                      <a:pt x="69" y="169"/>
                    </a:lnTo>
                    <a:lnTo>
                      <a:pt x="72" y="202"/>
                    </a:lnTo>
                    <a:lnTo>
                      <a:pt x="72" y="247"/>
                    </a:lnTo>
                    <a:lnTo>
                      <a:pt x="66" y="298"/>
                    </a:lnTo>
                    <a:lnTo>
                      <a:pt x="60" y="337"/>
                    </a:lnTo>
                    <a:lnTo>
                      <a:pt x="52" y="369"/>
                    </a:lnTo>
                    <a:lnTo>
                      <a:pt x="34" y="399"/>
                    </a:lnTo>
                    <a:lnTo>
                      <a:pt x="16" y="420"/>
                    </a:lnTo>
                    <a:lnTo>
                      <a:pt x="69" y="420"/>
                    </a:lnTo>
                    <a:lnTo>
                      <a:pt x="93" y="400"/>
                    </a:lnTo>
                    <a:lnTo>
                      <a:pt x="103" y="378"/>
                    </a:lnTo>
                    <a:lnTo>
                      <a:pt x="115" y="342"/>
                    </a:lnTo>
                    <a:lnTo>
                      <a:pt x="123" y="306"/>
                    </a:lnTo>
                    <a:lnTo>
                      <a:pt x="132" y="244"/>
                    </a:lnTo>
                    <a:lnTo>
                      <a:pt x="132" y="180"/>
                    </a:lnTo>
                    <a:lnTo>
                      <a:pt x="126" y="124"/>
                    </a:lnTo>
                    <a:lnTo>
                      <a:pt x="114" y="75"/>
                    </a:lnTo>
                    <a:lnTo>
                      <a:pt x="102" y="40"/>
                    </a:lnTo>
                    <a:lnTo>
                      <a:pt x="90" y="21"/>
                    </a:lnTo>
                    <a:lnTo>
                      <a:pt x="78" y="7"/>
                    </a:lnTo>
                    <a:lnTo>
                      <a:pt x="5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635000" y="3160440"/>
                <a:ext cx="215640" cy="718920"/>
              </a:xfrm>
              <a:custGeom>
                <a:avLst/>
                <a:gdLst/>
                <a:ahLst/>
                <a:rect l="l" t="t" r="r" b="b"/>
                <a:pathLst>
                  <a:path w="136" h="453">
                    <a:moveTo>
                      <a:pt x="0" y="3"/>
                    </a:moveTo>
                    <a:lnTo>
                      <a:pt x="13" y="8"/>
                    </a:lnTo>
                    <a:lnTo>
                      <a:pt x="26" y="20"/>
                    </a:lnTo>
                    <a:lnTo>
                      <a:pt x="32" y="30"/>
                    </a:lnTo>
                    <a:lnTo>
                      <a:pt x="43" y="46"/>
                    </a:lnTo>
                    <a:lnTo>
                      <a:pt x="50" y="66"/>
                    </a:lnTo>
                    <a:lnTo>
                      <a:pt x="57" y="97"/>
                    </a:lnTo>
                    <a:lnTo>
                      <a:pt x="65" y="124"/>
                    </a:lnTo>
                    <a:lnTo>
                      <a:pt x="71" y="182"/>
                    </a:lnTo>
                    <a:lnTo>
                      <a:pt x="74" y="217"/>
                    </a:lnTo>
                    <a:lnTo>
                      <a:pt x="74" y="266"/>
                    </a:lnTo>
                    <a:lnTo>
                      <a:pt x="68" y="321"/>
                    </a:lnTo>
                    <a:lnTo>
                      <a:pt x="62" y="363"/>
                    </a:lnTo>
                    <a:lnTo>
                      <a:pt x="54" y="397"/>
                    </a:lnTo>
                    <a:lnTo>
                      <a:pt x="35" y="429"/>
                    </a:lnTo>
                    <a:lnTo>
                      <a:pt x="16" y="452"/>
                    </a:lnTo>
                    <a:lnTo>
                      <a:pt x="81" y="453"/>
                    </a:lnTo>
                    <a:lnTo>
                      <a:pt x="96" y="430"/>
                    </a:lnTo>
                    <a:lnTo>
                      <a:pt x="106" y="407"/>
                    </a:lnTo>
                    <a:lnTo>
                      <a:pt x="118" y="368"/>
                    </a:lnTo>
                    <a:lnTo>
                      <a:pt x="127" y="329"/>
                    </a:lnTo>
                    <a:lnTo>
                      <a:pt x="136" y="263"/>
                    </a:lnTo>
                    <a:lnTo>
                      <a:pt x="136" y="194"/>
                    </a:lnTo>
                    <a:lnTo>
                      <a:pt x="130" y="133"/>
                    </a:lnTo>
                    <a:lnTo>
                      <a:pt x="117" y="81"/>
                    </a:lnTo>
                    <a:lnTo>
                      <a:pt x="105" y="43"/>
                    </a:lnTo>
                    <a:lnTo>
                      <a:pt x="93" y="23"/>
                    </a:lnTo>
                    <a:lnTo>
                      <a:pt x="80" y="8"/>
                    </a:lnTo>
                    <a:lnTo>
                      <a:pt x="60" y="0"/>
                    </a:lnTo>
                    <a:lnTo>
                      <a:pt x="0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2881080" y="3465360"/>
              <a:ext cx="1104840" cy="10908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09920" y="3460680"/>
              <a:ext cx="1076400" cy="9936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1630080" y="3157560"/>
              <a:ext cx="1328760" cy="725040"/>
              <a:chOff x="1630080" y="3157560"/>
              <a:chExt cx="1328760" cy="725040"/>
            </a:xfrm>
          </p:grpSpPr>
          <p:sp>
            <p:nvSpPr>
              <p:cNvPr id="288" name=""/>
              <p:cNvSpPr/>
              <p:nvPr/>
            </p:nvSpPr>
            <p:spPr>
              <a:xfrm>
                <a:off x="2792160" y="3157560"/>
                <a:ext cx="166680" cy="723600"/>
              </a:xfrm>
              <a:prstGeom prst="ellipse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698120" y="3157560"/>
                <a:ext cx="1177920" cy="72360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630080" y="3157560"/>
                <a:ext cx="166680" cy="723600"/>
              </a:xfrm>
              <a:prstGeom prst="ellipse">
                <a:avLst/>
              </a:prstGeom>
              <a:gradFill rotWithShape="0">
                <a:gsLst>
                  <a:gs pos="0">
                    <a:srgbClr val="755739"/>
                  </a:gs>
                  <a:gs pos="50000">
                    <a:srgbClr val="ffbe7d"/>
                  </a:gs>
                  <a:gs pos="100000">
                    <a:srgbClr val="75573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723680" y="3881160"/>
                <a:ext cx="116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717200" y="3157560"/>
                <a:ext cx="1165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792080" y="3160440"/>
                <a:ext cx="217440" cy="718920"/>
              </a:xfrm>
              <a:custGeom>
                <a:avLst/>
                <a:gdLst/>
                <a:ahLst/>
                <a:rect l="l" t="t" r="r" b="b"/>
                <a:pathLst>
                  <a:path w="132" h="420">
                    <a:moveTo>
                      <a:pt x="0" y="3"/>
                    </a:moveTo>
                    <a:lnTo>
                      <a:pt x="13" y="7"/>
                    </a:lnTo>
                    <a:lnTo>
                      <a:pt x="25" y="19"/>
                    </a:lnTo>
                    <a:lnTo>
                      <a:pt x="31" y="28"/>
                    </a:lnTo>
                    <a:lnTo>
                      <a:pt x="42" y="43"/>
                    </a:lnTo>
                    <a:lnTo>
                      <a:pt x="49" y="61"/>
                    </a:lnTo>
                    <a:lnTo>
                      <a:pt x="55" y="90"/>
                    </a:lnTo>
                    <a:lnTo>
                      <a:pt x="63" y="115"/>
                    </a:lnTo>
                    <a:lnTo>
                      <a:pt x="69" y="169"/>
                    </a:lnTo>
                    <a:lnTo>
                      <a:pt x="72" y="202"/>
                    </a:lnTo>
                    <a:lnTo>
                      <a:pt x="72" y="247"/>
                    </a:lnTo>
                    <a:lnTo>
                      <a:pt x="66" y="298"/>
                    </a:lnTo>
                    <a:lnTo>
                      <a:pt x="60" y="337"/>
                    </a:lnTo>
                    <a:lnTo>
                      <a:pt x="52" y="369"/>
                    </a:lnTo>
                    <a:lnTo>
                      <a:pt x="34" y="399"/>
                    </a:lnTo>
                    <a:lnTo>
                      <a:pt x="16" y="420"/>
                    </a:lnTo>
                    <a:lnTo>
                      <a:pt x="69" y="420"/>
                    </a:lnTo>
                    <a:lnTo>
                      <a:pt x="93" y="400"/>
                    </a:lnTo>
                    <a:lnTo>
                      <a:pt x="103" y="378"/>
                    </a:lnTo>
                    <a:lnTo>
                      <a:pt x="115" y="342"/>
                    </a:lnTo>
                    <a:lnTo>
                      <a:pt x="123" y="306"/>
                    </a:lnTo>
                    <a:lnTo>
                      <a:pt x="132" y="244"/>
                    </a:lnTo>
                    <a:lnTo>
                      <a:pt x="132" y="180"/>
                    </a:lnTo>
                    <a:lnTo>
                      <a:pt x="126" y="124"/>
                    </a:lnTo>
                    <a:lnTo>
                      <a:pt x="114" y="75"/>
                    </a:lnTo>
                    <a:lnTo>
                      <a:pt x="102" y="40"/>
                    </a:lnTo>
                    <a:lnTo>
                      <a:pt x="90" y="21"/>
                    </a:lnTo>
                    <a:lnTo>
                      <a:pt x="78" y="7"/>
                    </a:lnTo>
                    <a:lnTo>
                      <a:pt x="5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988640" y="3162240"/>
                <a:ext cx="223920" cy="720360"/>
              </a:xfrm>
              <a:custGeom>
                <a:avLst/>
                <a:gdLst/>
                <a:ahLst/>
                <a:rect l="l" t="t" r="r" b="b"/>
                <a:pathLst>
                  <a:path w="132" h="420">
                    <a:moveTo>
                      <a:pt x="0" y="3"/>
                    </a:moveTo>
                    <a:lnTo>
                      <a:pt x="13" y="7"/>
                    </a:lnTo>
                    <a:lnTo>
                      <a:pt x="25" y="19"/>
                    </a:lnTo>
                    <a:lnTo>
                      <a:pt x="31" y="28"/>
                    </a:lnTo>
                    <a:lnTo>
                      <a:pt x="42" y="43"/>
                    </a:lnTo>
                    <a:lnTo>
                      <a:pt x="49" y="61"/>
                    </a:lnTo>
                    <a:lnTo>
                      <a:pt x="55" y="90"/>
                    </a:lnTo>
                    <a:lnTo>
                      <a:pt x="63" y="115"/>
                    </a:lnTo>
                    <a:lnTo>
                      <a:pt x="69" y="169"/>
                    </a:lnTo>
                    <a:lnTo>
                      <a:pt x="72" y="202"/>
                    </a:lnTo>
                    <a:lnTo>
                      <a:pt x="72" y="247"/>
                    </a:lnTo>
                    <a:lnTo>
                      <a:pt x="66" y="298"/>
                    </a:lnTo>
                    <a:lnTo>
                      <a:pt x="60" y="337"/>
                    </a:lnTo>
                    <a:lnTo>
                      <a:pt x="52" y="369"/>
                    </a:lnTo>
                    <a:lnTo>
                      <a:pt x="34" y="399"/>
                    </a:lnTo>
                    <a:lnTo>
                      <a:pt x="16" y="420"/>
                    </a:lnTo>
                    <a:lnTo>
                      <a:pt x="69" y="420"/>
                    </a:lnTo>
                    <a:lnTo>
                      <a:pt x="93" y="400"/>
                    </a:lnTo>
                    <a:lnTo>
                      <a:pt x="103" y="378"/>
                    </a:lnTo>
                    <a:lnTo>
                      <a:pt x="115" y="342"/>
                    </a:lnTo>
                    <a:lnTo>
                      <a:pt x="123" y="306"/>
                    </a:lnTo>
                    <a:lnTo>
                      <a:pt x="132" y="244"/>
                    </a:lnTo>
                    <a:lnTo>
                      <a:pt x="132" y="180"/>
                    </a:lnTo>
                    <a:lnTo>
                      <a:pt x="126" y="124"/>
                    </a:lnTo>
                    <a:lnTo>
                      <a:pt x="114" y="75"/>
                    </a:lnTo>
                    <a:lnTo>
                      <a:pt x="102" y="40"/>
                    </a:lnTo>
                    <a:lnTo>
                      <a:pt x="90" y="21"/>
                    </a:lnTo>
                    <a:lnTo>
                      <a:pt x="78" y="7"/>
                    </a:lnTo>
                    <a:lnTo>
                      <a:pt x="5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196720" y="3163680"/>
                <a:ext cx="208080" cy="715680"/>
              </a:xfrm>
              <a:custGeom>
                <a:avLst/>
                <a:gdLst/>
                <a:ahLst/>
                <a:rect l="l" t="t" r="r" b="b"/>
                <a:pathLst>
                  <a:path w="132" h="420">
                    <a:moveTo>
                      <a:pt x="0" y="3"/>
                    </a:moveTo>
                    <a:lnTo>
                      <a:pt x="13" y="7"/>
                    </a:lnTo>
                    <a:lnTo>
                      <a:pt x="25" y="19"/>
                    </a:lnTo>
                    <a:lnTo>
                      <a:pt x="31" y="28"/>
                    </a:lnTo>
                    <a:lnTo>
                      <a:pt x="42" y="43"/>
                    </a:lnTo>
                    <a:lnTo>
                      <a:pt x="49" y="61"/>
                    </a:lnTo>
                    <a:lnTo>
                      <a:pt x="55" y="90"/>
                    </a:lnTo>
                    <a:lnTo>
                      <a:pt x="63" y="115"/>
                    </a:lnTo>
                    <a:lnTo>
                      <a:pt x="69" y="169"/>
                    </a:lnTo>
                    <a:lnTo>
                      <a:pt x="72" y="202"/>
                    </a:lnTo>
                    <a:lnTo>
                      <a:pt x="72" y="247"/>
                    </a:lnTo>
                    <a:lnTo>
                      <a:pt x="66" y="298"/>
                    </a:lnTo>
                    <a:lnTo>
                      <a:pt x="60" y="337"/>
                    </a:lnTo>
                    <a:lnTo>
                      <a:pt x="52" y="369"/>
                    </a:lnTo>
                    <a:lnTo>
                      <a:pt x="34" y="399"/>
                    </a:lnTo>
                    <a:lnTo>
                      <a:pt x="16" y="420"/>
                    </a:lnTo>
                    <a:lnTo>
                      <a:pt x="69" y="420"/>
                    </a:lnTo>
                    <a:lnTo>
                      <a:pt x="93" y="400"/>
                    </a:lnTo>
                    <a:lnTo>
                      <a:pt x="103" y="378"/>
                    </a:lnTo>
                    <a:lnTo>
                      <a:pt x="115" y="342"/>
                    </a:lnTo>
                    <a:lnTo>
                      <a:pt x="123" y="306"/>
                    </a:lnTo>
                    <a:lnTo>
                      <a:pt x="132" y="244"/>
                    </a:lnTo>
                    <a:lnTo>
                      <a:pt x="132" y="180"/>
                    </a:lnTo>
                    <a:lnTo>
                      <a:pt x="126" y="124"/>
                    </a:lnTo>
                    <a:lnTo>
                      <a:pt x="114" y="75"/>
                    </a:lnTo>
                    <a:lnTo>
                      <a:pt x="102" y="40"/>
                    </a:lnTo>
                    <a:lnTo>
                      <a:pt x="90" y="21"/>
                    </a:lnTo>
                    <a:lnTo>
                      <a:pt x="78" y="7"/>
                    </a:lnTo>
                    <a:lnTo>
                      <a:pt x="5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387160" y="3160440"/>
                <a:ext cx="216000" cy="718920"/>
              </a:xfrm>
              <a:custGeom>
                <a:avLst/>
                <a:gdLst/>
                <a:ahLst/>
                <a:rect l="l" t="t" r="r" b="b"/>
                <a:pathLst>
                  <a:path w="136" h="453">
                    <a:moveTo>
                      <a:pt x="0" y="3"/>
                    </a:moveTo>
                    <a:lnTo>
                      <a:pt x="13" y="8"/>
                    </a:lnTo>
                    <a:lnTo>
                      <a:pt x="26" y="20"/>
                    </a:lnTo>
                    <a:lnTo>
                      <a:pt x="32" y="30"/>
                    </a:lnTo>
                    <a:lnTo>
                      <a:pt x="43" y="46"/>
                    </a:lnTo>
                    <a:lnTo>
                      <a:pt x="50" y="66"/>
                    </a:lnTo>
                    <a:lnTo>
                      <a:pt x="57" y="97"/>
                    </a:lnTo>
                    <a:lnTo>
                      <a:pt x="65" y="124"/>
                    </a:lnTo>
                    <a:lnTo>
                      <a:pt x="71" y="182"/>
                    </a:lnTo>
                    <a:lnTo>
                      <a:pt x="74" y="217"/>
                    </a:lnTo>
                    <a:lnTo>
                      <a:pt x="74" y="266"/>
                    </a:lnTo>
                    <a:lnTo>
                      <a:pt x="68" y="321"/>
                    </a:lnTo>
                    <a:lnTo>
                      <a:pt x="62" y="363"/>
                    </a:lnTo>
                    <a:lnTo>
                      <a:pt x="54" y="397"/>
                    </a:lnTo>
                    <a:lnTo>
                      <a:pt x="35" y="429"/>
                    </a:lnTo>
                    <a:lnTo>
                      <a:pt x="16" y="452"/>
                    </a:lnTo>
                    <a:lnTo>
                      <a:pt x="81" y="453"/>
                    </a:lnTo>
                    <a:lnTo>
                      <a:pt x="96" y="430"/>
                    </a:lnTo>
                    <a:lnTo>
                      <a:pt x="106" y="407"/>
                    </a:lnTo>
                    <a:lnTo>
                      <a:pt x="118" y="368"/>
                    </a:lnTo>
                    <a:lnTo>
                      <a:pt x="127" y="329"/>
                    </a:lnTo>
                    <a:lnTo>
                      <a:pt x="136" y="263"/>
                    </a:lnTo>
                    <a:lnTo>
                      <a:pt x="136" y="194"/>
                    </a:lnTo>
                    <a:lnTo>
                      <a:pt x="130" y="133"/>
                    </a:lnTo>
                    <a:lnTo>
                      <a:pt x="117" y="81"/>
                    </a:lnTo>
                    <a:lnTo>
                      <a:pt x="105" y="43"/>
                    </a:lnTo>
                    <a:lnTo>
                      <a:pt x="93" y="23"/>
                    </a:lnTo>
                    <a:lnTo>
                      <a:pt x="80" y="8"/>
                    </a:lnTo>
                    <a:lnTo>
                      <a:pt x="60" y="0"/>
                    </a:lnTo>
                    <a:lnTo>
                      <a:pt x="0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65"/>
                  </a:gs>
                  <a:gs pos="5000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71280" y="3474720"/>
              <a:ext cx="1676520" cy="10908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1299600" y="1187280"/>
            <a:ext cx="638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In a series circuit </a:t>
            </a:r>
            <a:br>
              <a:rPr sz="3600"/>
            </a:b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each component is connected </a:t>
            </a:r>
            <a:br>
              <a:rPr sz="3600"/>
            </a:b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one after the o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571680" y="4372560"/>
            <a:ext cx="8115120" cy="932400"/>
            <a:chOff x="571680" y="4372560"/>
            <a:chExt cx="8115120" cy="932400"/>
          </a:xfrm>
        </p:grpSpPr>
        <p:sp>
          <p:nvSpPr>
            <p:cNvPr id="300" name=""/>
            <p:cNvSpPr txBox="1"/>
            <p:nvPr/>
          </p:nvSpPr>
          <p:spPr>
            <a:xfrm>
              <a:off x="571680" y="4591080"/>
              <a:ext cx="8115120" cy="4190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The                           that flows into one component</a:t>
              </a:r>
              <a:endPara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 rot="20656800">
              <a:off x="1580760" y="4552560"/>
              <a:ext cx="1409760" cy="5716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750000"/>
                      </a:gs>
                      <a:gs pos="100000">
                        <a:srgbClr val="ff0000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current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7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120400" y="5453640"/>
            <a:ext cx="6375960" cy="813960"/>
            <a:chOff x="2120400" y="5453640"/>
            <a:chExt cx="6375960" cy="813960"/>
          </a:xfrm>
        </p:grpSpPr>
        <p:sp>
          <p:nvSpPr>
            <p:cNvPr id="303" name=""/>
            <p:cNvSpPr txBox="1"/>
            <p:nvPr/>
          </p:nvSpPr>
          <p:spPr>
            <a:xfrm rot="20656800">
              <a:off x="2152800" y="5600520"/>
              <a:ext cx="1141200" cy="396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2f75"/>
                      </a:gs>
                      <a:gs pos="100000">
                        <a:srgbClr val="0066ff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must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2f75"/>
                    </a:gs>
                    <a:gs pos="100000">
                      <a:srgbClr val="0066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>
              <a:off x="3276720" y="5867280"/>
              <a:ext cx="5219640" cy="4003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flow through each component</a:t>
              </a:r>
              <a:endPara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8832960" y="3459240"/>
            <a:ext cx="125280" cy="114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616960" y="3459240"/>
            <a:ext cx="125280" cy="114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" action="ppaction://hlinkshowjump?jump=previousslide"/>
          </p:cNvPr>
          <p:cNvSpPr/>
          <p:nvPr/>
        </p:nvSpPr>
        <p:spPr>
          <a:xfrm>
            <a:off x="393840" y="6146640"/>
            <a:ext cx="698400" cy="419400"/>
          </a:xfrm>
          <a:custGeom>
            <a:avLst/>
            <a:gdLst>
              <a:gd name="textAreaLeft" fmla="*/ 27000 w 698400"/>
              <a:gd name="textAreaRight" fmla="*/ 671400 w 698400"/>
              <a:gd name="textAreaTop" fmla="*/ 27000 h 419400"/>
              <a:gd name="textAreaBottom" fmla="*/ 392400 h 419400"/>
            </a:gdLst>
            <a:ahLst/>
            <a:rect l="textAreaLeft" t="textAreaTop" r="textAreaRight" b="textAreaBottom"/>
            <a:pathLst>
              <a:path w="35957" h="21600">
                <a:moveTo>
                  <a:pt x="0" y="0"/>
                </a:moveTo>
                <a:lnTo>
                  <a:pt x="35957" y="0"/>
                </a:lnTo>
                <a:lnTo>
                  <a:pt x="35957" y="21600"/>
                </a:lnTo>
                <a:lnTo>
                  <a:pt x="0" y="21600"/>
                </a:lnTo>
                <a:close/>
              </a:path>
              <a:path fill="lightenLess" w="35957" h="21600">
                <a:moveTo>
                  <a:pt x="0" y="0"/>
                </a:moveTo>
                <a:lnTo>
                  <a:pt x="35957" y="0"/>
                </a:lnTo>
                <a:lnTo>
                  <a:pt x="34557" y="1400"/>
                </a:lnTo>
                <a:lnTo>
                  <a:pt x="1400" y="1400"/>
                </a:lnTo>
                <a:close/>
              </a:path>
              <a:path fill="darken" w="35957" h="21600">
                <a:moveTo>
                  <a:pt x="35957" y="0"/>
                </a:moveTo>
                <a:lnTo>
                  <a:pt x="35957" y="21600"/>
                </a:lnTo>
                <a:lnTo>
                  <a:pt x="34557" y="20200"/>
                </a:lnTo>
                <a:lnTo>
                  <a:pt x="34557" y="1400"/>
                </a:lnTo>
                <a:close/>
              </a:path>
              <a:path fill="darkenLess" w="35957" h="21600">
                <a:moveTo>
                  <a:pt x="35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7" y="20200"/>
                </a:lnTo>
                <a:close/>
              </a:path>
              <a:path fill="lighten" w="35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7" h="21600">
                <a:moveTo>
                  <a:pt x="10972" y="10800"/>
                </a:moveTo>
                <a:lnTo>
                  <a:pt x="24985" y="3794"/>
                </a:lnTo>
                <a:lnTo>
                  <a:pt x="24985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162400" y="72396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38720" y="800280"/>
            <a:ext cx="990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5238000" y="19360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5563440" y="19360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6042960" y="19360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5240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935680" y="1647720"/>
            <a:ext cx="324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564160" y="164772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16" name=""/>
          <p:cNvSpPr/>
          <p:nvPr/>
        </p:nvSpPr>
        <p:spPr>
          <a:xfrm>
            <a:off x="6299280" y="3036960"/>
            <a:ext cx="284472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5102280" y="2738520"/>
            <a:ext cx="1328760" cy="725040"/>
            <a:chOff x="5102280" y="2738520"/>
            <a:chExt cx="1328760" cy="725040"/>
          </a:xfrm>
        </p:grpSpPr>
        <p:sp>
          <p:nvSpPr>
            <p:cNvPr id="318" name=""/>
            <p:cNvSpPr/>
            <p:nvPr/>
          </p:nvSpPr>
          <p:spPr>
            <a:xfrm>
              <a:off x="626436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70320" y="2738520"/>
              <a:ext cx="1177920" cy="723600"/>
            </a:xfrm>
            <a:prstGeom prst="rect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02280" y="2738520"/>
              <a:ext cx="166680" cy="723600"/>
            </a:xfrm>
            <a:prstGeom prst="ellipse">
              <a:avLst/>
            </a:prstGeom>
            <a:gradFill rotWithShape="0">
              <a:gsLst>
                <a:gs pos="0">
                  <a:srgbClr val="755739"/>
                </a:gs>
                <a:gs pos="50000">
                  <a:srgbClr val="ffbe7d"/>
                </a:gs>
                <a:gs pos="100000">
                  <a:srgbClr val="75573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95880" y="3462120"/>
              <a:ext cx="11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189400" y="2738520"/>
              <a:ext cx="11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64280" y="2741400"/>
              <a:ext cx="217440" cy="71892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60840" y="2743200"/>
              <a:ext cx="223920" cy="72036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668920" y="2744640"/>
              <a:ext cx="208080" cy="715680"/>
            </a:xfrm>
            <a:custGeom>
              <a:avLst/>
              <a:gdLst/>
              <a:ahLst/>
              <a:rect l="l" t="t" r="r" b="b"/>
              <a:pathLst>
                <a:path w="132" h="420">
                  <a:moveTo>
                    <a:pt x="0" y="3"/>
                  </a:moveTo>
                  <a:lnTo>
                    <a:pt x="13" y="7"/>
                  </a:lnTo>
                  <a:lnTo>
                    <a:pt x="25" y="19"/>
                  </a:lnTo>
                  <a:lnTo>
                    <a:pt x="31" y="28"/>
                  </a:lnTo>
                  <a:lnTo>
                    <a:pt x="42" y="43"/>
                  </a:lnTo>
                  <a:lnTo>
                    <a:pt x="49" y="61"/>
                  </a:lnTo>
                  <a:lnTo>
                    <a:pt x="55" y="90"/>
                  </a:lnTo>
                  <a:lnTo>
                    <a:pt x="63" y="115"/>
                  </a:lnTo>
                  <a:lnTo>
                    <a:pt x="69" y="169"/>
                  </a:lnTo>
                  <a:lnTo>
                    <a:pt x="72" y="202"/>
                  </a:lnTo>
                  <a:lnTo>
                    <a:pt x="72" y="247"/>
                  </a:lnTo>
                  <a:lnTo>
                    <a:pt x="66" y="298"/>
                  </a:lnTo>
                  <a:lnTo>
                    <a:pt x="60" y="337"/>
                  </a:lnTo>
                  <a:lnTo>
                    <a:pt x="52" y="369"/>
                  </a:lnTo>
                  <a:lnTo>
                    <a:pt x="34" y="399"/>
                  </a:lnTo>
                  <a:lnTo>
                    <a:pt x="16" y="420"/>
                  </a:lnTo>
                  <a:lnTo>
                    <a:pt x="69" y="420"/>
                  </a:lnTo>
                  <a:lnTo>
                    <a:pt x="93" y="400"/>
                  </a:lnTo>
                  <a:lnTo>
                    <a:pt x="103" y="378"/>
                  </a:lnTo>
                  <a:lnTo>
                    <a:pt x="115" y="342"/>
                  </a:lnTo>
                  <a:lnTo>
                    <a:pt x="123" y="306"/>
                  </a:lnTo>
                  <a:lnTo>
                    <a:pt x="132" y="244"/>
                  </a:lnTo>
                  <a:lnTo>
                    <a:pt x="132" y="180"/>
                  </a:lnTo>
                  <a:lnTo>
                    <a:pt x="126" y="124"/>
                  </a:lnTo>
                  <a:lnTo>
                    <a:pt x="114" y="75"/>
                  </a:lnTo>
                  <a:lnTo>
                    <a:pt x="102" y="40"/>
                  </a:lnTo>
                  <a:lnTo>
                    <a:pt x="90" y="21"/>
                  </a:lnTo>
                  <a:lnTo>
                    <a:pt x="78" y="7"/>
                  </a:lnTo>
                  <a:lnTo>
                    <a:pt x="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859360" y="2741400"/>
              <a:ext cx="216000" cy="718920"/>
            </a:xfrm>
            <a:custGeom>
              <a:avLst/>
              <a:gdLst/>
              <a:ahLst/>
              <a:rect l="l" t="t" r="r" b="b"/>
              <a:pathLst>
                <a:path w="136" h="453">
                  <a:moveTo>
                    <a:pt x="0" y="3"/>
                  </a:moveTo>
                  <a:lnTo>
                    <a:pt x="13" y="8"/>
                  </a:lnTo>
                  <a:lnTo>
                    <a:pt x="26" y="20"/>
                  </a:lnTo>
                  <a:lnTo>
                    <a:pt x="32" y="30"/>
                  </a:lnTo>
                  <a:lnTo>
                    <a:pt x="43" y="46"/>
                  </a:lnTo>
                  <a:lnTo>
                    <a:pt x="50" y="66"/>
                  </a:lnTo>
                  <a:lnTo>
                    <a:pt x="57" y="97"/>
                  </a:lnTo>
                  <a:lnTo>
                    <a:pt x="65" y="124"/>
                  </a:lnTo>
                  <a:lnTo>
                    <a:pt x="71" y="182"/>
                  </a:lnTo>
                  <a:lnTo>
                    <a:pt x="74" y="217"/>
                  </a:lnTo>
                  <a:lnTo>
                    <a:pt x="74" y="266"/>
                  </a:lnTo>
                  <a:lnTo>
                    <a:pt x="68" y="321"/>
                  </a:lnTo>
                  <a:lnTo>
                    <a:pt x="62" y="363"/>
                  </a:lnTo>
                  <a:lnTo>
                    <a:pt x="54" y="397"/>
                  </a:lnTo>
                  <a:lnTo>
                    <a:pt x="35" y="429"/>
                  </a:lnTo>
                  <a:lnTo>
                    <a:pt x="16" y="452"/>
                  </a:lnTo>
                  <a:lnTo>
                    <a:pt x="81" y="453"/>
                  </a:lnTo>
                  <a:lnTo>
                    <a:pt x="96" y="430"/>
                  </a:lnTo>
                  <a:lnTo>
                    <a:pt x="106" y="407"/>
                  </a:lnTo>
                  <a:lnTo>
                    <a:pt x="118" y="368"/>
                  </a:lnTo>
                  <a:lnTo>
                    <a:pt x="127" y="329"/>
                  </a:lnTo>
                  <a:lnTo>
                    <a:pt x="136" y="263"/>
                  </a:lnTo>
                  <a:lnTo>
                    <a:pt x="136" y="194"/>
                  </a:lnTo>
                  <a:lnTo>
                    <a:pt x="130" y="133"/>
                  </a:lnTo>
                  <a:lnTo>
                    <a:pt x="117" y="81"/>
                  </a:lnTo>
                  <a:lnTo>
                    <a:pt x="105" y="43"/>
                  </a:lnTo>
                  <a:lnTo>
                    <a:pt x="93" y="23"/>
                  </a:lnTo>
                  <a:lnTo>
                    <a:pt x="80" y="8"/>
                  </a:lnTo>
                  <a:lnTo>
                    <a:pt x="6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479760" y="3051000"/>
            <a:ext cx="1708200" cy="136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" y="3075120"/>
            <a:ext cx="76824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76360" y="1495440"/>
            <a:ext cx="114300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52680" y="1571760"/>
            <a:ext cx="9903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1551960" y="27075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1877400" y="27075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 flipV="1">
            <a:off x="2357280" y="270756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554120" y="2419200"/>
            <a:ext cx="16200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2249640" y="2419200"/>
            <a:ext cx="323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878120" y="2419200"/>
            <a:ext cx="16164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848160" y="3067200"/>
            <a:ext cx="969480" cy="145800"/>
            <a:chOff x="848160" y="3067200"/>
            <a:chExt cx="969480" cy="145800"/>
          </a:xfrm>
        </p:grpSpPr>
        <p:sp>
          <p:nvSpPr>
            <p:cNvPr id="338" name=""/>
            <p:cNvSpPr/>
            <p:nvPr/>
          </p:nvSpPr>
          <p:spPr>
            <a:xfrm flipH="1">
              <a:off x="932040" y="313380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48160" y="3085920"/>
              <a:ext cx="280800" cy="10296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1113480" y="30672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1146240" y="3103560"/>
              <a:ext cx="215640" cy="74160"/>
            </a:xfrm>
            <a:prstGeom prst="rect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2576520" y="3051000"/>
            <a:ext cx="1031400" cy="145800"/>
            <a:chOff x="2576520" y="3051000"/>
            <a:chExt cx="1031400" cy="145800"/>
          </a:xfrm>
        </p:grpSpPr>
        <p:sp>
          <p:nvSpPr>
            <p:cNvPr id="343" name=""/>
            <p:cNvSpPr/>
            <p:nvPr/>
          </p:nvSpPr>
          <p:spPr>
            <a:xfrm>
              <a:off x="2576520" y="312696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327120" y="3069720"/>
              <a:ext cx="280800" cy="10332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1" y="0"/>
                  </a:moveTo>
                  <a:lnTo>
                    <a:pt x="171" y="29"/>
                  </a:lnTo>
                  <a:lnTo>
                    <a:pt x="0" y="65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68440" y="3051000"/>
              <a:ext cx="74160" cy="14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79440" y="3087360"/>
              <a:ext cx="2156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191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 flipH="1">
            <a:off x="1790640" y="2809800"/>
            <a:ext cx="16200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28920" y="2809800"/>
            <a:ext cx="15228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4945680" y="2036880"/>
            <a:ext cx="360" cy="98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 rot="16246200">
            <a:off x="4804200" y="2916000"/>
            <a:ext cx="280800" cy="10296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rot="16246200">
            <a:off x="4912200" y="2732760"/>
            <a:ext cx="74520" cy="145800"/>
          </a:xfrm>
          <a:prstGeom prst="ellipse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576840" y="1994040"/>
            <a:ext cx="0" cy="958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5400000">
            <a:off x="6444000" y="2905920"/>
            <a:ext cx="273240" cy="103320"/>
          </a:xfrm>
          <a:custGeom>
            <a:avLst/>
            <a:gdLst/>
            <a:ahLst/>
            <a:rect l="l" t="t" r="r" b="b"/>
            <a:pathLst>
              <a:path w="171" h="65">
                <a:moveTo>
                  <a:pt x="1" y="0"/>
                </a:moveTo>
                <a:lnTo>
                  <a:pt x="171" y="29"/>
                </a:lnTo>
                <a:lnTo>
                  <a:pt x="0" y="65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5400000">
            <a:off x="6543360" y="2727000"/>
            <a:ext cx="73080" cy="14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5400000">
            <a:off x="6472440" y="2647080"/>
            <a:ext cx="209520" cy="74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1919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10040" y="2590920"/>
            <a:ext cx="74880" cy="2188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27680" y="201600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70760" y="201132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287360" y="1023840"/>
            <a:ext cx="1552680" cy="381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 Black"/>
              </a:rPr>
              <a:t>Amme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716360" y="304920"/>
            <a:ext cx="1971720" cy="304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5400000"/>
                </a:gradFill>
                <a:latin typeface="Arial Black"/>
              </a:rPr>
              <a:t>Voltme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61" name=""/>
          <p:cNvSpPr/>
          <p:nvPr/>
        </p:nvSpPr>
        <p:spPr>
          <a:xfrm rot="4200">
            <a:off x="375840" y="5091120"/>
            <a:ext cx="1473120" cy="1295280"/>
          </a:xfrm>
          <a:custGeom>
            <a:avLst/>
            <a:gdLst/>
            <a:ahLst/>
            <a:rect l="l" t="t" r="r" b="b"/>
            <a:pathLst>
              <a:path w="1688" h="1469">
                <a:moveTo>
                  <a:pt x="60" y="859"/>
                </a:moveTo>
                <a:cubicBezTo>
                  <a:pt x="54" y="930"/>
                  <a:pt x="43" y="984"/>
                  <a:pt x="28" y="1050"/>
                </a:cubicBezTo>
                <a:cubicBezTo>
                  <a:pt x="25" y="1099"/>
                  <a:pt x="20" y="1147"/>
                  <a:pt x="20" y="1196"/>
                </a:cubicBezTo>
                <a:cubicBezTo>
                  <a:pt x="20" y="1374"/>
                  <a:pt x="0" y="1417"/>
                  <a:pt x="132" y="1424"/>
                </a:cubicBezTo>
                <a:cubicBezTo>
                  <a:pt x="289" y="1469"/>
                  <a:pt x="327" y="1216"/>
                  <a:pt x="636" y="1224"/>
                </a:cubicBezTo>
                <a:cubicBezTo>
                  <a:pt x="1284" y="1176"/>
                  <a:pt x="1224" y="1416"/>
                  <a:pt x="1508" y="1408"/>
                </a:cubicBezTo>
                <a:cubicBezTo>
                  <a:pt x="1548" y="1399"/>
                  <a:pt x="1606" y="1339"/>
                  <a:pt x="1644" y="1324"/>
                </a:cubicBezTo>
                <a:cubicBezTo>
                  <a:pt x="1652" y="1321"/>
                  <a:pt x="1648" y="1304"/>
                  <a:pt x="1652" y="1297"/>
                </a:cubicBezTo>
                <a:cubicBezTo>
                  <a:pt x="1659" y="1282"/>
                  <a:pt x="1668" y="1272"/>
                  <a:pt x="1676" y="1259"/>
                </a:cubicBezTo>
                <a:cubicBezTo>
                  <a:pt x="1688" y="1202"/>
                  <a:pt x="1676" y="1159"/>
                  <a:pt x="1660" y="1105"/>
                </a:cubicBezTo>
                <a:cubicBezTo>
                  <a:pt x="1649" y="1066"/>
                  <a:pt x="1643" y="1023"/>
                  <a:pt x="1628" y="986"/>
                </a:cubicBezTo>
                <a:cubicBezTo>
                  <a:pt x="1622" y="973"/>
                  <a:pt x="1611" y="962"/>
                  <a:pt x="1604" y="950"/>
                </a:cubicBezTo>
                <a:cubicBezTo>
                  <a:pt x="1581" y="906"/>
                  <a:pt x="1547" y="872"/>
                  <a:pt x="1520" y="832"/>
                </a:cubicBezTo>
                <a:cubicBezTo>
                  <a:pt x="1513" y="799"/>
                  <a:pt x="1498" y="688"/>
                  <a:pt x="1476" y="667"/>
                </a:cubicBezTo>
                <a:cubicBezTo>
                  <a:pt x="1469" y="661"/>
                  <a:pt x="1460" y="661"/>
                  <a:pt x="1452" y="658"/>
                </a:cubicBezTo>
                <a:cubicBezTo>
                  <a:pt x="1423" y="557"/>
                  <a:pt x="1472" y="706"/>
                  <a:pt x="1420" y="612"/>
                </a:cubicBezTo>
                <a:cubicBezTo>
                  <a:pt x="1407" y="588"/>
                  <a:pt x="1401" y="558"/>
                  <a:pt x="1396" y="530"/>
                </a:cubicBezTo>
                <a:cubicBezTo>
                  <a:pt x="1382" y="452"/>
                  <a:pt x="1383" y="354"/>
                  <a:pt x="1348" y="284"/>
                </a:cubicBezTo>
                <a:cubicBezTo>
                  <a:pt x="1335" y="258"/>
                  <a:pt x="1316" y="235"/>
                  <a:pt x="1300" y="211"/>
                </a:cubicBezTo>
                <a:cubicBezTo>
                  <a:pt x="1279" y="140"/>
                  <a:pt x="1267" y="125"/>
                  <a:pt x="1212" y="83"/>
                </a:cubicBezTo>
                <a:cubicBezTo>
                  <a:pt x="1198" y="73"/>
                  <a:pt x="1164" y="65"/>
                  <a:pt x="1164" y="65"/>
                </a:cubicBezTo>
                <a:cubicBezTo>
                  <a:pt x="1096" y="91"/>
                  <a:pt x="1010" y="87"/>
                  <a:pt x="940" y="92"/>
                </a:cubicBezTo>
                <a:cubicBezTo>
                  <a:pt x="822" y="89"/>
                  <a:pt x="675" y="93"/>
                  <a:pt x="548" y="75"/>
                </a:cubicBezTo>
                <a:cubicBezTo>
                  <a:pt x="499" y="66"/>
                  <a:pt x="454" y="46"/>
                  <a:pt x="404" y="37"/>
                </a:cubicBezTo>
                <a:cubicBezTo>
                  <a:pt x="156" y="49"/>
                  <a:pt x="253" y="0"/>
                  <a:pt x="164" y="102"/>
                </a:cubicBezTo>
                <a:cubicBezTo>
                  <a:pt x="146" y="165"/>
                  <a:pt x="134" y="230"/>
                  <a:pt x="116" y="293"/>
                </a:cubicBezTo>
                <a:cubicBezTo>
                  <a:pt x="106" y="421"/>
                  <a:pt x="183" y="546"/>
                  <a:pt x="168" y="672"/>
                </a:cubicBezTo>
                <a:cubicBezTo>
                  <a:pt x="160" y="739"/>
                  <a:pt x="39" y="787"/>
                  <a:pt x="117" y="918"/>
                </a:cubicBezTo>
              </a:path>
            </a:pathLst>
          </a:custGeom>
          <a:gradFill rotWithShape="0">
            <a:gsLst>
              <a:gs pos="0">
                <a:srgbClr val="750075"/>
              </a:gs>
              <a:gs pos="50000">
                <a:srgbClr val="ff00ff"/>
              </a:gs>
              <a:gs pos="100000">
                <a:srgbClr val="750075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 rot="4800">
            <a:off x="448920" y="6291360"/>
            <a:ext cx="571320" cy="345960"/>
          </a:xfrm>
          <a:custGeom>
            <a:avLst/>
            <a:gdLst/>
            <a:ahLst/>
            <a:rect l="l" t="t" r="r" b="b"/>
            <a:pathLst>
              <a:path w="599" h="265">
                <a:moveTo>
                  <a:pt x="42" y="0"/>
                </a:moveTo>
                <a:cubicBezTo>
                  <a:pt x="23" y="59"/>
                  <a:pt x="0" y="96"/>
                  <a:pt x="30" y="163"/>
                </a:cubicBezTo>
                <a:cubicBezTo>
                  <a:pt x="35" y="175"/>
                  <a:pt x="113" y="211"/>
                  <a:pt x="117" y="213"/>
                </a:cubicBezTo>
                <a:cubicBezTo>
                  <a:pt x="203" y="249"/>
                  <a:pt x="301" y="247"/>
                  <a:pt x="392" y="263"/>
                </a:cubicBezTo>
                <a:cubicBezTo>
                  <a:pt x="455" y="259"/>
                  <a:pt x="519" y="265"/>
                  <a:pt x="580" y="250"/>
                </a:cubicBezTo>
                <a:cubicBezTo>
                  <a:pt x="594" y="247"/>
                  <a:pt x="599" y="175"/>
                  <a:pt x="580" y="150"/>
                </a:cubicBezTo>
                <a:cubicBezTo>
                  <a:pt x="537" y="94"/>
                  <a:pt x="490" y="98"/>
                  <a:pt x="430" y="88"/>
                </a:cubicBezTo>
                <a:cubicBezTo>
                  <a:pt x="395" y="65"/>
                  <a:pt x="372" y="50"/>
                  <a:pt x="330" y="5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4200">
            <a:off x="642600" y="5716080"/>
            <a:ext cx="1093680" cy="655920"/>
          </a:xfrm>
          <a:custGeom>
            <a:avLst/>
            <a:gdLst/>
            <a:ahLst/>
            <a:rect l="l" t="t" r="r" b="b"/>
            <a:pathLst>
              <a:path w="1175" h="705">
                <a:moveTo>
                  <a:pt x="88" y="67"/>
                </a:moveTo>
                <a:cubicBezTo>
                  <a:pt x="76" y="271"/>
                  <a:pt x="64" y="396"/>
                  <a:pt x="0" y="579"/>
                </a:cubicBezTo>
                <a:cubicBezTo>
                  <a:pt x="4" y="600"/>
                  <a:pt x="2" y="623"/>
                  <a:pt x="13" y="642"/>
                </a:cubicBezTo>
                <a:cubicBezTo>
                  <a:pt x="26" y="665"/>
                  <a:pt x="80" y="677"/>
                  <a:pt x="100" y="679"/>
                </a:cubicBezTo>
                <a:cubicBezTo>
                  <a:pt x="183" y="686"/>
                  <a:pt x="267" y="688"/>
                  <a:pt x="350" y="692"/>
                </a:cubicBezTo>
                <a:cubicBezTo>
                  <a:pt x="375" y="688"/>
                  <a:pt x="403" y="692"/>
                  <a:pt x="425" y="679"/>
                </a:cubicBezTo>
                <a:cubicBezTo>
                  <a:pt x="436" y="673"/>
                  <a:pt x="432" y="654"/>
                  <a:pt x="438" y="642"/>
                </a:cubicBezTo>
                <a:cubicBezTo>
                  <a:pt x="467" y="585"/>
                  <a:pt x="464" y="622"/>
                  <a:pt x="488" y="554"/>
                </a:cubicBezTo>
                <a:cubicBezTo>
                  <a:pt x="503" y="513"/>
                  <a:pt x="525" y="429"/>
                  <a:pt x="525" y="429"/>
                </a:cubicBezTo>
                <a:cubicBezTo>
                  <a:pt x="539" y="336"/>
                  <a:pt x="515" y="312"/>
                  <a:pt x="600" y="292"/>
                </a:cubicBezTo>
                <a:cubicBezTo>
                  <a:pt x="633" y="386"/>
                  <a:pt x="636" y="509"/>
                  <a:pt x="650" y="604"/>
                </a:cubicBezTo>
                <a:cubicBezTo>
                  <a:pt x="654" y="634"/>
                  <a:pt x="695" y="649"/>
                  <a:pt x="725" y="654"/>
                </a:cubicBezTo>
                <a:cubicBezTo>
                  <a:pt x="859" y="678"/>
                  <a:pt x="933" y="694"/>
                  <a:pt x="1075" y="704"/>
                </a:cubicBezTo>
                <a:cubicBezTo>
                  <a:pt x="1104" y="700"/>
                  <a:pt x="1137" y="705"/>
                  <a:pt x="1163" y="692"/>
                </a:cubicBezTo>
                <a:cubicBezTo>
                  <a:pt x="1175" y="686"/>
                  <a:pt x="1175" y="667"/>
                  <a:pt x="1175" y="654"/>
                </a:cubicBezTo>
                <a:cubicBezTo>
                  <a:pt x="1175" y="463"/>
                  <a:pt x="1163" y="472"/>
                  <a:pt x="1075" y="342"/>
                </a:cubicBezTo>
                <a:cubicBezTo>
                  <a:pt x="1071" y="326"/>
                  <a:pt x="1060" y="271"/>
                  <a:pt x="1050" y="254"/>
                </a:cubicBezTo>
                <a:cubicBezTo>
                  <a:pt x="1035" y="228"/>
                  <a:pt x="1000" y="179"/>
                  <a:pt x="1000" y="179"/>
                </a:cubicBezTo>
                <a:cubicBezTo>
                  <a:pt x="979" y="113"/>
                  <a:pt x="995" y="153"/>
                  <a:pt x="938" y="67"/>
                </a:cubicBezTo>
                <a:cubicBezTo>
                  <a:pt x="893" y="0"/>
                  <a:pt x="900" y="78"/>
                  <a:pt x="900" y="17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50000">
                <a:srgbClr val="ccecff"/>
              </a:gs>
              <a:gs pos="100000">
                <a:srgbClr val="00cc99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4200">
            <a:off x="1310760" y="6342120"/>
            <a:ext cx="617760" cy="291960"/>
          </a:xfrm>
          <a:custGeom>
            <a:avLst/>
            <a:gdLst/>
            <a:ahLst/>
            <a:rect l="l" t="t" r="r" b="b"/>
            <a:pathLst>
              <a:path w="599" h="265">
                <a:moveTo>
                  <a:pt x="42" y="0"/>
                </a:moveTo>
                <a:cubicBezTo>
                  <a:pt x="23" y="59"/>
                  <a:pt x="0" y="96"/>
                  <a:pt x="30" y="163"/>
                </a:cubicBezTo>
                <a:cubicBezTo>
                  <a:pt x="35" y="175"/>
                  <a:pt x="113" y="211"/>
                  <a:pt x="117" y="213"/>
                </a:cubicBezTo>
                <a:cubicBezTo>
                  <a:pt x="203" y="249"/>
                  <a:pt x="301" y="247"/>
                  <a:pt x="392" y="263"/>
                </a:cubicBezTo>
                <a:cubicBezTo>
                  <a:pt x="455" y="259"/>
                  <a:pt x="519" y="265"/>
                  <a:pt x="580" y="250"/>
                </a:cubicBezTo>
                <a:cubicBezTo>
                  <a:pt x="594" y="247"/>
                  <a:pt x="599" y="175"/>
                  <a:pt x="580" y="150"/>
                </a:cubicBezTo>
                <a:cubicBezTo>
                  <a:pt x="537" y="94"/>
                  <a:pt x="490" y="98"/>
                  <a:pt x="430" y="88"/>
                </a:cubicBezTo>
                <a:cubicBezTo>
                  <a:pt x="395" y="65"/>
                  <a:pt x="372" y="50"/>
                  <a:pt x="330" y="50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52280" y="4979880"/>
            <a:ext cx="1495440" cy="1003320"/>
          </a:xfrm>
          <a:custGeom>
            <a:avLst/>
            <a:gdLst/>
            <a:ahLst/>
            <a:rect l="l" t="t" r="r" b="b"/>
            <a:pathLst>
              <a:path w="942" h="632">
                <a:moveTo>
                  <a:pt x="221" y="159"/>
                </a:moveTo>
                <a:cubicBezTo>
                  <a:pt x="211" y="166"/>
                  <a:pt x="202" y="175"/>
                  <a:pt x="190" y="181"/>
                </a:cubicBezTo>
                <a:cubicBezTo>
                  <a:pt x="160" y="196"/>
                  <a:pt x="97" y="224"/>
                  <a:pt x="97" y="224"/>
                </a:cubicBezTo>
                <a:cubicBezTo>
                  <a:pt x="45" y="279"/>
                  <a:pt x="0" y="295"/>
                  <a:pt x="50" y="367"/>
                </a:cubicBezTo>
                <a:cubicBezTo>
                  <a:pt x="58" y="377"/>
                  <a:pt x="81" y="375"/>
                  <a:pt x="97" y="378"/>
                </a:cubicBezTo>
                <a:cubicBezTo>
                  <a:pt x="117" y="382"/>
                  <a:pt x="137" y="385"/>
                  <a:pt x="158" y="389"/>
                </a:cubicBezTo>
                <a:cubicBezTo>
                  <a:pt x="183" y="385"/>
                  <a:pt x="213" y="388"/>
                  <a:pt x="236" y="378"/>
                </a:cubicBezTo>
                <a:cubicBezTo>
                  <a:pt x="250" y="371"/>
                  <a:pt x="243" y="355"/>
                  <a:pt x="252" y="345"/>
                </a:cubicBezTo>
                <a:cubicBezTo>
                  <a:pt x="259" y="336"/>
                  <a:pt x="273" y="330"/>
                  <a:pt x="283" y="323"/>
                </a:cubicBezTo>
                <a:cubicBezTo>
                  <a:pt x="293" y="334"/>
                  <a:pt x="310" y="343"/>
                  <a:pt x="314" y="356"/>
                </a:cubicBezTo>
                <a:cubicBezTo>
                  <a:pt x="381" y="632"/>
                  <a:pt x="158" y="513"/>
                  <a:pt x="855" y="499"/>
                </a:cubicBezTo>
                <a:cubicBezTo>
                  <a:pt x="850" y="478"/>
                  <a:pt x="854" y="453"/>
                  <a:pt x="840" y="434"/>
                </a:cubicBezTo>
                <a:cubicBezTo>
                  <a:pt x="821" y="407"/>
                  <a:pt x="848" y="339"/>
                  <a:pt x="814" y="323"/>
                </a:cubicBezTo>
                <a:cubicBezTo>
                  <a:pt x="804" y="261"/>
                  <a:pt x="806" y="273"/>
                  <a:pt x="802" y="261"/>
                </a:cubicBezTo>
                <a:cubicBezTo>
                  <a:pt x="831" y="248"/>
                  <a:pt x="815" y="243"/>
                  <a:pt x="831" y="220"/>
                </a:cubicBezTo>
                <a:cubicBezTo>
                  <a:pt x="847" y="197"/>
                  <a:pt x="894" y="155"/>
                  <a:pt x="900" y="121"/>
                </a:cubicBezTo>
                <a:cubicBezTo>
                  <a:pt x="890" y="67"/>
                  <a:pt x="942" y="45"/>
                  <a:pt x="870" y="16"/>
                </a:cubicBezTo>
                <a:cubicBezTo>
                  <a:pt x="828" y="0"/>
                  <a:pt x="805" y="87"/>
                  <a:pt x="759" y="76"/>
                </a:cubicBezTo>
                <a:cubicBezTo>
                  <a:pt x="744" y="72"/>
                  <a:pt x="670" y="127"/>
                  <a:pt x="670" y="127"/>
                </a:cubicBezTo>
              </a:path>
            </a:pathLst>
          </a:custGeom>
          <a:gradFill rotWithShape="0">
            <a:gsLst>
              <a:gs pos="0">
                <a:srgbClr val="6c0000"/>
              </a:gs>
              <a:gs pos="50000">
                <a:srgbClr val="ff0000"/>
              </a:gs>
              <a:gs pos="100000">
                <a:srgbClr val="6c0000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4200">
            <a:off x="75960" y="5589360"/>
            <a:ext cx="50472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 rot="16122000">
            <a:off x="1517400" y="4882320"/>
            <a:ext cx="446040" cy="282600"/>
          </a:xfrm>
          <a:custGeom>
            <a:avLst/>
            <a:gdLst/>
            <a:ahLst/>
            <a:rect l="l" t="t" r="r" b="b"/>
            <a:pathLst>
              <a:path w="543" h="304">
                <a:moveTo>
                  <a:pt x="439" y="32"/>
                </a:moveTo>
                <a:cubicBezTo>
                  <a:pt x="463" y="56"/>
                  <a:pt x="479" y="69"/>
                  <a:pt x="511" y="80"/>
                </a:cubicBezTo>
                <a:cubicBezTo>
                  <a:pt x="516" y="88"/>
                  <a:pt x="523" y="95"/>
                  <a:pt x="527" y="104"/>
                </a:cubicBezTo>
                <a:cubicBezTo>
                  <a:pt x="534" y="119"/>
                  <a:pt x="543" y="152"/>
                  <a:pt x="543" y="152"/>
                </a:cubicBezTo>
                <a:cubicBezTo>
                  <a:pt x="513" y="182"/>
                  <a:pt x="518" y="189"/>
                  <a:pt x="463" y="168"/>
                </a:cubicBezTo>
                <a:cubicBezTo>
                  <a:pt x="445" y="161"/>
                  <a:pt x="415" y="136"/>
                  <a:pt x="415" y="136"/>
                </a:cubicBezTo>
                <a:cubicBezTo>
                  <a:pt x="410" y="152"/>
                  <a:pt x="404" y="168"/>
                  <a:pt x="399" y="184"/>
                </a:cubicBezTo>
                <a:cubicBezTo>
                  <a:pt x="391" y="207"/>
                  <a:pt x="399" y="233"/>
                  <a:pt x="391" y="256"/>
                </a:cubicBezTo>
                <a:cubicBezTo>
                  <a:pt x="388" y="265"/>
                  <a:pt x="375" y="267"/>
                  <a:pt x="367" y="272"/>
                </a:cubicBezTo>
                <a:cubicBezTo>
                  <a:pt x="310" y="261"/>
                  <a:pt x="331" y="277"/>
                  <a:pt x="311" y="216"/>
                </a:cubicBezTo>
                <a:cubicBezTo>
                  <a:pt x="306" y="200"/>
                  <a:pt x="295" y="168"/>
                  <a:pt x="295" y="168"/>
                </a:cubicBezTo>
                <a:cubicBezTo>
                  <a:pt x="287" y="171"/>
                  <a:pt x="275" y="169"/>
                  <a:pt x="271" y="176"/>
                </a:cubicBezTo>
                <a:cubicBezTo>
                  <a:pt x="244" y="223"/>
                  <a:pt x="279" y="267"/>
                  <a:pt x="223" y="304"/>
                </a:cubicBezTo>
                <a:cubicBezTo>
                  <a:pt x="143" y="291"/>
                  <a:pt x="167" y="276"/>
                  <a:pt x="159" y="184"/>
                </a:cubicBezTo>
                <a:cubicBezTo>
                  <a:pt x="143" y="187"/>
                  <a:pt x="127" y="188"/>
                  <a:pt x="111" y="192"/>
                </a:cubicBezTo>
                <a:cubicBezTo>
                  <a:pt x="95" y="196"/>
                  <a:pt x="63" y="208"/>
                  <a:pt x="63" y="208"/>
                </a:cubicBezTo>
                <a:cubicBezTo>
                  <a:pt x="47" y="205"/>
                  <a:pt x="29" y="208"/>
                  <a:pt x="15" y="200"/>
                </a:cubicBezTo>
                <a:cubicBezTo>
                  <a:pt x="0" y="191"/>
                  <a:pt x="10" y="97"/>
                  <a:pt x="23" y="88"/>
                </a:cubicBezTo>
                <a:lnTo>
                  <a:pt x="95" y="64"/>
                </a:lnTo>
                <a:cubicBezTo>
                  <a:pt x="95" y="64"/>
                  <a:pt x="95" y="64"/>
                  <a:pt x="95" y="64"/>
                </a:cubicBezTo>
                <a:cubicBezTo>
                  <a:pt x="128" y="42"/>
                  <a:pt x="112" y="55"/>
                  <a:pt x="143" y="24"/>
                </a:cubicBezTo>
                <a:cubicBezTo>
                  <a:pt x="146" y="16"/>
                  <a:pt x="151" y="0"/>
                  <a:pt x="151" y="0"/>
                </a:cubicBez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4200">
            <a:off x="777960" y="5268960"/>
            <a:ext cx="595080" cy="428400"/>
          </a:xfrm>
          <a:custGeom>
            <a:avLst/>
            <a:gdLst/>
            <a:ahLst/>
            <a:rect l="l" t="t" r="r" b="b"/>
            <a:pathLst>
              <a:path w="640" h="461">
                <a:moveTo>
                  <a:pt x="64" y="445"/>
                </a:moveTo>
                <a:cubicBezTo>
                  <a:pt x="125" y="442"/>
                  <a:pt x="187" y="442"/>
                  <a:pt x="248" y="437"/>
                </a:cubicBezTo>
                <a:cubicBezTo>
                  <a:pt x="259" y="436"/>
                  <a:pt x="276" y="439"/>
                  <a:pt x="280" y="429"/>
                </a:cubicBezTo>
                <a:cubicBezTo>
                  <a:pt x="298" y="382"/>
                  <a:pt x="274" y="374"/>
                  <a:pt x="248" y="357"/>
                </a:cubicBezTo>
                <a:cubicBezTo>
                  <a:pt x="228" y="297"/>
                  <a:pt x="257" y="369"/>
                  <a:pt x="216" y="317"/>
                </a:cubicBezTo>
                <a:cubicBezTo>
                  <a:pt x="210" y="310"/>
                  <a:pt x="188" y="256"/>
                  <a:pt x="184" y="245"/>
                </a:cubicBezTo>
                <a:cubicBezTo>
                  <a:pt x="192" y="112"/>
                  <a:pt x="164" y="95"/>
                  <a:pt x="280" y="109"/>
                </a:cubicBezTo>
                <a:cubicBezTo>
                  <a:pt x="317" y="121"/>
                  <a:pt x="347" y="145"/>
                  <a:pt x="384" y="157"/>
                </a:cubicBezTo>
                <a:cubicBezTo>
                  <a:pt x="457" y="267"/>
                  <a:pt x="415" y="186"/>
                  <a:pt x="424" y="429"/>
                </a:cubicBezTo>
                <a:cubicBezTo>
                  <a:pt x="533" y="424"/>
                  <a:pt x="607" y="457"/>
                  <a:pt x="640" y="357"/>
                </a:cubicBezTo>
                <a:cubicBezTo>
                  <a:pt x="625" y="269"/>
                  <a:pt x="611" y="293"/>
                  <a:pt x="512" y="285"/>
                </a:cubicBezTo>
                <a:cubicBezTo>
                  <a:pt x="485" y="205"/>
                  <a:pt x="475" y="141"/>
                  <a:pt x="408" y="85"/>
                </a:cubicBezTo>
                <a:cubicBezTo>
                  <a:pt x="393" y="73"/>
                  <a:pt x="371" y="43"/>
                  <a:pt x="352" y="37"/>
                </a:cubicBezTo>
                <a:cubicBezTo>
                  <a:pt x="311" y="24"/>
                  <a:pt x="214" y="11"/>
                  <a:pt x="168" y="5"/>
                </a:cubicBezTo>
                <a:cubicBezTo>
                  <a:pt x="141" y="8"/>
                  <a:pt x="88" y="0"/>
                  <a:pt x="64" y="29"/>
                </a:cubicBezTo>
                <a:cubicBezTo>
                  <a:pt x="56" y="38"/>
                  <a:pt x="52" y="50"/>
                  <a:pt x="48" y="61"/>
                </a:cubicBezTo>
                <a:cubicBezTo>
                  <a:pt x="42" y="77"/>
                  <a:pt x="32" y="109"/>
                  <a:pt x="32" y="109"/>
                </a:cubicBezTo>
                <a:cubicBezTo>
                  <a:pt x="37" y="180"/>
                  <a:pt x="22" y="196"/>
                  <a:pt x="56" y="237"/>
                </a:cubicBezTo>
                <a:cubicBezTo>
                  <a:pt x="69" y="253"/>
                  <a:pt x="80" y="271"/>
                  <a:pt x="96" y="285"/>
                </a:cubicBezTo>
                <a:cubicBezTo>
                  <a:pt x="110" y="298"/>
                  <a:pt x="144" y="317"/>
                  <a:pt x="144" y="317"/>
                </a:cubicBezTo>
                <a:cubicBezTo>
                  <a:pt x="177" y="366"/>
                  <a:pt x="162" y="371"/>
                  <a:pt x="104" y="357"/>
                </a:cubicBezTo>
                <a:cubicBezTo>
                  <a:pt x="66" y="347"/>
                  <a:pt x="44" y="329"/>
                  <a:pt x="8" y="317"/>
                </a:cubicBezTo>
                <a:cubicBezTo>
                  <a:pt x="13" y="374"/>
                  <a:pt x="0" y="429"/>
                  <a:pt x="48" y="461"/>
                </a:cubicBezTo>
                <a:cubicBezTo>
                  <a:pt x="86" y="452"/>
                  <a:pt x="90" y="458"/>
                  <a:pt x="64" y="445"/>
                </a:cubicBezTo>
                <a:close/>
              </a:path>
            </a:pathLst>
          </a:custGeom>
          <a:solidFill>
            <a:srgbClr val="3333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3760" y="4160880"/>
            <a:ext cx="1211040" cy="1044360"/>
          </a:xfrm>
          <a:custGeom>
            <a:avLst/>
            <a:gdLst/>
            <a:ahLst/>
            <a:rect l="l" t="t" r="r" b="b"/>
            <a:pathLst>
              <a:path w="1050" h="906">
                <a:moveTo>
                  <a:pt x="521" y="24"/>
                </a:moveTo>
                <a:cubicBezTo>
                  <a:pt x="598" y="0"/>
                  <a:pt x="573" y="2"/>
                  <a:pt x="709" y="24"/>
                </a:cubicBezTo>
                <a:cubicBezTo>
                  <a:pt x="734" y="28"/>
                  <a:pt x="784" y="48"/>
                  <a:pt x="784" y="48"/>
                </a:cubicBezTo>
                <a:cubicBezTo>
                  <a:pt x="864" y="105"/>
                  <a:pt x="820" y="70"/>
                  <a:pt x="910" y="157"/>
                </a:cubicBezTo>
                <a:cubicBezTo>
                  <a:pt x="939" y="185"/>
                  <a:pt x="985" y="254"/>
                  <a:pt x="985" y="254"/>
                </a:cubicBezTo>
                <a:cubicBezTo>
                  <a:pt x="1021" y="389"/>
                  <a:pt x="1050" y="536"/>
                  <a:pt x="973" y="664"/>
                </a:cubicBezTo>
                <a:cubicBezTo>
                  <a:pt x="954" y="697"/>
                  <a:pt x="927" y="767"/>
                  <a:pt x="897" y="785"/>
                </a:cubicBezTo>
                <a:cubicBezTo>
                  <a:pt x="847" y="817"/>
                  <a:pt x="805" y="862"/>
                  <a:pt x="747" y="882"/>
                </a:cubicBezTo>
                <a:cubicBezTo>
                  <a:pt x="715" y="894"/>
                  <a:pt x="646" y="906"/>
                  <a:pt x="646" y="906"/>
                </a:cubicBezTo>
                <a:cubicBezTo>
                  <a:pt x="489" y="898"/>
                  <a:pt x="376" y="886"/>
                  <a:pt x="232" y="846"/>
                </a:cubicBezTo>
                <a:cubicBezTo>
                  <a:pt x="153" y="795"/>
                  <a:pt x="100" y="741"/>
                  <a:pt x="69" y="652"/>
                </a:cubicBezTo>
                <a:cubicBezTo>
                  <a:pt x="73" y="521"/>
                  <a:pt x="0" y="178"/>
                  <a:pt x="203" y="114"/>
                </a:cubicBezTo>
                <a:cubicBezTo>
                  <a:pt x="274" y="46"/>
                  <a:pt x="360" y="62"/>
                  <a:pt x="458" y="48"/>
                </a:cubicBezTo>
                <a:cubicBezTo>
                  <a:pt x="537" y="22"/>
                  <a:pt x="560" y="24"/>
                  <a:pt x="521" y="24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20582400">
            <a:off x="536400" y="4363560"/>
            <a:ext cx="341640" cy="48096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20582400">
            <a:off x="903240" y="4264200"/>
            <a:ext cx="343080" cy="50796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8088000">
            <a:off x="601200" y="4390560"/>
            <a:ext cx="751680" cy="70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744" y="1256"/>
                </a:moveTo>
                <a:arcTo wR="10800" hR="10800" stAng="-7074784" swAng="7074784"/>
                <a:lnTo>
                  <a:pt x="10800" y="10800"/>
                </a:lnTo>
                <a:close/>
              </a:path>
              <a:path fill="none" w="21600" h="21600">
                <a:moveTo>
                  <a:pt x="5744" y="1256"/>
                </a:moveTo>
                <a:arcTo wR="10800" hR="10800" stAng="-7074784" swAng="707478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413400">
            <a:off x="907920" y="4773240"/>
            <a:ext cx="184320" cy="185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413400">
            <a:off x="677880" y="4422240"/>
            <a:ext cx="182520" cy="2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413400">
            <a:off x="1004760" y="4300200"/>
            <a:ext cx="182520" cy="257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1a1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448800">
            <a:off x="328320" y="4195800"/>
            <a:ext cx="260280" cy="250920"/>
          </a:xfrm>
          <a:custGeom>
            <a:avLst/>
            <a:gdLst/>
            <a:ahLst/>
            <a:rect l="l" t="t" r="r" b="b"/>
            <a:pathLst>
              <a:path w="273" h="258">
                <a:moveTo>
                  <a:pt x="273" y="40"/>
                </a:moveTo>
                <a:cubicBezTo>
                  <a:pt x="203" y="17"/>
                  <a:pt x="179" y="0"/>
                  <a:pt x="91" y="40"/>
                </a:cubicBezTo>
                <a:cubicBezTo>
                  <a:pt x="59" y="54"/>
                  <a:pt x="19" y="201"/>
                  <a:pt x="18" y="204"/>
                </a:cubicBezTo>
                <a:cubicBezTo>
                  <a:pt x="12" y="222"/>
                  <a:pt x="0" y="258"/>
                  <a:pt x="0" y="25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448800">
            <a:off x="587160" y="4092480"/>
            <a:ext cx="274320" cy="211320"/>
          </a:xfrm>
          <a:custGeom>
            <a:avLst/>
            <a:gdLst/>
            <a:ahLst/>
            <a:rect l="l" t="t" r="r" b="b"/>
            <a:pathLst>
              <a:path w="290" h="218">
                <a:moveTo>
                  <a:pt x="0" y="218"/>
                </a:moveTo>
                <a:cubicBezTo>
                  <a:pt x="66" y="118"/>
                  <a:pt x="157" y="0"/>
                  <a:pt x="29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448800">
            <a:off x="632880" y="4065480"/>
            <a:ext cx="1800" cy="195480"/>
          </a:xfrm>
          <a:custGeom>
            <a:avLst/>
            <a:gdLst/>
            <a:ahLst/>
            <a:rect l="l" t="t" r="r" b="b"/>
            <a:pathLst>
              <a:path w="1" h="200">
                <a:moveTo>
                  <a:pt x="0" y="200"/>
                </a:moveTo>
                <a:cubicBezTo>
                  <a:pt x="0" y="133"/>
                  <a:pt x="0" y="67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21140400">
            <a:off x="418680" y="4266720"/>
            <a:ext cx="233280" cy="392400"/>
          </a:xfrm>
          <a:custGeom>
            <a:avLst/>
            <a:gdLst/>
            <a:ahLst/>
            <a:rect l="l" t="t" r="r" b="b"/>
            <a:pathLst>
              <a:path w="273" h="400">
                <a:moveTo>
                  <a:pt x="273" y="0"/>
                </a:moveTo>
                <a:cubicBezTo>
                  <a:pt x="198" y="37"/>
                  <a:pt x="150" y="69"/>
                  <a:pt x="91" y="127"/>
                </a:cubicBezTo>
                <a:cubicBezTo>
                  <a:pt x="61" y="218"/>
                  <a:pt x="0" y="301"/>
                  <a:pt x="0" y="4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1662000">
            <a:off x="651960" y="4183200"/>
            <a:ext cx="246240" cy="131760"/>
          </a:xfrm>
          <a:custGeom>
            <a:avLst/>
            <a:gdLst/>
            <a:ahLst/>
            <a:rect l="l" t="t" r="r" b="b"/>
            <a:pathLst>
              <a:path w="273" h="109">
                <a:moveTo>
                  <a:pt x="0" y="109"/>
                </a:moveTo>
                <a:cubicBezTo>
                  <a:pt x="12" y="91"/>
                  <a:pt x="17" y="66"/>
                  <a:pt x="36" y="54"/>
                </a:cubicBezTo>
                <a:cubicBezTo>
                  <a:pt x="105" y="11"/>
                  <a:pt x="195" y="0"/>
                  <a:pt x="273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62320" y="4686480"/>
            <a:ext cx="4572000" cy="1657080"/>
          </a:xfrm>
          <a:prstGeom prst="cloudCallout">
            <a:avLst>
              <a:gd name="adj1" fmla="val -57638"/>
              <a:gd name="adj2" fmla="val -72032"/>
            </a:avLst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41480" y="4910040"/>
            <a:ext cx="35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voltmeter is connected in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all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>
            <a:hlinkClick r:id="rId8" action="ppaction://hlinksldjump"/>
          </p:cNvPr>
          <p:cNvSpPr/>
          <p:nvPr/>
        </p:nvSpPr>
        <p:spPr>
          <a:xfrm>
            <a:off x="3809880" y="5657760"/>
            <a:ext cx="1524240" cy="476280"/>
          </a:xfrm>
          <a:custGeom>
            <a:avLst/>
            <a:gdLst>
              <a:gd name="textAreaLeft" fmla="*/ 30600 w 1524240"/>
              <a:gd name="textAreaRight" fmla="*/ 1493640 w 15242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69091" h="21600">
                <a:moveTo>
                  <a:pt x="0" y="0"/>
                </a:moveTo>
                <a:lnTo>
                  <a:pt x="69091" y="0"/>
                </a:lnTo>
                <a:lnTo>
                  <a:pt x="69091" y="21600"/>
                </a:lnTo>
                <a:lnTo>
                  <a:pt x="0" y="21600"/>
                </a:lnTo>
                <a:close/>
              </a:path>
              <a:path fill="lightenLess" w="69091" h="21600">
                <a:moveTo>
                  <a:pt x="0" y="0"/>
                </a:moveTo>
                <a:lnTo>
                  <a:pt x="69091" y="0"/>
                </a:lnTo>
                <a:lnTo>
                  <a:pt x="67691" y="1400"/>
                </a:lnTo>
                <a:lnTo>
                  <a:pt x="1400" y="1400"/>
                </a:lnTo>
                <a:close/>
              </a:path>
              <a:path fill="darken" w="69091" h="21600">
                <a:moveTo>
                  <a:pt x="69091" y="0"/>
                </a:moveTo>
                <a:lnTo>
                  <a:pt x="69091" y="21600"/>
                </a:lnTo>
                <a:lnTo>
                  <a:pt x="67691" y="20200"/>
                </a:lnTo>
                <a:lnTo>
                  <a:pt x="67691" y="1400"/>
                </a:lnTo>
                <a:close/>
              </a:path>
              <a:path fill="darkenLess" w="69091" h="21600">
                <a:moveTo>
                  <a:pt x="690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91" y="20200"/>
                </a:lnTo>
                <a:close/>
              </a:path>
              <a:path fill="lighten" w="690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8T22:25:52Z</dcterms:created>
  <dc:creator>Richard J. Terwilliger</dc:creator>
  <dc:description/>
  <dc:language>en-US</dc:language>
  <cp:lastModifiedBy>Richard J. Terwilliger</cp:lastModifiedBy>
  <dcterms:modified xsi:type="dcterms:W3CDTF">2002-11-02T19:49:48Z</dcterms:modified>
  <cp:revision>25</cp:revision>
  <dc:subject/>
  <dc:title>No Slide Title</dc:title>
</cp:coreProperties>
</file>